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4B8D-4CB4-470A-BBA9-EE9359BC56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hat is a gen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a ge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e genes both the basic functional unit and the smallest genetic structural uni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til 1940, the gene was considered as the basic unit of genetic information as defined by three criteri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nit of function, controlling the inheritance of one “character” or phenotypic attribu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nit of structure, operationally defined by recombination and by muta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genes both the basic functional unit and the smallest genetic structural un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1940, the gene was considered as the basic unit of genetic information as defined by three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t of function, controlling the inheritance of one “character” or phenotypic at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t of structure, operationally defined by recombination and by mu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liver (1940) - intergenic recombination at loze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s in lozenge affect eye shape in Drosophil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mutations, lzs and lzg, were considered alleles of the same gene because lzs/lzg heterozygotes have lozenge, not wild-type, ey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 when lzs/lzg females are crossed to lzs or lzg males, about 0.2% of the progeny are wild-typ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must result from recombination between lzs and lzg , because the wild-type progeny always had recombinant flanking markers.  Also, the frequency of 0.2% is much higher than the reversion rate of the mut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iver (1940) - intergenic recombination at loz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lozenge affect eye shape in Drosophi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utations, lzs and lzg, were considered alleles of the same gene because lzs/lzg heterozygotes have lozenge, not wild-type, e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when lzs/lzg females are crossed to lzs or lzg males, about 0.2% of the progeny are wild-typ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must result from recombination between lzs and lzg , because the wild-type progeny always had recombinant flanking markers.  Also, the frequency of 0.2% is much higher than the reversion rate of the mu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rther studies of intergenic recombination in bacteriophage and bacteria (where billions, instead of thousands, of progeny can be analyzed) showed that recombination occurs between adjacent nucleotide pai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studies of intergenic recombination in bacteriophage and bacteria (where billions, instead of thousands, of progeny can be analyzed) showed that recombination occurs between adjacent nucleotide pai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the nucleotide, not the gene, is the basic unit of genetic structu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nucleotide, not the gene, is the basic unit of genetic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ding sequence of a gene and its polypeptide product are colin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ding sequence of a gene and its polypeptide product are co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ndel’s work established the concept of the ge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concept has evolved fro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nit that can mutate to cause a specific block in metabolism…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the unit specifying one enzym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the sequence of nucleotide pairs in DNA encoding one polypeptide chai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work established the concept of the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ncept has evolved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t that can mutate to cause a specific block in metabolism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unit specifying one enzym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sequence of nucleotide pairs in DNA encoding one polypeptide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 of the g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 is to genetics what the atom is to chemistr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controls a specific aspect of the phenotyp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specifies the synthesis of one polypepti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th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is to genetics what the atom is to chemi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is the unit of genetic information that controls a specific aspect of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is the unit of genetic information that specifies the synthesis of one polypept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has the concept of a gene developed in the minds of geneticis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as the concept of a gene developed in the minds of genetic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ndel (186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heritance is governed by “characters” or “constant factors” that each controls a phenotypic trait such as flower colou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(186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itance is governed by “characters” or “constant factors” that each controls a phenotypic trait such as flower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rrod (1909) Inborn errors of Metabo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Inherited human metabolic disorders such as alkaptonuria result from alternative metabolis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Individual genes can mutate to cause a specific metabolic block.  Concept later elaborated as “one gene-one enzyme”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ver 4,000 inherited genetic disorders have now been descri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rrod (1909) Inborn errors of Meta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ed human metabolic disorders such as alkaptonuria result from alternative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ividual genes can mutate to cause a specific metabolic block.  Concept later elaborated as “one gene-one enzyme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 4,000 inherited genetic disorders have now been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bolic mutations in Drosophila (Beadle and Ephrussi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ly eyes are normally dark red because of two pigments, one bright red and one brow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nts in v or cn have bright red eyes because they lack brown pigme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k transplantation experiments showed that wild-type hosts produce a diffusible substance than can allow v or cn disks to form dark red ey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disks transplanted into cn hosts also develop normally, but cn disks transplanted into v hosts still develop bright red eye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bolic mutations in Drosophila (Beadle and Ephruss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y eyes are normally dark red because of two pigments, one bright red and one br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nts in v or cn have bright red eyes because they lack brown pig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transplantation experiments showed that wild-type hosts produce a diffusible substance than can allow v or cn disks to form dark red e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disks transplanted into cn hosts also develop normally, but cn disks transplanted into v hosts still develop bright red ey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anation:  v and cn affect different steps of the same metabolic path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:  v and cn affect different steps of the same metabolic path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now know the precise path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ow know the precise path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dle and Tatum (1942)--One Gene, One Enzy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ead mold Neurospora can normally grow on minimal media, because it can synthesize most essential metaboli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is biosynthesis is under genetic control, then mutants in those genes would require additional metabolites in their medi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tested by irradiating Neurospora spores and screening the cells they produced for additional nutritional requirements (auxotroph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dle and Tatum (1942)--One Gene, On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mold Neurospora can normally grow on minimal media, because it can synthesize most essential metabol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biosynthesis is under genetic control, then mutants in those genes would require additional metabolites in their med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tested by irradiating Neurospora spores and screening the cells they produced for additional nutritional requirements (auxotroph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85A4-A126-47A9-BC1B-3AF68B4B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6A20-8A44-4A39-848C-B5EA3125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6E6D-04B9-4651-83A9-6C66932C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7E46-9C22-4CE5-B54C-B5EBE6B6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D952-FBF2-4133-A963-36611D35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884B-9B27-4D8C-808D-33921205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9BBB-4CFF-4925-937D-A935A8E5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AF11-F197-4EEA-ACB6-3A6500E2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CC53-FFDE-47B3-9B87-3F3CDDEF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9237-CDC9-48FF-A762-2D33D3F0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549-0404-4DD5-896D-59F08220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561-D0D3-4ED5-B32E-6D03F6C0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9CA0-CE13-42AD-AD7C-C4E653671E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What is a gene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Are genes both the basic functional unit and the smallest genetic structural unit?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til 1940, the gene was considered as the basic unit of genetic information as defined by three crite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it of fun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ontrolling the inheritance of one “character” or phenotypic attribu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it of struct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operationally defined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combin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Oliver (1940) - intergenic recombination at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lozeng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tations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ozeng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ffect eye shape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rosophi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mutations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were considered alleles of the same gene becaus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eterozygotes have lozenge, not wild-type, ey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whe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emales are crossed t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les, about 0.2% of the progeny are wild-typ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must result from recombination betwee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because the wild-type progeny always had recombinant flanking markers.  Also, the frequency of 0.2% is much higher than the reversion rate of the mut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Further studies of intergenic recombination in bacteriophage and bacteria (where billions, instead of thousands, of progeny can be analyzed) showed that recombination occurs between adjacent nucleotide pairs.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So the nucleotide, not the gene, is the basic unit of genetic structure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The coding sequence of a gene and its polypeptide product are colinear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581120" y="1981080"/>
            <a:ext cx="5981760" cy="41148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l’s work established the concept of the ge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concept has evolved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it that can mutate to cause a specific block in metabolism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he unit specifying one enzyme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he sequence of nucleotide pairs in DNA encoding one polypeptide ch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efinitions of the gen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 is to genetics what the atom is to chemist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controls a specific aspect of the phenoty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specifies the synthesis of one polypepti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ow has the concept of a gene developed in the minds of geneticist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endel (1866)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eritance is governed by “characters” or “constant factors” that each controls a phenotypic trait such as flower colo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Garrod (1909)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Inborn errors of Metabolism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herited human metabolic disorders such as alkaptonuria result from alternative metabolis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dividual genes can mutate to cause a specific metabolic block.  Concept later elaborated as “one gene-one enzyme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er 4,000 inherited genetic disorders have now been describ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329076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Metabolic mutations in </a:t>
            </a:r>
            <a:r>
              <a:rPr b="0" i="1" lang="en-US" sz="4000" spc="-1" strike="noStrike">
                <a:solidFill>
                  <a:srgbClr val="ccffff"/>
                </a:solidFill>
                <a:latin typeface="Times New Roman"/>
              </a:rPr>
              <a:t>Drosophila</a:t>
            </a: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 (Beadle and Ephrussi)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ly eyes are normally dark red because of two pigments, one bright red and one br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tants in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have bright red eyes because they lack brown pig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k transplantation experiments showed that wild-type hosts produce a diffusible substance than can allow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sks to form dark red ey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sks transplanted in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hosts also develop normally, but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sks transplanted in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hosts still develop bright red ey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981000" y="1981080"/>
            <a:ext cx="321948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Explanation: 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v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cn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affect different steps of the same metabolic pathway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685800" y="2387520"/>
            <a:ext cx="7772400" cy="3301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We now know the precise pathway.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619280" y="1981080"/>
            <a:ext cx="5904000" cy="41148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Beadle and Tatum (1942)--One Gene, One Enzym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read mold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Neurospor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an normally grow on minimal media, because it can synthesize most essential metaboli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this biosynthesis is under genetic control, then mutants in those genes would require additional metabolites in their med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was tested by irradiating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Neurospor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spores and screening the cells they produced for additional nutritional requirements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uxotroph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809880" cy="40575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8:36:51Z</dcterms:created>
  <dc:creator>Paul Lasko</dc:creator>
  <dc:description/>
  <dc:language>en-US</dc:language>
  <cp:lastModifiedBy>LEGION2</cp:lastModifiedBy>
  <dcterms:modified xsi:type="dcterms:W3CDTF">2016-01-12T10:39:03Z</dcterms:modified>
  <cp:revision>10</cp:revision>
  <dc:subject/>
  <dc:title>What is a gene?</dc:title>
</cp:coreProperties>
</file>