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7A30-DACF-4125-84EA-307F5A6A31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at is a gen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a ge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of function, controlling the inheritance of one “character” or phenotypic attribu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of structure, operationally defined by recombination and by muta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of function, controlling the inheritance of one “character” or phenotypic at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of structure, operationally defined by recombination and by mu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liver (1940) - intergenic recombination at loz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s in lozenge affect eye shape in Drosophil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mutations, lzs and lzg, were considered alleles of the same gene because lzs/lzg heterozygotes have lozenge, not wild-type, ey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 when lzs/lzg females are crossed to lzs or lzg males, about 0.2% of the progeny are wild-typ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must result from recombination between lzs and lzg , because the wild-type progeny always had recombinant flanking markers.  Also, the frequency of 0.2% is much higher than the reversion rate of the mut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iver (1940) - intergenic recombination at loz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lozenge affect eye shape in Drosophi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utations, lzs and lzg, were considered alleles of the same gene because lzs/lzg heterozygotes have lozenge, not wild-type, e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hen lzs/lzg females are crossed to lzs or lzg males, about 0.2% of the progeny are wild-ty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must result from recombination between lzs and lzg , because the wild-type progeny always had recombinant flanking markers.  Also, the frequency of 0.2% is much higher than the reversion rate of the mu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the nucleotide, not the gene, is the basic unit of genetic struc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nucleotide, not the gene, is the basic unit of genetic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ding sequence of a gene and its polypeptide product are colin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ding sequence of a gene and its polypeptide product are co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ndel’s work established the concept of the ge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concept has evolved fro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that can mutate to cause a specific block in metabolism…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the unit specifying one enzym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 established the concept of the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ncept has evolved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that can mutate to cause a specific block in metabolism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unit specifying one enzym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of the g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o genetics what the atom is to chemistr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th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o genetics what the atom is to chemi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has the concept of a gene developed in the minds of geneticis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as the concept of a gene developed in the minds of genetic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ndel (186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(186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rrod (1909) Inborn errors of Metabo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ver 4,000 inherited genetic disorders have now been descri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rrod (1909) Inborn errors of Meta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 4,000 inherited genetic disorders have now been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bolic mutations in Drosophila (Beadle and Ephrussi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nts in v or cn have bright red eyes because they lack brown pigme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k transplantation experiments showed that wild-type hosts produce a diffusible substance than can allow v or cn disks to form dark red ey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disks transplanted into cn hosts also develop normally, but cn disks transplanted into v hosts still develop bright red ey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bolic mutations in Drosophila (Beadle and Ephruss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nts in v or cn have bright red eyes because they lack brown pig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transplantation experiments showed that wild-type hosts produce a diffusible substance than can allow v or cn disks to form dark red e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disks transplanted into cn hosts also develop normally, but cn disks transplanted into v hosts still develop bright red ey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anation:  v and cn affect different steps of the same metabolic path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:  v and cn affect different steps of the same metabolic path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now know the precise path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ow know the precise path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dle and Tatum (1942)--One Gene, One Enzy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ead mold Neurospora can normally grow on minimal media, because it can synthesize most essential metaboli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tested by irradiating Neurospora spores and screening the cells they produced for additional nutritional requirements (auxotroph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dle and Tatum (1942)--One Gene, On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mold Neurospora can normally grow on minimal media, because it can synthesize most essential metabol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tested by irradiating Neurospora spores and screening the cells they produced for additional nutritional requirements (auxotroph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803C-0564-4E56-8542-A4C2B334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60F2-7A4F-46B7-9043-5A7B013D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D18F-E964-4EAB-8F26-339DCB46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511E-25B1-4AED-87F3-4BAEB2CA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BBA-0385-4517-97F2-27C466F3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BA4-29D6-4D3C-AE1F-3BA97D22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B27-8FB2-4015-8A6B-920CE642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1CAB-5A13-455D-86D8-2BDDF965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CD2-DCC5-40F3-98B1-9B5E0F87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8FB-51FA-4B04-9938-AEFF1B53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66B-5554-4B25-A5E2-FEC03FB7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6EA8-8E43-4D4E-8568-A7FB19FF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6BCC-C0E2-4FF5-9DDC-53D827399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What is a gen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t of fun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ontrolling the inheritance of one “character” or phenotypic attribu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t of struct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operationally defined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combin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Oliver (1940) - intergenic recombination at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lozeng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tations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ozen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ffect eye shape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rosophi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mutations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were considered alleles of the same gene becaus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eterozygotes have lozenge, not wild-type, ey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whe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emales are crossed t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les, about 0.2% of the progeny are wild-typ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must result from recombination betwee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because the wild-type progeny always had recombinant flanking markers.  Also, the frequency of 0.2% is much higher than the reversion rate of the mut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So the nucleotide, not the gene, is the basic unit of genetic structure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The coding sequence of a gene and its polypeptide product are colinear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581120" y="1981080"/>
            <a:ext cx="598176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l’s work established the concept of the ge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concept has evolved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it that can mutate to cause a specific block in metabolism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unit specifying one enzym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efinitions of the gen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o genetics what the atom is to chemist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ow has the concept of a gene developed in the minds of geneticist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endel (1866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Garrod (1909)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Inborn errors of Metabolism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 4,000 inherited genetic disorders have now been describ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29076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Metabolic mutations in </a:t>
            </a:r>
            <a:r>
              <a:rPr b="0" i="1" lang="en-US" sz="4000" spc="-1" strike="noStrike">
                <a:solidFill>
                  <a:srgbClr val="ccffff"/>
                </a:solidFill>
                <a:latin typeface="Times New Roman"/>
              </a:rPr>
              <a:t>Drosophila</a:t>
            </a: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 (Beadle and Ephrussi)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tants in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ave bright red eyes because they lack brown pig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k transplantation experiments showed that wild-type hosts produce a diffusible substance than can allow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o form dark red ey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ransplanted in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osts also develop normally, but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ransplanted in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osts still develop bright red ey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981000" y="1981080"/>
            <a:ext cx="321948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Explanation: 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cn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affect different steps of the same metabolic pathway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85800" y="2387520"/>
            <a:ext cx="7772400" cy="3301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We now know the precise pathway.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619280" y="1981080"/>
            <a:ext cx="590400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Beadle and Tatum (1942)--One Gene, One Enzym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read mold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Neurospor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an normally grow on minimal media, because it can synthesize most essential metaboli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was tested by irradiating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Neurospor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spores and screening the cells they produced for additional nutritional requirements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uxotroph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809880" cy="40575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8:36:51Z</dcterms:created>
  <dc:creator>Paul Lasko</dc:creator>
  <dc:description/>
  <dc:language>en-US</dc:language>
  <cp:lastModifiedBy>LEGION2</cp:lastModifiedBy>
  <dcterms:modified xsi:type="dcterms:W3CDTF">2016-01-12T10:39:03Z</dcterms:modified>
  <cp:revision>10</cp:revision>
  <dc:subject/>
  <dc:title>What is a gene?</dc:title>
</cp:coreProperties>
</file>