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5C5D6-3BC1-4E1B-8CEF-DB80B4B8371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hat is a gen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hat is a gen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re genes both the basic functional unit and the smallest genetic structural unit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ntil 1940, the gene was considered as the basic unit of genetic information as defined by three criteri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unit of function, controlling the inheritance of one “character” or phenotypic attribut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unit of structure, operationally defined by recombination and by mutatio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genes both the basic functional unit and the smallest genetic structural un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1940, the gene was considered as the basic unit of genetic information as defined by three crite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nit of function, controlling the inheritance of one “character” or phenotypic attrib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nit of structure, operationally defined by recombination and by mu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liver (1940) - intergenic recombination at lozen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utations in lozenge affect eye shape in Drosophil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wo mutations, lzs and lzg, were considered alleles of the same gene because lzs/lzg heterozygotes have lozenge, not wild-type, ey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ut when lzs/lzg females are crossed to lzs or lzg males, about 0.2% of the progeny are wild-type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se must result from recombination between lzs and lzg , because the wild-type progeny always had recombinant flanking markers.  Also, the frequency of 0.2% is much higher than the reversion rate of the mutation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liver (1940) - intergenic recombination at loz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in lozenge affect eye shape in Drosophil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mutations, lzs and lzg, were considered alleles of the same gene because lzs/lzg heterozygotes have lozenge, not wild-type, ey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when lzs/lzg females are crossed to lzs or lzg males, about 0.2% of the progeny are wild-typ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must result from recombination between lzs and lzg , because the wild-type progeny always had recombinant flanking markers.  Also, the frequency of 0.2% is much higher than the reversion rate of the mut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urther studies of intergenic recombination in bacteriophage and bacteria (where billions, instead of thousands, of progeny can be analyzed) showed that recombination occurs between adjacent nucleotide pair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rther studies of intergenic recombination in bacteriophage and bacteria (where billions, instead of thousands, of progeny can be analyzed) showed that recombination occurs between adjacent nucleotide pai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 the nucleotide, not the gene, is the basic unit of genetic structur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the nucleotide, not the gene, is the basic unit of genetic stru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coding sequence of a gene and its polypeptide product are coline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ding sequence of a gene and its polypeptide product are colin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ndel’s work established the concept of the gen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concept has evolved from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unit that can mutate to cause a specific block in metabolism…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the unit specifying one enzyme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the sequence of nucleotide pairs in DNA encoding one polypeptide chai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work established the concept of the ge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ncept has evolved fro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nit that can mutate to cause a specific block in metabolism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he unit specifying one enzym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he sequence of nucleotide pairs in DNA encoding one polypeptide ch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finitions of the ge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ene is to genetics what the atom is to chemistr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ene is the unit of genetic information that controls a specific aspect of the phenotyp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ene is the unit of genetic information that specifies the synthesis of one polypeptid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s of the g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 is to genetics what the atom is to chemis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 is the unit of genetic information that controls a specific aspect of the phenoty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 is the unit of genetic information that specifies the synthesis of one polypept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w has the concept of a gene developed in the minds of geneticists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has the concept of a gene developed in the minds of geneticis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ndel (1866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heritance is governed by “characters” or “constant factors” that each controls a phenotypic trait such as flower colou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 (186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heritance is governed by “characters” or “constant factors” that each controls a phenotypic trait such as flower colo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arrod (1909) Inborn errors of Metabolis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Inherited human metabolic disorders such as alkaptonuria result from alternative metabolism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Individual genes can mutate to cause a specific metabolic block.  Concept later elaborated as “one gene-one enzyme”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Over 4,000 inherited genetic disorders have now been describ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rrod (1909) Inborn errors of Metabo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herited human metabolic disorders such as alkaptonuria result from alternative metaboli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dividual genes can mutate to cause a specific metabolic block.  Concept later elaborated as “one gene-one enzyme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ver 4,000 inherited genetic disorders have now been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tabolic mutations in Drosophila (Beadle and Ephrussi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ly eyes are normally dark red because of two pigments, one bright red and one brow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utants in v or cn have bright red eyes because they lack brown pigmen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sk transplantation experiments showed that wild-type hosts produce a diffusible substance than can allow v or cn disks to form dark red ey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 disks transplanted into cn hosts also develop normally, but cn disks transplanted into v hosts still develop bright red eyes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bolic mutations in Drosophila (Beadle and Ephruss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y eyes are normally dark red because of two pigments, one bright red and one br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nts in v or cn have bright red eyes because they lack brown pig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 transplantation experiments showed that wild-type hosts produce a diffusible substance than can allow v or cn disks to form dark red ey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 disks transplanted into cn hosts also develop normally, but cn disks transplanted into v hosts still develop bright red ey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planation:  v and cn affect different steps of the same metabolic pathw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nation:  v and cn affect different steps of the same metabolic path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e now know the precise path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now know the precise path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adle and Tatum (1942)--One Gene, One Enzy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read mold Neurospora can normally grow on minimal media, because it can synthesize most essential metabolit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this biosynthesis is under genetic control, then mutants in those genes would require additional metabolites in their medi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was tested by irradiating Neurospora spores and screening the cells they produced for additional nutritional requirements (auxotrophs)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dle and Tatum (1942)--One Gene, One Enzy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d mold Neurospora can normally grow on minimal media, because it can synthesize most essential metaboli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is biosynthesis is under genetic control, then mutants in those genes would require additional metabolites in their med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as tested by irradiating Neurospora spores and screening the cells they produced for additional nutritional requirements (auxotroph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D30F-412E-439A-96DC-D0E76C306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FD72-20C8-475F-84BD-66C8830E6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3F19-9E9D-4ADB-9113-DA74C6636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5931-1588-4C07-9CAB-0FD6BF6D5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6C0D-8E67-49AF-A691-47974327A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0F33-7041-4387-A7EF-48795AA12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A59E-51CC-48C9-8A06-2DF452AEC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5C43-71C2-4B85-BC83-7C2C7D612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023C-A16C-4C1F-8EF2-2BE16A699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2426-38A5-4AB6-B305-BD39EA154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F608-E0AF-461D-A83C-BE8F972A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4322-57D6-41EB-BDD7-F4E96E7E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0393B-5CE5-46B7-9B4C-9653744A11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What is a gene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imes New Roman"/>
              </a:rPr>
              <a:t>Are genes both the basic functional unit and the smallest genetic structural unit?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til 1940, the gene was considered as the basic unit of genetic information as defined by three criteri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nit of func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controlling the inheritance of one “character” or phenotypic attribu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nit of structur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operationally defined by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recombina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nd by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uta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imes New Roman"/>
              </a:rPr>
              <a:t>Oliver (1940) - intergenic recombination at </a:t>
            </a:r>
            <a:r>
              <a:rPr b="0" i="1" lang="en-US" sz="3600" spc="-1" strike="noStrike">
                <a:solidFill>
                  <a:srgbClr val="ccffff"/>
                </a:solidFill>
                <a:latin typeface="Times New Roman"/>
              </a:rPr>
              <a:t>lozenge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tations i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ozeng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ffect eye shape i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rosophil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wo mutations,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z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z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were considered alleles of the same gene becaus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z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z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heterozygotes have lozenge, not wild-type, ey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t whe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z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z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females are crossed to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z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z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les, about 0.2% of the progeny are wild-type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se must result from recombination betwee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z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z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because the wild-type progeny always had recombinant flanking markers.  Also, the frequency of 0.2% is much higher than the reversion rate of the mutatio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Further studies of intergenic recombination in bacteriophage and bacteria (where billions, instead of thousands, of progeny can be analyzed) showed that recombination occurs between adjacent nucleotide pairs.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So the nucleotide, not the gene, is the basic unit of genetic structure.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The coding sequence of a gene and its polypeptide product are colinear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1581120" y="1981080"/>
            <a:ext cx="5981760" cy="411480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del’s work established the concept of the ge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concept has evolved from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unit that can mutate to cause a specific block in metabolism…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the unit specifying one enzyme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the sequence of nucleotide pairs in DNA encoding one polypeptide chai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Definitions of the gen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gene is to genetics what the atom is to chemistr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gene is the unit of genetic information that controls a specific aspect of the phenotyp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gene is the unit of genetic information that specifies the synthesis of one polypepti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How has the concept of a gene developed in the minds of geneticists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Mendel (1866)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heritance is governed by “characters” or “constant factors” that each controls a phenotypic trait such as flower colou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imes New Roman"/>
              </a:rPr>
              <a:t>Garrod (1909) </a:t>
            </a:r>
            <a:r>
              <a:rPr b="0" i="1" lang="en-US" sz="3600" spc="-1" strike="noStrike">
                <a:solidFill>
                  <a:srgbClr val="ccffff"/>
                </a:solidFill>
                <a:latin typeface="Times New Roman"/>
              </a:rPr>
              <a:t>Inborn errors of Metabolism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herited human metabolic disorders such as alkaptonuria result from alternative metabolis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dividual genes can mutate to cause a specific metabolic block.  Concept later elaborated as “one gene-one enzyme”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ver 4,000 inherited genetic disorders have now been describ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4800600" y="1981080"/>
            <a:ext cx="3290760" cy="411480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Metabolic mutations in </a:t>
            </a:r>
            <a:r>
              <a:rPr b="0" i="1" lang="en-US" sz="4000" spc="-1" strike="noStrike">
                <a:solidFill>
                  <a:srgbClr val="ccffff"/>
                </a:solidFill>
                <a:latin typeface="Times New Roman"/>
              </a:rPr>
              <a:t>Drosophila</a:t>
            </a: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 (Beadle and Ephrussi)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ly eyes are normally dark red because of two pigments, one bright red and one brow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utants in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c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have bright red eyes because they lack brown pigmen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isk transplantation experiments showed that wild-type hosts produce a diffusible substance than can allow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c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disks to form dark red ey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disks transplanted in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c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hosts also develop normally, but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c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disks transplanted in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hosts still develop bright red eyes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981000" y="1981080"/>
            <a:ext cx="3219480" cy="411480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imes New Roman"/>
              </a:rPr>
              <a:t>Explanation:  </a:t>
            </a:r>
            <a:r>
              <a:rPr b="0" i="1" lang="en-US" sz="3600" spc="-1" strike="noStrike">
                <a:solidFill>
                  <a:srgbClr val="ccffff"/>
                </a:solidFill>
                <a:latin typeface="Times New Roman"/>
              </a:rPr>
              <a:t>v</a:t>
            </a:r>
            <a:r>
              <a:rPr b="0" lang="en-US" sz="3600" spc="-1" strike="noStrike">
                <a:solidFill>
                  <a:srgbClr val="ccffff"/>
                </a:solidFill>
                <a:latin typeface="Times New Roman"/>
              </a:rPr>
              <a:t> and </a:t>
            </a:r>
            <a:r>
              <a:rPr b="0" i="1" lang="en-US" sz="3600" spc="-1" strike="noStrike">
                <a:solidFill>
                  <a:srgbClr val="ccffff"/>
                </a:solidFill>
                <a:latin typeface="Times New Roman"/>
              </a:rPr>
              <a:t>cn</a:t>
            </a:r>
            <a:r>
              <a:rPr b="0" lang="en-US" sz="3600" spc="-1" strike="noStrike">
                <a:solidFill>
                  <a:srgbClr val="ccffff"/>
                </a:solidFill>
                <a:latin typeface="Times New Roman"/>
              </a:rPr>
              <a:t> affect different steps of the same metabolic pathway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685800" y="2387520"/>
            <a:ext cx="7772400" cy="330192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We now know the precise pathway.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1619280" y="1981080"/>
            <a:ext cx="5904000" cy="411480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imes New Roman"/>
              </a:rPr>
              <a:t>Beadle and Tatum (1942)--One Gene, One Enzyme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read mold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Neurospora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can normally grow on minimal media, because it can synthesize most essential metabolit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f this biosynthesis is under genetic control, then mutants in those genes would require additional metabolites in their medi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is was tested by irradiating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Neurospora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spores and screening the cells they produced for additional nutritional requirements (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uxotroph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3809880" cy="405756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18:36:51Z</dcterms:created>
  <dc:creator>Paul Lasko</dc:creator>
  <dc:description/>
  <dc:language>en-US</dc:language>
  <cp:lastModifiedBy>LEGION2</cp:lastModifiedBy>
  <dcterms:modified xsi:type="dcterms:W3CDTF">2016-01-12T10:39:03Z</dcterms:modified>
  <cp:revision>10</cp:revision>
  <dc:subject/>
  <dc:title>What is a gene?</dc:title>
</cp:coreProperties>
</file>