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ABEF-7C1F-472C-BB6E-8F9B85A243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added to th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added to th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 solution added to the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 solution added to the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loaded into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loaded into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urrent applied to the 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urrent applied to the 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tained using ethid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tained using ethid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NA fragments according to size, based on movement through a gel medium when an electric field is appli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NA fragments according to size, based on movement through a gel medium when an electric field is appli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NA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ut up using restriction endonuc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ut up using restriction endonuc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gel which the DNA will be put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gel which the DNA will be put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B932-CB5E-44D1-9350-C67730B9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E380-9308-44DF-882B-7FBABFF0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F905-8E30-4E32-8E69-5772B89E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D039-0A99-4AE5-B3C6-B06DE526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8DA0-1E1B-4B3A-9810-EEBD3616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732D-818B-4769-8D17-5B8536C7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ADFC-D5FA-4D8C-BAFD-E42C1C8B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6D28-DC1A-49B0-A472-F7B0F079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8FD7-FB00-4A5B-B847-FE58378C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74D2-C655-464B-AAF0-5980D772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92DB-6B85-46FA-8951-FED2D8D2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1693-9168-4EC7-B4E1-4B660F2C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1904-9A19-4A8D-A909-0399849DF7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l electrophor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ye added to the D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1476360" y="1700280"/>
          <a:ext cx="61912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00280"/>
                    <a:ext cx="6191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uffer solution added to the tan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137440" cy="4896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samples loaded into well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gel_plate_600"/>
          <p:cNvPicPr/>
          <p:nvPr/>
        </p:nvPicPr>
        <p:blipFill>
          <a:blip r:embed="rId1"/>
          <a:stretch/>
        </p:blipFill>
        <p:spPr>
          <a:xfrm>
            <a:off x="2268360" y="1314360"/>
            <a:ext cx="4162680" cy="5543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lectrical current applied to the chamb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1187280" y="1700280"/>
          <a:ext cx="6840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68407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NA is stained using ethidium brom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4" descr="Lab_5_gel_1999"/>
          <p:cNvPicPr/>
          <p:nvPr/>
        </p:nvPicPr>
        <p:blipFill>
          <a:blip r:embed="rId1"/>
          <a:stretch/>
        </p:blipFill>
        <p:spPr>
          <a:xfrm>
            <a:off x="1835280" y="1413000"/>
            <a:ext cx="5329080" cy="5267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paration of DNA fragments according to size, based on movement through a gel medium when an electric field is applied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negatively charg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5" descr="sld002"/>
          <p:cNvPicPr/>
          <p:nvPr/>
        </p:nvPicPr>
        <p:blipFill>
          <a:blip r:embed="rId1"/>
          <a:stretch/>
        </p:blipFill>
        <p:spPr>
          <a:xfrm>
            <a:off x="1187280" y="1484280"/>
            <a:ext cx="6913800" cy="47530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NA cut up using restriction endonucleas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6" descr="restriction"/>
          <p:cNvPicPr/>
          <p:nvPr/>
        </p:nvPicPr>
        <p:blipFill>
          <a:blip r:embed="rId1"/>
          <a:stretch/>
        </p:blipFill>
        <p:spPr>
          <a:xfrm>
            <a:off x="1042920" y="1989000"/>
            <a:ext cx="6600960" cy="391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5" descr="f_s02gelelect"/>
          <p:cNvPicPr/>
          <p:nvPr/>
        </p:nvPicPr>
        <p:blipFill>
          <a:blip r:embed="rId1"/>
          <a:stretch/>
        </p:blipFill>
        <p:spPr>
          <a:xfrm>
            <a:off x="1476360" y="0"/>
            <a:ext cx="5616720" cy="6453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ke up the gel which the DNA will be put i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5" descr="12.jpg"/>
          <p:cNvPicPr/>
          <p:nvPr/>
        </p:nvPicPr>
        <p:blipFill>
          <a:blip r:embed="rId1"/>
          <a:stretch/>
        </p:blipFill>
        <p:spPr>
          <a:xfrm>
            <a:off x="900000" y="1484280"/>
            <a:ext cx="7775640" cy="49672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9" descr="sld008"/>
          <p:cNvPicPr/>
          <p:nvPr/>
        </p:nvPicPr>
        <p:blipFill>
          <a:blip r:embed="rId1"/>
          <a:stretch/>
        </p:blipFill>
        <p:spPr>
          <a:xfrm>
            <a:off x="1187280" y="836640"/>
            <a:ext cx="6897960" cy="51735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sld009"/>
          <p:cNvPicPr/>
          <p:nvPr/>
        </p:nvPicPr>
        <p:blipFill>
          <a:blip r:embed="rId1"/>
          <a:stretch/>
        </p:blipFill>
        <p:spPr>
          <a:xfrm>
            <a:off x="395280" y="333360"/>
            <a:ext cx="8265960" cy="6199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5" descr="sld010"/>
          <p:cNvPicPr/>
          <p:nvPr/>
        </p:nvPicPr>
        <p:blipFill>
          <a:blip r:embed="rId1"/>
          <a:stretch/>
        </p:blipFill>
        <p:spPr>
          <a:xfrm>
            <a:off x="826920" y="333360"/>
            <a:ext cx="7920360" cy="61927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0T21:12:08Z</dcterms:created>
  <dc:creator>Matis</dc:creator>
  <dc:description/>
  <dc:language>en-US</dc:language>
  <cp:lastModifiedBy>LEGION2</cp:lastModifiedBy>
  <dcterms:modified xsi:type="dcterms:W3CDTF">2016-01-12T10:37:34Z</dcterms:modified>
  <cp:revision>11</cp:revision>
  <dc:subject/>
  <dc:title>Gel electrophoresis and DNA sequencing</dc:title>
</cp:coreProperties>
</file>