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C6CA-F0EB-4DD3-97F6-4DBD2E6658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added to th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added to th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 solution added to the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 solution added to the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loaded into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loaded into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urrent applied to the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urrent applied to the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tained using ethid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tained using ethid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NA fragments according to size, based on movement through a gel medium when an electric field is appli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NA fragments according to size, based on movement through a gel medium when an electric field is appli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NA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ut up using restriction endonuc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ut up using restriction endonuc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gel which the DNA will be put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gel which the DNA will be put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FD65-1A09-4256-80D3-B49B3A6A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7E1-E83B-42CE-9B76-487955F9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2F1D-F4D7-479C-9558-2ED40373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0E8E-5ED7-43ED-A2AF-47646A68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86C-2FF8-47D3-9A1A-3C0DC388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1E2F-8A10-4296-B7CB-0BE164E5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FCA4-42E9-421B-A6D1-376F3449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390E-126D-4EB3-8174-B71A7F09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CAE-2665-4BD5-82E4-31F43590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7AA-E2B1-4FFE-8A53-6C2A667C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C228-73B1-443C-8466-85B8D77A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306-200D-49A3-9962-BBE220D0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7B80-3F90-46D1-9BC1-D9F99167DA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l electrophor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ye added to the D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1476360" y="1700280"/>
          <a:ext cx="61912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00280"/>
                    <a:ext cx="6191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uffer solution added to the tan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137440" cy="4896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samples loaded into well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gel_plate_600"/>
          <p:cNvPicPr/>
          <p:nvPr/>
        </p:nvPicPr>
        <p:blipFill>
          <a:blip r:embed="rId1"/>
          <a:stretch/>
        </p:blipFill>
        <p:spPr>
          <a:xfrm>
            <a:off x="2268360" y="1314360"/>
            <a:ext cx="4162680" cy="5543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ectrical current applied to the chamb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1187280" y="1700280"/>
          <a:ext cx="6840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6840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NA is stained using ethidium brom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4" descr="Lab_5_gel_1999"/>
          <p:cNvPicPr/>
          <p:nvPr/>
        </p:nvPicPr>
        <p:blipFill>
          <a:blip r:embed="rId1"/>
          <a:stretch/>
        </p:blipFill>
        <p:spPr>
          <a:xfrm>
            <a:off x="1835280" y="1413000"/>
            <a:ext cx="5329080" cy="5267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paration of DNA fragments according to size, based on movement through a gel medium when an electric field is applied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negatively charg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5" descr="sld002"/>
          <p:cNvPicPr/>
          <p:nvPr/>
        </p:nvPicPr>
        <p:blipFill>
          <a:blip r:embed="rId1"/>
          <a:stretch/>
        </p:blipFill>
        <p:spPr>
          <a:xfrm>
            <a:off x="1187280" y="1484280"/>
            <a:ext cx="6913800" cy="47530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NA cut up using restriction endonucleas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6" descr="restriction"/>
          <p:cNvPicPr/>
          <p:nvPr/>
        </p:nvPicPr>
        <p:blipFill>
          <a:blip r:embed="rId1"/>
          <a:stretch/>
        </p:blipFill>
        <p:spPr>
          <a:xfrm>
            <a:off x="1042920" y="1989000"/>
            <a:ext cx="6600960" cy="391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" descr="f_s02gelelect"/>
          <p:cNvPicPr/>
          <p:nvPr/>
        </p:nvPicPr>
        <p:blipFill>
          <a:blip r:embed="rId1"/>
          <a:stretch/>
        </p:blipFill>
        <p:spPr>
          <a:xfrm>
            <a:off x="1476360" y="0"/>
            <a:ext cx="5616720" cy="6453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ke up the gel which the DNA will be put i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" descr="12.jpg"/>
          <p:cNvPicPr/>
          <p:nvPr/>
        </p:nvPicPr>
        <p:blipFill>
          <a:blip r:embed="rId1"/>
          <a:stretch/>
        </p:blipFill>
        <p:spPr>
          <a:xfrm>
            <a:off x="900000" y="1484280"/>
            <a:ext cx="7775640" cy="49672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9" descr="sld008"/>
          <p:cNvPicPr/>
          <p:nvPr/>
        </p:nvPicPr>
        <p:blipFill>
          <a:blip r:embed="rId1"/>
          <a:stretch/>
        </p:blipFill>
        <p:spPr>
          <a:xfrm>
            <a:off x="1187280" y="836640"/>
            <a:ext cx="6897960" cy="51735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sld009"/>
          <p:cNvPicPr/>
          <p:nvPr/>
        </p:nvPicPr>
        <p:blipFill>
          <a:blip r:embed="rId1"/>
          <a:stretch/>
        </p:blipFill>
        <p:spPr>
          <a:xfrm>
            <a:off x="395280" y="333360"/>
            <a:ext cx="8265960" cy="6199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5" descr="sld010"/>
          <p:cNvPicPr/>
          <p:nvPr/>
        </p:nvPicPr>
        <p:blipFill>
          <a:blip r:embed="rId1"/>
          <a:stretch/>
        </p:blipFill>
        <p:spPr>
          <a:xfrm>
            <a:off x="826920" y="333360"/>
            <a:ext cx="7920360" cy="61927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0T21:12:08Z</dcterms:created>
  <dc:creator>Matis</dc:creator>
  <dc:description/>
  <dc:language>en-US</dc:language>
  <cp:lastModifiedBy>LEGION2</cp:lastModifiedBy>
  <dcterms:modified xsi:type="dcterms:W3CDTF">2016-01-12T10:37:34Z</dcterms:modified>
  <cp:revision>11</cp:revision>
  <dc:subject/>
  <dc:title>Gel electrophoresis and DNA sequencing</dc:title>
</cp:coreProperties>
</file>