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4964-C9A8-49F2-818C-75F91C14A2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bree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riculture – far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e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e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l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bree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riculture – far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e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e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l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br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 –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l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ep  -  suffolk  r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ep  -  suffolk  r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ep  -  suffolk  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ncol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ncol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ino  wool shee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ino  wool shee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ino  wool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fications - suffo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fications - suffo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ations - suffo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ckens – longhorn 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ckens – longhorn 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s – longhorn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kenval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kenval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enva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te shank white l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te shank white l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shank white l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eef  Cattle -       Charola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eef  Cattle -       Charola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f  Cattle -       Charol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refo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refo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f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mous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mous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ou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ig   -    Landrace  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ig   -    Landrace  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g   -    Landrace   s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ddleback -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ddleback -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ddleback - s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Yorkshire - 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Yorkshire - 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rkshire -  s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urro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urro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r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f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f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4A6A-BD7C-4955-A9F9-290B83BC5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993E-7775-498A-8C09-53A84FF5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402E-7674-42E2-8CFD-BB253AE3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B6C7-0DB2-4172-B92E-63720C5A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12ED-7786-4A1E-83A6-249B6A02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5572-5A6F-4FE6-87B2-7F4E445D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BC22-59E8-43B7-8DF6-241BE16C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1E15-B2AD-4B1D-9D96-4E17D03E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7D8C-ACB0-4CC3-B2F4-CB592642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9E80-E9CE-4473-AE6A-68C91A31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7B8F-9F48-4546-BE1B-8158D7A3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CA65-1799-47E2-BFBF-D4EB1178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E3E3-FBF5-4639-94BD-FD2965A0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DB93-9146-4626-A6CC-0FEFBDCB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70B4-F56E-4639-A86F-4C872CE5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E719-E55F-4B9A-8DB1-357277336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CF9B-09F4-497D-92DD-E0194990B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2B9C-B8E6-4A00-A283-5A585D2E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9D06-19D3-42F7-A4C4-8AA050AB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088B-9938-40FA-ADE1-2D100846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EC45-0208-48D2-A186-47562164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04A9-70D8-4EBC-99E7-7FA929B5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37F4-FA71-4DBF-9215-669F6F7A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AA38-5620-423E-8E14-B3779C40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11D7-ECCD-47DE-B852-63A240E6340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51A2-18D9-4C50-876E-C486A90FDFD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Arial"/>
              </a:rPr>
              <a:t>Animal breed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32000" y="2421000"/>
            <a:ext cx="64008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griculture – farm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h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ul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heep  -  suffolk  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5" descr="suffolk_4"/>
          <p:cNvPicPr/>
          <p:nvPr/>
        </p:nvPicPr>
        <p:blipFill>
          <a:blip r:embed="rId1"/>
          <a:stretch/>
        </p:blipFill>
        <p:spPr>
          <a:xfrm>
            <a:off x="1476360" y="1628640"/>
            <a:ext cx="5616720" cy="435132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incol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6" descr="lincoln"/>
          <p:cNvPicPr/>
          <p:nvPr/>
        </p:nvPicPr>
        <p:blipFill>
          <a:blip r:embed="rId1"/>
          <a:stretch/>
        </p:blipFill>
        <p:spPr>
          <a:xfrm>
            <a:off x="1979640" y="1413000"/>
            <a:ext cx="5400720" cy="490032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erino  wool shee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6" descr="merino"/>
          <p:cNvPicPr/>
          <p:nvPr/>
        </p:nvPicPr>
        <p:blipFill>
          <a:blip r:embed="rId1"/>
          <a:stretch/>
        </p:blipFill>
        <p:spPr>
          <a:xfrm>
            <a:off x="2124000" y="1989000"/>
            <a:ext cx="4969080" cy="424836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cifications - suffol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6" descr="south_suffolk4"/>
          <p:cNvPicPr/>
          <p:nvPr/>
        </p:nvPicPr>
        <p:blipFill>
          <a:blip r:embed="rId1"/>
          <a:stretch/>
        </p:blipFill>
        <p:spPr>
          <a:xfrm>
            <a:off x="1908000" y="1773360"/>
            <a:ext cx="4967640" cy="47498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hickens – longhorn r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6" descr="Leghorn_Red"/>
          <p:cNvPicPr/>
          <p:nvPr/>
        </p:nvPicPr>
        <p:blipFill>
          <a:blip r:embed="rId1"/>
          <a:stretch/>
        </p:blipFill>
        <p:spPr>
          <a:xfrm>
            <a:off x="1692360" y="1595520"/>
            <a:ext cx="5832360" cy="459720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akenval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6" descr="Lakenvelder"/>
          <p:cNvPicPr/>
          <p:nvPr/>
        </p:nvPicPr>
        <p:blipFill>
          <a:blip r:embed="rId1"/>
          <a:stretch/>
        </p:blipFill>
        <p:spPr>
          <a:xfrm>
            <a:off x="1619280" y="1916280"/>
            <a:ext cx="5616720" cy="436068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ite shank white le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6" descr="LangshanWhtLg"/>
          <p:cNvPicPr/>
          <p:nvPr/>
        </p:nvPicPr>
        <p:blipFill>
          <a:blip r:embed="rId1"/>
          <a:stretch/>
        </p:blipFill>
        <p:spPr>
          <a:xfrm>
            <a:off x="1835280" y="1665360"/>
            <a:ext cx="5689440" cy="457344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eef  Cattle -       Charola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6" descr="cow charolais-web-1"/>
          <p:cNvPicPr/>
          <p:nvPr/>
        </p:nvPicPr>
        <p:blipFill>
          <a:blip r:embed="rId1"/>
          <a:stretch/>
        </p:blipFill>
        <p:spPr>
          <a:xfrm>
            <a:off x="1403280" y="1916280"/>
            <a:ext cx="6769080" cy="41972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erefo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cow hereford1"/>
          <p:cNvPicPr/>
          <p:nvPr/>
        </p:nvPicPr>
        <p:blipFill>
          <a:blip r:embed="rId1"/>
          <a:stretch/>
        </p:blipFill>
        <p:spPr>
          <a:xfrm>
            <a:off x="1187280" y="1628640"/>
            <a:ext cx="6985080" cy="428328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imous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6" descr="cow limousin1"/>
          <p:cNvPicPr/>
          <p:nvPr/>
        </p:nvPicPr>
        <p:blipFill>
          <a:blip r:embed="rId1"/>
          <a:stretch/>
        </p:blipFill>
        <p:spPr>
          <a:xfrm>
            <a:off x="1042920" y="1557360"/>
            <a:ext cx="6696000" cy="43466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ig   -    Landrace   s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6" descr="pig landrace"/>
          <p:cNvPicPr/>
          <p:nvPr/>
        </p:nvPicPr>
        <p:blipFill>
          <a:blip r:embed="rId1"/>
          <a:stretch/>
        </p:blipFill>
        <p:spPr>
          <a:xfrm>
            <a:off x="1476360" y="1773360"/>
            <a:ext cx="6264360" cy="430668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addleback - s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pig saddleback"/>
          <p:cNvPicPr/>
          <p:nvPr/>
        </p:nvPicPr>
        <p:blipFill>
          <a:blip r:embed="rId1"/>
          <a:stretch/>
        </p:blipFill>
        <p:spPr>
          <a:xfrm>
            <a:off x="1187280" y="1779480"/>
            <a:ext cx="6769440" cy="41706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Yorkshire -  s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6" descr="pig yorkshire"/>
          <p:cNvPicPr/>
          <p:nvPr/>
        </p:nvPicPr>
        <p:blipFill>
          <a:blip r:embed="rId1"/>
          <a:stretch/>
        </p:blipFill>
        <p:spPr>
          <a:xfrm>
            <a:off x="1692360" y="1754280"/>
            <a:ext cx="6048360" cy="44323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Durro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6" descr="pig durroc"/>
          <p:cNvPicPr/>
          <p:nvPr/>
        </p:nvPicPr>
        <p:blipFill>
          <a:blip r:embed="rId1"/>
          <a:stretch/>
        </p:blipFill>
        <p:spPr>
          <a:xfrm>
            <a:off x="1258920" y="1844640"/>
            <a:ext cx="6337440" cy="451188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cif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6" descr="pig meat"/>
          <p:cNvPicPr/>
          <p:nvPr/>
        </p:nvPicPr>
        <p:blipFill>
          <a:blip r:embed="rId1"/>
          <a:stretch/>
        </p:blipFill>
        <p:spPr>
          <a:xfrm>
            <a:off x="900000" y="1773360"/>
            <a:ext cx="7559640" cy="443700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19:50:28Z</dcterms:created>
  <dc:creator>rik g</dc:creator>
  <dc:description/>
  <dc:language>en-US</dc:language>
  <cp:lastModifiedBy>LEGION2</cp:lastModifiedBy>
  <dcterms:modified xsi:type="dcterms:W3CDTF">2016-01-12T10:35:29Z</dcterms:modified>
  <cp:revision>13</cp:revision>
  <dc:subject/>
  <dc:title>Animal bree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