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049F-1847-4DAE-9C84-FAD858FBEB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-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-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rubid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rubid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caes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caes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, sodium, potassium, rubidium, caesium, fran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d in group 1 as the atom has one electron in its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, sodium, potassium, rubidium, caesium, fran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d in group 1 as the atom has one electron in its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 – The alkali 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 – The alkali 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DF8-D0F6-46EA-9CA0-C8006332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F88-CC67-42AB-B3D7-70592448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9DB-3829-46DE-8ED2-B97DE5BC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83E-74EE-4AA9-8E74-064EB895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E34-7285-4E17-B100-CCDDB633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3ADF-C482-4D98-975D-DE1D0EFD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ACC-7F9E-4441-9D14-46D153EC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6CB-152F-488E-A4C4-03ED002C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899-8657-4E75-8DD7-CC5C3758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2C6-8355-4CBF-A330-C8771AC1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132-E2DA-4E68-B5C0-35BFA8F4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0B7-F3B6-49E0-A40D-E34D279C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892F-D716-4723-935A-B49920C1B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s 1 - the Alkali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lenary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ould happen if rubidium was added to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ow fast will it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Will it be endothermic or exother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What gas will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What would be the 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lenary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ould happen if caesium was added to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ow fast will it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Will it be endothermic or exother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What gas will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What would be the word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name of the group 1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me 3 of thes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one of these elements has the symbol and atomic number an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are the number of protons, neutrons and electrons in this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219320" y="312408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is the name of the group 1 el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me 3 of these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one of these elements has the symbol and atomic number and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are the number of protons, neutrons and electrons in this a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thium, sodium, potassium, rubidium, caesium, franc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tons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utrons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lectrons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,8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aced in group 1 as the atom has one electron in its outer s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62120" y="335268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alt and WI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te the position in the Periodic Table of the alkali me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whether these reactions are endothermic or ex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  – The alkali meta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849400" y="2386080"/>
          <a:ext cx="5962680" cy="2773440"/>
        </p:xfrm>
        <a:graphic>
          <a:graphicData uri="http://schemas.openxmlformats.org/drawingml/2006/table">
            <a:tbl>
              <a:tblPr/>
              <a:tblGrid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47640" y="1301760"/>
          <a:ext cx="1047960" cy="5168880"/>
        </p:xfrm>
        <a:graphic>
          <a:graphicData uri="http://schemas.openxmlformats.org/drawingml/2006/table">
            <a:tbl>
              <a:tblPr/>
              <a:tblGrid>
                <a:gridCol w="104796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61" name="Line 223"/>
          <p:cNvSpPr/>
          <p:nvPr/>
        </p:nvSpPr>
        <p:spPr>
          <a:xfrm flipH="1" flipV="1">
            <a:off x="1695240" y="1301400"/>
            <a:ext cx="1153800" cy="142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4"/>
          <p:cNvSpPr/>
          <p:nvPr/>
        </p:nvSpPr>
        <p:spPr>
          <a:xfrm flipH="1">
            <a:off x="1695240" y="4748040"/>
            <a:ext cx="1153800" cy="1722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569240" y="685800"/>
            <a:ext cx="3192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s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33520" y="1231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1 and 2 are always found in nature combined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33520" y="216216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’re called active metals because of their readiness to form new substances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530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metals except hydrogen, the first element in Group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33520" y="445464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hydrogen is placed in Group 1, it shares properties with the elements in Group 1 and Group 1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533520" y="2174760"/>
            <a:ext cx="8229600" cy="1499040"/>
            <a:chOff x="533520" y="2174760"/>
            <a:chExt cx="8229600" cy="1499040"/>
          </a:xfrm>
        </p:grpSpPr>
        <p:sp>
          <p:nvSpPr>
            <p:cNvPr id="70" name="Text Box 3"/>
            <p:cNvSpPr/>
            <p:nvPr/>
          </p:nvSpPr>
          <p:spPr>
            <a:xfrm>
              <a:off x="900000" y="260496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ow densities and low melting p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4"/>
            <p:cNvSpPr/>
            <p:nvPr/>
          </p:nvSpPr>
          <p:spPr>
            <a:xfrm>
              <a:off x="533520" y="2174760"/>
              <a:ext cx="82296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ll the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 metals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are silvery solids wi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5"/>
          <p:cNvSpPr/>
          <p:nvPr/>
        </p:nvSpPr>
        <p:spPr>
          <a:xfrm>
            <a:off x="1571040" y="685800"/>
            <a:ext cx="280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 1 elements have a specific family name—alkal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520" y="3602160"/>
            <a:ext cx="5410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increase in their reactivity, or tendency to combine with other substances, as you move from top to bot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20"/>
          <p:cNvPicPr/>
          <p:nvPr/>
        </p:nvPicPr>
        <p:blipFill>
          <a:blip r:embed="rId1"/>
          <a:stretch/>
        </p:blipFill>
        <p:spPr>
          <a:xfrm>
            <a:off x="5562720" y="2679840"/>
            <a:ext cx="280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alt and WI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te the position in the Periodic Table of the alkali me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whether these reactions are endothermic or ex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925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be0e3"/>
                </a:solidFill>
                <a:latin typeface="Arial"/>
              </a:rPr>
              <a:t>Group 1 – The alkali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207"/>
          <p:cNvSpPr/>
          <p:nvPr/>
        </p:nvSpPr>
        <p:spPr>
          <a:xfrm>
            <a:off x="0" y="1390680"/>
            <a:ext cx="43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These metals all have ___ electron in their outer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9"/>
          <p:cNvSpPr/>
          <p:nvPr/>
        </p:nvSpPr>
        <p:spPr>
          <a:xfrm>
            <a:off x="0" y="261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0"/>
          <p:cNvSpPr/>
          <p:nvPr/>
        </p:nvSpPr>
        <p:spPr>
          <a:xfrm>
            <a:off x="0" y="398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all react with water to form an alkali (hence their name) and __________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1"/>
          <p:cNvSpPr/>
          <p:nvPr/>
        </p:nvSpPr>
        <p:spPr>
          <a:xfrm>
            <a:off x="704880" y="6153120"/>
            <a:ext cx="78105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down, one, shell, hydrogen,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12"/>
          <p:cNvGrpSpPr/>
          <p:nvPr/>
        </p:nvGrpSpPr>
        <p:grpSpPr>
          <a:xfrm>
            <a:off x="0" y="4933800"/>
            <a:ext cx="9144000" cy="1066320"/>
            <a:chOff x="0" y="4933800"/>
            <a:chExt cx="9144000" cy="1066320"/>
          </a:xfrm>
        </p:grpSpPr>
        <p:sp>
          <p:nvSpPr>
            <p:cNvPr id="86" name="Text Box 213"/>
            <p:cNvSpPr/>
            <p:nvPr/>
          </p:nvSpPr>
          <p:spPr>
            <a:xfrm>
              <a:off x="0" y="4933800"/>
              <a:ext cx="9144000" cy="1066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water              potassium hydroxide +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K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  2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l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2KOH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+         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4"/>
            <p:cNvSpPr/>
            <p:nvPr/>
          </p:nvSpPr>
          <p:spPr>
            <a:xfrm>
              <a:off x="3048120" y="516240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15"/>
            <p:cNvSpPr/>
            <p:nvPr/>
          </p:nvSpPr>
          <p:spPr>
            <a:xfrm>
              <a:off x="3429000" y="569592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8:17Z</dcterms:created>
  <dc:creator>CIC1</dc:creator>
  <dc:description/>
  <dc:language>en-US</dc:language>
  <cp:lastModifiedBy>RomaK</cp:lastModifiedBy>
  <dcterms:modified xsi:type="dcterms:W3CDTF">2015-09-01T16:25:46Z</dcterms:modified>
  <cp:revision>14</cp:revision>
  <dc:subject/>
  <dc:title>Group 1, the Alkali Metals</dc:title>
</cp:coreProperties>
</file>