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60209-0D0F-4492-B0DF-0E7F35E8FDE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s 1 - the Alkali Met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s 1 - the Alkali Met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enary 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di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would happen if rubidium was added to wa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how fast will it reac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Will it be endothermic or exothermic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What gas will be form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What would be the word eq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enary 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di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would happen if rubidium was added to wa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how fast will it reac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Will it be endothermic or exothermic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What gas will be form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What would be the word eq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enary 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di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would happen if caesium was added to wa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how fast will it reac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Will it be endothermic or exothermic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What gas will be form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What would be the word equa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enary 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di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would happen if caesium was added to wa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how fast will it reac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Will it be endothermic or exothermic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What gas will be form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What would be the word equa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name of the group 1 element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 3 of these ele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one of these elements has the symbol and atomic number and m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re the number of protons, neutrons and electrons in this ato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electron arrangement in this atom and how do we know what group we should place it i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name of the group 1 element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 3 of these ele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one of these elements has the symbol and atomic number and m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re the number of protons, neutrons and electrons in this ato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electron arrangement in this atom and how do we know what group we should place it i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name of the group 1 element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 3 of these ele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one of these elements has the symbol and atomic number and m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re the number of protons, neutrons and electrons in this ato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electron arrangement in this atom and how do we know what group we should place it i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kali met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thium, sodium, potassium, rubidium, caesium, franc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ons = 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trons =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ns = 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,8,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ced in group 1 as the atom has one electron in its outer sh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name of the group 1 element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 3 of these ele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one of these elements has the symbol and atomic number and m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re the number of protons, neutrons and electrons in this ato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electron arrangement in this atom and how do we know what group we should place it i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kali met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thium, sodium, potassium, rubidium, caesium, franc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ons = 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trons =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ns = 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,8,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ced in group 1 as the atom has one electron in its outer sh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lt and WI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t elements have different properties related to their position in the Periodic 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cate the position in the Periodic Table of the alkali met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all  how the alkali metals react with water and how this reaction changes as we travel down the grou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all whether these reactions are endothermic or exotherm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lt and WI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t elements have different properties related to their position in the Periodic 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cate the position in the Periodic Table of the alkali met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all  how the alkali metals react with water and how this reaction changes as we travel down the grou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all whether these reactions are endothermic or exotherm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  – The alkali metal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  – The alkali metal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s 1 and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s 1 and 2 are always found in nature combined with other elemen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’re called active metals because of their readiness to form new substances with other elemen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re all metals except hydrogen, the first element in Group 1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though hydrogen is placed in Group 1, it shares properties with the elements in Group 1 and Group 17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s 1 and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s 1 and 2 are always found in nature combined with other elemen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’re called active metals because of their readiness to form new substances with other elemen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re all metals except hydrogen, the first element in Group 1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though hydrogen is placed in Group 1, it shares properties with the elements in Group 1 and Group 17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kali Met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roup 1 elements have a specific family name—alkali metal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elements increase in their reactivity, or tendency to combine with other substances, as you move from top to botto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kali Met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roup 1 elements have a specific family name—alkali metal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elements increase in their reactivity, or tendency to combine with other substances, as you move from top to botto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lt and WI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t elements have different properties related to their position in the Periodic 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cate the position in the Periodic Table of the alkali met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all  how the alkali metals react with water and how this reaction changes as we travel down the grou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all whether these reactions are endothermic or exotherm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lt and WI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t elements have different properties related to their position in the Periodic 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cate the position in the Periodic Table of the alkali met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all  how the alkali metals react with water and how this reaction changes as we travel down the grou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all whether these reactions are endothermic or exotherm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 – The alkali met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 These metals all have ___ electron in their outer sh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fact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 Reactivity increases as you go _______ the group.  This is because the electrons are further away from the _______ every time a _____ is added, so they are given up more easi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 They all react with water to form an alkali (hence their name) and __________, e.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ds – down, one, shell, hydrogen, nucle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 – The alkali met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 These metals all have ___ electron in their outer sh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fact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 Reactivity increases as you go _______ the group.  This is because the electrons are further away from the _______ every time a _____ is added, so they are given up more easi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 They all react with water to form an alkali (hence their name) and __________, e.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ds – down, one, shell, hydrogen, nucle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84F8B-3A76-4588-9D11-125E5C33E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1E755-BD2A-479B-BB6C-479BCF9F0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6FABB-8BAA-40EE-9D43-4B29C4E2A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8F150-55DF-416F-ACE7-269F67B57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1926A-A72A-4579-B1F9-75BC56843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01A16-8BFA-47A2-88CD-ABBA0DA30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96306-EC72-43C8-A3DB-887B8C4EC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30F0F-FA31-4D4E-9AB7-621AB837B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701E1-ED1A-468E-9ACE-BE9561764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5B65A-0CF0-4A69-AAA4-366079797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3EC98-4A1C-4745-BA35-ED74F01C4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6542A-96BB-4075-9140-6E8E4496C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25C5E-979C-47E8-8860-5E94735A7E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Groups 1 - the Alkali Met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Plenary 1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redi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hat would happen if rubidium was added to wa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1. how fast will it rea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2. Will it be endothermic or exotherm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3. What gas will be form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4. What would be the word equ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Plenary 2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redi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hat would happen if caesium was added to wa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1. how fast will it rea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2. Will it be endothermic or exotherm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3. What gas will be form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4. What would be the word equa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Arial"/>
              </a:rPr>
              <a:t>star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What is the name of the group 1 elemen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Name 3 of these elem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f one of these elements has the symbol and atomic number and m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What are the number of protons, neutrons and electrons in this ato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What is the electron arrangement in this atom and how do we know what group we should place it i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1219320" y="3124080"/>
            <a:ext cx="4572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2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Arial"/>
              </a:rPr>
              <a:t>answ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What is the name of the group 1 element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Name 3 of these el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f one of these elements has the symbol and atomic number and m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What are the number of protons, neutrons and electrons in this ato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What is the electron arrangement in this atom and how do we know what group we should place it i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lkali met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Lithium, sodium, potassium, rubidium, caesium, franci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otons = 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Neutrons = 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lectrons = 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2,8,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laced in group 1 as the atom has one electron in its outer sh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6"/>
          <p:cNvSpPr/>
          <p:nvPr/>
        </p:nvSpPr>
        <p:spPr>
          <a:xfrm>
            <a:off x="762120" y="3352680"/>
            <a:ext cx="4572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2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Walt and WIL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A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ifferent elements have different properties related to their position in the Periodic 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I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Locate the position in the Periodic Table of the alkali meta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call  how the alkali metals react with water and how this reaction changes as we travel down the grou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call whether these reactions are endothermic or exotherm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95280" y="1519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Group 1  – The alkali metal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2849400" y="2386080"/>
          <a:ext cx="5962680" cy="2773440"/>
        </p:xfrm>
        <a:graphic>
          <a:graphicData uri="http://schemas.openxmlformats.org/drawingml/2006/table">
            <a:tbl>
              <a:tblPr/>
              <a:tblGrid>
                <a:gridCol w="331920"/>
                <a:gridCol w="330120"/>
                <a:gridCol w="331920"/>
                <a:gridCol w="331920"/>
                <a:gridCol w="330120"/>
                <a:gridCol w="331560"/>
                <a:gridCol w="331920"/>
                <a:gridCol w="330120"/>
                <a:gridCol w="331920"/>
                <a:gridCol w="331920"/>
                <a:gridCol w="330120"/>
                <a:gridCol w="331560"/>
                <a:gridCol w="331920"/>
                <a:gridCol w="330120"/>
                <a:gridCol w="331920"/>
                <a:gridCol w="331920"/>
                <a:gridCol w="330120"/>
                <a:gridCol w="33156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0" name=""/>
          <p:cNvGraphicFramePr/>
          <p:nvPr/>
        </p:nvGraphicFramePr>
        <p:xfrm>
          <a:off x="647640" y="1301760"/>
          <a:ext cx="1047960" cy="5168880"/>
        </p:xfrm>
        <a:graphic>
          <a:graphicData uri="http://schemas.openxmlformats.org/drawingml/2006/table">
            <a:tbl>
              <a:tblPr/>
              <a:tblGrid>
                <a:gridCol w="1047960"/>
              </a:tblGrid>
              <a:tr h="861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860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861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861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b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860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s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861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</a:tbl>
          </a:graphicData>
        </a:graphic>
      </p:graphicFrame>
      <p:sp>
        <p:nvSpPr>
          <p:cNvPr id="61" name="Line 223"/>
          <p:cNvSpPr/>
          <p:nvPr/>
        </p:nvSpPr>
        <p:spPr>
          <a:xfrm flipH="1" flipV="1">
            <a:off x="1695240" y="1301400"/>
            <a:ext cx="1153800" cy="14209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224"/>
          <p:cNvSpPr/>
          <p:nvPr/>
        </p:nvSpPr>
        <p:spPr>
          <a:xfrm flipH="1">
            <a:off x="1695240" y="4748040"/>
            <a:ext cx="1153800" cy="1722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2"/>
          <p:cNvSpPr/>
          <p:nvPr/>
        </p:nvSpPr>
        <p:spPr>
          <a:xfrm>
            <a:off x="1569240" y="685800"/>
            <a:ext cx="31921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Groups 1 and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533520" y="1231920"/>
            <a:ext cx="80010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oups 1 and 2 are always found in nature combined with other element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533520" y="2162160"/>
            <a:ext cx="800100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y’re called active metals because of their readiness to form new substances with other element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5"/>
          <p:cNvSpPr/>
          <p:nvPr/>
        </p:nvSpPr>
        <p:spPr>
          <a:xfrm>
            <a:off x="533520" y="3530520"/>
            <a:ext cx="80010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y are all metals except hydrogen, the first element in Group 1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6"/>
          <p:cNvSpPr/>
          <p:nvPr/>
        </p:nvSpPr>
        <p:spPr>
          <a:xfrm>
            <a:off x="2747520" y="0"/>
            <a:ext cx="358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resentative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8"/>
          <p:cNvSpPr/>
          <p:nvPr/>
        </p:nvSpPr>
        <p:spPr>
          <a:xfrm>
            <a:off x="533520" y="4454640"/>
            <a:ext cx="800100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though hydrogen is placed in Group 1, it shares properties with the elements in Group 1 and Group 17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2"/>
          <p:cNvGrpSpPr/>
          <p:nvPr/>
        </p:nvGrpSpPr>
        <p:grpSpPr>
          <a:xfrm>
            <a:off x="533520" y="2174760"/>
            <a:ext cx="8229600" cy="1499040"/>
            <a:chOff x="533520" y="2174760"/>
            <a:chExt cx="8229600" cy="1499040"/>
          </a:xfrm>
        </p:grpSpPr>
        <p:sp>
          <p:nvSpPr>
            <p:cNvPr id="70" name="Text Box 3"/>
            <p:cNvSpPr/>
            <p:nvPr/>
          </p:nvSpPr>
          <p:spPr>
            <a:xfrm>
              <a:off x="900000" y="2604960"/>
              <a:ext cx="38102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low densities and low melting points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Text Box 4"/>
            <p:cNvSpPr/>
            <p:nvPr/>
          </p:nvSpPr>
          <p:spPr>
            <a:xfrm>
              <a:off x="533520" y="2174760"/>
              <a:ext cx="8229600" cy="53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90000"/>
                </a:lnSpc>
                <a:spcBef>
                  <a:spcPts val="799"/>
                </a:spcBef>
                <a:spcAft>
                  <a:spcPts val="799"/>
                </a:spcAft>
                <a:buClr>
                  <a:srgbClr val="ffffff"/>
                </a:buClr>
                <a:buFont typeface="Times New Roman"/>
                <a:buChar char="•"/>
                <a:tabLst>
                  <a:tab algn="l" pos="228600"/>
                  <a:tab algn="l" pos="19432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All the 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alkali metals</a:t>
              </a: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 are silvery solids with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" name="Text Box 5"/>
          <p:cNvSpPr/>
          <p:nvPr/>
        </p:nvSpPr>
        <p:spPr>
          <a:xfrm>
            <a:off x="1571040" y="685800"/>
            <a:ext cx="280800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lkali Meta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6"/>
          <p:cNvSpPr/>
          <p:nvPr/>
        </p:nvSpPr>
        <p:spPr>
          <a:xfrm>
            <a:off x="533520" y="1219320"/>
            <a:ext cx="80010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Group 1 elements have a specific family name—alkali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t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7"/>
          <p:cNvSpPr/>
          <p:nvPr/>
        </p:nvSpPr>
        <p:spPr>
          <a:xfrm>
            <a:off x="533520" y="3602160"/>
            <a:ext cx="541008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se elements increase in their reactivity, or tendency to combine with other substances, as you move from top to bottom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11" descr="im20"/>
          <p:cNvPicPr/>
          <p:nvPr/>
        </p:nvPicPr>
        <p:blipFill>
          <a:blip r:embed="rId1"/>
          <a:stretch/>
        </p:blipFill>
        <p:spPr>
          <a:xfrm>
            <a:off x="5562720" y="2679840"/>
            <a:ext cx="280008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Walt and WIL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A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ifferent elements have different properties related to their position in the Periodic 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I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Locate the position in the Periodic Table of the alkali meta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call  how the alkali metals react with water and how this reaction changes as we travel down the grou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call whether these reactions are endothermic or exotherm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792504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bbe0e3"/>
                </a:solidFill>
                <a:latin typeface="Arial"/>
              </a:rPr>
              <a:t>Group 1 – The alkali met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5238720" y="876240"/>
          <a:ext cx="3749760" cy="2133720"/>
        </p:xfrm>
        <a:graphic>
          <a:graphicData uri="http://schemas.openxmlformats.org/drawingml/2006/table">
            <a:tbl>
              <a:tblPr/>
              <a:tblGrid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</a:tblGrid>
              <a:tr h="307080"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307080"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307080"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307080"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307080"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307080"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307080"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</a:tbl>
          </a:graphicData>
        </a:graphic>
      </p:graphicFrame>
      <p:sp>
        <p:nvSpPr>
          <p:cNvPr id="80" name="Text Box 207"/>
          <p:cNvSpPr/>
          <p:nvPr/>
        </p:nvSpPr>
        <p:spPr>
          <a:xfrm>
            <a:off x="0" y="1390680"/>
            <a:ext cx="4381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1)  These metals all have ___ electron in their outer 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208"/>
          <p:cNvSpPr/>
          <p:nvPr/>
        </p:nvSpPr>
        <p:spPr>
          <a:xfrm>
            <a:off x="0" y="819000"/>
            <a:ext cx="451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ff"/>
                </a:solidFill>
                <a:latin typeface="Comic Sans MS"/>
              </a:rPr>
              <a:t>Some fact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209"/>
          <p:cNvSpPr/>
          <p:nvPr/>
        </p:nvSpPr>
        <p:spPr>
          <a:xfrm>
            <a:off x="0" y="26100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ff"/>
                </a:solidFill>
                <a:latin typeface="Comic Sans MS"/>
              </a:rPr>
              <a:t>2)  Reactivity increases as you go _______ the group.  This is because the electrons are further away from the _______ every time a _____ is added, so they are given up more easi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210"/>
          <p:cNvSpPr/>
          <p:nvPr/>
        </p:nvSpPr>
        <p:spPr>
          <a:xfrm>
            <a:off x="0" y="39816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3)  They all react with water to form an alkali (hence their name) and __________, e.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211"/>
          <p:cNvSpPr/>
          <p:nvPr/>
        </p:nvSpPr>
        <p:spPr>
          <a:xfrm>
            <a:off x="704880" y="6153120"/>
            <a:ext cx="7810560" cy="459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Words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– down, one, shell, hydrogen, nucle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Group 212"/>
          <p:cNvGrpSpPr/>
          <p:nvPr/>
        </p:nvGrpSpPr>
        <p:grpSpPr>
          <a:xfrm>
            <a:off x="0" y="4933800"/>
            <a:ext cx="9144000" cy="1066320"/>
            <a:chOff x="0" y="4933800"/>
            <a:chExt cx="9144000" cy="1066320"/>
          </a:xfrm>
        </p:grpSpPr>
        <p:sp>
          <p:nvSpPr>
            <p:cNvPr id="86" name="Text Box 213"/>
            <p:cNvSpPr/>
            <p:nvPr/>
          </p:nvSpPr>
          <p:spPr>
            <a:xfrm>
              <a:off x="0" y="4933800"/>
              <a:ext cx="9144000" cy="106632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Potassium + water              potassium hydroxide + hydroge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2K</a:t>
              </a:r>
              <a:r>
                <a:rPr b="0" lang="en-GB" sz="2400" spc="-1" strike="noStrike" baseline="-25000">
                  <a:solidFill>
                    <a:srgbClr val="009999"/>
                  </a:solidFill>
                  <a:latin typeface="Comic Sans MS"/>
                </a:rPr>
                <a:t>(s)</a:t>
              </a: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     +      2H</a:t>
              </a:r>
              <a:r>
                <a:rPr b="0" lang="en-GB" sz="2400" spc="-1" strike="noStrike" baseline="-25000">
                  <a:solidFill>
                    <a:srgbClr val="ffffff"/>
                  </a:solidFill>
                  <a:latin typeface="Comic Sans MS"/>
                </a:rPr>
                <a:t>2</a:t>
              </a: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O</a:t>
              </a:r>
              <a:r>
                <a:rPr b="0" lang="en-GB" sz="2400" spc="-1" strike="noStrike" baseline="-25000">
                  <a:solidFill>
                    <a:srgbClr val="009999"/>
                  </a:solidFill>
                  <a:latin typeface="Comic Sans MS"/>
                </a:rPr>
                <a:t>(l)</a:t>
              </a: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                2KOH</a:t>
              </a:r>
              <a:r>
                <a:rPr b="0" lang="en-GB" sz="2400" spc="-1" strike="noStrike" baseline="-25000">
                  <a:solidFill>
                    <a:srgbClr val="009999"/>
                  </a:solidFill>
                  <a:latin typeface="Comic Sans MS"/>
                </a:rPr>
                <a:t>(aq)</a:t>
              </a: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            +         H</a:t>
              </a:r>
              <a:r>
                <a:rPr b="0" lang="en-GB" sz="2400" spc="-1" strike="noStrike" baseline="-25000">
                  <a:solidFill>
                    <a:srgbClr val="ffffff"/>
                  </a:solidFill>
                  <a:latin typeface="Comic Sans MS"/>
                </a:rPr>
                <a:t>2</a:t>
              </a:r>
              <a:r>
                <a:rPr b="0" lang="en-GB" sz="2400" spc="-1" strike="noStrike" baseline="-25000">
                  <a:solidFill>
                    <a:srgbClr val="009999"/>
                  </a:solidFill>
                  <a:latin typeface="Comic Sans MS"/>
                </a:rPr>
                <a:t>(g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Line 214"/>
            <p:cNvSpPr/>
            <p:nvPr/>
          </p:nvSpPr>
          <p:spPr>
            <a:xfrm>
              <a:off x="3048120" y="5162400"/>
              <a:ext cx="11048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Line 215"/>
            <p:cNvSpPr/>
            <p:nvPr/>
          </p:nvSpPr>
          <p:spPr>
            <a:xfrm>
              <a:off x="3429000" y="5695920"/>
              <a:ext cx="11048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17T21:38:17Z</dcterms:created>
  <dc:creator>CIC1</dc:creator>
  <dc:description/>
  <dc:language>en-US</dc:language>
  <cp:lastModifiedBy>RomaK</cp:lastModifiedBy>
  <dcterms:modified xsi:type="dcterms:W3CDTF">2015-09-01T16:25:46Z</dcterms:modified>
  <cp:revision>14</cp:revision>
  <dc:subject/>
  <dc:title>Group 1, the Alkali Metals</dc:title>
</cp:coreProperties>
</file>