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8EC7-3953-4FEE-836C-CC61332665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ene is a section of DNA that codes for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nique gene has a uniqu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unique sequence of bases will code for the production of a unique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se proteins and combination of proteins that give us a unique pheno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flow chart to show how to get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consists of two molecules that are arranged into a ladder-like structure called a Double Hel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cule of DNA is made up of millions of tiny subunits called Nucleot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ucleotide consists o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ento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sphate and sugar form the backbone of the DNA molecule, whereas the bases form the “rung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types of nitrogenous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ase will only bond with one other specific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 complementary base pairing, the order of the bases in one strand determines the order of the bases in the other str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rack the genetic code found in DNA we need to look at th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es are arranged in triplets called cod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 G - C T C - A A G - T C C - T A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 C - G A G - T T C - A G G - A T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A33-0A20-4F92-A513-3CB635DB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B90-E7F3-41A0-93FE-AC0BBA40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D08-6283-4F81-AAB5-A093E8F5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EBC4-6831-4C79-B736-168865E5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0C86-CBAA-4C26-9E94-5A741D7A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9484-BF73-4765-884A-2109A65C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D23E-3E40-4A47-B111-395D58EF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395D-65C4-4A67-9E1C-BCDA49AA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0942-B488-466F-84D9-9C08604B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AD7B-9C93-4FD8-993D-2F465C60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8FD0-06FA-4658-8520-7AB980BC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54F-B0B4-4F36-873B-51B10C07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751C-D7C7-4B11-91C7-178FFBEC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5B89-5314-4D3D-A2B5-91D691BA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B287-EC72-451B-BBB9-99A072C1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FE51-3D69-4DC5-81A5-E66EEC93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526A-09DB-4561-AB3D-A2741957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50B3E-BD00-4AB4-AB17-E8164DCE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D6F3-B6CB-4B5B-8C17-1394CB9C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73D4-D767-4B25-8E65-107A25BB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6F83-699C-46DF-9F07-C9B48127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7013-202E-46C9-B577-D12A05E3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94F-F97D-41E3-9A3E-F9051DEE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9A7E3-DB69-4F68-889C-662AB424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AA44B-EF23-43EF-92AB-360B70F4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402F0-BCA5-4D09-B936-A5BB193E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326A-537B-45A8-830D-91D2B103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CFC4F-9C04-4F92-B18A-7CAC6EC5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D7A3-C3A2-476F-ADB8-376CD4F0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FBDD5-8077-4C09-A63E-0FDC0036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EA53C-3692-499A-BF3D-5D27594D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D44CC-2C05-4F13-AF17-D87B04B7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B0C18-346D-492C-A55F-9B80F3B1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9EE-5BDE-4879-BEC8-014EC0CE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ABE28-F002-4099-9693-2A8D0282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1D686-4D4E-4CAB-A90E-C78584EB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F0D4E-872E-4DDF-8A11-4BFD867F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3920B-2B28-4634-9E5D-1243EDDA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673AC-E18A-4E2B-A4E0-287E7C19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9B915-936B-4C14-9685-6ADF2791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B931C-D696-4104-9BE4-3846AD91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11026-1FA7-4487-AFE4-2995E9B9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C83DE-E4CE-4E73-A12F-A99B9D1F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541-41B6-4F5E-BF15-D014AC21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5F3-C874-4F62-A87D-24A7DB27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F18-299D-4D12-ABEF-E6C542A0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F0F-CAB2-4243-A2F1-CB5257B2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7EB-A124-4711-9FB0-3FAACFF9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3F09-0FC2-4CC2-A0F9-D4A6CF3A19A0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EEBA-E6FE-4300-A9DB-01D4BEFFFB1D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31AD-B598-4AD7-9DA9-AD9873F25D23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44BF-A95D-40FD-96DE-AA3094F41A65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pic>
        <p:nvPicPr>
          <p:cNvPr id="212" name="Rectangle 5" descr=""/>
          <p:cNvPicPr/>
          <p:nvPr/>
        </p:nvPicPr>
        <p:blipFill>
          <a:blip r:embed="rId2"/>
          <a:stretch/>
        </p:blipFill>
        <p:spPr>
          <a:xfrm>
            <a:off x="639720" y="1285920"/>
            <a:ext cx="48592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gene is a section of DNA that codes for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rotein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unique gene has a unique sequence of bases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This unique sequence of bases will code for the production of a unique protein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It is these proteins and combination of proteins that give us a unique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henotype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000" spc="-1" strike="noStrike">
              <a:solidFill>
                <a:srgbClr val="edf3db"/>
              </a:solidFill>
              <a:latin typeface="Constantia"/>
            </a:endParaRPr>
          </a:p>
        </p:txBody>
      </p:sp>
      <p:pic>
        <p:nvPicPr>
          <p:cNvPr id="423" name="Content Placeholder 3" descr="DNA.gif"/>
          <p:cNvPicPr/>
          <p:nvPr/>
        </p:nvPicPr>
        <p:blipFill>
          <a:blip r:embed="rId1"/>
          <a:stretch/>
        </p:blipFill>
        <p:spPr>
          <a:xfrm>
            <a:off x="665280" y="785880"/>
            <a:ext cx="2711160" cy="91440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3" descr="DNA.gif"/>
          <p:cNvPicPr/>
          <p:nvPr/>
        </p:nvPicPr>
        <p:blipFill>
          <a:blip r:embed="rId2"/>
          <a:stretch/>
        </p:blipFill>
        <p:spPr>
          <a:xfrm>
            <a:off x="3376440" y="785880"/>
            <a:ext cx="2000520" cy="914400"/>
          </a:xfrm>
          <a:prstGeom prst="rect">
            <a:avLst/>
          </a:prstGeom>
          <a:ln w="0">
            <a:noFill/>
          </a:ln>
        </p:spPr>
      </p:pic>
      <p:pic>
        <p:nvPicPr>
          <p:cNvPr id="425" name="Content Placeholder 3" descr="DNA.gif"/>
          <p:cNvPicPr/>
          <p:nvPr/>
        </p:nvPicPr>
        <p:blipFill>
          <a:blip r:embed="rId3"/>
          <a:stretch/>
        </p:blipFill>
        <p:spPr>
          <a:xfrm>
            <a:off x="5376960" y="798480"/>
            <a:ext cx="3054240" cy="914400"/>
          </a:xfrm>
          <a:prstGeom prst="rect">
            <a:avLst/>
          </a:prstGeom>
          <a:ln w="0">
            <a:noFill/>
          </a:ln>
        </p:spPr>
      </p:pic>
      <p:pic>
        <p:nvPicPr>
          <p:cNvPr id="426" name="Content Placeholder 3" descr="DNA.gif"/>
          <p:cNvPicPr/>
          <p:nvPr/>
        </p:nvPicPr>
        <p:blipFill>
          <a:blip r:embed="rId4"/>
          <a:stretch/>
        </p:blipFill>
        <p:spPr>
          <a:xfrm>
            <a:off x="3359160" y="785880"/>
            <a:ext cx="19987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27" name="Oval 7"/>
          <p:cNvGrpSpPr/>
          <p:nvPr/>
        </p:nvGrpSpPr>
        <p:grpSpPr>
          <a:xfrm>
            <a:off x="2914560" y="2627280"/>
            <a:ext cx="2675160" cy="1603440"/>
            <a:chOff x="2914560" y="2627280"/>
            <a:chExt cx="2675160" cy="1603440"/>
          </a:xfrm>
        </p:grpSpPr>
        <p:pic>
          <p:nvPicPr>
            <p:cNvPr id="428" name="Oval 7" descr=""/>
            <p:cNvPicPr/>
            <p:nvPr/>
          </p:nvPicPr>
          <p:blipFill>
            <a:blip r:embed="rId5"/>
            <a:stretch/>
          </p:blipFill>
          <p:spPr>
            <a:xfrm>
              <a:off x="2914560" y="2627280"/>
              <a:ext cx="26751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3316320" y="2873520"/>
              <a:ext cx="1868400" cy="11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</a:rPr>
                <a:t>Protein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pic>
        <p:nvPicPr>
          <p:cNvPr id="430" name="Picture 8" descr="Hitchhiker-Thumb.gif"/>
          <p:cNvPicPr/>
          <p:nvPr/>
        </p:nvPicPr>
        <p:blipFill>
          <a:blip r:embed="rId6"/>
          <a:stretch/>
        </p:blipFill>
        <p:spPr>
          <a:xfrm>
            <a:off x="6570720" y="3786120"/>
            <a:ext cx="1698480" cy="2247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9"/>
          <p:cNvSpPr/>
          <p:nvPr/>
        </p:nvSpPr>
        <p:spPr>
          <a:xfrm>
            <a:off x="7429680" y="135720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DNA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4857840" y="23572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Gene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5572080" y="42861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Trait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434" name="Down Arrow 12"/>
          <p:cNvGrpSpPr/>
          <p:nvPr/>
        </p:nvGrpSpPr>
        <p:grpSpPr>
          <a:xfrm>
            <a:off x="3773520" y="1768320"/>
            <a:ext cx="669960" cy="1176480"/>
            <a:chOff x="3773520" y="1768320"/>
            <a:chExt cx="669960" cy="1176480"/>
          </a:xfrm>
        </p:grpSpPr>
        <p:pic>
          <p:nvPicPr>
            <p:cNvPr id="435" name="Down Arrow 12" descr=""/>
            <p:cNvPicPr/>
            <p:nvPr/>
          </p:nvPicPr>
          <p:blipFill>
            <a:blip r:embed="rId7"/>
            <a:stretch/>
          </p:blipFill>
          <p:spPr>
            <a:xfrm>
              <a:off x="3773520" y="1768320"/>
              <a:ext cx="6699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946680" y="1785960"/>
              <a:ext cx="32220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37" name="Down Arrow 13"/>
          <p:cNvGrpSpPr/>
          <p:nvPr/>
        </p:nvGrpSpPr>
        <p:grpSpPr>
          <a:xfrm>
            <a:off x="2773440" y="3773520"/>
            <a:ext cx="1055520" cy="1096920"/>
            <a:chOff x="2773440" y="3773520"/>
            <a:chExt cx="1055520" cy="1096920"/>
          </a:xfrm>
        </p:grpSpPr>
        <p:pic>
          <p:nvPicPr>
            <p:cNvPr id="438" name="Down Arrow 13" descr=""/>
            <p:cNvPicPr/>
            <p:nvPr/>
          </p:nvPicPr>
          <p:blipFill>
            <a:blip r:embed="rId8"/>
            <a:stretch/>
          </p:blipFill>
          <p:spPr>
            <a:xfrm>
              <a:off x="2773440" y="3773520"/>
              <a:ext cx="10555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 rot="2206800">
              <a:off x="3187800" y="3909960"/>
              <a:ext cx="3204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40" name="Down Arrow 14"/>
          <p:cNvGrpSpPr/>
          <p:nvPr/>
        </p:nvGrpSpPr>
        <p:grpSpPr>
          <a:xfrm>
            <a:off x="4127400" y="5059440"/>
            <a:ext cx="1919520" cy="811080"/>
            <a:chOff x="4127400" y="5059440"/>
            <a:chExt cx="1919520" cy="811080"/>
          </a:xfrm>
        </p:grpSpPr>
        <p:pic>
          <p:nvPicPr>
            <p:cNvPr id="441" name="Down Arrow 14" descr=""/>
            <p:cNvPicPr/>
            <p:nvPr/>
          </p:nvPicPr>
          <p:blipFill>
            <a:blip r:embed="rId9"/>
            <a:stretch/>
          </p:blipFill>
          <p:spPr>
            <a:xfrm>
              <a:off x="4127400" y="5059440"/>
              <a:ext cx="19195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 rot="15933600">
              <a:off x="4844880" y="4628520"/>
              <a:ext cx="322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3876E-007 C -0.0217 0.00532 -0.0434 0.01087 -0.05955 0.02174 C -0.07569 0.03261 -0.08819 0.04834 -0.09687 0.06568 C -0.10555 0.08303 -0.11007 0.1006 -0.1118 0.12535 C -0.11354 0.15009 -0.11371 0.18756 -0.10746 0.21462 C -0.10121 0.24168 -0.08976 0.27059 -0.07448 0.28816 C -0.0592 0.30574 -0.03767 0.31337 -0.01632 0.32008 E">
                                      <p:cBhvr>
                                        <p:cTn id="14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7.46531E-006 C -0.03178 -0.01087 -0.06355 -0.02174 -0.0941 -0.02198 C -0.12466 -0.02221 -0.16008 -0.01434 -0.18351 -0.00209 C -0.20695 0.01017 -0.22049 0.0296 -0.23438 0.05157 C -0.24827 0.07354 -0.26008 0.09736 -0.26719 0.12927 C -0.27431 0.16119 -0.27935 0.21322 -0.27761 0.24259 C -0.27587 0.27197 -0.2724 0.29486 -0.25678 0.30619 C -0.24115 0.31752 -0.19966 0.31637 -0.18351 0.31012 E">
                                      <p:cBhvr>
                                        <p:cTn id="155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Your Task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Draw a flow chart to show how to get from: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pic>
        <p:nvPicPr>
          <p:cNvPr id="445" name="Picture 3" descr="Animal-Cell.gif"/>
          <p:cNvPicPr/>
          <p:nvPr/>
        </p:nvPicPr>
        <p:blipFill>
          <a:blip r:embed="rId1"/>
          <a:stretch/>
        </p:blipFill>
        <p:spPr>
          <a:xfrm>
            <a:off x="285840" y="1500120"/>
            <a:ext cx="3090600" cy="3070440"/>
          </a:xfrm>
          <a:prstGeom prst="rect">
            <a:avLst/>
          </a:prstGeom>
          <a:ln w="0">
            <a:noFill/>
          </a:ln>
        </p:spPr>
      </p:pic>
      <p:sp>
        <p:nvSpPr>
          <p:cNvPr id="446" name="Right Arrow 4"/>
          <p:cNvSpPr/>
          <p:nvPr/>
        </p:nvSpPr>
        <p:spPr>
          <a:xfrm rot="957600">
            <a:off x="2757240" y="3930480"/>
            <a:ext cx="1714320" cy="10717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505400" y="3444840"/>
            <a:ext cx="4456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DNA consists of two molecules that are arranged into a ladder-like structure called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Double Helix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molecule of DNA is made up of millions of tiny subunits called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Nucleotides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nucleotide consists of: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hosphate group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entose sugar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Nitrogenous base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17" name="Oval 3"/>
          <p:cNvGrpSpPr/>
          <p:nvPr/>
        </p:nvGrpSpPr>
        <p:grpSpPr>
          <a:xfrm>
            <a:off x="1042920" y="1755720"/>
            <a:ext cx="2127240" cy="1846440"/>
            <a:chOff x="1042920" y="1755720"/>
            <a:chExt cx="2127240" cy="1846440"/>
          </a:xfrm>
        </p:grpSpPr>
        <p:pic>
          <p:nvPicPr>
            <p:cNvPr id="218" name="Oval 3" descr=""/>
            <p:cNvPicPr/>
            <p:nvPr/>
          </p:nvPicPr>
          <p:blipFill>
            <a:blip r:embed="rId1"/>
            <a:stretch/>
          </p:blipFill>
          <p:spPr>
            <a:xfrm>
              <a:off x="1042920" y="1755720"/>
              <a:ext cx="212724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374840" y="2048040"/>
              <a:ext cx="146520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Constantia"/>
                </a:rPr>
                <a:t>Phosphate</a:t>
              </a:r>
              <a:endParaRPr b="0" lang="en-US" sz="20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0" name="Regular Pentagon 4"/>
          <p:cNvGrpSpPr/>
          <p:nvPr/>
        </p:nvGrpSpPr>
        <p:grpSpPr>
          <a:xfrm>
            <a:off x="3114720" y="3181320"/>
            <a:ext cx="2347920" cy="2347920"/>
            <a:chOff x="3114720" y="3181320"/>
            <a:chExt cx="2347920" cy="2347920"/>
          </a:xfrm>
        </p:grpSpPr>
        <p:pic>
          <p:nvPicPr>
            <p:cNvPr id="221" name="Regular Pentagon 4" descr=""/>
            <p:cNvPicPr/>
            <p:nvPr/>
          </p:nvPicPr>
          <p:blipFill>
            <a:blip r:embed="rId2"/>
            <a:stretch/>
          </p:blipFill>
          <p:spPr>
            <a:xfrm>
              <a:off x="3114720" y="3181320"/>
              <a:ext cx="23479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79840" y="3754440"/>
              <a:ext cx="1413000" cy="17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Pento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Sugar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3" name="Rectangle 5"/>
          <p:cNvGrpSpPr/>
          <p:nvPr/>
        </p:nvGrpSpPr>
        <p:grpSpPr>
          <a:xfrm>
            <a:off x="6261120" y="2755800"/>
            <a:ext cx="2127240" cy="1346400"/>
            <a:chOff x="6261120" y="2755800"/>
            <a:chExt cx="2127240" cy="1346400"/>
          </a:xfrm>
        </p:grpSpPr>
        <p:pic>
          <p:nvPicPr>
            <p:cNvPr id="224" name="Rectangle 5" descr=""/>
            <p:cNvPicPr/>
            <p:nvPr/>
          </p:nvPicPr>
          <p:blipFill>
            <a:blip r:embed="rId3"/>
            <a:stretch/>
          </p:blipFill>
          <p:spPr>
            <a:xfrm>
              <a:off x="6261120" y="2755800"/>
              <a:ext cx="212724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286680" y="2786040"/>
              <a:ext cx="20714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Nitrogenous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Ba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sp>
        <p:nvSpPr>
          <p:cNvPr id="226" name="Straight Connector 7"/>
          <p:cNvSpPr/>
          <p:nvPr/>
        </p:nvSpPr>
        <p:spPr>
          <a:xfrm>
            <a:off x="2840040" y="3309840"/>
            <a:ext cx="303120" cy="77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27" name="Straight Connector 9"/>
          <p:cNvSpPr/>
          <p:nvPr/>
        </p:nvSpPr>
        <p:spPr>
          <a:xfrm flipV="1">
            <a:off x="5429160" y="4071960"/>
            <a:ext cx="189396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phosphate and sugar form the backbone of the DNA molecule, whereas the bases form the “rungs”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re are four types of nitrogenous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30" name="Rectangle 3"/>
          <p:cNvGrpSpPr/>
          <p:nvPr/>
        </p:nvGrpSpPr>
        <p:grpSpPr>
          <a:xfrm>
            <a:off x="1042920" y="3402000"/>
            <a:ext cx="7272360" cy="341280"/>
            <a:chOff x="1042920" y="3402000"/>
            <a:chExt cx="7272360" cy="341280"/>
          </a:xfrm>
        </p:grpSpPr>
        <p:pic>
          <p:nvPicPr>
            <p:cNvPr id="231" name="Rectangle 3" descr=""/>
            <p:cNvPicPr/>
            <p:nvPr/>
          </p:nvPicPr>
          <p:blipFill>
            <a:blip r:embed="rId1"/>
            <a:stretch/>
          </p:blipFill>
          <p:spPr>
            <a:xfrm>
              <a:off x="1042920" y="3402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071720" y="34290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1357200" y="3643200"/>
            <a:ext cx="6786720" cy="1214640"/>
            <a:chOff x="1357200" y="3643200"/>
            <a:chExt cx="6786720" cy="1214640"/>
          </a:xfrm>
        </p:grpSpPr>
        <p:grpSp>
          <p:nvGrpSpPr>
            <p:cNvPr id="234" name="Parallelogram 5"/>
            <p:cNvGrpSpPr/>
            <p:nvPr/>
          </p:nvGrpSpPr>
          <p:grpSpPr>
            <a:xfrm>
              <a:off x="1357200" y="3643200"/>
              <a:ext cx="388440" cy="1214640"/>
              <a:chOff x="1357200" y="3643200"/>
              <a:chExt cx="388440" cy="1214640"/>
            </a:xfrm>
          </p:grpSpPr>
          <p:pic>
            <p:nvPicPr>
              <p:cNvPr id="235" name="Parallelogram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720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440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37" name="Parallelogram 6"/>
            <p:cNvGrpSpPr/>
            <p:nvPr/>
          </p:nvGrpSpPr>
          <p:grpSpPr>
            <a:xfrm>
              <a:off x="2067120" y="3643200"/>
              <a:ext cx="388440" cy="1214640"/>
              <a:chOff x="2067120" y="3643200"/>
              <a:chExt cx="388440" cy="1214640"/>
            </a:xfrm>
          </p:grpSpPr>
          <p:pic>
            <p:nvPicPr>
              <p:cNvPr id="238" name="Parallelogram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0671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2151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0" name="Parallelogram 7"/>
            <p:cNvGrpSpPr/>
            <p:nvPr/>
          </p:nvGrpSpPr>
          <p:grpSpPr>
            <a:xfrm>
              <a:off x="2783520" y="3643200"/>
              <a:ext cx="382320" cy="1214640"/>
              <a:chOff x="2783520" y="3643200"/>
              <a:chExt cx="382320" cy="1214640"/>
            </a:xfrm>
          </p:grpSpPr>
          <p:pic>
            <p:nvPicPr>
              <p:cNvPr id="241" name="Parallelogram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35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28623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3" name="Parallelogram 8"/>
            <p:cNvGrpSpPr/>
            <p:nvPr/>
          </p:nvGrpSpPr>
          <p:grpSpPr>
            <a:xfrm>
              <a:off x="3493800" y="3643200"/>
              <a:ext cx="382320" cy="1214640"/>
              <a:chOff x="3493800" y="3643200"/>
              <a:chExt cx="382320" cy="1214640"/>
            </a:xfrm>
          </p:grpSpPr>
          <p:pic>
            <p:nvPicPr>
              <p:cNvPr id="244" name="Parallelogram 8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38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35737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6" name="Parallelogram 9"/>
            <p:cNvGrpSpPr/>
            <p:nvPr/>
          </p:nvGrpSpPr>
          <p:grpSpPr>
            <a:xfrm>
              <a:off x="4204080" y="3643200"/>
              <a:ext cx="382320" cy="1214640"/>
              <a:chOff x="4204080" y="3643200"/>
              <a:chExt cx="382320" cy="1214640"/>
            </a:xfrm>
          </p:grpSpPr>
          <p:pic>
            <p:nvPicPr>
              <p:cNvPr id="247" name="Parallelogram 9" descr=""/>
              <p:cNvPicPr/>
              <p:nvPr/>
            </p:nvPicPr>
            <p:blipFill>
              <a:blip r:embed="rId6"/>
              <a:stretch/>
            </p:blipFill>
            <p:spPr>
              <a:xfrm>
                <a:off x="420408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42850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9" name="Parallelogram 10"/>
            <p:cNvGrpSpPr/>
            <p:nvPr/>
          </p:nvGrpSpPr>
          <p:grpSpPr>
            <a:xfrm>
              <a:off x="4914360" y="3643200"/>
              <a:ext cx="388440" cy="1214640"/>
              <a:chOff x="4914360" y="3643200"/>
              <a:chExt cx="388440" cy="1214640"/>
            </a:xfrm>
          </p:grpSpPr>
          <p:pic>
            <p:nvPicPr>
              <p:cNvPr id="250" name="Parallelogram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491436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968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2" name="Parallelogram 11"/>
            <p:cNvGrpSpPr/>
            <p:nvPr/>
          </p:nvGrpSpPr>
          <p:grpSpPr>
            <a:xfrm>
              <a:off x="5624640" y="3643200"/>
              <a:ext cx="388440" cy="1214640"/>
              <a:chOff x="5624640" y="3643200"/>
              <a:chExt cx="388440" cy="1214640"/>
            </a:xfrm>
          </p:grpSpPr>
          <p:pic>
            <p:nvPicPr>
              <p:cNvPr id="253" name="Parallelogram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464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7081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5" name="Parallelogram 12"/>
            <p:cNvGrpSpPr/>
            <p:nvPr/>
          </p:nvGrpSpPr>
          <p:grpSpPr>
            <a:xfrm>
              <a:off x="6334920" y="3643200"/>
              <a:ext cx="388440" cy="1214640"/>
              <a:chOff x="6334920" y="3643200"/>
              <a:chExt cx="388440" cy="1214640"/>
            </a:xfrm>
          </p:grpSpPr>
          <p:pic>
            <p:nvPicPr>
              <p:cNvPr id="256" name="Parallelogram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63349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64195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8" name="Parallelogram 13"/>
            <p:cNvGrpSpPr/>
            <p:nvPr/>
          </p:nvGrpSpPr>
          <p:grpSpPr>
            <a:xfrm>
              <a:off x="7051320" y="3643200"/>
              <a:ext cx="382320" cy="1214640"/>
              <a:chOff x="7051320" y="3643200"/>
              <a:chExt cx="382320" cy="1214640"/>
            </a:xfrm>
          </p:grpSpPr>
          <p:pic>
            <p:nvPicPr>
              <p:cNvPr id="259" name="Parallelogram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513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71308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61" name="Parallelogram 14"/>
            <p:cNvGrpSpPr/>
            <p:nvPr/>
          </p:nvGrpSpPr>
          <p:grpSpPr>
            <a:xfrm>
              <a:off x="7761600" y="3643200"/>
              <a:ext cx="382320" cy="1214640"/>
              <a:chOff x="7761600" y="3643200"/>
              <a:chExt cx="382320" cy="1214640"/>
            </a:xfrm>
          </p:grpSpPr>
          <p:pic>
            <p:nvPicPr>
              <p:cNvPr id="262" name="Parallelogram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616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784224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264" name="Rectangle 4"/>
          <p:cNvGrpSpPr/>
          <p:nvPr/>
        </p:nvGrpSpPr>
        <p:grpSpPr>
          <a:xfrm>
            <a:off x="1042920" y="4761000"/>
            <a:ext cx="7272360" cy="341280"/>
            <a:chOff x="1042920" y="4761000"/>
            <a:chExt cx="7272360" cy="341280"/>
          </a:xfrm>
        </p:grpSpPr>
        <p:pic>
          <p:nvPicPr>
            <p:cNvPr id="265" name="Rectangle 4" descr=""/>
            <p:cNvPicPr/>
            <p:nvPr/>
          </p:nvPicPr>
          <p:blipFill>
            <a:blip r:embed="rId12"/>
            <a:stretch/>
          </p:blipFill>
          <p:spPr>
            <a:xfrm>
              <a:off x="1042920" y="4761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071720" y="47862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69" name="Group 43"/>
          <p:cNvGrpSpPr/>
          <p:nvPr/>
        </p:nvGrpSpPr>
        <p:grpSpPr>
          <a:xfrm>
            <a:off x="571680" y="1571760"/>
            <a:ext cx="4286160" cy="1800000"/>
            <a:chOff x="571680" y="1571760"/>
            <a:chExt cx="4286160" cy="1800000"/>
          </a:xfrm>
        </p:grpSpPr>
        <p:grpSp>
          <p:nvGrpSpPr>
            <p:cNvPr id="270" name="Group 32"/>
            <p:cNvGrpSpPr/>
            <p:nvPr/>
          </p:nvGrpSpPr>
          <p:grpSpPr>
            <a:xfrm>
              <a:off x="571680" y="1571760"/>
              <a:ext cx="3750120" cy="1800000"/>
              <a:chOff x="571680" y="1571760"/>
              <a:chExt cx="3750120" cy="1800000"/>
            </a:xfrm>
          </p:grpSpPr>
          <p:grpSp>
            <p:nvGrpSpPr>
              <p:cNvPr id="271" name="Group 16"/>
              <p:cNvGrpSpPr/>
              <p:nvPr/>
            </p:nvGrpSpPr>
            <p:grpSpPr>
              <a:xfrm>
                <a:off x="571680" y="1571760"/>
                <a:ext cx="2550600" cy="1800000"/>
                <a:chOff x="571680" y="1571760"/>
                <a:chExt cx="2550600" cy="1800000"/>
              </a:xfrm>
            </p:grpSpPr>
            <p:sp>
              <p:nvSpPr>
                <p:cNvPr id="272" name="Oval 35"/>
                <p:cNvSpPr/>
                <p:nvPr/>
              </p:nvSpPr>
              <p:spPr>
                <a:xfrm>
                  <a:off x="571680" y="1571760"/>
                  <a:ext cx="76536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3" name="Regular Pentagon 36"/>
                <p:cNvSpPr/>
                <p:nvPr/>
              </p:nvSpPr>
              <p:spPr>
                <a:xfrm>
                  <a:off x="1519920" y="2367000"/>
                  <a:ext cx="98316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4" name="Straight Connector 37"/>
                <p:cNvSpPr/>
                <p:nvPr/>
              </p:nvSpPr>
              <p:spPr>
                <a:xfrm flipH="1" flipV="1">
                  <a:off x="1224360" y="2286000"/>
                  <a:ext cx="29520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5" name="Straight Connector 38"/>
                <p:cNvSpPr/>
                <p:nvPr/>
              </p:nvSpPr>
              <p:spPr>
                <a:xfrm flipV="1">
                  <a:off x="2503080" y="2701800"/>
                  <a:ext cx="61920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76" name="Pentagon 34"/>
              <p:cNvSpPr/>
              <p:nvPr/>
            </p:nvSpPr>
            <p:spPr>
              <a:xfrm>
                <a:off x="3096000" y="1932120"/>
                <a:ext cx="1225800" cy="792000"/>
              </a:xfrm>
              <a:custGeom>
                <a:avLst/>
                <a:gdLst>
                  <a:gd name="textAreaLeft" fmla="*/ 0 w 1225800"/>
                  <a:gd name="textAreaRight" fmla="*/ 1226160 w 122580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9" y="0"/>
                    </a:lnTo>
                    <a:lnTo>
                      <a:pt x="21600" y="10800"/>
                    </a:lnTo>
                    <a:lnTo>
                      <a:pt x="1460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77" name="TextBox 39"/>
            <p:cNvSpPr/>
            <p:nvPr/>
          </p:nvSpPr>
          <p:spPr>
            <a:xfrm>
              <a:off x="2500560" y="271476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Ade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78" name="Group 44"/>
          <p:cNvGrpSpPr/>
          <p:nvPr/>
        </p:nvGrpSpPr>
        <p:grpSpPr>
          <a:xfrm>
            <a:off x="5000760" y="1571760"/>
            <a:ext cx="4143240" cy="1800000"/>
            <a:chOff x="5000760" y="1571760"/>
            <a:chExt cx="4143240" cy="1800000"/>
          </a:xfrm>
        </p:grpSpPr>
        <p:grpSp>
          <p:nvGrpSpPr>
            <p:cNvPr id="279" name="Group 16"/>
            <p:cNvGrpSpPr/>
            <p:nvPr/>
          </p:nvGrpSpPr>
          <p:grpSpPr>
            <a:xfrm>
              <a:off x="5000760" y="1571760"/>
              <a:ext cx="3599640" cy="1800000"/>
              <a:chOff x="5000760" y="1571760"/>
              <a:chExt cx="3599640" cy="1800000"/>
            </a:xfrm>
          </p:grpSpPr>
          <p:grpSp>
            <p:nvGrpSpPr>
              <p:cNvPr id="280" name="Group 32"/>
              <p:cNvGrpSpPr/>
              <p:nvPr/>
            </p:nvGrpSpPr>
            <p:grpSpPr>
              <a:xfrm>
                <a:off x="5000760" y="1571760"/>
                <a:ext cx="2495880" cy="1800000"/>
                <a:chOff x="5000760" y="1571760"/>
                <a:chExt cx="2495880" cy="1800000"/>
              </a:xfrm>
            </p:grpSpPr>
            <p:sp>
              <p:nvSpPr>
                <p:cNvPr id="281" name="Oval 20"/>
                <p:cNvSpPr/>
                <p:nvPr/>
              </p:nvSpPr>
              <p:spPr>
                <a:xfrm>
                  <a:off x="5000760" y="1571760"/>
                  <a:ext cx="7484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2" name="Regular Pentagon 21"/>
                <p:cNvSpPr/>
                <p:nvPr/>
              </p:nvSpPr>
              <p:spPr>
                <a:xfrm>
                  <a:off x="5926680" y="2367000"/>
                  <a:ext cx="96408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3" name="Straight Connector 22"/>
                <p:cNvSpPr/>
                <p:nvPr/>
              </p:nvSpPr>
              <p:spPr>
                <a:xfrm flipH="1" flipV="1">
                  <a:off x="5639400" y="2286000"/>
                  <a:ext cx="2869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4" name="Straight Connector 23"/>
                <p:cNvSpPr/>
                <p:nvPr/>
              </p:nvSpPr>
              <p:spPr>
                <a:xfrm flipV="1">
                  <a:off x="6891120" y="2701800"/>
                  <a:ext cx="6055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85" name="Rectangle 18"/>
              <p:cNvSpPr/>
              <p:nvPr/>
            </p:nvSpPr>
            <p:spPr>
              <a:xfrm>
                <a:off x="7400880" y="1932120"/>
                <a:ext cx="564840" cy="792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286" name="Chevron 19"/>
              <p:cNvSpPr/>
              <p:nvPr/>
            </p:nvSpPr>
            <p:spPr>
              <a:xfrm flipH="1">
                <a:off x="7400160" y="1932120"/>
                <a:ext cx="1199880" cy="792000"/>
              </a:xfrm>
              <a:custGeom>
                <a:avLst/>
                <a:gdLst>
                  <a:gd name="textAreaLeft" fmla="*/ -360 w 1199880"/>
                  <a:gd name="textAreaRight" fmla="*/ 1199880 w 119988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12" y="0"/>
                    </a:lnTo>
                    <a:lnTo>
                      <a:pt x="21600" y="10800"/>
                    </a:lnTo>
                    <a:lnTo>
                      <a:pt x="14612" y="21600"/>
                    </a:lnTo>
                    <a:lnTo>
                      <a:pt x="0" y="21600"/>
                    </a:lnTo>
                    <a:lnTo>
                      <a:pt x="6988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87" name="TextBox 40"/>
            <p:cNvSpPr/>
            <p:nvPr/>
          </p:nvSpPr>
          <p:spPr>
            <a:xfrm>
              <a:off x="6786720" y="278640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Thym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000760" y="4214880"/>
            <a:ext cx="4349520" cy="1800000"/>
            <a:chOff x="5000760" y="4214880"/>
            <a:chExt cx="4349520" cy="1800000"/>
          </a:xfrm>
        </p:grpSpPr>
        <p:grpSp>
          <p:nvGrpSpPr>
            <p:cNvPr id="289" name="Group 24"/>
            <p:cNvGrpSpPr/>
            <p:nvPr/>
          </p:nvGrpSpPr>
          <p:grpSpPr>
            <a:xfrm>
              <a:off x="5000760" y="4214880"/>
              <a:ext cx="4349520" cy="1800000"/>
              <a:chOff x="5000760" y="4214880"/>
              <a:chExt cx="4349520" cy="1800000"/>
            </a:xfrm>
          </p:grpSpPr>
          <p:sp>
            <p:nvSpPr>
              <p:cNvPr id="290" name="Rectangle 25"/>
              <p:cNvSpPr/>
              <p:nvPr/>
            </p:nvSpPr>
            <p:spPr>
              <a:xfrm>
                <a:off x="7424640" y="4502160"/>
                <a:ext cx="1212840" cy="86508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291" name="Group 24"/>
              <p:cNvGrpSpPr/>
              <p:nvPr/>
            </p:nvGrpSpPr>
            <p:grpSpPr>
              <a:xfrm>
                <a:off x="5000760" y="4214880"/>
                <a:ext cx="2521440" cy="1800000"/>
                <a:chOff x="5000760" y="4214880"/>
                <a:chExt cx="2521440" cy="1800000"/>
              </a:xfrm>
            </p:grpSpPr>
            <p:sp>
              <p:nvSpPr>
                <p:cNvPr id="292" name="Oval 28"/>
                <p:cNvSpPr/>
                <p:nvPr/>
              </p:nvSpPr>
              <p:spPr>
                <a:xfrm>
                  <a:off x="5000760" y="4214880"/>
                  <a:ext cx="7556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3" name="Regular Pentagon 29"/>
                <p:cNvSpPr/>
                <p:nvPr/>
              </p:nvSpPr>
              <p:spPr>
                <a:xfrm>
                  <a:off x="5937480" y="5010120"/>
                  <a:ext cx="97164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4" name="Straight Connector 30"/>
                <p:cNvSpPr/>
                <p:nvPr/>
              </p:nvSpPr>
              <p:spPr>
                <a:xfrm flipH="1" flipV="1">
                  <a:off x="5646600" y="4929120"/>
                  <a:ext cx="2905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5" name="Straight Connector 31"/>
                <p:cNvSpPr/>
                <p:nvPr/>
              </p:nvSpPr>
              <p:spPr>
                <a:xfrm flipV="1">
                  <a:off x="6909480" y="5344920"/>
                  <a:ext cx="6127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96" name="Flowchart: Delay 27"/>
              <p:cNvSpPr/>
              <p:nvPr/>
            </p:nvSpPr>
            <p:spPr>
              <a:xfrm flipH="1">
                <a:off x="8209080" y="4502160"/>
                <a:ext cx="1141200" cy="86832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97" name="TextBox 41"/>
            <p:cNvSpPr/>
            <p:nvPr/>
          </p:nvSpPr>
          <p:spPr>
            <a:xfrm>
              <a:off x="6786360" y="535788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Gua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98" name="Group 45"/>
          <p:cNvGrpSpPr/>
          <p:nvPr/>
        </p:nvGrpSpPr>
        <p:grpSpPr>
          <a:xfrm>
            <a:off x="571680" y="4214880"/>
            <a:ext cx="4286160" cy="1800000"/>
            <a:chOff x="571680" y="4214880"/>
            <a:chExt cx="4286160" cy="1800000"/>
          </a:xfrm>
        </p:grpSpPr>
        <p:grpSp>
          <p:nvGrpSpPr>
            <p:cNvPr id="299" name="Group 10"/>
            <p:cNvGrpSpPr/>
            <p:nvPr/>
          </p:nvGrpSpPr>
          <p:grpSpPr>
            <a:xfrm>
              <a:off x="571680" y="4214880"/>
              <a:ext cx="3600000" cy="1800000"/>
              <a:chOff x="571680" y="4214880"/>
              <a:chExt cx="3600000" cy="1800000"/>
            </a:xfrm>
          </p:grpSpPr>
          <p:sp>
            <p:nvSpPr>
              <p:cNvPr id="300" name="Oval 11"/>
              <p:cNvSpPr/>
              <p:nvPr/>
            </p:nvSpPr>
            <p:spPr>
              <a:xfrm>
                <a:off x="571680" y="4214880"/>
                <a:ext cx="779400" cy="83664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1" name="Regular Pentagon 12"/>
              <p:cNvSpPr/>
              <p:nvPr/>
            </p:nvSpPr>
            <p:spPr>
              <a:xfrm>
                <a:off x="1536840" y="5010120"/>
                <a:ext cx="1001520" cy="100476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2" name="Flowchart: Delay 13"/>
              <p:cNvSpPr/>
              <p:nvPr/>
            </p:nvSpPr>
            <p:spPr>
              <a:xfrm>
                <a:off x="3170160" y="4549680"/>
                <a:ext cx="1001520" cy="7952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3" name="Straight Connector 14"/>
              <p:cNvSpPr/>
              <p:nvPr/>
            </p:nvSpPr>
            <p:spPr>
              <a:xfrm flipH="1" flipV="1">
                <a:off x="1236240" y="4929120"/>
                <a:ext cx="299880" cy="46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4" name="Straight Connector 15"/>
              <p:cNvSpPr/>
              <p:nvPr/>
            </p:nvSpPr>
            <p:spPr>
              <a:xfrm flipV="1">
                <a:off x="2538360" y="5344920"/>
                <a:ext cx="631800" cy="4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305" name="TextBox 42"/>
            <p:cNvSpPr/>
            <p:nvPr/>
          </p:nvSpPr>
          <p:spPr>
            <a:xfrm>
              <a:off x="2500560" y="542952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Cytos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Each base will only bond with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one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other specific base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denine (A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ymine (T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Cytosine (C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Guanine (G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8" name="Right Brace 3"/>
          <p:cNvSpPr/>
          <p:nvPr/>
        </p:nvSpPr>
        <p:spPr>
          <a:xfrm>
            <a:off x="3357720" y="321480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09" name="Right Brace 4"/>
          <p:cNvSpPr/>
          <p:nvPr/>
        </p:nvSpPr>
        <p:spPr>
          <a:xfrm>
            <a:off x="3357720" y="500076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000680" y="350028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4000680" y="528624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Because of this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mplementary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base pairing, the order of the bases in one strand determines the order of the bases in the other strand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113"/>
          <p:cNvGrpSpPr/>
          <p:nvPr/>
        </p:nvGrpSpPr>
        <p:grpSpPr>
          <a:xfrm>
            <a:off x="5500800" y="500040"/>
            <a:ext cx="2071440" cy="6000840"/>
            <a:chOff x="5500800" y="500040"/>
            <a:chExt cx="2071440" cy="6000840"/>
          </a:xfrm>
        </p:grpSpPr>
        <p:grpSp>
          <p:nvGrpSpPr>
            <p:cNvPr id="315" name="Group 81"/>
            <p:cNvGrpSpPr/>
            <p:nvPr/>
          </p:nvGrpSpPr>
          <p:grpSpPr>
            <a:xfrm>
              <a:off x="5500800" y="1357200"/>
              <a:ext cx="2071440" cy="857160"/>
              <a:chOff x="5500800" y="1357200"/>
              <a:chExt cx="2071440" cy="857160"/>
            </a:xfrm>
          </p:grpSpPr>
          <p:grpSp>
            <p:nvGrpSpPr>
              <p:cNvPr id="316" name="Group 24"/>
              <p:cNvGrpSpPr/>
              <p:nvPr/>
            </p:nvGrpSpPr>
            <p:grpSpPr>
              <a:xfrm>
                <a:off x="6371280" y="1357200"/>
                <a:ext cx="1200960" cy="857160"/>
                <a:chOff x="6371280" y="1357200"/>
                <a:chExt cx="1200960" cy="857160"/>
              </a:xfrm>
            </p:grpSpPr>
            <p:sp>
              <p:nvSpPr>
                <p:cNvPr id="317" name="Oval 85"/>
                <p:cNvSpPr/>
                <p:nvPr/>
              </p:nvSpPr>
              <p:spPr>
                <a:xfrm flipH="1">
                  <a:off x="7211520" y="135720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8" name="Regular Pentagon 86"/>
                <p:cNvSpPr/>
                <p:nvPr/>
              </p:nvSpPr>
              <p:spPr>
                <a:xfrm flipH="1">
                  <a:off x="6663600" y="173664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9" name="Straight Connector 87"/>
                <p:cNvSpPr/>
                <p:nvPr/>
              </p:nvSpPr>
              <p:spPr>
                <a:xfrm flipV="1">
                  <a:off x="7125840" y="169632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0" name="Straight Connector 88"/>
                <p:cNvSpPr/>
                <p:nvPr/>
              </p:nvSpPr>
              <p:spPr>
                <a:xfrm flipH="1" flipV="1">
                  <a:off x="6371280" y="189540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1" name="Rectangle 83"/>
              <p:cNvSpPr/>
              <p:nvPr/>
            </p:nvSpPr>
            <p:spPr>
              <a:xfrm flipH="1">
                <a:off x="5839920" y="149364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22" name="Flowchart: Delay 84"/>
              <p:cNvSpPr/>
              <p:nvPr/>
            </p:nvSpPr>
            <p:spPr>
              <a:xfrm>
                <a:off x="5500800" y="149364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23" name="Group 89"/>
            <p:cNvGrpSpPr/>
            <p:nvPr/>
          </p:nvGrpSpPr>
          <p:grpSpPr>
            <a:xfrm>
              <a:off x="5500800" y="3000240"/>
              <a:ext cx="2071440" cy="857160"/>
              <a:chOff x="5500800" y="3000240"/>
              <a:chExt cx="2071440" cy="857160"/>
            </a:xfrm>
          </p:grpSpPr>
          <p:grpSp>
            <p:nvGrpSpPr>
              <p:cNvPr id="324" name="Group 24"/>
              <p:cNvGrpSpPr/>
              <p:nvPr/>
            </p:nvGrpSpPr>
            <p:grpSpPr>
              <a:xfrm>
                <a:off x="6371280" y="3000240"/>
                <a:ext cx="1200960" cy="857160"/>
                <a:chOff x="6371280" y="3000240"/>
                <a:chExt cx="1200960" cy="857160"/>
              </a:xfrm>
            </p:grpSpPr>
            <p:sp>
              <p:nvSpPr>
                <p:cNvPr id="325" name="Oval 93"/>
                <p:cNvSpPr/>
                <p:nvPr/>
              </p:nvSpPr>
              <p:spPr>
                <a:xfrm flipH="1">
                  <a:off x="7211520" y="300024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6" name="Regular Pentagon 94"/>
                <p:cNvSpPr/>
                <p:nvPr/>
              </p:nvSpPr>
              <p:spPr>
                <a:xfrm flipH="1">
                  <a:off x="6663600" y="337968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7" name="Straight Connector 95"/>
                <p:cNvSpPr/>
                <p:nvPr/>
              </p:nvSpPr>
              <p:spPr>
                <a:xfrm flipV="1">
                  <a:off x="7125840" y="333936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8" name="Straight Connector 96"/>
                <p:cNvSpPr/>
                <p:nvPr/>
              </p:nvSpPr>
              <p:spPr>
                <a:xfrm flipH="1" flipV="1">
                  <a:off x="6371280" y="353844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9" name="Rectangle 91"/>
              <p:cNvSpPr/>
              <p:nvPr/>
            </p:nvSpPr>
            <p:spPr>
              <a:xfrm flipH="1">
                <a:off x="5839920" y="313668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30" name="Flowchart: Delay 92"/>
              <p:cNvSpPr/>
              <p:nvPr/>
            </p:nvSpPr>
            <p:spPr>
              <a:xfrm>
                <a:off x="5500800" y="313668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1" name="Group 66"/>
            <p:cNvGrpSpPr/>
            <p:nvPr/>
          </p:nvGrpSpPr>
          <p:grpSpPr>
            <a:xfrm>
              <a:off x="5785920" y="2143080"/>
              <a:ext cx="1785960" cy="857160"/>
              <a:chOff x="5785920" y="2143080"/>
              <a:chExt cx="1785960" cy="857160"/>
            </a:xfrm>
          </p:grpSpPr>
          <p:grpSp>
            <p:nvGrpSpPr>
              <p:cNvPr id="332" name="Group 16"/>
              <p:cNvGrpSpPr/>
              <p:nvPr/>
            </p:nvGrpSpPr>
            <p:grpSpPr>
              <a:xfrm>
                <a:off x="6357240" y="2143080"/>
                <a:ext cx="1214640" cy="857160"/>
                <a:chOff x="6357240" y="2143080"/>
                <a:chExt cx="1214640" cy="857160"/>
              </a:xfrm>
            </p:grpSpPr>
            <p:sp>
              <p:nvSpPr>
                <p:cNvPr id="333" name="Oval 69"/>
                <p:cNvSpPr/>
                <p:nvPr/>
              </p:nvSpPr>
              <p:spPr>
                <a:xfrm flipH="1">
                  <a:off x="7208280" y="214308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4" name="Regular Pentagon 70"/>
                <p:cNvSpPr/>
                <p:nvPr/>
              </p:nvSpPr>
              <p:spPr>
                <a:xfrm flipH="1">
                  <a:off x="6652440" y="252252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5" name="Straight Connector 71"/>
                <p:cNvSpPr/>
                <p:nvPr/>
              </p:nvSpPr>
              <p:spPr>
                <a:xfrm flipV="1">
                  <a:off x="7121160" y="248220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6" name="Straight Connector 72"/>
                <p:cNvSpPr/>
                <p:nvPr/>
              </p:nvSpPr>
              <p:spPr>
                <a:xfrm flipH="1" flipV="1">
                  <a:off x="6357240" y="268128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37" name="Pentagon 68"/>
              <p:cNvSpPr/>
              <p:nvPr/>
            </p:nvSpPr>
            <p:spPr>
              <a:xfrm flipH="1">
                <a:off x="5785560" y="231444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8" name="Group 73"/>
            <p:cNvGrpSpPr/>
            <p:nvPr/>
          </p:nvGrpSpPr>
          <p:grpSpPr>
            <a:xfrm>
              <a:off x="5858280" y="500040"/>
              <a:ext cx="1713960" cy="857160"/>
              <a:chOff x="5858280" y="500040"/>
              <a:chExt cx="1713960" cy="857160"/>
            </a:xfrm>
          </p:grpSpPr>
          <p:grpSp>
            <p:nvGrpSpPr>
              <p:cNvPr id="339" name="Group 32"/>
              <p:cNvGrpSpPr/>
              <p:nvPr/>
            </p:nvGrpSpPr>
            <p:grpSpPr>
              <a:xfrm>
                <a:off x="6383520" y="500040"/>
                <a:ext cx="1188720" cy="857160"/>
                <a:chOff x="6383520" y="500040"/>
                <a:chExt cx="1188720" cy="857160"/>
              </a:xfrm>
            </p:grpSpPr>
            <p:sp>
              <p:nvSpPr>
                <p:cNvPr id="340" name="Oval 77"/>
                <p:cNvSpPr/>
                <p:nvPr/>
              </p:nvSpPr>
              <p:spPr>
                <a:xfrm flipH="1">
                  <a:off x="7215120" y="50004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1" name="Regular Pentagon 78"/>
                <p:cNvSpPr/>
                <p:nvPr/>
              </p:nvSpPr>
              <p:spPr>
                <a:xfrm flipH="1">
                  <a:off x="6672600" y="87948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2" name="Straight Connector 79"/>
                <p:cNvSpPr/>
                <p:nvPr/>
              </p:nvSpPr>
              <p:spPr>
                <a:xfrm flipV="1">
                  <a:off x="7131600" y="83916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3" name="Straight Connector 80"/>
                <p:cNvSpPr/>
                <p:nvPr/>
              </p:nvSpPr>
              <p:spPr>
                <a:xfrm flipH="1" flipV="1">
                  <a:off x="6383520" y="103824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44" name="Rectangle 75"/>
              <p:cNvSpPr/>
              <p:nvPr/>
            </p:nvSpPr>
            <p:spPr>
              <a:xfrm flipH="1">
                <a:off x="6160680" y="67140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45" name="Chevron 76"/>
              <p:cNvSpPr/>
              <p:nvPr/>
            </p:nvSpPr>
            <p:spPr>
              <a:xfrm>
                <a:off x="5858280" y="67140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46" name="Group 97"/>
            <p:cNvGrpSpPr/>
            <p:nvPr/>
          </p:nvGrpSpPr>
          <p:grpSpPr>
            <a:xfrm>
              <a:off x="5858280" y="3857760"/>
              <a:ext cx="1713960" cy="857160"/>
              <a:chOff x="5858280" y="3857760"/>
              <a:chExt cx="1713960" cy="857160"/>
            </a:xfrm>
          </p:grpSpPr>
          <p:grpSp>
            <p:nvGrpSpPr>
              <p:cNvPr id="347" name="Group 32"/>
              <p:cNvGrpSpPr/>
              <p:nvPr/>
            </p:nvGrpSpPr>
            <p:grpSpPr>
              <a:xfrm>
                <a:off x="6383520" y="3857760"/>
                <a:ext cx="1188720" cy="857160"/>
                <a:chOff x="6383520" y="3857760"/>
                <a:chExt cx="1188720" cy="857160"/>
              </a:xfrm>
            </p:grpSpPr>
            <p:sp>
              <p:nvSpPr>
                <p:cNvPr id="348" name="Oval 101"/>
                <p:cNvSpPr/>
                <p:nvPr/>
              </p:nvSpPr>
              <p:spPr>
                <a:xfrm flipH="1">
                  <a:off x="7215120" y="385776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9" name="Regular Pentagon 102"/>
                <p:cNvSpPr/>
                <p:nvPr/>
              </p:nvSpPr>
              <p:spPr>
                <a:xfrm flipH="1">
                  <a:off x="6672600" y="423720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0" name="Straight Connector 103"/>
                <p:cNvSpPr/>
                <p:nvPr/>
              </p:nvSpPr>
              <p:spPr>
                <a:xfrm flipV="1">
                  <a:off x="7131600" y="419688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1" name="Straight Connector 104"/>
                <p:cNvSpPr/>
                <p:nvPr/>
              </p:nvSpPr>
              <p:spPr>
                <a:xfrm flipH="1" flipV="1">
                  <a:off x="6383520" y="439596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52" name="Rectangle 99"/>
              <p:cNvSpPr/>
              <p:nvPr/>
            </p:nvSpPr>
            <p:spPr>
              <a:xfrm flipH="1">
                <a:off x="6160680" y="402912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53" name="Chevron 100"/>
              <p:cNvSpPr/>
              <p:nvPr/>
            </p:nvSpPr>
            <p:spPr>
              <a:xfrm>
                <a:off x="5858280" y="402912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54" name="Group 105"/>
            <p:cNvGrpSpPr/>
            <p:nvPr/>
          </p:nvGrpSpPr>
          <p:grpSpPr>
            <a:xfrm>
              <a:off x="5785920" y="5643720"/>
              <a:ext cx="1785960" cy="857160"/>
              <a:chOff x="5785920" y="5643720"/>
              <a:chExt cx="1785960" cy="857160"/>
            </a:xfrm>
          </p:grpSpPr>
          <p:grpSp>
            <p:nvGrpSpPr>
              <p:cNvPr id="355" name="Group 16"/>
              <p:cNvGrpSpPr/>
              <p:nvPr/>
            </p:nvGrpSpPr>
            <p:grpSpPr>
              <a:xfrm>
                <a:off x="6357240" y="5643720"/>
                <a:ext cx="1214640" cy="857160"/>
                <a:chOff x="6357240" y="5643720"/>
                <a:chExt cx="1214640" cy="857160"/>
              </a:xfrm>
            </p:grpSpPr>
            <p:sp>
              <p:nvSpPr>
                <p:cNvPr id="356" name="Oval 108"/>
                <p:cNvSpPr/>
                <p:nvPr/>
              </p:nvSpPr>
              <p:spPr>
                <a:xfrm flipH="1">
                  <a:off x="7208280" y="564372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7" name="Regular Pentagon 109"/>
                <p:cNvSpPr/>
                <p:nvPr/>
              </p:nvSpPr>
              <p:spPr>
                <a:xfrm flipH="1">
                  <a:off x="6652440" y="602316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8" name="Straight Connector 110"/>
                <p:cNvSpPr/>
                <p:nvPr/>
              </p:nvSpPr>
              <p:spPr>
                <a:xfrm flipV="1">
                  <a:off x="7121160" y="598284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9" name="Straight Connector 111"/>
                <p:cNvSpPr/>
                <p:nvPr/>
              </p:nvSpPr>
              <p:spPr>
                <a:xfrm flipH="1" flipV="1">
                  <a:off x="6357240" y="618192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0" name="Pentagon 107"/>
              <p:cNvSpPr/>
              <p:nvPr/>
            </p:nvSpPr>
            <p:spPr>
              <a:xfrm flipH="1">
                <a:off x="5785560" y="581508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361" name="Group 165"/>
          <p:cNvGrpSpPr/>
          <p:nvPr/>
        </p:nvGrpSpPr>
        <p:grpSpPr>
          <a:xfrm>
            <a:off x="857160" y="500040"/>
            <a:ext cx="2071800" cy="6000840"/>
            <a:chOff x="857160" y="500040"/>
            <a:chExt cx="2071800" cy="6000840"/>
          </a:xfrm>
        </p:grpSpPr>
        <p:grpSp>
          <p:nvGrpSpPr>
            <p:cNvPr id="362" name="Group 4"/>
            <p:cNvGrpSpPr/>
            <p:nvPr/>
          </p:nvGrpSpPr>
          <p:grpSpPr>
            <a:xfrm>
              <a:off x="857160" y="500040"/>
              <a:ext cx="1786320" cy="857160"/>
              <a:chOff x="857160" y="500040"/>
              <a:chExt cx="1786320" cy="857160"/>
            </a:xfrm>
          </p:grpSpPr>
          <p:grpSp>
            <p:nvGrpSpPr>
              <p:cNvPr id="363" name="Group 16"/>
              <p:cNvGrpSpPr/>
              <p:nvPr/>
            </p:nvGrpSpPr>
            <p:grpSpPr>
              <a:xfrm>
                <a:off x="857160" y="500040"/>
                <a:ext cx="1214640" cy="857160"/>
                <a:chOff x="857160" y="500040"/>
                <a:chExt cx="1214640" cy="857160"/>
              </a:xfrm>
            </p:grpSpPr>
            <p:sp>
              <p:nvSpPr>
                <p:cNvPr id="364" name="Oval 7"/>
                <p:cNvSpPr/>
                <p:nvPr/>
              </p:nvSpPr>
              <p:spPr>
                <a:xfrm>
                  <a:off x="857160" y="50004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5" name="Regular Pentagon 8"/>
                <p:cNvSpPr/>
                <p:nvPr/>
              </p:nvSpPr>
              <p:spPr>
                <a:xfrm>
                  <a:off x="1307880" y="87948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6" name="Straight Connector 9"/>
                <p:cNvSpPr/>
                <p:nvPr/>
              </p:nvSpPr>
              <p:spPr>
                <a:xfrm flipH="1" flipV="1">
                  <a:off x="1168200" y="83916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7" name="Straight Connector 10"/>
                <p:cNvSpPr/>
                <p:nvPr/>
              </p:nvSpPr>
              <p:spPr>
                <a:xfrm flipV="1">
                  <a:off x="1776600" y="103824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8" name="Pentagon 6"/>
              <p:cNvSpPr/>
              <p:nvPr/>
            </p:nvSpPr>
            <p:spPr>
              <a:xfrm>
                <a:off x="2059200" y="67140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69" name="Group 11"/>
            <p:cNvGrpSpPr/>
            <p:nvPr/>
          </p:nvGrpSpPr>
          <p:grpSpPr>
            <a:xfrm>
              <a:off x="857160" y="1357200"/>
              <a:ext cx="1714680" cy="857160"/>
              <a:chOff x="857160" y="1357200"/>
              <a:chExt cx="1714680" cy="857160"/>
            </a:xfrm>
          </p:grpSpPr>
          <p:sp>
            <p:nvSpPr>
              <p:cNvPr id="370" name="Oval 12"/>
              <p:cNvSpPr/>
              <p:nvPr/>
            </p:nvSpPr>
            <p:spPr>
              <a:xfrm>
                <a:off x="857160" y="135720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1" name="Regular Pentagon 13"/>
              <p:cNvSpPr/>
              <p:nvPr/>
            </p:nvSpPr>
            <p:spPr>
              <a:xfrm>
                <a:off x="1315800" y="173664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2" name="Flowchart: Delay 14"/>
              <p:cNvSpPr/>
              <p:nvPr/>
            </p:nvSpPr>
            <p:spPr>
              <a:xfrm>
                <a:off x="2094120" y="151596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3" name="Straight Connector 15"/>
              <p:cNvSpPr/>
              <p:nvPr/>
            </p:nvSpPr>
            <p:spPr>
              <a:xfrm flipH="1" flipV="1">
                <a:off x="1174680" y="169632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4" name="Straight Connector 16"/>
              <p:cNvSpPr/>
              <p:nvPr/>
            </p:nvSpPr>
            <p:spPr>
              <a:xfrm flipV="1">
                <a:off x="1793880" y="189540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75" name="Group 17"/>
            <p:cNvGrpSpPr/>
            <p:nvPr/>
          </p:nvGrpSpPr>
          <p:grpSpPr>
            <a:xfrm>
              <a:off x="857160" y="2143080"/>
              <a:ext cx="1713960" cy="857160"/>
              <a:chOff x="857160" y="2143080"/>
              <a:chExt cx="1713960" cy="857160"/>
            </a:xfrm>
          </p:grpSpPr>
          <p:grpSp>
            <p:nvGrpSpPr>
              <p:cNvPr id="376" name="Group 32"/>
              <p:cNvGrpSpPr/>
              <p:nvPr/>
            </p:nvGrpSpPr>
            <p:grpSpPr>
              <a:xfrm>
                <a:off x="857160" y="2143080"/>
                <a:ext cx="1189080" cy="857160"/>
                <a:chOff x="857160" y="2143080"/>
                <a:chExt cx="1189080" cy="857160"/>
              </a:xfrm>
            </p:grpSpPr>
            <p:sp>
              <p:nvSpPr>
                <p:cNvPr id="377" name="Oval 21"/>
                <p:cNvSpPr/>
                <p:nvPr/>
              </p:nvSpPr>
              <p:spPr>
                <a:xfrm>
                  <a:off x="857160" y="214308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8" name="Regular Pentagon 22"/>
                <p:cNvSpPr/>
                <p:nvPr/>
              </p:nvSpPr>
              <p:spPr>
                <a:xfrm>
                  <a:off x="1298520" y="252252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9" name="Straight Connector 23"/>
                <p:cNvSpPr/>
                <p:nvPr/>
              </p:nvSpPr>
              <p:spPr>
                <a:xfrm flipH="1" flipV="1">
                  <a:off x="1161360" y="248220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0" name="Straight Connector 24"/>
                <p:cNvSpPr/>
                <p:nvPr/>
              </p:nvSpPr>
              <p:spPr>
                <a:xfrm flipV="1">
                  <a:off x="1757520" y="268128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81" name="Rectangle 19"/>
              <p:cNvSpPr/>
              <p:nvPr/>
            </p:nvSpPr>
            <p:spPr>
              <a:xfrm>
                <a:off x="2000160" y="231444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82" name="Chevron 20"/>
              <p:cNvSpPr/>
              <p:nvPr/>
            </p:nvSpPr>
            <p:spPr>
              <a:xfrm flipH="1">
                <a:off x="1999440" y="231444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83" name="Group 25"/>
            <p:cNvGrpSpPr/>
            <p:nvPr/>
          </p:nvGrpSpPr>
          <p:grpSpPr>
            <a:xfrm>
              <a:off x="857160" y="4714920"/>
              <a:ext cx="2071800" cy="857160"/>
              <a:chOff x="857160" y="4714920"/>
              <a:chExt cx="2071800" cy="857160"/>
            </a:xfrm>
          </p:grpSpPr>
          <p:sp>
            <p:nvSpPr>
              <p:cNvPr id="384" name="Rectangle 27"/>
              <p:cNvSpPr/>
              <p:nvPr/>
            </p:nvSpPr>
            <p:spPr>
              <a:xfrm>
                <a:off x="2011320" y="485136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385" name="Group 24"/>
              <p:cNvGrpSpPr/>
              <p:nvPr/>
            </p:nvGrpSpPr>
            <p:grpSpPr>
              <a:xfrm>
                <a:off x="857160" y="4714920"/>
                <a:ext cx="1200960" cy="857160"/>
                <a:chOff x="857160" y="4714920"/>
                <a:chExt cx="1200960" cy="857160"/>
              </a:xfrm>
            </p:grpSpPr>
            <p:sp>
              <p:nvSpPr>
                <p:cNvPr id="386" name="Oval 29"/>
                <p:cNvSpPr/>
                <p:nvPr/>
              </p:nvSpPr>
              <p:spPr>
                <a:xfrm>
                  <a:off x="857160" y="471492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7" name="Regular Pentagon 30"/>
                <p:cNvSpPr/>
                <p:nvPr/>
              </p:nvSpPr>
              <p:spPr>
                <a:xfrm>
                  <a:off x="1303560" y="509436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8" name="Straight Connector 31"/>
                <p:cNvSpPr/>
                <p:nvPr/>
              </p:nvSpPr>
              <p:spPr>
                <a:xfrm flipH="1" flipV="1">
                  <a:off x="1165320" y="505404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9" name="Straight Connector 32"/>
                <p:cNvSpPr/>
                <p:nvPr/>
              </p:nvSpPr>
              <p:spPr>
                <a:xfrm flipV="1">
                  <a:off x="1765800" y="525312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90" name="Flowchart: Delay 28"/>
              <p:cNvSpPr/>
              <p:nvPr/>
            </p:nvSpPr>
            <p:spPr>
              <a:xfrm flipH="1">
                <a:off x="2386080" y="485136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1" name="Group 45"/>
            <p:cNvGrpSpPr/>
            <p:nvPr/>
          </p:nvGrpSpPr>
          <p:grpSpPr>
            <a:xfrm>
              <a:off x="857160" y="3000240"/>
              <a:ext cx="1714680" cy="857160"/>
              <a:chOff x="857160" y="3000240"/>
              <a:chExt cx="1714680" cy="857160"/>
            </a:xfrm>
          </p:grpSpPr>
          <p:sp>
            <p:nvSpPr>
              <p:cNvPr id="392" name="Oval 46"/>
              <p:cNvSpPr/>
              <p:nvPr/>
            </p:nvSpPr>
            <p:spPr>
              <a:xfrm>
                <a:off x="857160" y="300024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3" name="Regular Pentagon 47"/>
              <p:cNvSpPr/>
              <p:nvPr/>
            </p:nvSpPr>
            <p:spPr>
              <a:xfrm>
                <a:off x="1315800" y="337968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4" name="Flowchart: Delay 48"/>
              <p:cNvSpPr/>
              <p:nvPr/>
            </p:nvSpPr>
            <p:spPr>
              <a:xfrm>
                <a:off x="2094120" y="315900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5" name="Straight Connector 49"/>
              <p:cNvSpPr/>
              <p:nvPr/>
            </p:nvSpPr>
            <p:spPr>
              <a:xfrm flipH="1" flipV="1">
                <a:off x="1174680" y="333936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6" name="Straight Connector 50"/>
              <p:cNvSpPr/>
              <p:nvPr/>
            </p:nvSpPr>
            <p:spPr>
              <a:xfrm flipV="1">
                <a:off x="1793880" y="353844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7" name="Group 51"/>
            <p:cNvGrpSpPr/>
            <p:nvPr/>
          </p:nvGrpSpPr>
          <p:grpSpPr>
            <a:xfrm>
              <a:off x="857160" y="3857760"/>
              <a:ext cx="1786320" cy="857160"/>
              <a:chOff x="857160" y="3857760"/>
              <a:chExt cx="1786320" cy="857160"/>
            </a:xfrm>
          </p:grpSpPr>
          <p:grpSp>
            <p:nvGrpSpPr>
              <p:cNvPr id="398" name="Group 16"/>
              <p:cNvGrpSpPr/>
              <p:nvPr/>
            </p:nvGrpSpPr>
            <p:grpSpPr>
              <a:xfrm>
                <a:off x="857160" y="3857760"/>
                <a:ext cx="1214640" cy="857160"/>
                <a:chOff x="857160" y="3857760"/>
                <a:chExt cx="1214640" cy="857160"/>
              </a:xfrm>
            </p:grpSpPr>
            <p:sp>
              <p:nvSpPr>
                <p:cNvPr id="399" name="Oval 54"/>
                <p:cNvSpPr/>
                <p:nvPr/>
              </p:nvSpPr>
              <p:spPr>
                <a:xfrm>
                  <a:off x="857160" y="385776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0" name="Regular Pentagon 55"/>
                <p:cNvSpPr/>
                <p:nvPr/>
              </p:nvSpPr>
              <p:spPr>
                <a:xfrm>
                  <a:off x="1307880" y="423720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1" name="Straight Connector 56"/>
                <p:cNvSpPr/>
                <p:nvPr/>
              </p:nvSpPr>
              <p:spPr>
                <a:xfrm flipH="1" flipV="1">
                  <a:off x="1168200" y="419688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2" name="Straight Connector 57"/>
                <p:cNvSpPr/>
                <p:nvPr/>
              </p:nvSpPr>
              <p:spPr>
                <a:xfrm flipV="1">
                  <a:off x="1776600" y="439596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03" name="Pentagon 53"/>
              <p:cNvSpPr/>
              <p:nvPr/>
            </p:nvSpPr>
            <p:spPr>
              <a:xfrm>
                <a:off x="2059200" y="402912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404" name="Group 58"/>
            <p:cNvGrpSpPr/>
            <p:nvPr/>
          </p:nvGrpSpPr>
          <p:grpSpPr>
            <a:xfrm>
              <a:off x="857160" y="5643720"/>
              <a:ext cx="1713960" cy="857160"/>
              <a:chOff x="857160" y="5643720"/>
              <a:chExt cx="1713960" cy="857160"/>
            </a:xfrm>
          </p:grpSpPr>
          <p:grpSp>
            <p:nvGrpSpPr>
              <p:cNvPr id="405" name="Group 32"/>
              <p:cNvGrpSpPr/>
              <p:nvPr/>
            </p:nvGrpSpPr>
            <p:grpSpPr>
              <a:xfrm>
                <a:off x="857160" y="5643720"/>
                <a:ext cx="1189080" cy="857160"/>
                <a:chOff x="857160" y="5643720"/>
                <a:chExt cx="1189080" cy="857160"/>
              </a:xfrm>
            </p:grpSpPr>
            <p:sp>
              <p:nvSpPr>
                <p:cNvPr id="406" name="Oval 62"/>
                <p:cNvSpPr/>
                <p:nvPr/>
              </p:nvSpPr>
              <p:spPr>
                <a:xfrm>
                  <a:off x="857160" y="564372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7" name="Regular Pentagon 63"/>
                <p:cNvSpPr/>
                <p:nvPr/>
              </p:nvSpPr>
              <p:spPr>
                <a:xfrm>
                  <a:off x="1298520" y="602316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8" name="Straight Connector 64"/>
                <p:cNvSpPr/>
                <p:nvPr/>
              </p:nvSpPr>
              <p:spPr>
                <a:xfrm flipH="1" flipV="1">
                  <a:off x="1161360" y="598284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9" name="Straight Connector 65"/>
                <p:cNvSpPr/>
                <p:nvPr/>
              </p:nvSpPr>
              <p:spPr>
                <a:xfrm flipV="1">
                  <a:off x="1757520" y="618192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10" name="Rectangle 60"/>
              <p:cNvSpPr/>
              <p:nvPr/>
            </p:nvSpPr>
            <p:spPr>
              <a:xfrm>
                <a:off x="2000160" y="581508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411" name="Chevron 61"/>
              <p:cNvSpPr/>
              <p:nvPr/>
            </p:nvSpPr>
            <p:spPr>
              <a:xfrm flipH="1">
                <a:off x="1999440" y="581508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412" name="Group 39"/>
          <p:cNvGrpSpPr/>
          <p:nvPr/>
        </p:nvGrpSpPr>
        <p:grpSpPr>
          <a:xfrm>
            <a:off x="5785920" y="4714920"/>
            <a:ext cx="1714680" cy="857160"/>
            <a:chOff x="5785920" y="4714920"/>
            <a:chExt cx="1714680" cy="857160"/>
          </a:xfrm>
        </p:grpSpPr>
        <p:sp>
          <p:nvSpPr>
            <p:cNvPr id="413" name="Oval 40"/>
            <p:cNvSpPr/>
            <p:nvPr/>
          </p:nvSpPr>
          <p:spPr>
            <a:xfrm flipH="1">
              <a:off x="7129080" y="4714920"/>
              <a:ext cx="371520" cy="398520"/>
            </a:xfrm>
            <a:prstGeom prst="ellipse">
              <a:avLst/>
            </a:prstGeom>
            <a:gradFill rotWithShape="0">
              <a:gsLst>
                <a:gs pos="0">
                  <a:srgbClr val="003e7b"/>
                </a:gs>
                <a:gs pos="100000">
                  <a:srgbClr val="0170d4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4" name="Regular Pentagon 41"/>
            <p:cNvSpPr/>
            <p:nvPr/>
          </p:nvSpPr>
          <p:spPr>
            <a:xfrm flipH="1">
              <a:off x="6563880" y="5094360"/>
              <a:ext cx="477720" cy="477720"/>
            </a:xfrm>
            <a:prstGeom prst="pentagon">
              <a:avLst/>
            </a:prstGeom>
            <a:gradFill rotWithShape="0">
              <a:gsLst>
                <a:gs pos="0">
                  <a:srgbClr val="004d00"/>
                </a:gs>
                <a:gs pos="100000">
                  <a:srgbClr val="008a00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5" name="Straight Connector 43"/>
            <p:cNvSpPr/>
            <p:nvPr/>
          </p:nvSpPr>
          <p:spPr>
            <a:xfrm flipV="1">
              <a:off x="7041960" y="5054040"/>
              <a:ext cx="14112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6" name="Straight Connector 44"/>
            <p:cNvSpPr/>
            <p:nvPr/>
          </p:nvSpPr>
          <p:spPr>
            <a:xfrm flipH="1" flipV="1">
              <a:off x="6264000" y="5253120"/>
              <a:ext cx="299880" cy="2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7" name="Flowchart: Delay 42"/>
            <p:cNvSpPr/>
            <p:nvPr/>
          </p:nvSpPr>
          <p:spPr>
            <a:xfrm flipH="1">
              <a:off x="5785560" y="4873680"/>
              <a:ext cx="477720" cy="379440"/>
            </a:xfrm>
            <a:prstGeom prst="flowChartDelay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Narkisim"/>
                  <a:ea typeface="Narkisim"/>
                </a:rPr>
                <a:t>C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9584E-006 L 0.35608 -4.49584E-006 E">
                                      <p:cBhvr>
                                        <p:cTn id="104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o crack the genetic code found in DNA we need to look at the sequence of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bases are arranged in triplets called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dons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 G G - C T C - A A G - T C C - T A G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T C C - G A G - T T C - A G G - A T C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2:00:48Z</dcterms:created>
  <dc:creator>Michael Dowdall</dc:creator>
  <dc:description/>
  <cp:keywords>Biology</cp:keywords>
  <dc:language>en-US</dc:language>
  <cp:lastModifiedBy>RomaK</cp:lastModifiedBy>
  <dcterms:modified xsi:type="dcterms:W3CDTF">2015-09-04T11:10:58Z</dcterms:modified>
  <cp:revision>160</cp:revision>
  <dc:subject/>
  <dc:title>DNA</dc:title>
</cp:coreProperties>
</file>