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C9FB-04B8-4651-9AD3-1946C6062D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(DNA fingerprinting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NA fingerprin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4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attern of fragment distribution is then analys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4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tern of fragment distribution is then analy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ing is used to solve crimes and medical 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 is used to solve crimes and medic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im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ensic science is the use of scientific knowledge in legal situatio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NA profile of each individual is highly specific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hances of two people having exactly the same DNA profile is 30,000 million to 1 (except for identical twins)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 science is the use of scientific knowledge in legal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profile of each individual is highly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ces of two people having exactly the same DNA profile is 30,000 million to 1 (except for identical twi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ological materials used for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i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me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dy tissue cell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samples have been obtained from vaginal cells transferred to the outside of a condom during sexual intercours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materials used for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issu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have been obtained from vaginal cells transferred to the outside of a condom during sexual inter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ing can solve crim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attern of the DNA profile is then compared with those of the victim and the suspec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the profile matches the suspect it provides strong evidence that the suspect was present at the crime scene (NB:it does not prove they committed the crime)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the profile doesn’t match the suspect then that suspect may be eliminated from the enquir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 can solve cr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tern of the DNA profile is then compared with those of the victim and the susp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file matches the suspect it provides strong evidence that the suspect was present at the crime scene (NB:it does not prove they committed the cr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file doesn’t match the suspect then that suspect may be eliminated from the enqui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violent murder occurre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orensics team retrieved a blood sample from the crime scen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prepared DNA profiles of the blood sample, the victim and a suspect as follows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olent murder occur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nsics team retrieved a blood sample from the crime sce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epared DNA profiles of the blood sample, the victim and a suspect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as the suspect at the crime scen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spects Profi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lood sample from crime scen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Victims profi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suspect at the crime sce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cts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from crime sc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ims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lving Medical 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es can be used to determine whether a particular person is the parent of a chil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hilds paternity (father) and maternity(mother) can be determin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information can be used i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ternity suit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heritance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migration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Medic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es can be used to determine whether a particular person is the parent of a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lds paternity (father) and maternity(mother) can be determ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formation can be us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rnity s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eritance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: A Paternity Tes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comparing the DNA profile of a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ther and her child it is possible t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dentify DNA fragments in the chil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ich are absent from the mother a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ust therefore have been inherite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om the biological fathe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A Paternity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omparing the DNA profil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and her child it is possi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DNA fragments in the chi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absent from the mother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therefore have been inheri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biological f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s this man the father of the child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the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il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man the father of the chi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DNA Profiling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technique used by scientists to distinguish between individuals of the same species using only samples of their DNA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NA Profi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used by scientists to distinguish between individuals of the same species using only samples of their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2002 Elizabeth Hurley used DNA profiling to prove that Steve Bing was the father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 her child Damie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2 Elizabeth Hurley used DNA profiling to prove that Steve Bing was the fa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her child Dam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lin Pitchfork was the first criminal caught based on DNA fingerprinting evid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was arrested in 1986 for the rape and murder of two girls and was sentenced in 1988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in Pitchfork was the first criminal caught based on DNA fingerprinting ev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rrested in 1986 for the rape and murder of two girls and was sentenced in 198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.J. Simpson was cleared of a double murder charge in 1994 which relied heavily on DNA evid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case highlighted lab difficulti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J. Simpson was cleared of a double murder charge in 1994 which relied heavily on DNA ev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se highlighted lab difficul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o Invented i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rocess of DNA fingerprinting was invented by Alec Jeffreys at the University of Leicester in 1985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was knighted in 1994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nvented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DNA fingerprinting was invented by Alec Jeffreys at the University of Leicester in 198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knighted in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1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ells are broken dow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release DN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only a small amount of DNA is available it can be amplified using the polymerase chain reaction (PCR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broken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leas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a small amount of DNA is available it can be amplified using the polymerase chain reaction (PC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ep 2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NA is cut into fragments using restriction enzym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ach restriction enzyme cuts DNA at a specific base sequenc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cut into fragments using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striction enzyme cuts DNA at a specific bas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ections of DNA that are cut out are called restriction fragmen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tions of DNA that are cut out are called restriction frag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3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agments are separated on the basis of size using a process called gel electrophoresi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fragments are injected into wells and an electric current is applied along the gel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gments are separated on the basis of size using a process called gel electrophor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fragments are injected into wells and an electric current is applied along the g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is negatively charged so it is attracted to the positive end of the ge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horter DNA fragments move faster than the longer fragmen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is separated on basis of siz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negatively charged so it is attracted to the positive end of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DNA fragments move faster than the longer frag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eparated on basis of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radioactive material is added which combines with the DNA fragments to produce a fluorescent imag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photographic copy of the DNA bands is obtain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dioactive material is added which combines with the DNA fragments to produce a fluorescent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graphic copy of the DNA bands is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255-34F4-479D-8BEE-42359409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772-E857-4312-8DA9-F8CAE6CC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9F6-9119-4CCE-B26E-B4E3F3E5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100D-68B0-4C73-8712-7189129E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4FB1-4262-439F-A7E4-500D5361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F16C-4375-4240-8D33-A6EF8EEB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920A-07B8-46C7-83C3-A8A4616A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2EAE-1A1E-49F5-B3EF-4F969950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CEC5-BB61-477D-8DA2-D460BD69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F5F3-5952-4DCB-8B8B-F877AB32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8910-F9D0-4C71-845E-2F903A04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5F12-92A1-4400-BF4C-2A48B62F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AE44-2BF9-49C2-AE3A-B5C226B1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D02B-43E5-44DD-843B-37E91B38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BF18-60C0-4847-8DA5-C89DD01D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09DB-3C86-4766-AEF1-C2B9B40C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743A-5B63-42D5-B780-5233F8C9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BE7-497F-4601-B8F6-EB40C666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697-3F32-4427-A90E-563B822F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034-4B36-4EEC-B67F-5D4D74D7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01E-D050-4530-8692-725EC0DC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0263-646B-4A43-A876-8D685063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4358-DAD6-47D1-A953-4C998F8F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4A31-6633-4153-AAA8-7C60E7EA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34F3-0D74-43ED-9CE1-72FA2C8B64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FB5B-F2E0-4522-9EB6-A3BD9B8F4B10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700" spc="-1" strike="noStrike">
                <a:solidFill>
                  <a:srgbClr val="ffffcc"/>
                </a:solidFill>
                <a:latin typeface="Arial"/>
              </a:rPr>
              <a:t>DNA Profiling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aeaea"/>
                </a:solidFill>
                <a:latin typeface="Verdana"/>
              </a:rPr>
              <a:t>(DNA fingerprinting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Stage 4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pattern of fragment distribution is then analys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Us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DNA profiling is used to solve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crimes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medical proble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7" descr="MCIN01111_0000[1]"/>
          <p:cNvPicPr/>
          <p:nvPr/>
        </p:nvPicPr>
        <p:blipFill>
          <a:blip r:embed="rId1"/>
          <a:stretch/>
        </p:blipFill>
        <p:spPr>
          <a:xfrm>
            <a:off x="5219640" y="1773360"/>
            <a:ext cx="3600360" cy="29844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Crim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Forensic science is the use of scientific knowledge in legal situatio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DNA profile of each individual is highly specifi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chances of two people having </a:t>
            </a:r>
            <a:r>
              <a:rPr b="0" lang="en-IE" sz="3200" spc="-1" strike="noStrike" u="sng">
                <a:solidFill>
                  <a:srgbClr val="eaeaea"/>
                </a:solidFill>
                <a:uFillTx/>
                <a:latin typeface="Verdana"/>
              </a:rPr>
              <a:t>exactly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the same DNA profile is 30,000 million to 1 (except for identical twins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Biological materials used for DNA profil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Blo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Hai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Saliv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Sem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Body tissue cel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DNA samples have been obtained from vaginal cells transferred to the outside of a condom during sexual intercours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blood sample"/>
          <p:cNvPicPr/>
          <p:nvPr/>
        </p:nvPicPr>
        <p:blipFill>
          <a:blip r:embed="rId1"/>
          <a:stretch/>
        </p:blipFill>
        <p:spPr>
          <a:xfrm>
            <a:off x="5364000" y="162864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swab"/>
          <p:cNvPicPr/>
          <p:nvPr/>
        </p:nvPicPr>
        <p:blipFill>
          <a:blip r:embed="rId2"/>
          <a:stretch/>
        </p:blipFill>
        <p:spPr>
          <a:xfrm>
            <a:off x="5508720" y="4076640"/>
            <a:ext cx="2663640" cy="21607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DNA Profiling can solve crim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pattern of the DNA profile is then compared with those of the victim and the suspec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f the profile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matches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the suspect it provides strong evidence that the suspect was present at the crime scene (</a:t>
            </a:r>
            <a:r>
              <a:rPr b="1" lang="en-IE" sz="2800" spc="-1" strike="noStrike">
                <a:solidFill>
                  <a:srgbClr val="eaeaea"/>
                </a:solidFill>
                <a:latin typeface="Verdana"/>
              </a:rPr>
              <a:t>NB:it does not prove they committed the crime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f the profile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doesn’t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match the suspect then that suspect may be eliminated from the enquir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 violent murder occurred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forensics team retrieved a blood sample from the crime scen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y prepared DNA profiles of the blood sample, the victim and a suspect as follow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Was the suspect at the crime scen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619280" y="1844640"/>
            <a:ext cx="6408720" cy="4248360"/>
          </a:xfrm>
          <a:prstGeom prst="rect">
            <a:avLst/>
          </a:prstGeom>
          <a:solidFill>
            <a:srgbClr val="3399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908000" y="20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Suspects Profi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851280" y="206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Blood sample from crime scen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372360" y="2133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Victims profi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1979640" y="3357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3924360" y="3357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227640" y="378936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050920" y="393372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050920" y="407664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924360" y="3933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3924360" y="407664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6372360" y="472428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6372360" y="4869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2050920" y="465300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2050920" y="522936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050920" y="537372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6227640" y="328464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2050920" y="587700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Line 22"/>
          <p:cNvSpPr/>
          <p:nvPr/>
        </p:nvSpPr>
        <p:spPr>
          <a:xfrm>
            <a:off x="3995640" y="5373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3995640" y="5229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Line 24"/>
          <p:cNvSpPr/>
          <p:nvPr/>
        </p:nvSpPr>
        <p:spPr>
          <a:xfrm>
            <a:off x="3924360" y="4653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6372360" y="5229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Line 26"/>
          <p:cNvSpPr/>
          <p:nvPr/>
        </p:nvSpPr>
        <p:spPr>
          <a:xfrm>
            <a:off x="6443640" y="5877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Line 27"/>
          <p:cNvSpPr/>
          <p:nvPr/>
        </p:nvSpPr>
        <p:spPr>
          <a:xfrm>
            <a:off x="3995640" y="5805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olving Medical 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profiles can be used to determine whether a particular person is the parent of a chil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childs paternity (father) and maternity(mother) can be determin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is information can be used 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Paternity sui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nheritance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mmigration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Example: A Paternity Te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By comparing the DNA profile of 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mother and her child it is possible 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identify DNA fragments in the chil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which are absent from the mother an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must therefore have been inherite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from the biological fath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Is this man the father of the child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476360" y="1700280"/>
            <a:ext cx="6335640" cy="44654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763640" y="19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Moth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708360" y="19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Chil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940360" y="19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Ma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908000" y="2708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908000" y="2924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635280" y="2708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3635280" y="2924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5796000" y="26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3635280" y="3716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5796000" y="3716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1908000" y="4221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3708360" y="44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5796000" y="44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3708360" y="486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1835280" y="486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Line 20"/>
          <p:cNvSpPr/>
          <p:nvPr/>
        </p:nvSpPr>
        <p:spPr>
          <a:xfrm>
            <a:off x="5796000" y="5157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Line 21"/>
          <p:cNvSpPr/>
          <p:nvPr/>
        </p:nvSpPr>
        <p:spPr>
          <a:xfrm>
            <a:off x="1835280" y="5373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Line 22"/>
          <p:cNvSpPr/>
          <p:nvPr/>
        </p:nvSpPr>
        <p:spPr>
          <a:xfrm>
            <a:off x="1835280" y="5445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3708360" y="57340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Line 24"/>
          <p:cNvSpPr/>
          <p:nvPr/>
        </p:nvSpPr>
        <p:spPr>
          <a:xfrm>
            <a:off x="5796000" y="580536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Line 25"/>
          <p:cNvSpPr/>
          <p:nvPr/>
        </p:nvSpPr>
        <p:spPr>
          <a:xfrm>
            <a:off x="5796000" y="3357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Line 26"/>
          <p:cNvSpPr/>
          <p:nvPr/>
        </p:nvSpPr>
        <p:spPr>
          <a:xfrm>
            <a:off x="5796000" y="342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Line 27"/>
          <p:cNvSpPr/>
          <p:nvPr/>
        </p:nvSpPr>
        <p:spPr>
          <a:xfrm>
            <a:off x="1908000" y="342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What is DNA Profiling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 technique used by scientists to distinguish between individuals of the same species using only samples of their DN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n 2002 Elizabeth Hurley used DNA profiling to prove that Steve Bing was the father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of her child Dam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Picture 9" descr="liz hurley steve bing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Colin Pitchfork was the first criminal caught based on DNA fingerprinting evide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He was arrested in 1986 for the rape and murder of two girls and was sentenced in 1988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1" name="Picture 4" descr="Colin_Pitchfork"/>
          <p:cNvPicPr/>
          <p:nvPr/>
        </p:nvPicPr>
        <p:blipFill>
          <a:blip r:embed="rId1"/>
          <a:stretch/>
        </p:blipFill>
        <p:spPr>
          <a:xfrm>
            <a:off x="5076720" y="1773360"/>
            <a:ext cx="3743280" cy="42480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O.J. Simpson was cleared of a double murder charge in 1994 which relied heavily on DNA evide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is case highlighted lab difficulti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5" name="Picture 9" descr="O_J_Simpson"/>
          <p:cNvPicPr/>
          <p:nvPr/>
        </p:nvPicPr>
        <p:blipFill>
          <a:blip r:embed="rId1"/>
          <a:stretch/>
        </p:blipFill>
        <p:spPr>
          <a:xfrm>
            <a:off x="5076720" y="1700280"/>
            <a:ext cx="3672000" cy="37083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Who Invented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process of DNA fingerprinting was invented by Alec Jeffreys at the University of Leicester in 1985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He was knighted in 1994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9" descr="alec Jeffreys"/>
          <p:cNvPicPr/>
          <p:nvPr/>
        </p:nvPicPr>
        <p:blipFill>
          <a:blip r:embed="rId1"/>
          <a:stretch/>
        </p:blipFill>
        <p:spPr>
          <a:xfrm>
            <a:off x="5292720" y="1844640"/>
            <a:ext cx="3240000" cy="3745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Stage 1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Cells are broken dow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to release DN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If only a small amount of DNA is available it can be amplified using the polymerase chain reaction (PCR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7" descr="body cells"/>
          <p:cNvPicPr/>
          <p:nvPr/>
        </p:nvPicPr>
        <p:blipFill>
          <a:blip r:embed="rId1"/>
          <a:stretch/>
        </p:blipFill>
        <p:spPr>
          <a:xfrm>
            <a:off x="5292720" y="1844640"/>
            <a:ext cx="3382920" cy="38163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Step 2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The DNA is cut into fragments using </a:t>
            </a: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restriction enzymes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Each restriction enzyme cuts DNA at a specific base sequenc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11" descr="Restriction_enzyme"/>
          <p:cNvPicPr/>
          <p:nvPr/>
        </p:nvPicPr>
        <p:blipFill>
          <a:blip r:embed="rId1"/>
          <a:stretch/>
        </p:blipFill>
        <p:spPr>
          <a:xfrm>
            <a:off x="900000" y="4221000"/>
            <a:ext cx="7488360" cy="15130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sections of DNA that are cut out are called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restriction fragment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eaeaea"/>
                </a:solidFill>
                <a:latin typeface="Verdana"/>
              </a:rPr>
              <a:t>Stage 3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Fragments are separated on the basis of size using a process called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gel electrophoresi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fragments are injected into wells and an electric current is applied along the gel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8" descr="agarose gel elcctrophoresis"/>
          <p:cNvPicPr/>
          <p:nvPr/>
        </p:nvPicPr>
        <p:blipFill>
          <a:blip r:embed="rId1"/>
          <a:stretch/>
        </p:blipFill>
        <p:spPr>
          <a:xfrm>
            <a:off x="4716360" y="1700280"/>
            <a:ext cx="4025880" cy="4249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is negatively charged so it is attracted to the positive end of the ge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shorter DNA fragments move faster than the longer fragment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is separated on basis of siz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8" descr="agarose gel electrophoresis 2"/>
          <p:cNvPicPr/>
          <p:nvPr/>
        </p:nvPicPr>
        <p:blipFill>
          <a:blip r:embed="rId1"/>
          <a:stretch/>
        </p:blipFill>
        <p:spPr>
          <a:xfrm>
            <a:off x="4762440" y="1628640"/>
            <a:ext cx="3986280" cy="4243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radioactive material is added which combines with the DNA fragments to produce a fluorescent imag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photographic copy of the DNA bands is obtain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8" descr="DNA bands photo"/>
          <p:cNvPicPr/>
          <p:nvPr/>
        </p:nvPicPr>
        <p:blipFill>
          <a:blip r:embed="rId1"/>
          <a:stretch/>
        </p:blipFill>
        <p:spPr>
          <a:xfrm>
            <a:off x="5219640" y="1773360"/>
            <a:ext cx="3456000" cy="3887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15:37:53Z</dcterms:created>
  <dc:creator>nctcc</dc:creator>
  <dc:description/>
  <dc:language>en-US</dc:language>
  <cp:lastModifiedBy>LEGION2</cp:lastModifiedBy>
  <dcterms:modified xsi:type="dcterms:W3CDTF">2016-01-12T10:27:19Z</dcterms:modified>
  <cp:revision>18</cp:revision>
  <dc:subject/>
  <dc:title>Gel Electrophoresis</dc:title>
</cp:coreProperties>
</file>