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wmf" ContentType="image/x-wmf"/>
  <Override PartName="/ppt/media/image11.jpeg" ContentType="image/jpeg"/>
  <Override PartName="/ppt/media/image8.jpeg" ContentType="image/jpeg"/>
  <Override PartName="/ppt/media/image9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177F2-C2C2-4A00-A8D9-2A22FDF3F8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DNA Profilin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(DNA fingerprinting)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Profi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NA fingerprint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ages of DNA Profilin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age 4: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pattern of fragment distribution is then analysed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s of DNA Profi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 4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ttern of fragment distribution is then analy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Uses of DNA Profilin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NA profiling is used to solve crimes and medical problem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DNA Profi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profiling is used to solve crimes and medical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rime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Forensic science is the use of scientific knowledge in legal situations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DNA profile of each individual is highly specific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chances of two people having exactly the same DNA profile is 30,000 million to 1 (except for identical twins)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nsic science is the use of scientific knowledge in legal situ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NA profile of each individual is highly specif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ances of two people having exactly the same DNA profile is 30,000 million to 1 (except for identical twins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iological materials used for DNA profilin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air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aliva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emen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ody tissue cell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NA samples have been obtained from vaginal cells transferred to the outside of a condom during sexual intercourse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ical materials used for DNA profi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tissu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samples have been obtained from vaginal cells transferred to the outside of a condom during sexual intercour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NA Profiling can solve crime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pattern of the DNA profile is then compared with those of the victim and the suspect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f the profile matches the suspect it provides strong evidence that the suspect was present at the crime scene (NB:it does not prove they committed the crime)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f the profile doesn’t match the suspect then that suspect may be eliminated from the enquiry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Profiling can solve cri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ttern of the DNA profile is then compared with those of the victim and the susp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profile matches the suspect it provides strong evidence that the suspect was present at the crime scene (NB:it does not prove they committed the crim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profile doesn’t match the suspect then that suspect may be eliminated from the enqui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violent murder occurred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forensics team retrieved a blood sample from the crime scene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y prepared DNA profiles of the blood sample, the victim and a suspect as follows: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iolent murder occurr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ensics team retrieved a blood sample from the crime sce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prepared DNA profiles of the blood sample, the victim and a suspect as follow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as the suspect at the crime scene?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uspects Profile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lood sample from crime scene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Victims profile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 the suspect at the crime sce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spects Pro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sample from crime sc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ctims pro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olving Medical Problem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NA profiles can be used to determine whether a particular person is the parent of a child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childs paternity (father) and maternity(mother) can be determined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is information can be used in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aternity suit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nheritance case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mmigration case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Medical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profiles can be used to determine whether a particular person is the parent of a chi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hilds paternity (father) and maternity(mother) can be determin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nformation can be used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ernity s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heritance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igration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Example: A Paternity Tes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y comparing the DNA profile of a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other and her child it is possible to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dentify DNA fragments in the child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hich are absent from the mother and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ust therefore have been inherited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from the biological father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A Paternity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comparing the DNA profile of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 and her child it is possible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DNA fragments in the chil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are absent from the mother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therefore have been inherit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biological fa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s this man the father of the child?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other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hild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an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is man the father of the chil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hat is DNA Profiling?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technique used by scientists to distinguish between individuals of the same species using only samples of their DNA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DNA Profil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echnique used by scientists to distinguish between individuals of the same species using only samples of their DN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Famous case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n 2002 Elizabeth Hurley used DNA profiling to prove that Steve Bing was the father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f her child Damien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ous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2002 Elizabeth Hurley used DNA profiling to prove that Steve Bing was the fa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her child Dami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Famous Case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olin Pitchfork was the first criminal caught based on DNA fingerprinting evidence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e was arrested in 1986 for the rape and murder of two girls and was sentenced in 1988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ous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in Pitchfork was the first criminal caught based on DNA fingerprinting evid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as arrested in 1986 for the rape and murder of two girls and was sentenced in 1988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Famous Case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.J. Simpson was cleared of a double murder charge in 1994 which relied heavily on DNA evidence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is case highlighted lab difficulties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ous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.J. Simpson was cleared of a double murder charge in 1994 which relied heavily on DNA evid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se highlighted lab difficul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ho Invented it?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process of DNA fingerprinting was invented by Alec Jeffreys at the University of Leicester in 1985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e was knighted in 1994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Invented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cess of DNA fingerprinting was invented by Alec Jeffreys at the University of Leicester in 198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as knighted in 199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ages of DNA Profilin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age 1: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ells are broken down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o release DNA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f only a small amount of DNA is available it can be amplified using the polymerase chain reaction (PCR)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s of DNA Profi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 1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re broken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release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only a small amount of DNA is available it can be amplified using the polymerase chain reaction (PC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ages of DNA Profiling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ep 2: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DNA is cut into fragments using restriction enzymes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Each restriction enzyme cuts DNA at a specific base sequence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s of DNA Profil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NA is cut into fragments using restriction enzy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restriction enzyme cuts DNA at a specific base sequ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ages of DNA Profilin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sections of DNA that are cut out are called restriction fragments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is yields thousands of restriction fragments of all different sizes because the base sequences being cut may be far apart (long fragment) or close together (short fragment)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s of DNA Profi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ctions of DNA that are cut out are called restriction frag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yields thousands of restriction fragments of all different sizes because the base sequences being cut may be far apart (long fragment) or close together (short fragmen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ages of DNA Profilin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age 3: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Fragments are separated on the basis of size using a process called gel electrophoresis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NA fragments are injected into wells and an electric current is applied along the gel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s of DNA Profi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 3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gments are separated on the basis of size using a process called gel electrophore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fragments are injected into wells and an electric current is applied along the ge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ages of DNA Profilin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NA is negatively charged so it is attracted to the positive end of the gel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shorter DNA fragments move faster than the longer fragments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NA is separated on basis of size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s of DNA Profi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is negatively charged so it is attracted to the positive end of the g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horter DNA fragments move faster than the longer frag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is separated on basis of 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ages of DNA Profilin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radioactive material is added which combines with the DNA fragments to produce a fluorescent image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photographic copy of the DNA bands is obtained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s of DNA Profi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adioactive material is added which combines with the DNA fragments to produce a fluorescent im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hotographic copy of the DNA bands is obtain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35A6-1EE4-4D13-885E-6D7698875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1236-6A24-4EBE-9E15-306D14D18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6326-2BF4-45C5-92AF-4E459F457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F43C-D878-45F4-AA61-A07C4924A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DD157-8750-4F4D-AE0A-8A9FA2144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751BC-99FA-484F-9664-1C4C42F3F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1B6C5-4BE6-4711-B633-5FC819EAB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F979F-00DE-43B1-BE7F-0A4D09A72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3AEA9-891C-4A2F-AFE5-15C896BE6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FCE8D-827A-43A2-9B7B-312F1F581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FD275-B85A-4E05-BDC2-97D88A69B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C96A-9B93-4F85-B773-DEDF549AF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2F016-3861-40AA-9353-1FB59FC82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61C2A-BA8F-4A17-B8A7-71E91E08D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D66CF-F338-4F31-BB09-F9D0C0BB9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7FEEE-EECB-48A7-A9FB-0448914D0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4619E-360C-4752-943B-AD6A0C201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3069-98FF-4146-A091-B4D73B9E9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0FB5-3AF4-486C-A04E-94AC15333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7483-5C15-4A67-BBF8-B6F6C1FD9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F152-5E3A-4169-BD71-DD40E83D1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BEA6-F319-460F-A2D2-563B8A42C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85A0-65FF-4799-B5E0-89BD7CD1C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1299-EECF-488F-A62A-4C3A6C3F1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C0965-459A-484B-AFF1-30A1E205DB4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52AA7-15B8-40AC-80A9-9D955C645354}" type="slidenum">
              <a:rPr b="0" lang="en-GB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5700" spc="-1" strike="noStrike">
                <a:solidFill>
                  <a:srgbClr val="ffffcc"/>
                </a:solidFill>
                <a:latin typeface="Arial"/>
              </a:rPr>
              <a:t>DNA Profiling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eaeaea"/>
                </a:solidFill>
                <a:latin typeface="Verdana"/>
              </a:rPr>
              <a:t>(DNA fingerprinting)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Stages of DNA Profil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eaeaea"/>
                </a:solidFill>
                <a:latin typeface="Verdana"/>
              </a:rPr>
              <a:t>Stage 4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The pattern of fragment distribution is then analysed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Uses of DNA Profil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DNA profiling is used to solve </a:t>
            </a:r>
            <a:r>
              <a:rPr b="1" lang="en-IE" sz="3200" spc="-1" strike="noStrike">
                <a:solidFill>
                  <a:srgbClr val="eaeaea"/>
                </a:solidFill>
                <a:latin typeface="Verdana"/>
              </a:rPr>
              <a:t>crimes </a:t>
            </a: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and </a:t>
            </a:r>
            <a:r>
              <a:rPr b="1" lang="en-IE" sz="3200" spc="-1" strike="noStrike">
                <a:solidFill>
                  <a:srgbClr val="eaeaea"/>
                </a:solidFill>
                <a:latin typeface="Verdana"/>
              </a:rPr>
              <a:t>medical problem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9" name="Picture 7" descr="MCIN01111_0000[1]"/>
          <p:cNvPicPr/>
          <p:nvPr/>
        </p:nvPicPr>
        <p:blipFill>
          <a:blip r:embed="rId1"/>
          <a:stretch/>
        </p:blipFill>
        <p:spPr>
          <a:xfrm>
            <a:off x="5219640" y="1773360"/>
            <a:ext cx="3600360" cy="298440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Crim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Forensic science is the use of scientific knowledge in legal situation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The DNA profile of each individual is highly specific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The chances of two people having </a:t>
            </a:r>
            <a:r>
              <a:rPr b="0" lang="en-IE" sz="3200" spc="-1" strike="noStrike" u="sng">
                <a:solidFill>
                  <a:srgbClr val="eaeaea"/>
                </a:solidFill>
                <a:uFillTx/>
                <a:latin typeface="Verdana"/>
              </a:rPr>
              <a:t>exactly</a:t>
            </a: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 the same DNA profile is 30,000 million to 1 (except for identical twins)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ffcc"/>
                </a:solidFill>
                <a:latin typeface="Arial"/>
              </a:rPr>
              <a:t>Biological materials used for DNA profiling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Bloo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Hair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Saliv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Seme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Body tissue cell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DNA samples have been obtained from vaginal cells transferred to the outside of a condom during sexual intercourse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6" name="Picture 7" descr="blood sample"/>
          <p:cNvPicPr/>
          <p:nvPr/>
        </p:nvPicPr>
        <p:blipFill>
          <a:blip r:embed="rId1"/>
          <a:stretch/>
        </p:blipFill>
        <p:spPr>
          <a:xfrm>
            <a:off x="5364000" y="1628640"/>
            <a:ext cx="2880000" cy="21607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9" descr="swab"/>
          <p:cNvPicPr/>
          <p:nvPr/>
        </p:nvPicPr>
        <p:blipFill>
          <a:blip r:embed="rId2"/>
          <a:stretch/>
        </p:blipFill>
        <p:spPr>
          <a:xfrm>
            <a:off x="5508720" y="4076640"/>
            <a:ext cx="2663640" cy="216072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DNA Profiling can solve crim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The pattern of the DNA profile is then compared with those of the victim and the suspect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If the profile </a:t>
            </a:r>
            <a:r>
              <a:rPr b="0" lang="en-IE" sz="2800" spc="-1" strike="noStrike" u="sng">
                <a:solidFill>
                  <a:srgbClr val="eaeaea"/>
                </a:solidFill>
                <a:uFillTx/>
                <a:latin typeface="Verdana"/>
              </a:rPr>
              <a:t>matches</a:t>
            </a: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 the suspect it provides strong evidence that the suspect was present at the crime scene (</a:t>
            </a:r>
            <a:r>
              <a:rPr b="1" lang="en-IE" sz="2800" spc="-1" strike="noStrike">
                <a:solidFill>
                  <a:srgbClr val="eaeaea"/>
                </a:solidFill>
                <a:latin typeface="Verdana"/>
              </a:rPr>
              <a:t>NB:it does not prove they committed the crime)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If the profile </a:t>
            </a:r>
            <a:r>
              <a:rPr b="0" lang="en-IE" sz="2800" spc="-1" strike="noStrike" u="sng">
                <a:solidFill>
                  <a:srgbClr val="eaeaea"/>
                </a:solidFill>
                <a:uFillTx/>
                <a:latin typeface="Verdana"/>
              </a:rPr>
              <a:t>doesn’t</a:t>
            </a: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 match the suspect then that suspect may be eliminated from the enquiry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A violent murder occurred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The forensics team retrieved a blood sample from the crime scene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They prepared DNA profiles of the blood sample, the victim and a suspect as follows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ffcc"/>
                </a:solidFill>
                <a:latin typeface="Arial"/>
              </a:rPr>
              <a:t>Was the suspect at the crime scene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1619280" y="1844640"/>
            <a:ext cx="6408720" cy="4248360"/>
          </a:xfrm>
          <a:prstGeom prst="rect">
            <a:avLst/>
          </a:prstGeom>
          <a:solidFill>
            <a:srgbClr val="3399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1908000" y="20606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eaeaea"/>
                </a:solidFill>
                <a:latin typeface="Verdana"/>
              </a:rPr>
              <a:t>Suspects Profil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3851280" y="206064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eaeaea"/>
                </a:solidFill>
                <a:latin typeface="Verdana"/>
              </a:rPr>
              <a:t>Blood sample from crime scen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6372360" y="213372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eaeaea"/>
                </a:solidFill>
                <a:latin typeface="Verdana"/>
              </a:rPr>
              <a:t>Victims profil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1" name="Line 8"/>
          <p:cNvSpPr/>
          <p:nvPr/>
        </p:nvSpPr>
        <p:spPr>
          <a:xfrm>
            <a:off x="1979640" y="3357720"/>
            <a:ext cx="10080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2" name="Line 9"/>
          <p:cNvSpPr/>
          <p:nvPr/>
        </p:nvSpPr>
        <p:spPr>
          <a:xfrm>
            <a:off x="3924360" y="3357720"/>
            <a:ext cx="10080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3" name="Line 10"/>
          <p:cNvSpPr/>
          <p:nvPr/>
        </p:nvSpPr>
        <p:spPr>
          <a:xfrm>
            <a:off x="6227640" y="3789360"/>
            <a:ext cx="10083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4" name="Line 11"/>
          <p:cNvSpPr/>
          <p:nvPr/>
        </p:nvSpPr>
        <p:spPr>
          <a:xfrm>
            <a:off x="2050920" y="3933720"/>
            <a:ext cx="10083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5" name="Line 12"/>
          <p:cNvSpPr/>
          <p:nvPr/>
        </p:nvSpPr>
        <p:spPr>
          <a:xfrm>
            <a:off x="2050920" y="4076640"/>
            <a:ext cx="10083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6" name="Line 13"/>
          <p:cNvSpPr/>
          <p:nvPr/>
        </p:nvSpPr>
        <p:spPr>
          <a:xfrm>
            <a:off x="3924360" y="3933720"/>
            <a:ext cx="10080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7" name="Line 14"/>
          <p:cNvSpPr/>
          <p:nvPr/>
        </p:nvSpPr>
        <p:spPr>
          <a:xfrm>
            <a:off x="3924360" y="4076640"/>
            <a:ext cx="10080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8" name="Line 15"/>
          <p:cNvSpPr/>
          <p:nvPr/>
        </p:nvSpPr>
        <p:spPr>
          <a:xfrm>
            <a:off x="6372360" y="4724280"/>
            <a:ext cx="10080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9" name="Line 16"/>
          <p:cNvSpPr/>
          <p:nvPr/>
        </p:nvSpPr>
        <p:spPr>
          <a:xfrm>
            <a:off x="6372360" y="4869000"/>
            <a:ext cx="10080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0" name="Line 17"/>
          <p:cNvSpPr/>
          <p:nvPr/>
        </p:nvSpPr>
        <p:spPr>
          <a:xfrm>
            <a:off x="2050920" y="4653000"/>
            <a:ext cx="10083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1" name="Line 18"/>
          <p:cNvSpPr/>
          <p:nvPr/>
        </p:nvSpPr>
        <p:spPr>
          <a:xfrm>
            <a:off x="2050920" y="5229360"/>
            <a:ext cx="10083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2" name="Line 19"/>
          <p:cNvSpPr/>
          <p:nvPr/>
        </p:nvSpPr>
        <p:spPr>
          <a:xfrm>
            <a:off x="2050920" y="5373720"/>
            <a:ext cx="10083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3" name="Line 20"/>
          <p:cNvSpPr/>
          <p:nvPr/>
        </p:nvSpPr>
        <p:spPr>
          <a:xfrm>
            <a:off x="6227640" y="3284640"/>
            <a:ext cx="10083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4" name="Line 21"/>
          <p:cNvSpPr/>
          <p:nvPr/>
        </p:nvSpPr>
        <p:spPr>
          <a:xfrm>
            <a:off x="2050920" y="5877000"/>
            <a:ext cx="10083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5" name="Line 22"/>
          <p:cNvSpPr/>
          <p:nvPr/>
        </p:nvSpPr>
        <p:spPr>
          <a:xfrm>
            <a:off x="3995640" y="5373720"/>
            <a:ext cx="10080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6" name="Line 23"/>
          <p:cNvSpPr/>
          <p:nvPr/>
        </p:nvSpPr>
        <p:spPr>
          <a:xfrm>
            <a:off x="3995640" y="5229360"/>
            <a:ext cx="10080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7" name="Line 24"/>
          <p:cNvSpPr/>
          <p:nvPr/>
        </p:nvSpPr>
        <p:spPr>
          <a:xfrm>
            <a:off x="3924360" y="4653000"/>
            <a:ext cx="10080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8" name="Line 25"/>
          <p:cNvSpPr/>
          <p:nvPr/>
        </p:nvSpPr>
        <p:spPr>
          <a:xfrm>
            <a:off x="6372360" y="5229360"/>
            <a:ext cx="10080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9" name="Line 26"/>
          <p:cNvSpPr/>
          <p:nvPr/>
        </p:nvSpPr>
        <p:spPr>
          <a:xfrm>
            <a:off x="6443640" y="5877000"/>
            <a:ext cx="10080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0" name="Line 27"/>
          <p:cNvSpPr/>
          <p:nvPr/>
        </p:nvSpPr>
        <p:spPr>
          <a:xfrm>
            <a:off x="3995640" y="5805360"/>
            <a:ext cx="10080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Solving Medical Problem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DNA profiles can be used to determine whether a particular person is the parent of a child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A childs paternity (father) and maternity(mother) can be determined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This information can be used i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Paternity suit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Inheritance cas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Immigration cas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Example: A Paternity Tes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By comparing the DNA profile of a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mother and her child it is possible to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identify DNA fragments in the child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which are absent from the mother and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must therefore have been inherited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from the biological father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ffcc"/>
                </a:solidFill>
                <a:latin typeface="Arial"/>
              </a:rPr>
              <a:t>Is this man the father of the child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1476360" y="1700280"/>
            <a:ext cx="6335640" cy="446544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1763640" y="1916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eaeaea"/>
                </a:solidFill>
                <a:latin typeface="Verdana"/>
              </a:rPr>
              <a:t>Moth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3708360" y="19162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eaeaea"/>
                </a:solidFill>
                <a:latin typeface="Verdana"/>
              </a:rPr>
              <a:t>Child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3" name="Text Box 7"/>
          <p:cNvSpPr/>
          <p:nvPr/>
        </p:nvSpPr>
        <p:spPr>
          <a:xfrm>
            <a:off x="5940360" y="19162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eaeaea"/>
                </a:solidFill>
                <a:latin typeface="Verdana"/>
              </a:rPr>
              <a:t>Man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4" name="Line 8"/>
          <p:cNvSpPr/>
          <p:nvPr/>
        </p:nvSpPr>
        <p:spPr>
          <a:xfrm>
            <a:off x="1908000" y="270828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5" name="Line 9"/>
          <p:cNvSpPr/>
          <p:nvPr/>
        </p:nvSpPr>
        <p:spPr>
          <a:xfrm>
            <a:off x="1908000" y="292428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6" name="Line 10"/>
          <p:cNvSpPr/>
          <p:nvPr/>
        </p:nvSpPr>
        <p:spPr>
          <a:xfrm>
            <a:off x="3635280" y="270828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7" name="Line 11"/>
          <p:cNvSpPr/>
          <p:nvPr/>
        </p:nvSpPr>
        <p:spPr>
          <a:xfrm>
            <a:off x="3635280" y="292428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8" name="Line 12"/>
          <p:cNvSpPr/>
          <p:nvPr/>
        </p:nvSpPr>
        <p:spPr>
          <a:xfrm>
            <a:off x="5796000" y="263700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9" name="Line 13"/>
          <p:cNvSpPr/>
          <p:nvPr/>
        </p:nvSpPr>
        <p:spPr>
          <a:xfrm>
            <a:off x="3635280" y="371628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0" name="Line 14"/>
          <p:cNvSpPr/>
          <p:nvPr/>
        </p:nvSpPr>
        <p:spPr>
          <a:xfrm>
            <a:off x="5796000" y="371628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1" name="Line 15"/>
          <p:cNvSpPr/>
          <p:nvPr/>
        </p:nvSpPr>
        <p:spPr>
          <a:xfrm>
            <a:off x="1908000" y="422100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2" name="Line 16"/>
          <p:cNvSpPr/>
          <p:nvPr/>
        </p:nvSpPr>
        <p:spPr>
          <a:xfrm>
            <a:off x="3708360" y="443700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3" name="Line 17"/>
          <p:cNvSpPr/>
          <p:nvPr/>
        </p:nvSpPr>
        <p:spPr>
          <a:xfrm>
            <a:off x="5796000" y="443700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4" name="Line 18"/>
          <p:cNvSpPr/>
          <p:nvPr/>
        </p:nvSpPr>
        <p:spPr>
          <a:xfrm>
            <a:off x="3708360" y="486900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5" name="Line 19"/>
          <p:cNvSpPr/>
          <p:nvPr/>
        </p:nvSpPr>
        <p:spPr>
          <a:xfrm>
            <a:off x="1835280" y="486900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6" name="Line 20"/>
          <p:cNvSpPr/>
          <p:nvPr/>
        </p:nvSpPr>
        <p:spPr>
          <a:xfrm>
            <a:off x="5796000" y="515772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7" name="Line 21"/>
          <p:cNvSpPr/>
          <p:nvPr/>
        </p:nvSpPr>
        <p:spPr>
          <a:xfrm>
            <a:off x="1835280" y="537372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8" name="Line 22"/>
          <p:cNvSpPr/>
          <p:nvPr/>
        </p:nvSpPr>
        <p:spPr>
          <a:xfrm>
            <a:off x="1835280" y="544500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9" name="Line 23"/>
          <p:cNvSpPr/>
          <p:nvPr/>
        </p:nvSpPr>
        <p:spPr>
          <a:xfrm>
            <a:off x="3708360" y="573408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0" name="Line 24"/>
          <p:cNvSpPr/>
          <p:nvPr/>
        </p:nvSpPr>
        <p:spPr>
          <a:xfrm>
            <a:off x="5796000" y="580536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1" name="Line 25"/>
          <p:cNvSpPr/>
          <p:nvPr/>
        </p:nvSpPr>
        <p:spPr>
          <a:xfrm>
            <a:off x="5796000" y="335772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2" name="Line 26"/>
          <p:cNvSpPr/>
          <p:nvPr/>
        </p:nvSpPr>
        <p:spPr>
          <a:xfrm>
            <a:off x="5796000" y="342900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3" name="Line 27"/>
          <p:cNvSpPr/>
          <p:nvPr/>
        </p:nvSpPr>
        <p:spPr>
          <a:xfrm>
            <a:off x="1908000" y="342900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What is DNA Profiling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A technique used by scientists to distinguish between individuals of the same species using only samples of their DNA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Famous cas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In 2002 Elizabeth Hurley used DNA profiling to prove that Steve Bing was the father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of her child Dam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37" name="Picture 9" descr="liz hurley steve bing"/>
          <p:cNvPicPr/>
          <p:nvPr/>
        </p:nvPicPr>
        <p:blipFill>
          <a:blip r:embed="rId1"/>
          <a:stretch/>
        </p:blipFill>
        <p:spPr>
          <a:xfrm>
            <a:off x="4788000" y="1628640"/>
            <a:ext cx="3816360" cy="3816360"/>
          </a:xfrm>
          <a:prstGeom prst="rect">
            <a:avLst/>
          </a:prstGeom>
          <a:ln w="0">
            <a:noFill/>
          </a:ln>
        </p:spPr>
      </p:pic>
      <p:sp>
        <p:nvSpPr>
          <p:cNvPr id="2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Famous Cas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Colin Pitchfork was the first criminal caught based on DNA fingerprinting evidence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He was arrested in 1986 for the rape and murder of two girls and was sentenced in 1988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41" name="Picture 4" descr="Colin_Pitchfork"/>
          <p:cNvPicPr/>
          <p:nvPr/>
        </p:nvPicPr>
        <p:blipFill>
          <a:blip r:embed="rId1"/>
          <a:stretch/>
        </p:blipFill>
        <p:spPr>
          <a:xfrm>
            <a:off x="5076720" y="1773360"/>
            <a:ext cx="3743280" cy="4248000"/>
          </a:xfrm>
          <a:prstGeom prst="rect">
            <a:avLst/>
          </a:prstGeom>
          <a:ln w="0">
            <a:noFill/>
          </a:ln>
        </p:spPr>
      </p:pic>
      <p:sp>
        <p:nvSpPr>
          <p:cNvPr id="2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Famous Cas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O.J. Simpson was cleared of a double murder charge in 1994 which relied heavily on DNA evidence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This case highlighted lab difficultie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45" name="Picture 9" descr="O_J_Simpson"/>
          <p:cNvPicPr/>
          <p:nvPr/>
        </p:nvPicPr>
        <p:blipFill>
          <a:blip r:embed="rId1"/>
          <a:stretch/>
        </p:blipFill>
        <p:spPr>
          <a:xfrm>
            <a:off x="5076720" y="1700280"/>
            <a:ext cx="3672000" cy="3708360"/>
          </a:xfrm>
          <a:prstGeom prst="rect">
            <a:avLst/>
          </a:prstGeom>
          <a:ln w="0">
            <a:noFill/>
          </a:ln>
        </p:spPr>
      </p:pic>
      <p:sp>
        <p:nvSpPr>
          <p:cNvPr id="2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Who Invented it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The process of DNA fingerprinting was invented by Alec Jeffreys at the University of Leicester in 1985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He was knighted in 1994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9" name="Picture 9" descr="alec Jeffreys"/>
          <p:cNvPicPr/>
          <p:nvPr/>
        </p:nvPicPr>
        <p:blipFill>
          <a:blip r:embed="rId1"/>
          <a:stretch/>
        </p:blipFill>
        <p:spPr>
          <a:xfrm>
            <a:off x="5292720" y="1844640"/>
            <a:ext cx="3240000" cy="374508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Stages of DNA Profil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eaeaea"/>
                </a:solidFill>
                <a:latin typeface="Verdana"/>
              </a:rPr>
              <a:t>Stage 1</a:t>
            </a: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Cells are broken dow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to release DN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If only a small amount of DNA is available it can be amplified using the polymerase chain reaction (PCR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3" name="Picture 7" descr="body cells"/>
          <p:cNvPicPr/>
          <p:nvPr/>
        </p:nvPicPr>
        <p:blipFill>
          <a:blip r:embed="rId1"/>
          <a:stretch/>
        </p:blipFill>
        <p:spPr>
          <a:xfrm>
            <a:off x="5292720" y="1844640"/>
            <a:ext cx="3382920" cy="381636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Stages of DNA Profiling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eaeaea"/>
                </a:solidFill>
                <a:latin typeface="Verdana"/>
              </a:rPr>
              <a:t>Step 2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The DNA is cut into fragments using </a:t>
            </a:r>
            <a:r>
              <a:rPr b="1" lang="en-IE" sz="2400" spc="-1" strike="noStrike">
                <a:solidFill>
                  <a:srgbClr val="eaeaea"/>
                </a:solidFill>
                <a:latin typeface="Verdana"/>
              </a:rPr>
              <a:t>restriction enzymes</a:t>
            </a: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Each restriction enzyme cuts DNA at a specific base sequence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7" name="Picture 11" descr="Restriction_enzyme"/>
          <p:cNvPicPr/>
          <p:nvPr/>
        </p:nvPicPr>
        <p:blipFill>
          <a:blip r:embed="rId1"/>
          <a:stretch/>
        </p:blipFill>
        <p:spPr>
          <a:xfrm>
            <a:off x="900000" y="4221000"/>
            <a:ext cx="7488360" cy="151308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Stages of DNA Profil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The sections of DNA that are cut out are called </a:t>
            </a:r>
            <a:r>
              <a:rPr b="1" lang="en-IE" sz="3200" spc="-1" strike="noStrike">
                <a:solidFill>
                  <a:srgbClr val="eaeaea"/>
                </a:solidFill>
                <a:latin typeface="Verdana"/>
              </a:rPr>
              <a:t>restriction fragments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This yields thousands of restriction fragments of all different sizes because the base sequences being cut may be far apart (long fragment) or close together (short fragment)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Stages of DNA Profil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eaeaea"/>
                </a:solidFill>
                <a:latin typeface="Verdana"/>
              </a:rPr>
              <a:t>Stage 3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Fragments are separated on the basis of size using a process called </a:t>
            </a:r>
            <a:r>
              <a:rPr b="0" lang="en-IE" sz="2800" spc="-1" strike="noStrike" u="sng">
                <a:solidFill>
                  <a:srgbClr val="eaeaea"/>
                </a:solidFill>
                <a:uFillTx/>
                <a:latin typeface="Verdana"/>
              </a:rPr>
              <a:t>gel electrophoresi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DNA fragments are injected into wells and an electric current is applied along the gel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4" name="Picture 8" descr="agarose gel elcctrophoresis"/>
          <p:cNvPicPr/>
          <p:nvPr/>
        </p:nvPicPr>
        <p:blipFill>
          <a:blip r:embed="rId1"/>
          <a:stretch/>
        </p:blipFill>
        <p:spPr>
          <a:xfrm>
            <a:off x="4716360" y="1700280"/>
            <a:ext cx="4025880" cy="424980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Stages of DNA Profil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DNA is negatively charged so it is attracted to the positive end of the gel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The shorter DNA fragments move faster than the longer fragments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DNA is separated on basis of siz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8" name="Picture 8" descr="agarose gel electrophoresis 2"/>
          <p:cNvPicPr/>
          <p:nvPr/>
        </p:nvPicPr>
        <p:blipFill>
          <a:blip r:embed="rId1"/>
          <a:stretch/>
        </p:blipFill>
        <p:spPr>
          <a:xfrm>
            <a:off x="4762440" y="1628640"/>
            <a:ext cx="3986280" cy="424368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Stages of DNA Profil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A radioactive material is added which combines with the DNA fragments to produce a fluorescent imag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A photographic copy of the DNA bands is obtained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2" name="Picture 8" descr="DNA bands photo"/>
          <p:cNvPicPr/>
          <p:nvPr/>
        </p:nvPicPr>
        <p:blipFill>
          <a:blip r:embed="rId1"/>
          <a:stretch/>
        </p:blipFill>
        <p:spPr>
          <a:xfrm>
            <a:off x="5219640" y="1773360"/>
            <a:ext cx="3456000" cy="388764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8T15:37:53Z</dcterms:created>
  <dc:creator>nctcc</dc:creator>
  <dc:description/>
  <dc:language>en-US</dc:language>
  <cp:lastModifiedBy>LEGION2</cp:lastModifiedBy>
  <dcterms:modified xsi:type="dcterms:W3CDTF">2016-01-12T10:27:19Z</dcterms:modified>
  <cp:revision>18</cp:revision>
  <dc:subject/>
  <dc:title>Gel Electrophoresis</dc:title>
</cp:coreProperties>
</file>