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41ED0-309D-4300-8095-14A07A61204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hybrid 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hybrid inheritance refers to the simultaneous inheritance of two charac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hybrid 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hybrid inheritance refers to the simultaneous inheritance of two charac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 investigated the inheritance of seed shape (round v wrinkled) and seed colour (green v yellow) at the same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his monohybrid crosses he knew that round seeds were dominant to wrinkled seeds and yellow seeds were dominant to green see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hose to cross plants that were pure breeding for both dominant features (round and yellow seeds) with plants that were pure breeding for both recessive features (wrinkled and green see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 investigated the inheritance of seed shape (round v wrinkled) and seed colour (green v yellow) at the same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his monohybrid crosses he knew that round seeds were dominant to wrinkled seeds and yellow seeds were dominant to green see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hose to cross plants that were pure breeding for both dominant features (round and yellow seeds) with plants that were pure breeding for both recessive features (wrinkled and green see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s    plants with round x plants with wrinkle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and yellow seeds      and green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1 offspr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100% plants with round and yellow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1 intercross plants with round x plants with rou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yellow seeds    and yellow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2 offspr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otal 556 seeds collected from F2 plan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5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and yellow seed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8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and green seed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nkled and yellow seed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nkled and green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the ratio of dominant to recessive features is still 3: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s    plants with round x plants with wrinkle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and yellow seeds      and green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1 offspr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100% plants with round and yellow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1 intercross plants with round x plants with rou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yellow seeds    and yellow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2 offspr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otal 556 seeds collected from F2 plan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5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and yellow seed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8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and green seed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nkled and yellow seed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nkled and green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the ratio of dominant to recessive features is still 3: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nation of Mendel’s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the allele for round seeds be R and the allele for wrinkled seeds be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the allele for yellow seeds be Y and the allele for green seeds be 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s   Phenotype          round      x     wrink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 seeds      green see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RR Y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rr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1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nation of Mendel’s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the allele for round seeds be R and the allele for wrinkled seeds be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the allele for yellow seeds be Y and the allele for green seeds be 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s   Phenotype          round      x     wrink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 seeds      green see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RR Y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rr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1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1 intercr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, yellow seeds  x   round, yellow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Rr Y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Rr 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genotypes and phenotypes of the F2 offspring and in what rati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1 intercr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, yellow seeds  x   round, yellow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Rr Y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Rr 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genotypes and phenotypes of the F2 offspring and in what rati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2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s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phenotypes   expected ob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RYY (1) RrYy (4)   yellow, 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RYy (2)  RrYY (2)  yellow, round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3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Ryy (1)  Rryy (2)   round, gree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1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rYY (1)   rrYy (2)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wrinkled, yellow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1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ryy (1)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wrinkled, gree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2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s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phenotypes   expected ob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RYY (1) RrYy (4)   yellow, 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RYy (2)  RrYY (2)  yellow, round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3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Ryy (1)  Rryy (2)   round, gree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1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rYY (1)   rrYy (2)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wrinkled, yellow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1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ryy (1)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wrinkled, gree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wing for statistical error, Mendel’s results were a reasonable approximation to the expected 9:3:3:1 rat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of a member of an allelic pair may combine randomly with either of another p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est cross can be performed to check the possible genotypes of a plant producing round, yellow seeds (RRYY, RrYY, RrYy, RRYy) by crossing the plants with a homozygous recessive plant with wrinkled green seeds genotype rr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phenotypes and genotypes would the offspring possess from the 4 crosses, and in what ratio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wing for statistical error, Mendel’s results were a reasonable approximation to the expected 9:3:3:1 rat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of a member of an allelic pair may combine randomly with either of another p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est cross can be performed to check the possible genotypes of a plant producing round, yellow seeds (RRYY, RrYY, RrYy, RRYy) by crossing the plants with a homozygous recessive plant with wrinkled green seeds genotype rr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phenotypes and genotypes would the offspring possess from the 4 crosses, and in what ratio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8C6C-69AD-4941-BC6C-16241314E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EB7C-E245-4433-92BE-E6F373385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07AB-BE30-4333-B146-DE7B2894C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3419-29A4-4194-8713-A50ACE265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E9738-CCCD-482A-AF1E-2A9168607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F3563-A47B-41A0-95CA-F3B1F2B0C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7EEAF-46B4-4BCF-8FA9-955C4C0AE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4A828-A070-4AA0-8B43-94D7D560F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5F340-9F66-4901-AE75-643F168C0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1F970-DA29-4578-85E8-5756991AA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69898-2FC1-4AE1-88F4-6B580EFCF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2DD0-ED38-4920-AC2F-4FF39DFF1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0CA54-8642-4828-9908-E41B0D6E0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16317-ED3B-4248-90A7-2E7FF131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2AEBD-C39D-48BD-95EB-022FA9849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13142-25FC-4701-AD3A-E34D6867A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AF41E-A155-4487-94F7-363988F46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57F9-32BE-4F5B-B4F9-ADB11B0A6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9D0D-353E-4F09-BAB6-A8655257C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045E-7D2B-4B68-839B-2D940DF17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B999-7D30-4D19-8343-DF6AF5ABE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9196-B8A1-46B7-B750-4C6784AF6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F2B6-8F54-458D-9FB6-D10D2D5E1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F9A6-F6FD-4973-A5C9-E974322BA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AAC94-CC5E-4538-868B-E3E05C839E3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02060-CF4A-4135-9808-755BDC30D5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66cc"/>
                </a:solidFill>
                <a:latin typeface="Verdana"/>
              </a:rPr>
              <a:t>Dihybrid Inheritance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Verdana"/>
              </a:rPr>
              <a:t>Dihybrid inheritance refers to the simultaneous inheritance of two charact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66cc"/>
                </a:solidFill>
                <a:latin typeface="Verdana"/>
              </a:rPr>
              <a:t>Mendel’s experiment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ndel investigated the inheritance of seed shape (round v wrinkled) and seed colour (green v yellow) at the same tim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rom his monohybrid crosses he knew that round seeds were dominant to wrinkled seeds and yellow seeds were dominant to green seed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e chose to cross plants that were pure breeding for both dominant features (round and yellow seeds) with plants that were pure breeding for both recessive features (wrinkled and green seed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3911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66cc"/>
                </a:solidFill>
                <a:latin typeface="Verdana"/>
              </a:rPr>
              <a:t>Results</a:t>
            </a:r>
            <a:r>
              <a:rPr b="0" lang="en-GB" sz="40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68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Parent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 plants with round x plants with wrinkled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   and yellow seeds      and green see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1066680" y="1752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F1 offspring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100% plants with round and yellow s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1066680" y="24382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F1 intercross</a:t>
            </a: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lants with round x plants with rou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d yellow seeds    and yellow s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1066680" y="3200400"/>
            <a:ext cx="7772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F2 offspring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Total 556 seeds collected from F2 plant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at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315 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9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ound and yellow seed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108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3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ound and green seed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101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3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rinkled and yellow seed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32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rinkled and green s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However, the ratio of dominant to recessive features is still 3: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66cc"/>
                </a:solidFill>
                <a:latin typeface="Verdana"/>
              </a:rPr>
              <a:t>Explanation of Mendel’s results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907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t the allele for round seeds be R and the allele for wrinkled seeds be 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t the allele for yellow seeds be Y and the allele for green seeds be 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Parents   Phenotype</a:t>
            </a: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      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round      x     wrinkl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yellow</a:t>
            </a: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eeds      green</a:t>
            </a: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eed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     </a:t>
            </a: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Genotype</a:t>
            </a: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            </a:t>
            </a: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RR YY</a:t>
            </a: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       rry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Gametes</a:t>
            </a: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F1 offsp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Oval 4"/>
          <p:cNvSpPr/>
          <p:nvPr/>
        </p:nvSpPr>
        <p:spPr>
          <a:xfrm>
            <a:off x="4343400" y="4495680"/>
            <a:ext cx="533520" cy="5335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Oval 5"/>
          <p:cNvSpPr/>
          <p:nvPr/>
        </p:nvSpPr>
        <p:spPr>
          <a:xfrm>
            <a:off x="5410080" y="4495680"/>
            <a:ext cx="533520" cy="5335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Oval 6"/>
          <p:cNvSpPr/>
          <p:nvPr/>
        </p:nvSpPr>
        <p:spPr>
          <a:xfrm>
            <a:off x="6934320" y="4495680"/>
            <a:ext cx="533160" cy="5335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Oval 7"/>
          <p:cNvSpPr/>
          <p:nvPr/>
        </p:nvSpPr>
        <p:spPr>
          <a:xfrm>
            <a:off x="7848720" y="4495680"/>
            <a:ext cx="533160" cy="5335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Object 11"/>
          <p:cNvGraphicFramePr/>
          <p:nvPr/>
        </p:nvGraphicFramePr>
        <p:xfrm>
          <a:off x="4114800" y="5443560"/>
          <a:ext cx="3201840" cy="1150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4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5443560"/>
                    <a:ext cx="320184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F1 intercros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1066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Parent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phenotyp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ound, yellow seeds  x   round, yellow see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genotyp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Rr Yy</a:t>
            </a: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              Rr Y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Game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3352680" y="2895480"/>
            <a:ext cx="457200" cy="4572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Oval 5"/>
          <p:cNvSpPr/>
          <p:nvPr/>
        </p:nvSpPr>
        <p:spPr>
          <a:xfrm>
            <a:off x="3962520" y="2895480"/>
            <a:ext cx="457200" cy="4572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Oval 6"/>
          <p:cNvSpPr/>
          <p:nvPr/>
        </p:nvSpPr>
        <p:spPr>
          <a:xfrm>
            <a:off x="4572000" y="2895480"/>
            <a:ext cx="457200" cy="4572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7"/>
          <p:cNvSpPr/>
          <p:nvPr/>
        </p:nvSpPr>
        <p:spPr>
          <a:xfrm>
            <a:off x="5105520" y="2895480"/>
            <a:ext cx="457200" cy="4572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8"/>
          <p:cNvSpPr/>
          <p:nvPr/>
        </p:nvSpPr>
        <p:spPr>
          <a:xfrm>
            <a:off x="8077320" y="2895480"/>
            <a:ext cx="457200" cy="4572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9"/>
          <p:cNvSpPr/>
          <p:nvPr/>
        </p:nvSpPr>
        <p:spPr>
          <a:xfrm>
            <a:off x="7543800" y="2895480"/>
            <a:ext cx="457200" cy="4572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10"/>
          <p:cNvSpPr/>
          <p:nvPr/>
        </p:nvSpPr>
        <p:spPr>
          <a:xfrm>
            <a:off x="6858000" y="2895480"/>
            <a:ext cx="457200" cy="4572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Oval 11"/>
          <p:cNvSpPr/>
          <p:nvPr/>
        </p:nvSpPr>
        <p:spPr>
          <a:xfrm>
            <a:off x="6324480" y="2895480"/>
            <a:ext cx="457200" cy="4572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15"/>
          <p:cNvSpPr/>
          <p:nvPr/>
        </p:nvSpPr>
        <p:spPr>
          <a:xfrm>
            <a:off x="1219320" y="4419720"/>
            <a:ext cx="761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Verdana"/>
              </a:rPr>
              <a:t>What are the genotypes and phenotypes of the F2 offspring and in what rati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Object 6"/>
          <p:cNvGraphicFramePr/>
          <p:nvPr/>
        </p:nvGraphicFramePr>
        <p:xfrm>
          <a:off x="1789200" y="905040"/>
          <a:ext cx="5643360" cy="2228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89200" y="905040"/>
                    <a:ext cx="5643360" cy="22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Text Box 7"/>
          <p:cNvSpPr/>
          <p:nvPr/>
        </p:nvSpPr>
        <p:spPr>
          <a:xfrm>
            <a:off x="1143000" y="3049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66cc"/>
                </a:solidFill>
                <a:latin typeface="Verdana"/>
              </a:rPr>
              <a:t>F2 offsp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914400" y="3429000"/>
            <a:ext cx="807732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genotypes  </a:t>
            </a: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   phenotypes   expected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RYY (1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rYy (4)   yellow, r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RYy (2)  RrYY (2)  yellow, round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9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  3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Ryy (1)  Rryy (2)   round, green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3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  1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rYY (1)   rrYy (2)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wrinkled, yellow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3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  1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ryy (1)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wrinkled, green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1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   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1430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llowing for statistical error, Mendel’s results were a reasonable approximation to the expected </a:t>
            </a:r>
            <a:r>
              <a:rPr b="0" lang="en-GB" sz="2400" spc="-1" strike="noStrike">
                <a:solidFill>
                  <a:srgbClr val="3366cc"/>
                </a:solidFill>
                <a:latin typeface="Verdana"/>
              </a:rPr>
              <a:t>9:3:3:1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rat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ach of a member of an allelic pair may combine randomly with either of another p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test cross can be performed to check the possible genotypes of a plant producing round, yellow seeds </a:t>
            </a:r>
            <a:r>
              <a:rPr b="0" lang="en-GB" sz="2400" spc="-1" strike="noStrike">
                <a:solidFill>
                  <a:srgbClr val="3366cc"/>
                </a:solidFill>
                <a:latin typeface="Verdana"/>
              </a:rPr>
              <a:t>(RRYY, RrYY, RrYy, RRYy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by crossing the plants with a homozygous recessive plant with wrinkled green seeds genotype </a:t>
            </a:r>
            <a:r>
              <a:rPr b="0" lang="en-GB" sz="2400" spc="-1" strike="noStrike">
                <a:solidFill>
                  <a:srgbClr val="3366cc"/>
                </a:solidFill>
                <a:latin typeface="Verdana"/>
              </a:rPr>
              <a:t>rry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66cc"/>
                </a:solidFill>
                <a:latin typeface="Verdana"/>
              </a:rPr>
              <a:t>What phenotypes and genotypes would the offspring possess from the 4 crosses, and in what ratio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6T19:53:59Z</dcterms:created>
  <dc:creator>Angela Wall</dc:creator>
  <dc:description/>
  <dc:language>en-US</dc:language>
  <cp:lastModifiedBy>LEGION2</cp:lastModifiedBy>
  <cp:lastPrinted>2002-12-02T21:19:45Z</cp:lastPrinted>
  <dcterms:modified xsi:type="dcterms:W3CDTF">2016-01-12T10:19:10Z</dcterms:modified>
  <cp:revision>24</cp:revision>
  <dc:subject/>
  <dc:title>Dihybrid Inheritance</dc:title>
</cp:coreProperties>
</file>