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48C2-0BE8-4BEB-88DC-FF89176247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84B-3DF8-4088-AB6A-8CAFE2C8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AA3-777D-4A99-A60F-CB803D6A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902-82E2-422B-969F-72F927D5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CB7-7938-4902-A375-40BA0EF7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75A5-35F3-4D9B-A992-74F004F9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45C7-1564-4510-A2FB-603158AC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4BFA-0DF5-48B3-8F02-4FB4FE29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A264-BEB2-4CEA-92C8-719F0736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E3BC-1346-48CE-A302-B28AC9AB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24AB-CB0F-4D3C-9A47-729D58A1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A528-3992-4194-9F87-42727F97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0CC-776B-40B5-8F14-F3DDA1AB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4C33-6B84-4D6A-A5CD-F36135BA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A1D5-17A1-4F76-B033-FA6AABC6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CC29-B5BC-4FA8-8DCC-0422FBA7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418E-F7D9-4C2D-89FB-0A57C531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04C8-D1D1-4E61-970A-4DC3BCBC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A7A-177B-44AD-B4AD-A439E263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2E9-B3B9-4015-B049-8E98D4BC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1BB-978C-47D4-A599-A0FA051F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E56-B9B5-4720-A456-4DDFC603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FD9-72CF-41D8-95B5-F92858C6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2F2-885F-4C6B-B5F4-45413036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975-9EF3-4521-A9CC-D0EAD93A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227D-24E6-48E7-A2D2-096D7BB32F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2687-0A1C-4A9D-8D80-558781EB4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cc"/>
                </a:solidFill>
                <a:latin typeface="Verdana"/>
              </a:rPr>
              <a:t>Dihybrid Inheritanc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Verdana"/>
              </a:rPr>
              <a:t>Dihybrid inheritance refers to the simultaneous inheritance of two charac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Mendel’s experimen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del investigated the inheritance of seed shape (round v wrinkled) and seed colour (green v yellow) at the same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m his monohybrid crosses he knew that round seeds were dominant to wrinkled seeds and yellow seeds were dominant to green see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Verdana"/>
              </a:rPr>
              <a:t>Results</a:t>
            </a: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plants with round x plants with wrinkled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and yellow seeds      and green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06668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100% plants with round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66680" y="2438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ants with round x plants with 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yellow seeds   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066680" y="32004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2 offspr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tal 556 seeds collected from F2 pla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15 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8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green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2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green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However, the ratio of dominant to recessive features is still 3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Explanation of Mendel’s result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round seeds be R and the allele for wrinkled seeds be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yellow seeds be Y and the allele for green seeds b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  Ph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und      x    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yellow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     green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rr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434340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541008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69343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78487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1"/>
          <p:cNvGraphicFramePr/>
          <p:nvPr/>
        </p:nvGraphicFramePr>
        <p:xfrm>
          <a:off x="4114800" y="5443560"/>
          <a:ext cx="3201840" cy="11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443560"/>
                    <a:ext cx="32018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h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, yellow seeds  x   round, yellow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       Rr 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526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3962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4572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5105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80773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75438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"/>
          <p:cNvSpPr/>
          <p:nvPr/>
        </p:nvSpPr>
        <p:spPr>
          <a:xfrm>
            <a:off x="6858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63244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19320" y="44197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Verdana"/>
              </a:rPr>
              <a:t>What are the genotypes and phenotypes of the F2 offspring and in what rat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6"/>
          <p:cNvGraphicFramePr/>
          <p:nvPr/>
        </p:nvGraphicFramePr>
        <p:xfrm>
          <a:off x="1789200" y="905040"/>
          <a:ext cx="564336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905040"/>
                    <a:ext cx="5643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7"/>
          <p:cNvSpPr/>
          <p:nvPr/>
        </p:nvSpPr>
        <p:spPr>
          <a:xfrm>
            <a:off x="11430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F2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14400" y="3429000"/>
            <a:ext cx="80773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s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phenotypes   expected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4)   yellow, 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2)  RrYY (2)  yellow, roun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3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Rryy (2)   roun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 rrYy (2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yellow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430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ing for statistical error, Mendel’s results were a reasonable approximation to the expected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9:3:3: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of a member of an allelic pair may combine randomly with either of another 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est cross can be performed to check the possible genotypes of a plant producing round, yellow seeds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(RRYY, RrYY, RrYy, RRYy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y crossing the plants with a homozygous recessive plant with wrinkled green seeds genotype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rry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What phenotypes and genotypes would the offspring possess from the 4 crosses, and in what rat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3:59Z</dcterms:created>
  <dc:creator>Angela Wall</dc:creator>
  <dc:description/>
  <dc:language>en-US</dc:language>
  <cp:lastModifiedBy>LEGION2</cp:lastModifiedBy>
  <cp:lastPrinted>2002-12-02T21:19:45Z</cp:lastPrinted>
  <dcterms:modified xsi:type="dcterms:W3CDTF">2016-01-12T10:19:10Z</dcterms:modified>
  <cp:revision>24</cp:revision>
  <dc:subject/>
  <dc:title>Dihybrid Inheritance</dc:title>
</cp:coreProperties>
</file>