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58F2-04AE-4FB6-8E7C-F7FEF49E89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208C-F8B9-45D6-B419-CC676293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A7B-ABA0-4B51-8AEB-98C37DA9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C42-917F-4BD6-A474-45B1273B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AC3-81BC-4B68-AE06-A4B188B4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6C47-678D-45C9-90F8-F9B0B355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B7FE-806B-470C-939A-212B9DEF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C69D-24DC-4615-9125-48315375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318D-F6CE-43C7-80EC-B5809FC3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6D8B-DDCB-4A04-9EA0-C30AF431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EA77-059B-4430-B70E-8E8A5A66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E667-B9F0-4A92-927E-E0E99CF5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23C-DDED-4F08-A54A-314E065C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9757-3D6B-4AAA-87AB-3825214F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8383-0D41-4988-B891-41A384F3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898A-D781-4E9F-B0E5-865BA64C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A9C6-AC67-43C3-9869-D76CFE9F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F27D-3C02-4507-968D-33594126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7D3B-8451-4D5B-879B-666A51B1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4ED-1599-4071-8096-F6D4B677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914-E2B4-4B62-97CE-B8362EF3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440-F72E-4A38-B735-7336F089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E02-A077-4F35-B45D-DD6F8817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C26-EDD9-4123-8A34-E0BBC423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E2D-FF48-4F48-AF8A-F725549B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4FDF-0328-4610-ADF9-93FB8A6BB8F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D788-4436-46BB-8961-ED0F4304F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cc"/>
                </a:solidFill>
                <a:latin typeface="Verdana"/>
              </a:rPr>
              <a:t>Dihybrid Inheritanc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Verdana"/>
              </a:rPr>
              <a:t>Dihybrid inheritance refers to the simultaneous inheritance of two charac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Mendel’s experimen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del investigated the inheritance of seed shape (round v wrinkled) and seed colour (green v yellow) at the same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m his monohybrid crosses he knew that round seeds were dominant to wrinkled seeds and yellow seeds were dominant to green see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Verdana"/>
              </a:rPr>
              <a:t>Results</a:t>
            </a: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plants with round x plants with wrinkled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and yellow seeds      and green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06668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100% plants with round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66680" y="2438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ants with round x plants with 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yellow seeds   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066680" y="32004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2 offspr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tal 556 seeds collected from F2 pla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15 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8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green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2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green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However, the ratio of dominant to recessive features is still 3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Explanation of Mendel’s result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round seeds be R and the allele for wrinkled seeds be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yellow seeds be Y and the allele for green seeds b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  Ph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und      x    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yellow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     green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rr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434340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541008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69343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78487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1"/>
          <p:cNvGraphicFramePr/>
          <p:nvPr/>
        </p:nvGraphicFramePr>
        <p:xfrm>
          <a:off x="4114800" y="5443560"/>
          <a:ext cx="3201840" cy="11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443560"/>
                    <a:ext cx="32018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h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, yellow seeds  x   round, yellow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       Rr 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526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3962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4572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5105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80773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75438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"/>
          <p:cNvSpPr/>
          <p:nvPr/>
        </p:nvSpPr>
        <p:spPr>
          <a:xfrm>
            <a:off x="6858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63244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19320" y="44197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Verdana"/>
              </a:rPr>
              <a:t>What are the genotypes and phenotypes of the F2 offspring and in what rat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6"/>
          <p:cNvGraphicFramePr/>
          <p:nvPr/>
        </p:nvGraphicFramePr>
        <p:xfrm>
          <a:off x="1789200" y="905040"/>
          <a:ext cx="564336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905040"/>
                    <a:ext cx="5643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7"/>
          <p:cNvSpPr/>
          <p:nvPr/>
        </p:nvSpPr>
        <p:spPr>
          <a:xfrm>
            <a:off x="11430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F2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14400" y="3429000"/>
            <a:ext cx="80773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s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phenotypes   expected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4)   yellow, 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2)  RrYY (2)  yellow, roun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3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Rryy (2)   roun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 rrYy (2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yellow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430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ing for statistical error, Mendel’s results were a reasonable approximation to the expected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9:3:3: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of a member of an allelic pair may combine randomly with either of another 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est cross can be performed to check the possible genotypes of a plant producing round, yellow seeds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(RRYY, RrYY, RrYy, RRYy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y crossing the plants with a homozygous recessive plant with wrinkled green seeds genotype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rry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What phenotypes and genotypes would the offspring possess from the 4 crosses, and in what rat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3:59Z</dcterms:created>
  <dc:creator>Angela Wall</dc:creator>
  <dc:description/>
  <dc:language>en-US</dc:language>
  <cp:lastModifiedBy>LEGION2</cp:lastModifiedBy>
  <cp:lastPrinted>2002-12-02T21:19:45Z</cp:lastPrinted>
  <dcterms:modified xsi:type="dcterms:W3CDTF">2016-01-12T10:19:10Z</dcterms:modified>
  <cp:revision>24</cp:revision>
  <dc:subject/>
  <dc:title>Dihybrid Inheritance</dc:title>
</cp:coreProperties>
</file>