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AB28D-3240-49F9-A964-30C03B52F2A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hybrid 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hybrid inheritance refers to the simultaneous inheritance of two charac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hybrid 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hybrid inheritance refers to the simultaneous inheritance of two charac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 investigated the inheritance of seed shape (round v wrinkled) and seed colour (green v yellow) at the same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his monohybrid crosses he knew that round seeds were dominant to wrinkled seeds and yellow seeds were dominant to green s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hose to cross plants that were pure breeding for both dominant features (round and yellow seeds) with plants that were pure breeding for both recessive features (wrinkled and green see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 investigated the inheritance of seed shape (round v wrinkled) and seed colour (green v yellow) at the same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his monohybrid crosses he knew that round seeds were dominant to wrinkled seeds and yellow seeds were dominant to green s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hose to cross plants that were pure breeding for both dominant features (round and yellow seeds) with plants that were pure breeding for both recessive features (wrinkled and green see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   plants with round x plants with wrinkle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and yellow seeds      and green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offspr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100% plants with round and yellow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intercross plants with round x plants with rou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yellow seeds    and yellow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2 offspr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otal 556 seeds collected from F2 plan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5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and yellow see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and green see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nkled and yellow see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nkled and green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e ratio of dominant to recessive features is still 3: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   plants with round x plants with wrinkle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and yellow seeds      and green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offspr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100% plants with round and yellow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intercross plants with round x plants with rou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yellow seeds    and yellow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2 offspr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otal 556 seeds collected from F2 plan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5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and yellow see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and green see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nkled and yellow see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nkled and green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e ratio of dominant to recessive features is still 3: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nation of Mendel’s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the allele for round seeds be R and the allele for wrinkled seeds be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the allele for yellow seeds be Y and the allele for green seeds be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  Phenotype          round      x     wrink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 seeds      green see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RR Y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rr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nation of Mendel’s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the allele for round seeds be R and the allele for wrinkled seeds be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the allele for yellow seeds be Y and the allele for green seeds be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  Phenotype          round      x     wrink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 seeds      green see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RR Y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rr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inter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, yellow seeds  x   round, yellow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Rr Y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Rr 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genotypes and phenotypes of the F2 offspring and in what rati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inter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, yellow seeds  x   round, yellow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Rr Y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Rr 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genotypes and phenotypes of the F2 offspring and in what rati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2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s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phenotypes   expected ob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1) RrYy (4)   yellow, 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2)  RrYY (2)  yellow, round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3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1)  Rryy (2)   round, gree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1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1)   rrYy (2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wrinkled, yellow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1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wrinkled, gree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2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s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phenotypes   expected ob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1) RrYy (4)   yellow, 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2)  RrYY (2)  yellow, round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3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1)  Rryy (2)   round, gree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1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1)   rrYy (2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wrinkled, yellow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1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wrinkled, gree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wing for statistical error, Mendel’s results were a reasonable approximation to the expected 9:3:3:1 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of a member of an allelic pair may combine randomly with either of another 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est cross can be performed to check the possible genotypes of a plant producing round, yellow seeds (RRYY, RrYY, RrYy, RRYy) by crossing the plants with a homozygous recessive plant with wrinkled green seeds genotype rr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phenotypes and genotypes would the offspring possess from the 4 crosses, and in what ratio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wing for statistical error, Mendel’s results were a reasonable approximation to the expected 9:3:3:1 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of a member of an allelic pair may combine randomly with either of another 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est cross can be performed to check the possible genotypes of a plant producing round, yellow seeds (RRYY, RrYY, RrYy, RRYy) by crossing the plants with a homozygous recessive plant with wrinkled green seeds genotype rr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phenotypes and genotypes would the offspring possess from the 4 crosses, and in what ratio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1DB8-5B79-4F89-AC2E-F135294CC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A673-5F7B-49B7-A25F-D226A4FBB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BC50-D54A-4FE0-BF4F-4B0EBADBB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64FB-980C-4650-9754-FFD3517F7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9EE34-B4ED-4680-953A-6D32CA322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CD9A1-E1AB-4AFE-8A57-BA99ADBCD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C1B59-8D94-48A0-873F-4A6F17AFA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2E483-DF50-430A-9CBD-60E14F84E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13985-C4CE-4C77-AE40-B14B02E7C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8E6C5-A9D9-43CD-BA03-67A4169AC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3B293-CC92-4BFE-B1D1-91FE50F2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C480-B7E1-46D5-85F0-540C3E77B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3F392-3887-4DEB-8B36-F5A2F591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61ED8-0E89-4F31-ADA6-7B25FA51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6D0F1-AC44-45FC-B5EF-80B72EEDB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758EF-2D5C-4A95-BA3C-CED38F1DD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DCA1D-272A-45EE-8FF2-045BF8AB5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67AB-DB14-49D3-9D6E-E9ED3C56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47E6-A5AE-4D42-BC06-1FA046CF2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8585-C4B9-4ABC-8576-9432E701B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D93C-6BF1-44D5-A673-67AE6F76B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68EB-C2DD-4AF9-8DE5-E629E72B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20D0-421A-4888-96AA-89648184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5C2F-1DAE-456F-A54B-7EB8C7AF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24F0E-6B76-4DE2-86DC-0D690AB0A76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56974-A613-4179-A3CC-6F9B60FDC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66cc"/>
                </a:solidFill>
                <a:latin typeface="Verdana"/>
              </a:rPr>
              <a:t>Dihybrid Inheritance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Verdana"/>
              </a:rPr>
              <a:t>Dihybrid inheritance refers to the simultaneous inheritance of two charact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cc"/>
                </a:solidFill>
                <a:latin typeface="Verdana"/>
              </a:rPr>
              <a:t>Mendel’s experiment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ndel investigated the inheritance of seed shape (round v wrinkled) and seed colour (green v yellow) at the same tim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rom his monohybrid crosses he knew that round seeds were dominant to wrinkled seeds and yellow seeds were dominant to green seed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e chose to cross plants that were pure breeding for both dominant features (round and yellow seeds) with plants that were pure breeding for both recessive features (wrinkled and green seed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3911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cc"/>
                </a:solidFill>
                <a:latin typeface="Verdana"/>
              </a:rPr>
              <a:t>Results</a:t>
            </a:r>
            <a:r>
              <a:rPr b="0" lang="en-GB" sz="40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Parent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plants with round x plants with wrinkled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 and yellow seeds      and green see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06668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F1 offspring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100% plants with round and yellow s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1066680" y="2438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F1 intercross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lants with round x plants with rou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d yellow seeds    and yellow s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1066680" y="3200400"/>
            <a:ext cx="7772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F2 offspring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Total 556 seeds collected from F2 plant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at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315 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9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ound and yellow seed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108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ound and green seed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101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rinkled and yellow seed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32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rinkled and green s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However, the ratio of dominant to recessive features is still 3: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cc"/>
                </a:solidFill>
                <a:latin typeface="Verdana"/>
              </a:rPr>
              <a:t>Explanation of Mendel’s results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07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t the allele for round seeds be R and the allele for wrinkled seeds be 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t the allele for yellow seeds be Y and the allele for green seeds be 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Parents   Phenotype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  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round      x     wrinkl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yellow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eeds      green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eed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     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Genotype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            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RR YY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       rry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Gametes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F1 offsp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Oval 4"/>
          <p:cNvSpPr/>
          <p:nvPr/>
        </p:nvSpPr>
        <p:spPr>
          <a:xfrm>
            <a:off x="4343400" y="4495680"/>
            <a:ext cx="533520" cy="5335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Oval 5"/>
          <p:cNvSpPr/>
          <p:nvPr/>
        </p:nvSpPr>
        <p:spPr>
          <a:xfrm>
            <a:off x="5410080" y="4495680"/>
            <a:ext cx="533520" cy="5335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Oval 6"/>
          <p:cNvSpPr/>
          <p:nvPr/>
        </p:nvSpPr>
        <p:spPr>
          <a:xfrm>
            <a:off x="6934320" y="4495680"/>
            <a:ext cx="533160" cy="5335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Oval 7"/>
          <p:cNvSpPr/>
          <p:nvPr/>
        </p:nvSpPr>
        <p:spPr>
          <a:xfrm>
            <a:off x="7848720" y="4495680"/>
            <a:ext cx="533160" cy="5335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Object 11"/>
          <p:cNvGraphicFramePr/>
          <p:nvPr/>
        </p:nvGraphicFramePr>
        <p:xfrm>
          <a:off x="4114800" y="5443560"/>
          <a:ext cx="3201840" cy="115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5443560"/>
                    <a:ext cx="320184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F1 intercros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1066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Parent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phenotyp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ound, yellow seeds  x   round, yellow see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genotyp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Rr Yy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              Rr Y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Game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3352680" y="2895480"/>
            <a:ext cx="457200" cy="4572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5"/>
          <p:cNvSpPr/>
          <p:nvPr/>
        </p:nvSpPr>
        <p:spPr>
          <a:xfrm>
            <a:off x="3962520" y="2895480"/>
            <a:ext cx="457200" cy="4572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Oval 6"/>
          <p:cNvSpPr/>
          <p:nvPr/>
        </p:nvSpPr>
        <p:spPr>
          <a:xfrm>
            <a:off x="4572000" y="2895480"/>
            <a:ext cx="457200" cy="4572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7"/>
          <p:cNvSpPr/>
          <p:nvPr/>
        </p:nvSpPr>
        <p:spPr>
          <a:xfrm>
            <a:off x="5105520" y="2895480"/>
            <a:ext cx="457200" cy="4572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8"/>
          <p:cNvSpPr/>
          <p:nvPr/>
        </p:nvSpPr>
        <p:spPr>
          <a:xfrm>
            <a:off x="8077320" y="2895480"/>
            <a:ext cx="457200" cy="4572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9"/>
          <p:cNvSpPr/>
          <p:nvPr/>
        </p:nvSpPr>
        <p:spPr>
          <a:xfrm>
            <a:off x="7543800" y="2895480"/>
            <a:ext cx="457200" cy="4572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10"/>
          <p:cNvSpPr/>
          <p:nvPr/>
        </p:nvSpPr>
        <p:spPr>
          <a:xfrm>
            <a:off x="6858000" y="2895480"/>
            <a:ext cx="457200" cy="4572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11"/>
          <p:cNvSpPr/>
          <p:nvPr/>
        </p:nvSpPr>
        <p:spPr>
          <a:xfrm>
            <a:off x="6324480" y="2895480"/>
            <a:ext cx="457200" cy="4572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5"/>
          <p:cNvSpPr/>
          <p:nvPr/>
        </p:nvSpPr>
        <p:spPr>
          <a:xfrm>
            <a:off x="1219320" y="4419720"/>
            <a:ext cx="761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Verdana"/>
              </a:rPr>
              <a:t>What are the genotypes and phenotypes of the F2 offspring and in what rati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Object 6"/>
          <p:cNvGraphicFramePr/>
          <p:nvPr/>
        </p:nvGraphicFramePr>
        <p:xfrm>
          <a:off x="1789200" y="905040"/>
          <a:ext cx="5643360" cy="2228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9200" y="905040"/>
                    <a:ext cx="5643360" cy="22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Text Box 7"/>
          <p:cNvSpPr/>
          <p:nvPr/>
        </p:nvSpPr>
        <p:spPr>
          <a:xfrm>
            <a:off x="1143000" y="3049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cc"/>
                </a:solidFill>
                <a:latin typeface="Verdana"/>
              </a:rPr>
              <a:t>F2 offsp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914400" y="3429000"/>
            <a:ext cx="807732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genotypes  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   phenotypes   expected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RYY (1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rYy (4)   yellow, r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RYy (2)  RrYY (2)  yellow, round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9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  3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Ryy (1)  Rryy (2)   round, green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3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  1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rYY (1)   rrYy (2)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wrinkled, yellow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3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  1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ryy (1)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wrinkled, green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1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   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1430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llowing for statistical error, Mendel’s results were a reasonable approximation to the expected </a:t>
            </a:r>
            <a:r>
              <a:rPr b="0" lang="en-GB" sz="2400" spc="-1" strike="noStrike">
                <a:solidFill>
                  <a:srgbClr val="3366cc"/>
                </a:solidFill>
                <a:latin typeface="Verdana"/>
              </a:rPr>
              <a:t>9:3:3:1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rat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ach of a member of an allelic pair may combine randomly with either of another 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test cross can be performed to check the possible genotypes of a plant producing round, yellow seeds </a:t>
            </a:r>
            <a:r>
              <a:rPr b="0" lang="en-GB" sz="2400" spc="-1" strike="noStrike">
                <a:solidFill>
                  <a:srgbClr val="3366cc"/>
                </a:solidFill>
                <a:latin typeface="Verdana"/>
              </a:rPr>
              <a:t>(RRYY, RrYY, RrYy, RRYy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y crossing the plants with a homozygous recessive plant with wrinkled green seeds genotype </a:t>
            </a:r>
            <a:r>
              <a:rPr b="0" lang="en-GB" sz="2400" spc="-1" strike="noStrike">
                <a:solidFill>
                  <a:srgbClr val="3366cc"/>
                </a:solidFill>
                <a:latin typeface="Verdana"/>
              </a:rPr>
              <a:t>rry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cc"/>
                </a:solidFill>
                <a:latin typeface="Verdana"/>
              </a:rPr>
              <a:t>What phenotypes and genotypes would the offspring possess from the 4 crosses, and in what ratio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6T19:53:59Z</dcterms:created>
  <dc:creator>Angela Wall</dc:creator>
  <dc:description/>
  <dc:language>en-US</dc:language>
  <cp:lastModifiedBy>LEGION2</cp:lastModifiedBy>
  <cp:lastPrinted>2002-12-02T21:19:45Z</cp:lastPrinted>
  <dcterms:modified xsi:type="dcterms:W3CDTF">2016-01-12T10:19:10Z</dcterms:modified>
  <cp:revision>24</cp:revision>
  <dc:subject/>
  <dc:title>Dihybrid Inheritance</dc:title>
</cp:coreProperties>
</file>