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5D89-9E6C-492E-B897-6E81B4A37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63A-7C6E-4F44-AABD-053DF33D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A4B-4362-421C-A09F-4E4F78C0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C95-C3AD-4FB7-A7DE-BEFFFDC6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31E-6407-4AC0-B1D2-C19C764A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095C7-EFF5-4660-AC7B-EE1B857F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BC51A-C3FD-48DD-A5F1-65FC97A4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B0901-5BC3-4E65-907E-97CB9897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8CAE0-454E-496A-8FC7-62C12FC6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E2D0D-9E71-4021-88D0-97FD3CB0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09993-8712-4104-AEE8-0B18CB5C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35CBE-AB8B-4E69-A748-84B85207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3E4-FC22-4194-B590-3B17CD89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50DFE-4447-4964-8868-0E7AD23E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B5EE1-5962-4BC2-8222-757FD1CC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C5151-FEB7-4A53-9FDF-8594EA62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2D368-B169-45AD-A040-A38C8E68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FD5DA-78E0-43B0-BBCD-93EACB1A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5E1-AE45-4C5B-AA23-1A80278F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B74-ADB5-4F3C-9122-388D91A5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97C-804B-4706-B2BA-94537D8B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A8C-C628-4EDB-A341-D826D88E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C8E-3399-480E-BBFD-B461AD58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6F37-6972-4506-A18F-F78A4A13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0CF-84A6-4A14-98FE-58D2A52D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55C9-453E-4D20-A979-A4F4E5F19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09EA-883A-42EA-86C8-9788061A26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m:  What is clo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w:  Review our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 clone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ne refers to genetically identical cells originating from one c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y talking about when they refer to “cloned animals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take DNA from a cloned cell of another animal, and insert it into a zygote that had its DNA removed, and replace it with the cloned D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cells3"/>
          <p:cNvPicPr/>
          <p:nvPr/>
        </p:nvPicPr>
        <p:blipFill>
          <a:blip r:embed="rId1"/>
          <a:stretch/>
        </p:blipFill>
        <p:spPr>
          <a:xfrm>
            <a:off x="4389480" y="304920"/>
            <a:ext cx="4754520" cy="6553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cloning look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ke on a cellula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vel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did they cl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97, they successfully cloned the first animal- a lamb named Dol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they used was from an adult of the same speci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then, they have successfully cloned sheep and p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olly"/>
          <p:cNvPicPr/>
          <p:nvPr/>
        </p:nvPicPr>
        <p:blipFill>
          <a:blip r:embed="rId1"/>
          <a:stretch/>
        </p:blipFill>
        <p:spPr>
          <a:xfrm>
            <a:off x="1066680" y="204840"/>
            <a:ext cx="6477120" cy="59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" descr="cloning-sheep"/>
          <p:cNvPicPr/>
          <p:nvPr/>
        </p:nvPicPr>
        <p:blipFill>
          <a:blip r:embed="rId1"/>
          <a:stretch/>
        </p:blipFill>
        <p:spPr>
          <a:xfrm>
            <a:off x="2482920" y="0"/>
            <a:ext cx="449892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do they want to clone animal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do this to study genetic disorders and disease suscepti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done strictly for medical resea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the blue Biology book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to page 331 and read up to 33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questions 1-4 on page 333.  You need to read the previous pages in order to answer the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your name is on the paper – it will be coll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3:53:53Z</dcterms:created>
  <dc:creator>Liza Evanson</dc:creator>
  <dc:description/>
  <dc:language>en-US</dc:language>
  <cp:lastModifiedBy>LEGION2</cp:lastModifiedBy>
  <dcterms:modified xsi:type="dcterms:W3CDTF">2016-01-12T10:16:54Z</dcterms:modified>
  <cp:revision>19</cp:revision>
  <dc:subject/>
  <dc:title>Aim:  What is cloning?</dc:title>
</cp:coreProperties>
</file>