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63B6-335C-4228-A6FE-DC4DB9F44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  What is cloning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:  Review our te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 What is clo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Review our 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clone?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ne refers to genetically identical cells originating from one cel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talking about when they refer to “cloned animals”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take DNA from a cloned cell of another animal, and insert it into a zygote that had its DNA removed, and replace it with the cloned DN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clone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 refers to genetically identical cells originating from on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 talking about when they refer to “cloned animals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ake DNA from a cloned cell of another animal, and insert it into a zygote that had its DNA removed, and replace it with the cloned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loning look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 on a cellula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vel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loning loo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on a cell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did they clo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997, they successfully cloned the first animal- a lamb named Doll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they used was from an adult of the same species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then, they have successfully cloned sheep and pig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did they cl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97, they successfully cloned the first animal- a lamb named Do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they used was from an adult of the same speci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n, they have successfully cloned sheep and pi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o they want to clone animal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do this to study genetic disorders and disease susceptibil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done strictly for medical resear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want to clone ani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this to study genetic disorders and disease suscepti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done strictly for medical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blue Biology book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n to page 331 and read up to 333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 questions 1-4 on page 333.  You need to read the previous pages in order to answer the ques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 sure your name is on the paper – it will be coll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blue Biology boo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age 331 and read up to 33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uestions 1-4 on page 333.  You need to read the previous pages in order to answer th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r name is on the paper – it will be col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AD2-A186-4FAD-ABC3-F36D4313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2682-EF33-4853-B144-D169F1B8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677D-81FF-4CA1-98F5-2F491073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B90-8892-4943-A125-7B921383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A1294-317F-459D-B6AB-6F0ECB1B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2E394-F88A-4B7F-8C97-22BFBD91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3B933-B571-4621-9F87-D90C2E02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4389E-F2CE-41E4-9352-19F49215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662B4-97C8-4568-A0CE-5F0B1BFC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E65A5-42FA-49BE-BE5A-D05F463B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109DB-FA37-4F3C-BEDA-33D9C570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D091-981B-42F4-9F27-53246BE0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34327-1AAC-41BD-8927-4CAE3B88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57AE5-49C3-484B-BC78-3E16986D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5D3FE-77E6-46E0-A11C-7F03865E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5D41D-7EAF-48E3-911F-7644C207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59C16-B0C9-4C9B-839E-08D603F6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E5DA-CEFB-4EC1-82A5-F4129D88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D799-879E-416A-8EF0-B75E76FF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C273-4A4E-4BF9-AE46-8428C15D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09C-65DF-49A3-934F-C94CDD85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F7D1-793E-4835-BD95-C67F53E1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9F08-C0ED-4223-87C8-69BA7577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0FD8-856C-451D-913B-B838A4CE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4F24-36C9-4F7C-8FFA-8BAC068AC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4A6B-3B30-43D6-94AB-EE9F1EF2CF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im:  What is clon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w:  Review our t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a clone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ne refers to genetically identical cells originating from one c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y talking about when they refer to “cloned animals”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take DNA from a cloned cell of another animal, and insert it into a zygote that had its DNA removed, and replace it with the cloned D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cells3"/>
          <p:cNvPicPr/>
          <p:nvPr/>
        </p:nvPicPr>
        <p:blipFill>
          <a:blip r:embed="rId1"/>
          <a:stretch/>
        </p:blipFill>
        <p:spPr>
          <a:xfrm>
            <a:off x="4389480" y="304920"/>
            <a:ext cx="4754520" cy="6553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cloning look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ike on a cellula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vel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o did they clon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97, they successfully cloned the first animal- a lamb named Dol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they used was from an adult of the same specie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ce then, they have successfully cloned sheep and pi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dolly"/>
          <p:cNvPicPr/>
          <p:nvPr/>
        </p:nvPicPr>
        <p:blipFill>
          <a:blip r:embed="rId1"/>
          <a:stretch/>
        </p:blipFill>
        <p:spPr>
          <a:xfrm>
            <a:off x="1066680" y="204840"/>
            <a:ext cx="6477120" cy="59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" descr="cloning-sheep"/>
          <p:cNvPicPr/>
          <p:nvPr/>
        </p:nvPicPr>
        <p:blipFill>
          <a:blip r:embed="rId1"/>
          <a:stretch/>
        </p:blipFill>
        <p:spPr>
          <a:xfrm>
            <a:off x="2482920" y="0"/>
            <a:ext cx="4498920" cy="7010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do they want to clone animal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do this to study genetic disorders and disease suscepti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done strictly for medical resear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the blue Biology book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rn to page 331 and read up to 33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swer questions 1-4 on page 333.  You need to read the previous pages in order to answer the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sure your name is on the paper – it will be collec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3:53:53Z</dcterms:created>
  <dc:creator>Liza Evanson</dc:creator>
  <dc:description/>
  <dc:language>en-US</dc:language>
  <cp:lastModifiedBy>LEGION2</cp:lastModifiedBy>
  <dcterms:modified xsi:type="dcterms:W3CDTF">2016-01-12T10:16:54Z</dcterms:modified>
  <cp:revision>19</cp:revision>
  <dc:subject/>
  <dc:title>Aim:  What is cloning?</dc:title>
</cp:coreProperties>
</file>