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F572-730C-467A-8513-2ED7FFF72E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 of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 of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cia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– antibiotic resistance through mutation, transfer between bacterial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bugs such as MRSA have arisen this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viruses – such as HIV – mutates it’s protein coat so that the host human is unable to make antibodies quick enough agains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cia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– antibiotic resistance through mutation, transfer between bacterial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bugs such as MRSA have arisen this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viruses – such as HIV – mutates it’s protein coat so that the host human is unable to make antibodies quick enough agains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ther harmful or beneficial to the organism but may be important in an evolutionary s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ent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ly impossible to detect because no observabl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ther harmful or beneficial to the organism but may be important in an evolutionary s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ent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ly impossible to detect because no observabl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tane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caused by environmental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zene, formaldehyde, carbon tetra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tane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caused by environmental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zene, formaldehyde, carbon tetra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ic and somatic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ic – testis of males, ovaries of females, inher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ic – in normal body cells occuring beyond zygote formation, not inherited but may effect the person during their lifetime. Chima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ic and somatic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ic – testis of males, ovaries of females, inher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ic – in normal body cells occuring beyond zygote formation, not inherited but may effect the person during their lifetime. Chima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sing radiation – Nuc radiation, xrays, gamma rays (e.g. medical treatment) associated with development of cancers (e.g. leukaemia, thyroid cancer and 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sing radiation – Nuc radiation, xrays, gamma rays (e.g. medical treatment) associated with development of cancers (e.g. leukaemia, thyroid cancer and 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and microorganisms – integrate into human chromosome, upset genes and can trigger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and microorganisms – integrate into human chromosome, upset genes and can trigger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vironmental poisons – Organic solvents such as formaldehyde, tobacco, coal tars, benzene, asbestos, some d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oisons – Organic solvents such as formaldehyde, tobacco, coal tars, benzene, asbestos, some d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and diet – High alcohol intake increase the risk of some cancers.  Diet high in fat and those containing burned or highly preserved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and diet – High alcohol intake increase the risk of some cancers.  Diet high in fat and those containing burned or highly preserved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 of m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are harm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ival advan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 among bacteria and viruses but also seen in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 selective pressure may remain in popul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 of m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are harm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ival advan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 among bacteria and viruses but also seen in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 selective pressure may remain in popul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stic fibrosis and sickle cell ana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unctiona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inism – caused by mutation in gene of enzyme pathway of mela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stic fibrosis and sickle cell ana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unctiona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inism – caused by mutation in gene of enzyme pathway of mela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4C39-3835-4045-A6FF-55678A3BB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AD60-2459-4CB2-92AA-147B3C2C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E852-D086-4116-85CB-237DE0018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5B71-7AEB-4914-B938-A28504DA6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79D2-FDE9-45F2-AD35-B8780428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25FC-1ABF-4CEC-A448-19D69C0D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EBC1-7C54-452F-B370-F970ACE0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FB34-68E8-4C60-AD01-ED2D390F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8D02-5D10-4400-B1A1-C9841B6D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8706-E0DB-4B75-93FB-9DF6A1B4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D0E3-4B26-4095-8AA6-42573F5B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B3C9-95E0-4800-AC91-578F3C95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5C11-621D-4A9F-8B6C-9D4860940B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use and effect of mu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 Math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eneficial mu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511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Bacteri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– antibiotic resistance through mutation, transfer between bacterial spec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uperbugs such as MRSA have arisen this w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RNA virus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– such as HIV – mutates it’s protein coat so that the host human is unable to make antibodies quick enough against 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5" descr="hiv"/>
          <p:cNvPicPr/>
          <p:nvPr/>
        </p:nvPicPr>
        <p:blipFill>
          <a:blip r:embed="rId1"/>
          <a:stretch/>
        </p:blipFill>
        <p:spPr>
          <a:xfrm>
            <a:off x="5292720" y="2133720"/>
            <a:ext cx="3419640" cy="31813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eutral mu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ither harmful or beneficial to the organism but may be important in an evolutionary sen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ilent mut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rtually impossible to detect because no observable eff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causes mu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ontaneo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creases caused by environmental fact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V lig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X-ray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nzene, formaldehyde, carbon tetrachlor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Gametic and somatic mut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metic – testis of males, ovaries of females, inherit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atic – in normal body cells occuring beyond zygote formation, not inherited but may effect the person during their lifetime. Chimaer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gens and their eff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ising radiation – Nuc radiation, xrays, gamma rays (e.g. medical treatment) associated with development of cancers (e.g. leukaemia, thyroid cancer and skin canc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5" descr="sign2"/>
          <p:cNvPicPr/>
          <p:nvPr/>
        </p:nvPicPr>
        <p:blipFill>
          <a:blip r:embed="rId1"/>
          <a:stretch/>
        </p:blipFill>
        <p:spPr>
          <a:xfrm>
            <a:off x="0" y="1197000"/>
            <a:ext cx="4629240" cy="419112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gens and their eff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84720" y="191628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ruses and microorganisms – integrate into human chromosome, upset genes and can trigger canc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5" descr="aspergillus"/>
          <p:cNvPicPr/>
          <p:nvPr/>
        </p:nvPicPr>
        <p:blipFill>
          <a:blip r:embed="rId1"/>
          <a:stretch/>
        </p:blipFill>
        <p:spPr>
          <a:xfrm>
            <a:off x="611280" y="1484280"/>
            <a:ext cx="3252600" cy="38768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gens and their eff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800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vironmental poisons – Organic solvents such as formaldehyde, tobacco, coal tars, benzene, asbestos, some dy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" name="Picture 7" descr="tobacco"/>
          <p:cNvPicPr/>
          <p:nvPr/>
        </p:nvPicPr>
        <p:blipFill>
          <a:blip r:embed="rId1"/>
          <a:stretch/>
        </p:blipFill>
        <p:spPr>
          <a:xfrm>
            <a:off x="395280" y="1268280"/>
            <a:ext cx="2400480" cy="2714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benzene"/>
          <p:cNvPicPr/>
          <p:nvPr/>
        </p:nvPicPr>
        <p:blipFill>
          <a:blip r:embed="rId2"/>
          <a:stretch/>
        </p:blipFill>
        <p:spPr>
          <a:xfrm>
            <a:off x="2627280" y="3789360"/>
            <a:ext cx="2390760" cy="23050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gens and their eff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cohol and diet – High alcohol intake increase the risk of some cancers.  Diet high in fat and those containing burned or highly preserved me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" name="Picture 5" descr="fattyfood"/>
          <p:cNvPicPr/>
          <p:nvPr/>
        </p:nvPicPr>
        <p:blipFill>
          <a:blip r:embed="rId1"/>
          <a:stretch/>
        </p:blipFill>
        <p:spPr>
          <a:xfrm>
            <a:off x="324000" y="1268280"/>
            <a:ext cx="2381040" cy="1791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a153i1_Homer-WA"/>
          <p:cNvPicPr/>
          <p:nvPr/>
        </p:nvPicPr>
        <p:blipFill>
          <a:blip r:embed="rId2"/>
          <a:stretch/>
        </p:blipFill>
        <p:spPr>
          <a:xfrm>
            <a:off x="0" y="3233880"/>
            <a:ext cx="4500720" cy="362412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e effect of m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t all are harmfu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rvival advant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common among bacteria and viruses but also seen in insec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f no selective pressure may remain in populati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rmful mu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ystic fibrosis and sickle cell anaem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sfunctional protei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binism – caused by mutation in gene of enzyme pathway of melan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5" descr="albino_python"/>
          <p:cNvPicPr/>
          <p:nvPr/>
        </p:nvPicPr>
        <p:blipFill>
          <a:blip r:embed="rId1"/>
          <a:stretch/>
        </p:blipFill>
        <p:spPr>
          <a:xfrm>
            <a:off x="4932360" y="4052880"/>
            <a:ext cx="4211640" cy="2805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e%20ball%20python%20male%20100%2011-02_jpg"/>
          <p:cNvPicPr/>
          <p:nvPr/>
        </p:nvPicPr>
        <p:blipFill>
          <a:blip r:embed="rId2"/>
          <a:stretch/>
        </p:blipFill>
        <p:spPr>
          <a:xfrm>
            <a:off x="0" y="3860640"/>
            <a:ext cx="4788000" cy="29973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21:28:32Z</dcterms:created>
  <dc:creator>Matis</dc:creator>
  <dc:description/>
  <dc:language>en-US</dc:language>
  <cp:lastModifiedBy>LEGION2</cp:lastModifiedBy>
  <dcterms:modified xsi:type="dcterms:W3CDTF">2016-01-12T07:52:16Z</dcterms:modified>
  <cp:revision>7</cp:revision>
  <dc:subject/>
  <dc:title>Cause and effect of mutation</dc:title>
</cp:coreProperties>
</file>