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73246-EA94-425A-B197-418D1BF65C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and effect of 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Math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and effect of 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Math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cial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– antibiotic resistance through mutation, transfer between bacterial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bugs such as MRSA have arisen this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A viruses – such as HIV – mutates it’s protein coat so that the host human is unable to make antibodies quick enough against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cial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– antibiotic resistance through mutation, transfer between bacterial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bugs such as MRSA have arisen this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A viruses – such as HIV – mutates it’s protein coat so that the host human is unable to make antibodies quick enough against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ither harmful or beneficial to the organism but may be important in an evolutionary s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lent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ally impossible to detect because no observable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ither harmful or beneficial to the organism but may be important in an evolutionary s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lent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ally impossible to detect because no observable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tane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s caused by environmental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-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zene, formaldehyde, carbon tetra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tane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s caused by environmental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-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zene, formaldehyde, carbon tetra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ic and somatic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ic – testis of males, ovaries of females, inher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atic – in normal body cells occuring beyond zygote formation, not inherited but may effect the person during their lifetime. Chimae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ic and somatic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ic – testis of males, ovaries of females, inher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atic – in normal body cells occuring beyond zygote formation, not inherited but may effect the person during their lifetime. Chimae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gens and their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sing radiation – Nuc radiation, xrays, gamma rays (e.g. medical treatment) associated with development of cancers (e.g. leukaemia, thyroid cancer and skin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gens and their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sing radiation – Nuc radiation, xrays, gamma rays (e.g. medical treatment) associated with development of cancers (e.g. leukaemia, thyroid cancer and skin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gens and their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 and microorganisms – integrate into human chromosome, upset genes and can trigger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gens and their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 and microorganisms – integrate into human chromosome, upset genes and can trigger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tagens and their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vironmental poisons – Organic solvents such as formaldehyde, tobacco, coal tars, benzene, asbestos, some d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gens and their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al poisons – Organic solvents such as formaldehyde, tobacco, coal tars, benzene, asbestos, some d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gens and their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 and diet – High alcohol intake increase the risk of some cancers.  Diet high in fat and those containing burned or highly preserved m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gens and their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 and diet – High alcohol intake increase the risk of some cancers.  Diet high in fat and those containing burned or highly preserved m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 of m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are harmf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vival advan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on among bacteria and viruses but also seen in in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no selective pressure may remain in popul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 of m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are harmf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vival advan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on among bacteria and viruses but also seen in in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no selective pressure may remain in popul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mful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stic fibrosis and sickle cell anae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functional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inism – caused by mutation in gene of enzyme pathway of melan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mful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stic fibrosis and sickle cell anae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functional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inism – caused by mutation in gene of enzyme pathway of melan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696E-D5C5-4FD4-AC14-545D227F6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FF2B-C953-4B0C-B58D-A63EF04F8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6ADE-A0DD-4F89-B9CB-1D3E7D60F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AB8E-6EC8-42E1-95A5-1972CEFB9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7B11-D37D-4E01-A292-DA33AEAA4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8F68-66EE-4DE9-A6AB-1DC8177D8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F132-66FE-4646-A1C0-E0D85E4D7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E8CA-8780-46AD-BFA2-1F25EFC3D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E60D-5B66-4D68-82A6-308DE917D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1047-2272-4125-80A8-DD1A17C6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77A2-BE35-4725-AA08-C6575FF7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1BD0-992A-4F8A-8710-AE1F3B0D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35D00-B559-4F70-9272-BEF3BF5EFAE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ause and effect of mu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 Mathi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eneficial mu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511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Bacteria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– antibiotic resistance through mutation, transfer between bacterial spec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uperbugs such as MRSA have arisen this wa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RNA virus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– such as HIV – mutates it’s protein coat so that the host human is unable to make antibodies quick enough against 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5" name="Picture 5" descr="hiv"/>
          <p:cNvPicPr/>
          <p:nvPr/>
        </p:nvPicPr>
        <p:blipFill>
          <a:blip r:embed="rId1"/>
          <a:stretch/>
        </p:blipFill>
        <p:spPr>
          <a:xfrm>
            <a:off x="5292720" y="2133720"/>
            <a:ext cx="3419640" cy="318132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eutral mu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either harmful or beneficial to the organism but may be important in an evolutionary sen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ilent mut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irtually impossible to detect because no observable effe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at causes mu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pontaneou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creases caused by environmental facto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V ligh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X-ray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enzene, formaldehyde, carbon tetrachlori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Gametic and somatic mutatio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ametic – testis of males, ovaries of females, inherit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omatic – in normal body cells occuring beyond zygote formation, not inherited but may effect the person during their lifetime. Chimaer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utagens and their effec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51280" y="160020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ising radiation – Nuc radiation, xrays, gamma rays (e.g. medical treatment) associated with development of cancers (e.g. leukaemia, thyroid cancer and skin canc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" name="Picture 5" descr="sign2"/>
          <p:cNvPicPr/>
          <p:nvPr/>
        </p:nvPicPr>
        <p:blipFill>
          <a:blip r:embed="rId1"/>
          <a:stretch/>
        </p:blipFill>
        <p:spPr>
          <a:xfrm>
            <a:off x="0" y="1197000"/>
            <a:ext cx="4629240" cy="419112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utagens and their effec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284720" y="191628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iruses and microorganisms – integrate into human chromosome, upset genes and can trigger canc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" name="Picture 5" descr="aspergillus"/>
          <p:cNvPicPr/>
          <p:nvPr/>
        </p:nvPicPr>
        <p:blipFill>
          <a:blip r:embed="rId1"/>
          <a:stretch/>
        </p:blipFill>
        <p:spPr>
          <a:xfrm>
            <a:off x="611280" y="1484280"/>
            <a:ext cx="3252600" cy="387684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utagens and their effec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48000" y="1600200"/>
            <a:ext cx="353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nvironmental poisons – Organic solvents such as formaldehyde, tobacco, coal tars, benzene, asbestos, some dy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7" name="Picture 7" descr="tobacco"/>
          <p:cNvPicPr/>
          <p:nvPr/>
        </p:nvPicPr>
        <p:blipFill>
          <a:blip r:embed="rId1"/>
          <a:stretch/>
        </p:blipFill>
        <p:spPr>
          <a:xfrm>
            <a:off x="395280" y="1268280"/>
            <a:ext cx="2400480" cy="2714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benzene"/>
          <p:cNvPicPr/>
          <p:nvPr/>
        </p:nvPicPr>
        <p:blipFill>
          <a:blip r:embed="rId2"/>
          <a:stretch/>
        </p:blipFill>
        <p:spPr>
          <a:xfrm>
            <a:off x="2627280" y="3789360"/>
            <a:ext cx="2390760" cy="230508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utagens and their effec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cohol and diet – High alcohol intake increase the risk of some cancers.  Diet high in fat and those containing burned or highly preserved me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2" name="Picture 5" descr="fattyfood"/>
          <p:cNvPicPr/>
          <p:nvPr/>
        </p:nvPicPr>
        <p:blipFill>
          <a:blip r:embed="rId1"/>
          <a:stretch/>
        </p:blipFill>
        <p:spPr>
          <a:xfrm>
            <a:off x="324000" y="1268280"/>
            <a:ext cx="2381040" cy="1791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a153i1_Homer-WA"/>
          <p:cNvPicPr/>
          <p:nvPr/>
        </p:nvPicPr>
        <p:blipFill>
          <a:blip r:embed="rId2"/>
          <a:stretch/>
        </p:blipFill>
        <p:spPr>
          <a:xfrm>
            <a:off x="0" y="3233880"/>
            <a:ext cx="4500720" cy="362412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he effect of mu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t all are harmfu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urvival advanta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st common among bacteria and viruses but also seen in insec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f no selective pressure may remain in population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rmful mu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ystic fibrosis and sickle cell anaem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isfunctional protei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binism – caused by mutation in gene of enzyme pathway of melan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0" name="Picture 5" descr="albino_python"/>
          <p:cNvPicPr/>
          <p:nvPr/>
        </p:nvPicPr>
        <p:blipFill>
          <a:blip r:embed="rId1"/>
          <a:stretch/>
        </p:blipFill>
        <p:spPr>
          <a:xfrm>
            <a:off x="4932360" y="4052880"/>
            <a:ext cx="4211640" cy="2805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e%20ball%20python%20male%20100%2011-02_jpg"/>
          <p:cNvPicPr/>
          <p:nvPr/>
        </p:nvPicPr>
        <p:blipFill>
          <a:blip r:embed="rId2"/>
          <a:stretch/>
        </p:blipFill>
        <p:spPr>
          <a:xfrm>
            <a:off x="0" y="3860640"/>
            <a:ext cx="4788000" cy="299736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0T21:28:32Z</dcterms:created>
  <dc:creator>Matis</dc:creator>
  <dc:description/>
  <dc:language>en-US</dc:language>
  <cp:lastModifiedBy>LEGION2</cp:lastModifiedBy>
  <dcterms:modified xsi:type="dcterms:W3CDTF">2016-01-12T07:52:16Z</dcterms:modified>
  <cp:revision>7</cp:revision>
  <dc:subject/>
  <dc:title>Cause and effect of mutation</dc:title>
</cp:coreProperties>
</file>