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6A34-263E-4277-8945-0BFF7A00E1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E39-A6E3-4784-A13D-7EC5700C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0C7-416A-458C-9F98-1637E50D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321-B442-4A39-8B86-10D5E9F2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482-BCA8-4ADE-B84E-1B1B92D7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F2E-E200-413F-A903-8388FD2D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E81-6753-4D60-AC75-B1E6115B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19C-0A0F-4B53-9657-96C9C7F8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CEC-B03F-488B-8668-F81DDC28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B56-BCBE-423A-A280-4170836B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29B-89DA-4AC3-BD3E-E220621B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2B22-8A7A-444B-A93A-3120817C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06C-8780-45C6-AA6A-0207F79D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2ECB-3CE3-4D7E-8C19-C470A8172C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use and effect of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enefici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51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acteri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antibiotic resistance through mutation, transfer between bacterial spe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perbugs such as MRSA have arisen this 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NA viru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such as HIV – mutates it’s protein coat so that the host human is unable to make antibodies quick enough against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hiv"/>
          <p:cNvPicPr/>
          <p:nvPr/>
        </p:nvPicPr>
        <p:blipFill>
          <a:blip r:embed="rId1"/>
          <a:stretch/>
        </p:blipFill>
        <p:spPr>
          <a:xfrm>
            <a:off x="5292720" y="2133720"/>
            <a:ext cx="3419640" cy="31813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utr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ither harmful or beneficial to the organism but may be important in an evolutionary se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lent mu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tually impossible to detect because no observable eff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causes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ontaneo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creases caused by environmental fa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V l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-r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nzene, formaldehyde, carbon tetrachlor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ametic and somatic mut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metic – testis of males, ovaries of females, inheri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atic – in normal body cells occuring beyond zygote formation, not inherited but may effect the person during their lifetime. Chimae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sign2"/>
          <p:cNvPicPr/>
          <p:nvPr/>
        </p:nvPicPr>
        <p:blipFill>
          <a:blip r:embed="rId1"/>
          <a:stretch/>
        </p:blipFill>
        <p:spPr>
          <a:xfrm>
            <a:off x="0" y="1197000"/>
            <a:ext cx="462924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720" y="191628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es and microorganisms – integrate into human chromosome, upset genes and can trigger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aspergillus"/>
          <p:cNvPicPr/>
          <p:nvPr/>
        </p:nvPicPr>
        <p:blipFill>
          <a:blip r:embed="rId1"/>
          <a:stretch/>
        </p:blipFill>
        <p:spPr>
          <a:xfrm>
            <a:off x="611280" y="1484280"/>
            <a:ext cx="3252600" cy="3876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vironmental poisons – Organic solvents such as formaldehyde, tobacco, coal tars, benzene, asbestos, some dy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7" descr="tobacco"/>
          <p:cNvPicPr/>
          <p:nvPr/>
        </p:nvPicPr>
        <p:blipFill>
          <a:blip r:embed="rId1"/>
          <a:stretch/>
        </p:blipFill>
        <p:spPr>
          <a:xfrm>
            <a:off x="395280" y="1268280"/>
            <a:ext cx="2400480" cy="271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benzene"/>
          <p:cNvPicPr/>
          <p:nvPr/>
        </p:nvPicPr>
        <p:blipFill>
          <a:blip r:embed="rId2"/>
          <a:stretch/>
        </p:blipFill>
        <p:spPr>
          <a:xfrm>
            <a:off x="2627280" y="3789360"/>
            <a:ext cx="2390760" cy="2305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cohol and diet – High alcohol intake increase the risk of some cancers.  Diet high in fat and those containing burned or highly preserved me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5" descr="fattyfood"/>
          <p:cNvPicPr/>
          <p:nvPr/>
        </p:nvPicPr>
        <p:blipFill>
          <a:blip r:embed="rId1"/>
          <a:stretch/>
        </p:blipFill>
        <p:spPr>
          <a:xfrm>
            <a:off x="324000" y="126828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153i1_Homer-WA"/>
          <p:cNvPicPr/>
          <p:nvPr/>
        </p:nvPicPr>
        <p:blipFill>
          <a:blip r:embed="rId2"/>
          <a:stretch/>
        </p:blipFill>
        <p:spPr>
          <a:xfrm>
            <a:off x="0" y="3233880"/>
            <a:ext cx="4500720" cy="3624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effect of m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 all are harm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advant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common among bacteria and viruses but also seen in ins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no selective pressure may remain in popul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rmfu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ystic fibrosis and sickle cell anaem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sfunctional prote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binism – caused by mutation in gene of enzyme pathway of melan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5" descr="albino_python"/>
          <p:cNvPicPr/>
          <p:nvPr/>
        </p:nvPicPr>
        <p:blipFill>
          <a:blip r:embed="rId1"/>
          <a:stretch/>
        </p:blipFill>
        <p:spPr>
          <a:xfrm>
            <a:off x="4932360" y="4052880"/>
            <a:ext cx="4211640" cy="28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%20ball%20python%20male%20100%2011-02_jpg"/>
          <p:cNvPicPr/>
          <p:nvPr/>
        </p:nvPicPr>
        <p:blipFill>
          <a:blip r:embed="rId2"/>
          <a:stretch/>
        </p:blipFill>
        <p:spPr>
          <a:xfrm>
            <a:off x="0" y="3860640"/>
            <a:ext cx="4788000" cy="2997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1:28:32Z</dcterms:created>
  <dc:creator>Matis</dc:creator>
  <dc:description/>
  <dc:language>en-US</dc:language>
  <cp:lastModifiedBy>LEGION2</cp:lastModifiedBy>
  <dcterms:modified xsi:type="dcterms:W3CDTF">2016-01-12T07:52:16Z</dcterms:modified>
  <cp:revision>7</cp:revision>
  <dc:subject/>
  <dc:title>Cause and effect of mutation</dc:title>
</cp:coreProperties>
</file>