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37F1-8CB9-4BED-979B-0B1E5AFA3C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188-2C13-4839-90A3-96ACEE3D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84B-C4F4-43B8-B279-BE2EAB55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B8E10-74C3-4997-8E17-E9D63ABC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93FA1-E96E-4171-9014-77447012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9E574-727B-4CEB-957F-2B546E75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73C9A-AA65-45C8-9A1F-A183311D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66870-A25E-404A-95C2-E8DA5626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DFC85-CF41-4B81-83FD-04C9C12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7A304-D1C2-4086-8F2A-C163F227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38CA7-9CDE-48B1-ABCB-33FE9DB2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AD9E4-AEF1-44E7-85B9-B602B80C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0354A-0B8A-48FB-83EF-135D73B2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F06-14C4-4664-8288-966FE671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D35C2-D50E-4E8B-AA11-4EFDB336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76EE8-721C-4C33-B668-6A71453B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7B6A2-1C8E-4798-A3D9-4245FCB9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4FA6C-2578-4503-B2B9-C4BDDFE2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F1A9F-7324-4DE2-8F6C-5BEBBA85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66DBC-6038-4CC6-9BCC-93F57DBC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D1B57-5E71-4FC8-B825-0EFA13E7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628B8-D239-4467-878A-89B39B16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CE78A-B730-4EBB-971F-A3014E8C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7B138-AE98-4449-AD79-2BB24C23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9D5-B390-4A22-A0B7-3CE6E538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D06D8-C96F-40B7-92FF-2F70A8B6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B6D21-E4FA-45D4-A3D7-F478D6AF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24295-C793-4739-8F6B-C98A4FF2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2D77E-C3BE-4190-A9F0-2E16168B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46C68-8390-439E-8B54-B05B5168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5AC64-D0FC-4F24-9B25-516051D5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22A6B-1887-4B27-8C54-CDF867B8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1494E-B8E0-48FA-9262-F3A1D75F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0CF68-B570-489F-8658-089ED5D2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B27EC-379B-4119-A037-D7D754E9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606B-0C07-43C3-ABB1-8FD9C458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757E9-12CF-4D02-9ECA-84F2396B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FBB1F-D008-4CFA-BA87-19D144B4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406DE-BD3D-4566-B317-67E465B1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4516E-8E26-4DED-8F0E-C6376364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593A8-9DCA-4471-8096-18E655DA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E5C5F-3960-4A96-A12A-C9090ABA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E0E3D-44EA-4692-A5A9-BC938367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F60DB-A59E-48C6-AEDA-2AEB4D97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317F1-FD9C-41C4-8A8B-54A9A21D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41479-8389-4A88-AF14-E2FB8498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D3A4-007B-442A-912A-07653809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AF25E-8778-43AC-A949-23241A7A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BF6DB-591F-4B57-8D70-8B1FEA1E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8CB59-96F2-46BA-BF34-9D8690C3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86FB4-352D-475E-ACA4-BDC04A1D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0DF93-D693-4E05-9818-2521A8D4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5C04-8E56-445C-864E-62A661DD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EB2F-C441-4407-8058-BBB59634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2801-462A-49AE-AFE6-37E4B9F9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BACD-250A-489B-AA5D-1754C9F4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0DA7-D9A2-4B34-BA21-EC9279E8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E7D-5A67-4F6D-9FBE-F1F9C269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A4BC-B7AD-47D9-8479-04896513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06A2-512C-45A6-A495-6EB1F603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FB58-6662-4110-B968-051EF6A5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1246-8E52-407C-A299-FE910E7A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4DE3-4BF9-4474-A695-6284FFCA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132E3-18C7-4EC0-87A1-54C94384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C602-5BFA-40AF-A944-05EAE3DC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5AA37-B724-4C8F-8B81-620A51C5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7FAEB-EB9E-4B87-AA0C-C4F9D024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0A6A8-C403-44E2-87F2-13D67F5C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364-6CDB-4349-80ED-B82A0D83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A71F4-D33A-4DFC-BE50-4855CF33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F93A5-3A58-4612-8BFE-9264C918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FCEE3-0AE5-4CB5-B6B4-44899346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9F00B-0869-4A18-AFCD-2BFD2E5F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45724-9E6E-4DE6-8AF5-13F94604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9D881-6F5A-4D03-9B4E-20B4EE15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7D3E0-031F-4D6D-BDFA-561BCE75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C25B6-DE88-40E9-8ABB-18C3E378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509C8-31C7-4289-A407-340BD1A3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09575-1862-43F8-A4C1-59D67DF8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575-04DE-4A4C-ABF0-38D9120C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179E2-D975-4ABB-8231-0E0334EC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ADEF0-A655-4F28-88F4-E689A028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EB440-2BC3-463F-B6FF-FCA58E57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76C34-C656-4629-A737-370FD81B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5343D-94E7-43F2-8B05-C5DE878B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2BE5F-3DDF-4FB0-B2AF-5F6CBB2E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594A1-A1CD-47C1-A519-2AF10644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74A68-4517-49B7-B22A-9AB6C7FE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D3162-0B74-4B97-8FA8-758DBE05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ED8A6-AF59-4E05-A617-B8B3777D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9E4-1595-408E-A920-9F1A5FE7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A148D-7072-452C-B8F7-A0A9DB06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D4E79-1021-4C2C-B750-EC8A6B96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3B641-FD21-4846-B330-02E0FEB9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B79A2-31A9-468B-84A3-9AF251F8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8F664-EB76-4BD3-AFE3-21732F03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041C8-63DC-4C98-AC94-8A7D5BC8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42C8E-4B87-4E32-86D8-E09355F3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9341B-F084-4619-92ED-D2F1FDC5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61931-7276-4937-9464-EA9E9CBC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E6ADD-CE7A-4DB1-91AF-99529FBE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7E5-2B46-43E4-A6F1-72797EA6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32081-5C91-48A8-89F8-355E8904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A248A-CA74-49D9-8E3F-564098F7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2A3EE-D2F3-44EF-892A-9BD8B267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F259A-D1C6-4CA2-99D1-B880E218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D58CB-0825-4520-BD4A-D8E7E208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069BD-FD94-4B92-8E8B-9A9CE0FE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F8DDF-0D2F-4BCA-87E1-D649B894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5094C-3D93-4693-8FBB-D4329803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A3F3D-04DD-4EDD-84F9-A524B825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9C9B7-0401-48D7-8C09-EA920FAE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771-27CD-4763-B6B2-0D6F645D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E4F7F-5D47-4969-80F4-FB98A10B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41F42-55AF-4A46-8D61-887B424D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95E88-3B61-43FE-B816-6B6B9395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711B5-16BE-478F-A3E9-A386105B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4B5F6-BCC8-4572-9433-C15A4105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50780-71F5-4BAF-A0EA-529E1541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DF6D4-4A42-425B-BE7D-CA9F1C4C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72FFA-67E2-4336-8D17-097B195F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89577-4CDD-4D61-85D2-62FDF936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2CCCA-648F-42B2-B2E5-B928C8AF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7CE-6389-4F86-9B13-5E3F1CF6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4FA52-8D7B-4E87-A2F9-007B6C78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45150-039F-4515-9EB3-72FC15AF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A1DDA-5D66-4235-B033-10C82E52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AF502-C64F-4FD7-8D3E-00196B64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390A7-5594-493F-865F-6A10F008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33C84-A48F-40CA-9451-BC86DB09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F561C-8528-47A4-9673-372C2811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9140E-3510-41CE-BD75-FBB6477C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5969B-82AF-4855-8CE0-5E529F9D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7A0EF-AA2F-4707-9835-2FFC41ED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B35-E77B-4485-A7FB-FB6856E1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C8737-7254-4D81-9A27-E0ECED2C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3C031-C2EE-4AF0-B96C-8B37E2F3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52AB1-0E96-47AA-91DF-92D30F93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B7F33-6F7D-4C5F-A715-B1DAA812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CF57C-40AA-488E-A6F9-197BAD29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650D3-E7DD-4E8A-A983-F0ABD050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87973-B73B-4CE0-9F75-987DEAD1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BC49D-B846-4DB4-91DD-7EB63438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0D9EB-3594-4CA2-93A5-F768FD4D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A705D-9994-44B1-A55E-698E27D3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FD6D-C751-4B96-9913-8B9A95BC96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40B9-3F5B-4CA9-B4F9-FCDB75DF8E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C0A4-3265-449D-A71B-E53D7C41D3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5BBC-1B94-4E54-98A1-2324EB1206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1BBB-F48E-489A-AA0F-46E18A10AB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5126-450C-43F3-9BA7-CEC73BA3F6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5990-162C-4B26-B88C-8A2F3E2C42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DA11-4CEB-4E6C-AEC8-CFFB9C8A07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0743-591C-49B7-A4EB-87161BF114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25A0-74F3-4D6C-B848-F3FEC4AB3F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EC56-1535-44BE-AE0D-53136B440B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6B80-DE05-4DD5-86EC-0526EBB025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6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7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8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9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20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1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7"/>
          <p:cNvSpPr/>
          <p:nvPr/>
        </p:nvSpPr>
        <p:spPr>
          <a:xfrm>
            <a:off x="1219320" y="5410080"/>
            <a:ext cx="3504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owing variation in col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6477120" y="5486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1052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8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22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24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25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27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28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29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30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32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35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36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37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38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9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0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41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42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43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1052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1054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1055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1056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1057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1058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1059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1060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1061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1062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1063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AutoShape 1064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1065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AutoShape 1066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1067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utoShape 1068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utoShape 1069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1070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1071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1072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1073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1074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43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AutoShape 44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37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38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39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AutoShape 40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7"/>
          <p:cNvSpPr/>
          <p:nvPr/>
        </p:nvSpPr>
        <p:spPr>
          <a:xfrm>
            <a:off x="685800" y="3808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9"/>
          <p:cNvSpPr/>
          <p:nvPr/>
        </p:nvSpPr>
        <p:spPr>
          <a:xfrm>
            <a:off x="10666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AutoShape 1026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utoShape 102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AutoShape 102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102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AutoShape 103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3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3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03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1034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1036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AutoShape 1037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utoShape 1038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AutoShape 1039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040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AutoShape 10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AutoShape 10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AutoShape 10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10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AutoShape 10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AutoShape 10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AutoShape 1047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AutoShape 1048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1049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1050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1051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27432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1447920" y="2514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2286000" y="3581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3809880" y="2286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548640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59436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3"/>
          <p:cNvSpPr/>
          <p:nvPr/>
        </p:nvSpPr>
        <p:spPr>
          <a:xfrm>
            <a:off x="6629400" y="2133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21337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62120" y="228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24"/>
          <p:cNvSpPr/>
          <p:nvPr/>
        </p:nvSpPr>
        <p:spPr>
          <a:xfrm>
            <a:off x="1523880" y="3352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25"/>
          <p:cNvSpPr/>
          <p:nvPr/>
        </p:nvSpPr>
        <p:spPr>
          <a:xfrm>
            <a:off x="2971800" y="4038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26"/>
          <p:cNvSpPr/>
          <p:nvPr/>
        </p:nvSpPr>
        <p:spPr>
          <a:xfrm>
            <a:off x="45720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27"/>
          <p:cNvSpPr/>
          <p:nvPr/>
        </p:nvSpPr>
        <p:spPr>
          <a:xfrm>
            <a:off x="5867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28"/>
          <p:cNvSpPr/>
          <p:nvPr/>
        </p:nvSpPr>
        <p:spPr>
          <a:xfrm>
            <a:off x="609588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6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23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24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25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26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27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8"/>
          <p:cNvSpPr/>
          <p:nvPr/>
        </p:nvSpPr>
        <p:spPr>
          <a:xfrm>
            <a:off x="1355760" y="575640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9"/>
          <p:cNvSpPr/>
          <p:nvPr/>
        </p:nvSpPr>
        <p:spPr>
          <a:xfrm>
            <a:off x="1584360" y="57564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990720" y="76212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533520" y="49860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4800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68580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>
            <a:hlinkClick r:id="" action="ppaction://hlinkshowjump?jump=nextslide"/>
          </p:cNvPr>
          <p:cNvSpPr/>
          <p:nvPr/>
        </p:nvSpPr>
        <p:spPr>
          <a:xfrm>
            <a:off x="6019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6858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24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5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23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24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25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2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27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28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9"/>
          <p:cNvSpPr/>
          <p:nvPr/>
        </p:nvSpPr>
        <p:spPr>
          <a:xfrm>
            <a:off x="1050840" y="52992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1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0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21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22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3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6019920" y="11430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2"/>
          <p:cNvSpPr/>
          <p:nvPr/>
        </p:nvSpPr>
        <p:spPr>
          <a:xfrm>
            <a:off x="5791320" y="19051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5"/>
          <p:cNvSpPr/>
          <p:nvPr/>
        </p:nvSpPr>
        <p:spPr>
          <a:xfrm>
            <a:off x="4038480" y="1981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36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0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1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2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3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4"/>
          <p:cNvSpPr/>
          <p:nvPr/>
        </p:nvSpPr>
        <p:spPr>
          <a:xfrm>
            <a:off x="1143000" y="380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35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7:15:31Z</dcterms:created>
  <dc:creator>Default</dc:creator>
  <dc:description/>
  <dc:language>en-US</dc:language>
  <cp:lastModifiedBy>LEGION2</cp:lastModifiedBy>
  <dcterms:modified xsi:type="dcterms:W3CDTF">2016-01-12T07:48:48Z</dcterms:modified>
  <cp:revision>13</cp:revision>
  <dc:subject/>
  <dc:title>PowerPoint Presentation</dc:title>
</cp:coreProperties>
</file>