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5FF1-FD58-4AC6-BDFB-F4D26CC4E7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showing variation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EFE1-C516-4E08-B7AC-00FA49C1E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31A-26B4-414E-9FD3-0723230AB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252B1-23C0-491A-8543-9260B2B8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1DE4E-CC5E-410F-98FC-150266E1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901BA-5F4A-49C3-8012-07E420B9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5C775-2DAF-4BAC-9F88-AD8FFC7D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79FA0-12EB-4359-AD17-E1FB674F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3DCFB-AF81-4C62-AB48-FFF0728D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2EEC9-BB0B-4A4B-A8C6-9F02B0DA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D6199-9CD4-4437-BFB6-EBA56915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C2F99-1393-4D2B-BB14-BCCB84AC5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01A40-6FA2-4669-A4FD-E322B813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BAFA-53F1-4A2C-919E-4661758D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E9183-AA25-4BED-BD87-1D69FE14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B5816-BCC1-49BF-B596-9DEAB10B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7178E-28A1-49BD-8E85-3271C3B1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B18B6-BB0E-4F1C-BBDD-DF224ACC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29597-D1E5-4653-8864-695A4F4C2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7970A-349D-4C8B-BE50-AF5CF5DD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EAC7BF-DD18-4C04-92D9-19C58A44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F216D-98CE-4911-AD5E-0D67B803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5E332-C78E-4D64-9420-20A3E410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84A16-47C5-4F5A-B572-C3D9EBE0D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AAB-5C08-4636-AA92-0A7D9ED0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2A2DA-3426-4181-8C19-D68353BBF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8849F-0282-4AFF-957E-907EA17F9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53763-F2FA-481D-8F01-C701D591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441B1D-9F88-402C-ADF0-FF89B3A1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38B08-55D9-4454-9489-B104A6EC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69ACE-BFED-4341-BE6E-56707B79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AD855-ADC8-4051-97F0-713C3280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62034-23BD-44C6-B502-808F6323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7FE74-470C-4370-A993-43D961B9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A5446-176F-40EC-9C51-86DF3082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FF14-FDB1-414E-9FAC-9A974E28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18076-B5A2-4AEF-990C-E2EBB0BE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F0501-D752-4F71-8C3C-B07B01E1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2A564-F5A9-4E89-8925-33080551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ACC54-1BD4-48D1-B596-AE54F3C8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55290-0754-4E90-824C-CD8CB50F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F41B3-0BA2-4609-9325-CD98FB2C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EDAA8-F485-4AD2-9213-2533BEDA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04A3C-4DDA-4171-8432-03DE139E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11967A-B088-4F68-877E-0721AC88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C1C7C-BE9D-4AA4-94D6-FD1847A5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896E-E518-4196-9051-71C8F714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9957E9-A002-4595-9E6B-2355A489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01E22-215B-40E5-B81A-15E6D71D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3A9D7-EA57-4BA6-94FC-55442FDB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67EF33-87BD-4551-9F61-825C6A171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27CFC-E54B-4924-801F-264359C1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5B17C-D430-4529-A81D-FC541A1F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6C57-63E1-4054-98BE-AD05669B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F3B8-DB7C-4F54-BBA1-4FD6D502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6940-44E1-4A0F-B2D1-2D72B548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666D-E946-422F-ACCD-A7D1EAA6C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3FB-F0FA-4F2E-A074-23B657A8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773A-0AD2-45BF-B010-7876CB22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3E45-4AAB-427E-8061-642345B9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5E40-498D-4527-A697-62FF5B64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EDDB-77DD-44A9-9A26-35660996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C0C5-8FC4-4A32-9285-077B754E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F80DE-AD21-4DB5-9EE7-0A22D9DB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AA289-F1AC-4E2C-9EFA-2AECBDA4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89919-7A91-4B35-9C36-9B930D41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93BA-BDF2-4F94-8266-857CC194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CF2C9-6E79-4EA7-AD51-F4F40218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FE06-9532-4212-9E5C-753E73CD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FD713-0FA0-4C2F-B208-5EB32F6E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1D1BB-4B41-421A-BA7B-0A05F354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C7D3C-8867-4B3E-B7C5-8600E0F5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688EE-6101-4859-9AD1-58775CDF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36792-6053-4167-A6E0-D336EE91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EA067-2648-40F9-9A02-80F754AC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ACA5-D21E-4E5F-969D-F16FC646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162C1-EBD7-4B31-B8F3-11A6C7F2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B2662-F075-490D-9EC8-1EE88464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BB9FC-8F13-45FE-A277-B58BC5AF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70AA-55BA-4335-A0A8-0029D898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8525F-BF41-49E4-918F-E3E57859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8723A-FC17-4928-B0CB-4227A304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00B4C-38CE-4B37-B4D7-90E3EADA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58870-3795-479C-BB7F-942E411F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AAB3E-B884-45E3-8EBC-A569A76F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B7D65-16E7-485C-A0B2-54771BB1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C1382-09D8-4D44-9B7C-8B4DC3F4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9BD13-D007-4986-AAA4-25027AC6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DF391-1D70-4862-A30F-F10F5CD9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16E32-3949-491B-A322-A3A0D8D0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4B7-BDCC-4DAE-95A9-A72A0E927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D1E6B-0BF8-4888-BF85-698FA8BEF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2CB4D-C8C4-4F15-BC7F-FE9E9C45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91190-5A33-4A1C-A620-69EF7F4C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AFCC0-F72C-462B-AC5F-045F7D0F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36538-AC24-402D-916F-08B051B8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EB577-0D73-4FBF-B0D0-1DB352CB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8A15B-FF8A-452A-844A-C3ED6FC5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A7ED07-53F3-44DD-A30D-A86AB067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EC813-9FC0-429B-B856-0D1058C0F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80F8E-8D51-418F-9750-C2A7E591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9DF-C37D-4D0B-A986-F0BD6B79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F63946-2937-4D2C-ABA6-A617D643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9AD52-843D-45C0-A66D-AA6CA8D6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FFC05-CA08-44DB-9E9D-1C1AA5FB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2D9BA-D88B-49B7-A1F9-9F084EA8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05B9F-7CB9-4CC9-967D-9EFF7A39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0310E-7C04-4633-9EFD-418B34D4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BB737-2380-48DC-B8CB-8940FD51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27C88-1E7B-465A-9540-8EAED9A3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78EA1-4EA5-4439-AC6D-6ABCBBA1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83466-3CA3-4AFB-9604-BFA1A8F3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4E63-3FB7-4901-AB27-B44BF1A0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8DCA1-9609-44AC-853C-28F77754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A2CF8-3859-4C8F-91E3-30AD324C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5BE2E-ADC3-4BAF-AC29-4D82B6D7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4255E-357D-44FC-8277-DEFC92E8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D3653-DEFC-4763-BA79-86347060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3223C-E5B4-40EC-A487-FE0E271D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7340A-4DF4-4AC8-8585-B8A48788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8BC99-E002-4BF7-8560-8CB0624C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E8388-0EC3-4E26-94F5-023E8C71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51309-2B8C-40A4-B009-AED7D911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6DA-7491-4F87-85B9-BDF9776C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A3E11-29C8-4AAD-8C43-63B8E0DC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4FE34-FD54-4A1B-B776-2F1C23D9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89FCA-AEE4-43F3-B307-E7104B6F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D5583-FA20-4B0B-9E01-FC5F27DF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AE9B4-CA57-4903-8654-C75CCD90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22FFA-DB7B-409D-A30F-145B4C8CC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0B6B1-0AAF-4CE5-93E7-53C85C8C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78689-F954-4E7A-99B8-A5B334D6B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9B4FF-F018-4944-9DF4-6D85DF67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AA005-CCD7-428F-8DB4-79D88246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B23-5BE2-479B-8C79-B96B9B64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62BA2-9742-40C8-8B52-08A4C1C4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92A0C-D13D-48C4-8AE9-8D266A9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A3048-7087-40BB-AE90-C79C3C35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B3D20-E461-4B09-90E4-858C081C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067CC-9BC6-475E-A0A9-1570F9FB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436F4-8E5A-4473-8153-4EADB6AE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B244C-DD43-48B3-9965-59779F88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3D4267-974A-4A16-8623-3B8CC852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799E7F-56C2-4C14-915D-F458BAAF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1B889-04A8-4646-8B66-0A0BFA72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62A6-4D45-4909-9883-E629ECCF12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0C0C-24AA-4D7B-B01B-C41CBC6916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2669-03E1-4E25-84E0-FCBFD86AF6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E708-236E-421A-B79E-81DC057242B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F62E-B599-48B7-BEFF-5653474E50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99E6-CCAA-46FC-9A76-6D9F998D47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679E2-92FD-4368-95C5-201509609C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9E0E-DE55-4F1E-99D1-6CEB01E4C1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0E0E-5721-4E78-8B0F-316DFE7CCC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9184-9486-4DC5-A77B-A1669EAF67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2E86-590B-444D-A023-444437A3D7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BAC6-419A-4EF4-9D11-4159172232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16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17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AutoShape 18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19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AutoShape 20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1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AutoShape 25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27"/>
          <p:cNvSpPr/>
          <p:nvPr/>
        </p:nvSpPr>
        <p:spPr>
          <a:xfrm>
            <a:off x="1219320" y="5410080"/>
            <a:ext cx="35049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showing variation in col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28"/>
          <p:cNvSpPr/>
          <p:nvPr/>
        </p:nvSpPr>
        <p:spPr>
          <a:xfrm>
            <a:off x="6477120" y="54864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ntinuous or discontinuou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1052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18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19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20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22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AutoShape 24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AutoShape 25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AutoShape 27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AutoShape 28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AutoShape 29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AutoShape 30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Text Box 32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s mating time again, blue and green mate and produce 5 green and 2 blue offspring. A mutation also produces 2 red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35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36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37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38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AutoShape 39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AutoShape 40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AutoShape 41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AutoShape 42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AutoShape 43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AutoShape 1026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AutoShape 1027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AutoShape 1028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AutoShape 1029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AutoShape 1030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AutoShape 1031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AutoShape 103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AutoShape 103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AutoShape 103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AutoShape 103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AutoShape 103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AutoShape 103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AutoShape 103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AutoShape 1039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AutoShape 1040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104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104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104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1044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104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1047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1049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1050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AutoShape 1051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AutoShape 1052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Text Box 1053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, and all reproduce 2 offspring, but the white are better at finding water and hiding from predators so they produce 5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AutoShape 1054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AutoShape 1055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AutoShape 1056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AutoShape 1057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AutoShape 1058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AutoShape 1059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AutoShape 1060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AutoShape 1061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AutoShape 1062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AutoShape 1063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AutoShape 1064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AutoShape 1065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AutoShape 1066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AutoShape 1067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AutoShape 1068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AutoShape 1069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AutoShape 1070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AutoShape 1071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AutoShape 1072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AutoShape 1073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AutoShape 1074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AutoShape 37"/>
          <p:cNvSpPr/>
          <p:nvPr/>
        </p:nvSpPr>
        <p:spPr>
          <a:xfrm>
            <a:off x="6629400" y="38862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AutoShape 38"/>
          <p:cNvSpPr/>
          <p:nvPr/>
        </p:nvSpPr>
        <p:spPr>
          <a:xfrm>
            <a:off x="6172200" y="4724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43"/>
          <p:cNvSpPr/>
          <p:nvPr/>
        </p:nvSpPr>
        <p:spPr>
          <a:xfrm>
            <a:off x="746748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44"/>
          <p:cNvSpPr/>
          <p:nvPr/>
        </p:nvSpPr>
        <p:spPr>
          <a:xfrm>
            <a:off x="6934320" y="3276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red colour attracts mosquitoes carrying a deadly disease. They all d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39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AutoShape 40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41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42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45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46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47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48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49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0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AutoShape 15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AutoShape 1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AutoShape 20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AutoShape 22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9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AutoShape 30"/>
          <p:cNvSpPr/>
          <p:nvPr/>
        </p:nvSpPr>
        <p:spPr>
          <a:xfrm>
            <a:off x="22860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AutoShape 31"/>
          <p:cNvSpPr/>
          <p:nvPr/>
        </p:nvSpPr>
        <p:spPr>
          <a:xfrm>
            <a:off x="1600200" y="4114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AutoShape 32"/>
          <p:cNvSpPr/>
          <p:nvPr/>
        </p:nvSpPr>
        <p:spPr>
          <a:xfrm>
            <a:off x="495288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AutoShape 33"/>
          <p:cNvSpPr/>
          <p:nvPr/>
        </p:nvSpPr>
        <p:spPr>
          <a:xfrm>
            <a:off x="4343400" y="4952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AutoShape 34"/>
          <p:cNvSpPr/>
          <p:nvPr/>
        </p:nvSpPr>
        <p:spPr>
          <a:xfrm>
            <a:off x="3048120" y="5105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AutoShape 35"/>
          <p:cNvSpPr/>
          <p:nvPr/>
        </p:nvSpPr>
        <p:spPr>
          <a:xfrm>
            <a:off x="3733920" y="4952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AutoShape 36"/>
          <p:cNvSpPr/>
          <p:nvPr/>
        </p:nvSpPr>
        <p:spPr>
          <a:xfrm>
            <a:off x="32767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AutoShape 37"/>
          <p:cNvSpPr/>
          <p:nvPr/>
        </p:nvSpPr>
        <p:spPr>
          <a:xfrm>
            <a:off x="1143000" y="3276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AutoShape 38"/>
          <p:cNvSpPr/>
          <p:nvPr/>
        </p:nvSpPr>
        <p:spPr>
          <a:xfrm>
            <a:off x="1447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AutoShape 39"/>
          <p:cNvSpPr/>
          <p:nvPr/>
        </p:nvSpPr>
        <p:spPr>
          <a:xfrm>
            <a:off x="3809880" y="5638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AutoShape 40"/>
          <p:cNvSpPr/>
          <p:nvPr/>
        </p:nvSpPr>
        <p:spPr>
          <a:xfrm>
            <a:off x="2362320" y="52578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7"/>
          <p:cNvSpPr/>
          <p:nvPr/>
        </p:nvSpPr>
        <p:spPr>
          <a:xfrm>
            <a:off x="685800" y="380880"/>
            <a:ext cx="5486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a particularly hot summer, blue and green are poor temperature regulators; white and yellow, which reflect heat, are more likely to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1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AutoShape 23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AutoShape 25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26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27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28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Text Box 29"/>
          <p:cNvSpPr/>
          <p:nvPr/>
        </p:nvSpPr>
        <p:spPr>
          <a:xfrm>
            <a:off x="10666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6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AutoShape 1026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AutoShape 102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AutoShape 102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AutoShape 102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AutoShape 103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031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032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033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AutoShape 1034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AutoShape 1036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AutoShape 1037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AutoShape 1038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AutoShape 1039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1040"/>
          <p:cNvSpPr/>
          <p:nvPr/>
        </p:nvSpPr>
        <p:spPr>
          <a:xfrm>
            <a:off x="1066680" y="380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 food is plentiful again the remainder mate and produce 5 offspring some white and some yel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AutoShape 1041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AutoShape 1042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AutoShape 1043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AutoShape 1044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AutoShape 1045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AutoShape 1046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AutoShape 1047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1048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AutoShape 1049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AutoShape 1050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AutoShape 1051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3"/>
          <p:cNvSpPr/>
          <p:nvPr/>
        </p:nvSpPr>
        <p:spPr>
          <a:xfrm>
            <a:off x="27432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4"/>
          <p:cNvSpPr/>
          <p:nvPr/>
        </p:nvSpPr>
        <p:spPr>
          <a:xfrm>
            <a:off x="1447920" y="2514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"/>
          <p:cNvSpPr/>
          <p:nvPr/>
        </p:nvSpPr>
        <p:spPr>
          <a:xfrm>
            <a:off x="2286000" y="3581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8"/>
          <p:cNvSpPr/>
          <p:nvPr/>
        </p:nvSpPr>
        <p:spPr>
          <a:xfrm>
            <a:off x="3809880" y="2286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548640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59436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3"/>
          <p:cNvSpPr/>
          <p:nvPr/>
        </p:nvSpPr>
        <p:spPr>
          <a:xfrm>
            <a:off x="6629400" y="21337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21337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22"/>
          <p:cNvSpPr/>
          <p:nvPr/>
        </p:nvSpPr>
        <p:spPr>
          <a:xfrm>
            <a:off x="762120" y="2286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lots of food so your population survives and reproduces. Ad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AutoShape 24"/>
          <p:cNvSpPr/>
          <p:nvPr/>
        </p:nvSpPr>
        <p:spPr>
          <a:xfrm>
            <a:off x="1523880" y="3352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AutoShape 25"/>
          <p:cNvSpPr/>
          <p:nvPr/>
        </p:nvSpPr>
        <p:spPr>
          <a:xfrm>
            <a:off x="2971800" y="4038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AutoShape 26"/>
          <p:cNvSpPr/>
          <p:nvPr/>
        </p:nvSpPr>
        <p:spPr>
          <a:xfrm>
            <a:off x="45720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27"/>
          <p:cNvSpPr/>
          <p:nvPr/>
        </p:nvSpPr>
        <p:spPr>
          <a:xfrm>
            <a:off x="5867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28"/>
          <p:cNvSpPr/>
          <p:nvPr/>
        </p:nvSpPr>
        <p:spPr>
          <a:xfrm>
            <a:off x="609588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AutoShape 2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AutoShape 3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AutoShape 4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AutoShape 5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AutoShape 6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7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8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9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AutoShape 10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AutoShape 12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AutoShape 13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AutoShape 1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AutoShape 15"/>
          <p:cNvSpPr/>
          <p:nvPr/>
        </p:nvSpPr>
        <p:spPr>
          <a:xfrm>
            <a:off x="58672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16"/>
          <p:cNvSpPr/>
          <p:nvPr/>
        </p:nvSpPr>
        <p:spPr>
          <a:xfrm>
            <a:off x="1066680" y="38088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scientist finds this population and reports that this species occurs in two colours. He says they have adapted to their habitat. What does he mean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17"/>
          <p:cNvSpPr/>
          <p:nvPr/>
        </p:nvSpPr>
        <p:spPr>
          <a:xfrm>
            <a:off x="769608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18"/>
          <p:cNvSpPr/>
          <p:nvPr/>
        </p:nvSpPr>
        <p:spPr>
          <a:xfrm>
            <a:off x="70866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19"/>
          <p:cNvSpPr/>
          <p:nvPr/>
        </p:nvSpPr>
        <p:spPr>
          <a:xfrm>
            <a:off x="6400800" y="5334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20"/>
          <p:cNvSpPr/>
          <p:nvPr/>
        </p:nvSpPr>
        <p:spPr>
          <a:xfrm>
            <a:off x="5715000" y="5181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21"/>
          <p:cNvSpPr/>
          <p:nvPr/>
        </p:nvSpPr>
        <p:spPr>
          <a:xfrm>
            <a:off x="5791320" y="4267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22"/>
          <p:cNvSpPr/>
          <p:nvPr/>
        </p:nvSpPr>
        <p:spPr>
          <a:xfrm>
            <a:off x="6858000" y="4648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23"/>
          <p:cNvSpPr/>
          <p:nvPr/>
        </p:nvSpPr>
        <p:spPr>
          <a:xfrm>
            <a:off x="525780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24"/>
          <p:cNvSpPr/>
          <p:nvPr/>
        </p:nvSpPr>
        <p:spPr>
          <a:xfrm>
            <a:off x="50292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25"/>
          <p:cNvSpPr/>
          <p:nvPr/>
        </p:nvSpPr>
        <p:spPr>
          <a:xfrm>
            <a:off x="45720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AutoShape 26"/>
          <p:cNvSpPr/>
          <p:nvPr/>
        </p:nvSpPr>
        <p:spPr>
          <a:xfrm>
            <a:off x="3505320" y="4419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AutoShape 27"/>
          <p:cNvSpPr/>
          <p:nvPr/>
        </p:nvSpPr>
        <p:spPr>
          <a:xfrm>
            <a:off x="37339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28"/>
          <p:cNvSpPr/>
          <p:nvPr/>
        </p:nvSpPr>
        <p:spPr>
          <a:xfrm>
            <a:off x="1355760" y="5756400"/>
            <a:ext cx="397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29"/>
          <p:cNvSpPr/>
          <p:nvPr/>
        </p:nvSpPr>
        <p:spPr>
          <a:xfrm>
            <a:off x="1584360" y="5756400"/>
            <a:ext cx="35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at is the popul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as it chan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AutoShape 11"/>
          <p:cNvSpPr/>
          <p:nvPr/>
        </p:nvSpPr>
        <p:spPr>
          <a:xfrm>
            <a:off x="472428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AutoShape 12"/>
          <p:cNvSpPr/>
          <p:nvPr/>
        </p:nvSpPr>
        <p:spPr>
          <a:xfrm>
            <a:off x="5562720" y="17524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AutoShape 13"/>
          <p:cNvSpPr/>
          <p:nvPr/>
        </p:nvSpPr>
        <p:spPr>
          <a:xfrm>
            <a:off x="5410080" y="838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AutoShape 14"/>
          <p:cNvSpPr/>
          <p:nvPr/>
        </p:nvSpPr>
        <p:spPr>
          <a:xfrm>
            <a:off x="6248520" y="13716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Text Box 2"/>
          <p:cNvSpPr/>
          <p:nvPr/>
        </p:nvSpPr>
        <p:spPr>
          <a:xfrm>
            <a:off x="990720" y="76212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outline, Darwin stated the follow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Many more individuals are born than can possibly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dividuals within a population vary slightly from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here is a frequent recurring struggle for exist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ome  individuals will have a better chance of surviving than others (they will be naturally select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ny selected variety will tend to propagate its form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id the individuals in our population compete for in the struggle to surv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ich individuals were naturally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2"/>
          <p:cNvSpPr/>
          <p:nvPr/>
        </p:nvSpPr>
        <p:spPr>
          <a:xfrm>
            <a:off x="533520" y="49860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marck (a french biologist) propo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uring a life, structures or characteristics may be used or not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tensive use would lead to increased size and/or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Characteristics acquired during a lifetime could be inherited and so passed on to any off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Does our population show any evidence to contradict or support Lama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test Lamarck’s theory, Weismann cut off the tails of mice for successive genera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should have happened if Lamarck’s ideas were to be suppor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.What do you think did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11"/>
          <p:cNvSpPr/>
          <p:nvPr/>
        </p:nvSpPr>
        <p:spPr>
          <a:xfrm>
            <a:off x="4800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2"/>
          <p:cNvSpPr/>
          <p:nvPr/>
        </p:nvSpPr>
        <p:spPr>
          <a:xfrm>
            <a:off x="6858000" y="1676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AutoShape 13">
            <a:hlinkClick r:id="" action="ppaction://hlinkshowjump?jump=nextslide"/>
          </p:cNvPr>
          <p:cNvSpPr/>
          <p:nvPr/>
        </p:nvSpPr>
        <p:spPr>
          <a:xfrm>
            <a:off x="6019920" y="21337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685800" y="2286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bright yellow of some of your offspring attracts predators. All but two of them get ea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AutoShape 24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5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AutoShape 26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2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AutoShape 2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1371600" y="1523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3"/>
          <p:cNvSpPr/>
          <p:nvPr/>
        </p:nvSpPr>
        <p:spPr>
          <a:xfrm>
            <a:off x="2590920" y="1447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4"/>
          <p:cNvSpPr/>
          <p:nvPr/>
        </p:nvSpPr>
        <p:spPr>
          <a:xfrm>
            <a:off x="3429000" y="1219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4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5"/>
          <p:cNvSpPr/>
          <p:nvPr/>
        </p:nvSpPr>
        <p:spPr>
          <a:xfrm>
            <a:off x="1981080" y="1447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6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AutoShape 17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AutoShape 18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AutoShape 19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20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21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3"/>
          <p:cNvSpPr/>
          <p:nvPr/>
        </p:nvSpPr>
        <p:spPr>
          <a:xfrm>
            <a:off x="1371600" y="24382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24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25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26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27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8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9"/>
          <p:cNvSpPr/>
          <p:nvPr/>
        </p:nvSpPr>
        <p:spPr>
          <a:xfrm>
            <a:off x="1050840" y="5299200"/>
            <a:ext cx="69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’s lots of food and hiding places for the gree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, but the red ones can’t hide and get eate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AutoShape 5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6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7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8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9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0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6019920" y="12952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3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14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17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18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0"/>
          <p:cNvSpPr/>
          <p:nvPr/>
        </p:nvSpPr>
        <p:spPr>
          <a:xfrm>
            <a:off x="5410080" y="1143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21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22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23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4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8"/>
          <p:cNvSpPr/>
          <p:nvPr/>
        </p:nvSpPr>
        <p:spPr>
          <a:xfrm>
            <a:off x="6019920" y="114300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32"/>
          <p:cNvSpPr/>
          <p:nvPr/>
        </p:nvSpPr>
        <p:spPr>
          <a:xfrm>
            <a:off x="5791320" y="19051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35"/>
          <p:cNvSpPr/>
          <p:nvPr/>
        </p:nvSpPr>
        <p:spPr>
          <a:xfrm>
            <a:off x="4038480" y="19810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23"/>
          <p:cNvSpPr/>
          <p:nvPr/>
        </p:nvSpPr>
        <p:spPr>
          <a:xfrm>
            <a:off x="1143000" y="3808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enty of food and its spring so another 10 offspring are born, they are a variety of col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36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AutoShape 15"/>
          <p:cNvSpPr/>
          <p:nvPr/>
        </p:nvSpPr>
        <p:spPr>
          <a:xfrm>
            <a:off x="6019920" y="1066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AutoShape 18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24"/>
          <p:cNvSpPr/>
          <p:nvPr/>
        </p:nvSpPr>
        <p:spPr>
          <a:xfrm>
            <a:off x="1447920" y="19810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AutoShape 26"/>
          <p:cNvSpPr/>
          <p:nvPr/>
        </p:nvSpPr>
        <p:spPr>
          <a:xfrm>
            <a:off x="25146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AutoShape 28"/>
          <p:cNvSpPr/>
          <p:nvPr/>
        </p:nvSpPr>
        <p:spPr>
          <a:xfrm>
            <a:off x="3429000" y="1828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30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31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32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33"/>
          <p:cNvSpPr/>
          <p:nvPr/>
        </p:nvSpPr>
        <p:spPr>
          <a:xfrm>
            <a:off x="5867280" y="41911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34"/>
          <p:cNvSpPr/>
          <p:nvPr/>
        </p:nvSpPr>
        <p:spPr>
          <a:xfrm>
            <a:off x="114300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’s winter and 5 of your population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AutoShape 2"/>
          <p:cNvSpPr/>
          <p:nvPr/>
        </p:nvSpPr>
        <p:spPr>
          <a:xfrm>
            <a:off x="205740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3"/>
          <p:cNvSpPr/>
          <p:nvPr/>
        </p:nvSpPr>
        <p:spPr>
          <a:xfrm>
            <a:off x="2971800" y="2362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AutoShape 4"/>
          <p:cNvSpPr/>
          <p:nvPr/>
        </p:nvSpPr>
        <p:spPr>
          <a:xfrm>
            <a:off x="2286000" y="2895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AutoShape 5"/>
          <p:cNvSpPr/>
          <p:nvPr/>
        </p:nvSpPr>
        <p:spPr>
          <a:xfrm>
            <a:off x="4114800" y="2057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AutoShape 6"/>
          <p:cNvSpPr/>
          <p:nvPr/>
        </p:nvSpPr>
        <p:spPr>
          <a:xfrm>
            <a:off x="5181480" y="22096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AutoShape 7"/>
          <p:cNvSpPr/>
          <p:nvPr/>
        </p:nvSpPr>
        <p:spPr>
          <a:xfrm>
            <a:off x="43434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AutoShape 8"/>
          <p:cNvSpPr/>
          <p:nvPr/>
        </p:nvSpPr>
        <p:spPr>
          <a:xfrm>
            <a:off x="5715000" y="17524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AutoShape 9"/>
          <p:cNvSpPr/>
          <p:nvPr/>
        </p:nvSpPr>
        <p:spPr>
          <a:xfrm>
            <a:off x="5029200" y="29718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0"/>
          <p:cNvSpPr/>
          <p:nvPr/>
        </p:nvSpPr>
        <p:spPr>
          <a:xfrm>
            <a:off x="4419720" y="37339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1"/>
          <p:cNvSpPr/>
          <p:nvPr/>
        </p:nvSpPr>
        <p:spPr>
          <a:xfrm>
            <a:off x="5257800" y="3809880"/>
            <a:ext cx="533520" cy="60984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12"/>
          <p:cNvSpPr/>
          <p:nvPr/>
        </p:nvSpPr>
        <p:spPr>
          <a:xfrm>
            <a:off x="472428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13"/>
          <p:cNvSpPr/>
          <p:nvPr/>
        </p:nvSpPr>
        <p:spPr>
          <a:xfrm>
            <a:off x="4114800" y="43434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14"/>
          <p:cNvSpPr/>
          <p:nvPr/>
        </p:nvSpPr>
        <p:spPr>
          <a:xfrm>
            <a:off x="2819520" y="33526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6"/>
          <p:cNvSpPr/>
          <p:nvPr/>
        </p:nvSpPr>
        <p:spPr>
          <a:xfrm>
            <a:off x="365760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7"/>
          <p:cNvSpPr/>
          <p:nvPr/>
        </p:nvSpPr>
        <p:spPr>
          <a:xfrm>
            <a:off x="1981080" y="35053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19"/>
          <p:cNvSpPr/>
          <p:nvPr/>
        </p:nvSpPr>
        <p:spPr>
          <a:xfrm>
            <a:off x="1203480" y="5451480"/>
            <a:ext cx="6797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20"/>
          <p:cNvSpPr/>
          <p:nvPr/>
        </p:nvSpPr>
        <p:spPr>
          <a:xfrm>
            <a:off x="1279440" y="345960"/>
            <a:ext cx="580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Text Box 21"/>
          <p:cNvSpPr/>
          <p:nvPr/>
        </p:nvSpPr>
        <p:spPr>
          <a:xfrm>
            <a:off x="685800" y="304920"/>
            <a:ext cx="685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22"/>
          <p:cNvSpPr/>
          <p:nvPr/>
        </p:nvSpPr>
        <p:spPr>
          <a:xfrm>
            <a:off x="914400" y="3808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25"/>
          <p:cNvSpPr/>
          <p:nvPr/>
        </p:nvSpPr>
        <p:spPr>
          <a:xfrm>
            <a:off x="1600200" y="28195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AutoShape 27"/>
          <p:cNvSpPr/>
          <p:nvPr/>
        </p:nvSpPr>
        <p:spPr>
          <a:xfrm>
            <a:off x="3733920" y="2666880"/>
            <a:ext cx="533160" cy="6098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AutoShape 29"/>
          <p:cNvSpPr/>
          <p:nvPr/>
        </p:nvSpPr>
        <p:spPr>
          <a:xfrm>
            <a:off x="5867280" y="259092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AutoShape 31"/>
          <p:cNvSpPr/>
          <p:nvPr/>
        </p:nvSpPr>
        <p:spPr>
          <a:xfrm>
            <a:off x="6477120" y="2362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AutoShape 32"/>
          <p:cNvSpPr/>
          <p:nvPr/>
        </p:nvSpPr>
        <p:spPr>
          <a:xfrm>
            <a:off x="6477120" y="16765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34"/>
          <p:cNvSpPr/>
          <p:nvPr/>
        </p:nvSpPr>
        <p:spPr>
          <a:xfrm>
            <a:off x="5334120" y="4648320"/>
            <a:ext cx="53316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35"/>
          <p:cNvSpPr/>
          <p:nvPr/>
        </p:nvSpPr>
        <p:spPr>
          <a:xfrm>
            <a:off x="5867280" y="3429000"/>
            <a:ext cx="533520" cy="6094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7:15:31Z</dcterms:created>
  <dc:creator>Default</dc:creator>
  <dc:description/>
  <dc:language>en-US</dc:language>
  <cp:lastModifiedBy>LEGION2</cp:lastModifiedBy>
  <dcterms:modified xsi:type="dcterms:W3CDTF">2016-01-12T07:48:48Z</dcterms:modified>
  <cp:revision>13</cp:revision>
  <dc:subject/>
  <dc:title>PowerPoint Presentation</dc:title>
</cp:coreProperties>
</file>