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FB33-AC3A-48AE-8AA9-A445375B59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6774-3E1E-4D87-AA71-5658ACFE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550-93D0-415F-9648-7074911B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1678B-ACBE-42DB-A258-5DD27C48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2BF6D-339B-4B9C-9933-B848B176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8C69F-ACD5-4FB1-A7C9-EDBE92C1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CBCE3-0CF2-42C4-93C0-3E168BBD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E2F1E-A413-496B-AB0B-AFD08002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30EB7-9FF5-40FF-AC21-B924BAF7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AF5B4-2D12-4001-97C4-2F618384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83FC4-B4D4-45A7-8945-CCBA17F2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ED63A-3659-4517-B275-CBF33194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59569-B845-486E-BC89-F226AA23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0E3B-6D31-435B-85A3-ACEA977D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8DAEB-9C0C-4908-A591-39E9245E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8D90D-8992-472C-B629-A1EFEEA7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B6F09-81CB-49AD-B86D-28F8C95A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42AC4-EC6B-46F8-A6C5-D8067EB6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E4276-4CE0-479E-9A0E-70E7544F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3D538-05A3-469E-81B3-9C290E68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E443B-94C8-40DB-AE3A-989A7788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6E4A3-524C-4ECE-B19D-CF088074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E133A-E827-48F5-8F60-9BEA2CAD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074E0-B2DC-4A7F-B533-6C5D9F18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CB4B-559C-4F23-9241-CD00570C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84662-BCD3-4ADF-951B-95E842B4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984A8-69CB-407A-A0CF-92DE46D4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ED9D8-D003-455E-8686-6CC2DE72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AC3CB-284B-4207-A725-9108DB9F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72478-5EEB-4DD9-8DFE-D340B76B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E0175-879B-43B9-B788-35C7980B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470A2-31D7-4EC3-AEAE-1068E133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C00DF-30EE-4F5F-A8B4-A3919237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14299-84BE-47A8-A64C-E27291C3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D0D20-2F88-4632-AE32-E92C8189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7C5A-6FFF-451E-8316-1A27D1EA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72807-02FA-4D08-9DD3-5EEE7C0C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E344D-27C0-431E-BF0B-9314B703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38FAE-0F07-4708-B871-739A186F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897FB-F56A-4A7E-B8F7-749AA64B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93D37-0410-449A-8715-E8268E5C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971A4-192B-451E-9609-C6BFB3BB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665AD-1309-479D-9FEE-0440F061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F5FCC-61BB-4C1D-BD56-DBF11811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087FE-0FC6-4609-A869-8FDFD14E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47E26-F5C1-4A13-AA19-1D699494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729A-9442-46F6-B08C-34279375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D5C9C-4025-4143-9A12-31099F03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91116-880C-4735-ACA8-216B265F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DB578-3DCE-42EC-B208-A9FFF615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D56F6-C122-482D-8149-51AB72A0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2D34C-DB69-4B36-82CC-47071720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1BF1-3F1B-467D-9B68-35866D97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476F-1384-4EB3-936E-280B5BA9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DF7D-D7DA-42AA-8B3B-3C5B412E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F329-6A01-4B6B-AB0B-CC153561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ABE9-048E-406C-B0F9-961F2E08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6F43-7ED7-4670-BD71-B38F4CD5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9E59-81E6-4030-AEBE-AA1F0CAF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3C4E-AF1E-4FE7-89E8-C9959F14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EE33-9F0B-4C11-A17A-16F5CB0B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46CB-8B2C-4761-A1E6-D83FFAA8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31C7-7419-4F5F-A683-E317B29C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78C64-E76B-438B-A9CC-5CF39705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AFCEF-EA39-4EC4-A443-79C31C1A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1B148-BBE5-449C-A66C-BFA863C8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2357B-DF37-4171-96EF-B64AAC09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E83EC-54BE-48ED-8B80-D5783CD4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24FE-887F-4521-A1C5-4CABCC2B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FB630-FC24-4D3A-97F8-13A5AFAF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AC401-1626-42CB-ABAA-116D8EAC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4C1A8-9BCC-48E5-9CF0-8F334049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D956D-9B57-4FA5-89B0-2E49864A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79FAA-40C7-449B-8B0E-F64B4EDE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476CF-8CC4-4FF7-AA43-E4CD5932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0B525-FFCA-44B1-88D1-57579F35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D06DD-2044-4020-B5D4-35815688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7ADE7-A18C-4268-871D-F5D6EA13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8BF16-9919-497C-B4FB-A9B6E844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27F4-71D6-47F8-B50C-3792895F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5DD00-C7BB-4A79-8D69-DD3C0152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4FF0F-E5D7-4F96-B49D-016A61A0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F6704-CA63-4409-BED5-EB1C4777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A2904-EA17-4156-84CF-9776D1AC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A35CB-470D-4672-B542-B708779C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2061C-B716-4F57-B95B-3488FC79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2414D-41B9-4A6F-967F-3244DD4D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DA693-1E08-4005-9A90-652EFEAA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5DCAD-6137-4D30-A6C9-55E27408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7F11F-6FBF-4986-B948-73E1D31A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DAF0-478A-4B92-AC09-98CC948A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9BF31-6C9E-45BB-8E00-8A4578A0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352C0-25E6-48D6-846B-02656D2C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BA350-EF53-4F8E-A9FB-B33043CE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26FB6-6660-4A67-AF15-B1158625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D68F2-7AD6-497D-9FAE-88C7BBD5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D626F-4DDF-4082-BBDE-BB365C13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E9D75-BA79-4299-8A4A-11DA639E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3D8AC-EBD2-49BC-A49C-D93276E2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17144-E411-45C5-9CDE-67D93BB1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1A431-C053-419B-9218-487F6D5F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296-6815-4176-B555-31EA3598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7F332-1E7E-4F12-901F-64EB97D2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0E983-1A1E-4A93-8BF5-1FB2DCAB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4429D-DDC3-4E78-9830-0D8261DA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3D584-686D-4FB0-B6AE-E1994637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42C2F-5081-4FA6-8FEB-419DC55D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46BE0-0BB0-4FD7-BC6F-AE17735D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83639-3374-4F46-890D-EB1FA15A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1766A-0F51-42EA-BA4D-2190B8CC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BDFE8-74DD-4D7D-9460-D1FA64EC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9370C-0010-42BE-A27F-4A5D7B1B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E49-92D4-44A9-8CB2-C34F5251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BB0B6-5B17-4641-BFE4-CC4188DA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2ED56-4BB4-42E6-9EB5-8FFB3AE2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C9344-102F-4BE9-AC10-2B33F1BC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2BE0C-A4A8-4A65-BF6C-96DB2FF6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298FF-B1F1-4300-9795-01D6499C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57E7E-D764-4DD2-9E98-AEA98624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5A818-5345-4BD6-9F0A-A4F212B7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6ACDA-DA99-48CA-94E4-4C099600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9AABF-BB40-4FFF-BEE9-2C9E3C26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5BC35-60CB-4A4D-8992-394E4AAB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CD2-B7CF-4B33-8107-95885D62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059FE-8757-4B1B-8BCB-4D95D7E6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9208B-DFAE-4A5D-B25F-664F3942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58514-90A8-4440-A836-EE4946D7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F91B4-406D-47AE-BCF2-7A5DC80F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E1B7E-4155-493C-B361-B377FBDC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FEEC8-62EE-4E0F-8E94-ADBC4090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80E8D-C980-429B-B6AA-5C35CA2E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4D0FB-2318-42F5-8887-330D4952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8ECAB-8A4B-4ED1-AABB-54767613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71ABE-DB10-44F5-B3FB-9C543EA0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A2AC-5E03-40AA-9894-953B957D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A29A2-8403-4850-B0A5-997C3E7A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59229-3CC6-4D09-AE48-CEE05E0F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706F9-F220-4AED-9634-E1CF7B5F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0877E-DC0C-476C-B78B-8A2C04D0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A8C9C-50A6-4776-B2A1-2F4103EA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8B040-313F-4AB0-87B6-7507A000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0D58B-06AE-4E61-853D-61AF6DF7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AE0BB-1494-42E2-ADE2-B7502F2C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3D419-8B55-42B7-8BB4-12D9ED70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B1ED7-6140-4737-8DE0-FECC1F30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D400-F9B6-4B71-9E72-DE920026F5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D8DA-835F-40AA-B87E-A64E7AC1BF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AF9D-A854-464E-911A-68CB23ABBC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EFD1-DCBD-4E6D-B26F-6CFA82612F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6A92-0A80-4D97-BD03-1C19B1F1B9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374E-1FBA-4B93-900A-9DBF499905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C69C-CE9F-4A9F-8909-79C1FFD918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AA4B-2BCB-4E72-89B9-51EC68B202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756B-B64E-464A-8980-948195D566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60D3-788A-4A59-B04F-E8BE274191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20DD-FC3E-4D93-B553-9E952A4E1A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E384-FDEC-4E2B-84CA-1F87809A85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6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7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8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9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20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21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25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27"/>
          <p:cNvSpPr/>
          <p:nvPr/>
        </p:nvSpPr>
        <p:spPr>
          <a:xfrm>
            <a:off x="1219320" y="5410080"/>
            <a:ext cx="3504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howing variation in col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8"/>
          <p:cNvSpPr/>
          <p:nvPr/>
        </p:nvSpPr>
        <p:spPr>
          <a:xfrm>
            <a:off x="6477120" y="5486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1052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18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9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20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AutoShape 22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AutoShape 24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AutoShape 25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AutoShape 27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AutoShape 28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29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30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32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35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36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AutoShape 37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utoShape 38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39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40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41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42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43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1052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1054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1055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AutoShape 1056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AutoShape 1057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AutoShape 1058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AutoShape 1059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AutoShape 1060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AutoShape 1061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AutoShape 1062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AutoShape 1063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AutoShape 1064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AutoShape 1065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AutoShape 1066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AutoShape 1067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AutoShape 1068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AutoShape 1069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AutoShape 1070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AutoShape 1071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AutoShape 1072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utoShape 1073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AutoShape 1074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43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AutoShape 44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AutoShape 37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AutoShape 38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AutoShape 39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AutoShape 40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7"/>
          <p:cNvSpPr/>
          <p:nvPr/>
        </p:nvSpPr>
        <p:spPr>
          <a:xfrm>
            <a:off x="685800" y="38088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29"/>
          <p:cNvSpPr/>
          <p:nvPr/>
        </p:nvSpPr>
        <p:spPr>
          <a:xfrm>
            <a:off x="10666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6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AutoShape 1026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AutoShape 102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AutoShape 102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102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AutoShape 103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03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03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03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1034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AutoShape 1036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AutoShape 1037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AutoShape 1038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AutoShape 1039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1040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AutoShape 10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AutoShape 10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AutoShape 10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AutoShape 10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AutoShape 10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AutoShape 10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AutoShape 1047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AutoShape 1048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AutoShape 1049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AutoShape 1050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AutoShape 1051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27432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1447920" y="2514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2286000" y="3581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8"/>
          <p:cNvSpPr/>
          <p:nvPr/>
        </p:nvSpPr>
        <p:spPr>
          <a:xfrm>
            <a:off x="3809880" y="2286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548640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59436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13"/>
          <p:cNvSpPr/>
          <p:nvPr/>
        </p:nvSpPr>
        <p:spPr>
          <a:xfrm>
            <a:off x="6629400" y="2133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21337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762120" y="228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24"/>
          <p:cNvSpPr/>
          <p:nvPr/>
        </p:nvSpPr>
        <p:spPr>
          <a:xfrm>
            <a:off x="1523880" y="3352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25"/>
          <p:cNvSpPr/>
          <p:nvPr/>
        </p:nvSpPr>
        <p:spPr>
          <a:xfrm>
            <a:off x="2971800" y="4038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26"/>
          <p:cNvSpPr/>
          <p:nvPr/>
        </p:nvSpPr>
        <p:spPr>
          <a:xfrm>
            <a:off x="45720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27"/>
          <p:cNvSpPr/>
          <p:nvPr/>
        </p:nvSpPr>
        <p:spPr>
          <a:xfrm>
            <a:off x="5867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28"/>
          <p:cNvSpPr/>
          <p:nvPr/>
        </p:nvSpPr>
        <p:spPr>
          <a:xfrm>
            <a:off x="609588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6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AutoShape 23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AutoShape 24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25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AutoShape 26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AutoShape 27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8"/>
          <p:cNvSpPr/>
          <p:nvPr/>
        </p:nvSpPr>
        <p:spPr>
          <a:xfrm>
            <a:off x="1355760" y="575640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9"/>
          <p:cNvSpPr/>
          <p:nvPr/>
        </p:nvSpPr>
        <p:spPr>
          <a:xfrm>
            <a:off x="1584360" y="575640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2"/>
          <p:cNvSpPr/>
          <p:nvPr/>
        </p:nvSpPr>
        <p:spPr>
          <a:xfrm>
            <a:off x="990720" y="762120"/>
            <a:ext cx="7543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2"/>
          <p:cNvSpPr/>
          <p:nvPr/>
        </p:nvSpPr>
        <p:spPr>
          <a:xfrm>
            <a:off x="533520" y="49860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11"/>
          <p:cNvSpPr/>
          <p:nvPr/>
        </p:nvSpPr>
        <p:spPr>
          <a:xfrm>
            <a:off x="4800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2"/>
          <p:cNvSpPr/>
          <p:nvPr/>
        </p:nvSpPr>
        <p:spPr>
          <a:xfrm>
            <a:off x="68580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3">
            <a:hlinkClick r:id="" action="ppaction://hlinkshowjump?jump=nextslide"/>
          </p:cNvPr>
          <p:cNvSpPr/>
          <p:nvPr/>
        </p:nvSpPr>
        <p:spPr>
          <a:xfrm>
            <a:off x="6019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2"/>
          <p:cNvSpPr/>
          <p:nvPr/>
        </p:nvSpPr>
        <p:spPr>
          <a:xfrm>
            <a:off x="685800" y="228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24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25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2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2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23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24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25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2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27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28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29"/>
          <p:cNvSpPr/>
          <p:nvPr/>
        </p:nvSpPr>
        <p:spPr>
          <a:xfrm>
            <a:off x="1050840" y="52992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1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1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1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1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20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21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22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23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8"/>
          <p:cNvSpPr/>
          <p:nvPr/>
        </p:nvSpPr>
        <p:spPr>
          <a:xfrm>
            <a:off x="6019920" y="11430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32"/>
          <p:cNvSpPr/>
          <p:nvPr/>
        </p:nvSpPr>
        <p:spPr>
          <a:xfrm>
            <a:off x="5791320" y="19051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35"/>
          <p:cNvSpPr/>
          <p:nvPr/>
        </p:nvSpPr>
        <p:spPr>
          <a:xfrm>
            <a:off x="4038480" y="1981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36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30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31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32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33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4"/>
          <p:cNvSpPr/>
          <p:nvPr/>
        </p:nvSpPr>
        <p:spPr>
          <a:xfrm>
            <a:off x="1143000" y="380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35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7:15:31Z</dcterms:created>
  <dc:creator>Default</dc:creator>
  <dc:description/>
  <dc:language>en-US</dc:language>
  <cp:lastModifiedBy>LEGION2</cp:lastModifiedBy>
  <dcterms:modified xsi:type="dcterms:W3CDTF">2016-01-12T07:48:48Z</dcterms:modified>
  <cp:revision>13</cp:revision>
  <dc:subject/>
  <dc:title>PowerPoint Presentation</dc:title>
</cp:coreProperties>
</file>