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8484-54DF-42E9-9AC4-61080DD52A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021-B93D-4259-B0E3-43966752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6DA-7507-4B6F-B124-FF64123C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E69A6-E1E9-41A9-8C4C-8985A632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F4781-F89C-41D2-86C7-B4272B60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D11F3-1D4B-4B77-8F5C-589C02B1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D6958-3C04-410E-BADC-C2C8205D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BE67F-FA12-4C73-9BD5-CFFBB557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0D980-1D0B-4333-A98C-164D92A5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995DF-6664-4F28-9F62-2B1765D3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07835-A4A9-415D-9527-E067F77C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C2E5C-8BC8-45D6-A7B5-29F50962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2F627-B872-47F8-A1D6-68987D7D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D59-9083-4C5C-86E0-31658032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D0868-74A7-4CA1-AC2C-AE079080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FDF3F-10FD-4DBF-A5ED-2042DF2B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0F230-1B1F-4488-8945-0784B4D8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2A594-FE75-4D13-B33C-30DCD451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AB3E8-0FCB-4911-BFE7-7F34C794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B36EF-D3D5-4141-A831-54F72DC1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7A3F3-A9DB-429B-9544-5E2DF503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FC004-51BC-4A10-A867-8BD6D914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92059-ADA4-4093-B13A-30956ECD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7DCAD-11CD-4D4A-8F23-5E56702C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88D-F4F7-4941-8F16-D05BA97D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8AE7C-FF6F-4248-A3A4-0A99AB4A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4094C-4199-4284-AABA-41CB3760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C9C17-38F6-4EEA-B743-3EBE97A8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66BD3-07A1-4BD7-B825-C8A88FA9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11ACD-6EE8-428F-A191-8224D5F6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DD2EF-82B3-4AE0-89B7-B1B74846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6145D-D2E7-4B4D-9B24-124A1D69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CF8A0-329B-4367-B985-A7BCF134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691DF-1EA3-4EBE-BFF8-4811AA2C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9766B-1FAF-477E-96F7-82D28070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A18E-2186-467B-B6D3-B39FB7C5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7DCA3-6195-491D-A01A-469A6F39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EE7E0-A24B-42F6-A8BB-62DE44BA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B2BC9-B8E7-4CB1-8141-A3816CCB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0CDC4-57FB-4599-942C-54D5EBC1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38788-4AC3-457B-A03B-A8CCCBFF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6D942-42AB-4356-A6C5-120EEC4A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EEF19-3348-4069-8B76-1B2EE740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E5D43-817F-4F6D-8F88-F4B620E6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BD417-A5F8-44E1-A854-E071395C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97512-0664-4C2C-B90E-C2A6A8FF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8200-F1A9-4735-90D1-57A09E67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17B44-DF8F-48AE-9800-6FCCCC47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0C116-A820-46A8-B9AD-F1E15D14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E958B-BF4E-4B62-A063-DED35EF7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0F0A0-9386-4784-88F8-B3E34EAC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9C83C-CD10-4FB2-BAA0-AD47A96E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66DE-6CB0-4B9B-9173-F5C1E66B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644C-B844-4C56-89FC-ABA0A996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3C2F-F849-4620-8074-590C56E0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47C1-2E6A-49DF-93C8-7BE71C33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9C6C-23D5-4C56-B171-B685F178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93C-9CBD-4C35-8924-2E8604B6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24B8-44BF-402E-BE34-1A2AC23C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6E89-F308-441E-B307-3FA1C034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B369-217E-4F41-A28A-AD3A48D3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AF60-4C32-4D67-B348-700966A7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BF2A-A6C0-471C-972F-4339D337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A81CE-C725-4AC0-9DA9-3ED8F7E3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35A8A-F4E5-4F8D-A871-D4A92593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A39D5-C570-467B-B07F-2C4C143D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F2CA4-B0AB-49F8-85AE-82E25B2E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4BEAE-600E-42DD-AD43-A249860D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EEA-58EA-4C93-9047-3C0E63FB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0BF18-67B8-422C-B7DC-A713C99C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2F21C-1227-40C0-A042-784AEC77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3B3D-255B-46AF-A91B-ECDEAB22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C7086-AE9E-4F34-BDD9-75C0835C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27989-684A-41AA-AA31-B1B0248C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F789B-9D60-4959-8237-981C7A1D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5EDC-40A9-4C3D-84E4-7890C61D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BC238-96CC-4B96-9144-D5BAE7A0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23020-FF98-4EED-976F-E039B59B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3D6BD-EBEE-47CB-AA1D-7891AF2F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A5B-F6BD-4F89-AD96-C998B697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114E0-B586-4356-8C2B-90E2424D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9DB7F-93BA-42CD-9A14-0B537AA6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7C7F2-E81B-45ED-8E13-4705FB91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CA366-1487-4102-BDC8-8AB02774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2E807-5FB6-444D-920C-7877ADFD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3CA53-25FA-40C7-8447-CBA3E733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82AAA-CB7B-4B2F-B699-2E4D48EB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E3C05-F77B-4846-9821-53DF7BD6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DF495-85A1-42EE-92A0-8C63553A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127E1-3052-4F08-8BF0-769472CB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3DA-11C5-4974-9A58-7B43D8D2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D40E3-2537-42F5-91EE-B501E145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3F34B-2531-4D38-A396-41B0132A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943E1-BDDC-4EE4-8343-443DFA9C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94C55-64A4-4F84-A858-F014838E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23721-1FDE-4750-9584-08FA199C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5E7F5-367B-4B70-8BA5-DDA9052B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308F7-22B7-486D-B825-C69B8DFB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04312-EA90-435E-A1D0-B6BCECB0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D7DAE-523A-4E1D-B7C2-1EEEC355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D18F3-F646-46DA-9DD7-6ED381C4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EA9-2EC3-4E37-93FE-D2457A59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17CDA-FBD0-4087-8859-2DA71BB2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0ABFC-BF69-426F-9416-6AF93B8C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1A455-85A3-4650-9BA9-09B2C2CE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E68F0-F643-47F3-B6EE-A1313B65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B0932-5F1F-4831-BAB1-7803DF71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FA3B8-25C4-4EA6-A16B-C709B3C3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F62B7-14B8-495C-8291-8851566D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1F63B-5133-4F1F-B6EE-16FC2C3B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79B24-77B1-4B32-B4C3-DCAA8A1F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C6502-10C7-419A-B383-BF5E1B22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A09-460B-4915-BAA2-D1170E1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CB001-BBAD-44C9-B404-88DB0C32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643A3-85B9-48A8-8DEF-35B0205A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72A46-B4AD-4F24-87E9-088B6A8F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22B70-13FA-4422-9D16-8223805B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213CF-8427-4C91-A7F8-8E729AE6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E1E90-B636-4E8D-9B56-3B719794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F83FC-7A25-4C1B-8A2C-8319C0CD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328C1-802D-4FB5-B10E-17480024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0A4FE-7215-4251-A660-41C9E958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086D8-FF3B-409C-91AB-5371E655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B88-70FA-4750-A63C-80BBCA69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5ED1A-8564-49E9-90D4-C9F709B1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F6980-01FD-4AF9-AF30-1E2B44F0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89B0E-0FEC-4C66-8ABD-1DBBE42E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44771-E896-485C-B6CE-10148F92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91D11-2A44-4501-81B6-7E191990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D017C-7BFA-494A-B376-E3C14AA4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05A8A-9288-40C4-B9F9-CBEBCD37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61F63-655B-4BCB-848F-A8420A6A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97703-D10D-4F0F-AFD4-01D40F27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E0029-9172-41B0-9EF9-D5675170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71D-26FC-40FF-BBED-CFB0852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B68DA-EA1D-4DA2-82F5-61D8C807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50CDB-262A-4E52-8EC8-CA823875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29CCF-F0B4-484C-86D1-F0626B0E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065D8-3F05-4869-AF34-E880723E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4DB93-A9B2-42CE-9085-36A7AEB7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FC5E9-5C9B-4CB7-89CA-927EAD6D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851E1-A7F5-48AB-A20E-DAD5F84C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8E10B-C0A9-4EE2-8624-8B72B5A1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E5676-B822-4E68-ABBF-F03E9A17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A917C-A7F9-4806-957E-1A1147F1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1B80-DCCE-4D32-9ADC-A4D50556C1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89D1-406C-4D0C-AB2B-82A97690F2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73C8-ABA5-4AD6-8351-2848CD0A1B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7AA1-851D-4FA8-BF0E-356F10067A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A41D-48A3-4FAB-9CBA-0C264E5AE5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E433-EDE7-43E4-AF1A-B329D41351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1B2F-13CA-4A3F-94BC-7FAE83FB69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ACCF-8E7C-4EE6-95C3-1EAA4B19CF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3FDE-7896-4A6A-B7AB-FD570F1101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B890-CC89-4F37-8263-BA62455B4A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81FA-10D8-47A2-8667-DB8953AB3F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7AE0-61B2-4A12-8F83-A603C70BBB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6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7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8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9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20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1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7"/>
          <p:cNvSpPr/>
          <p:nvPr/>
        </p:nvSpPr>
        <p:spPr>
          <a:xfrm>
            <a:off x="1219320" y="5410080"/>
            <a:ext cx="3504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owing variation in col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6477120" y="5486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1052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8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22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24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25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27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28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29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30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32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35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36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37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38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9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0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41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42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43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1052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1054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1055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1056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1057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1058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1059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1060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1061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1062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1063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AutoShape 1064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1065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AutoShape 1066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1067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utoShape 1068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utoShape 1069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1070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1071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1072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1073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1074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43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AutoShape 44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37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38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39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AutoShape 40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7"/>
          <p:cNvSpPr/>
          <p:nvPr/>
        </p:nvSpPr>
        <p:spPr>
          <a:xfrm>
            <a:off x="685800" y="3808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9"/>
          <p:cNvSpPr/>
          <p:nvPr/>
        </p:nvSpPr>
        <p:spPr>
          <a:xfrm>
            <a:off x="10666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AutoShape 1026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utoShape 102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AutoShape 102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102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AutoShape 103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3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3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03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1034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1036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AutoShape 1037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utoShape 1038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AutoShape 1039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040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AutoShape 10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AutoShape 10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AutoShape 10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10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AutoShape 10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AutoShape 10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AutoShape 1047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AutoShape 1048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1049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1050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1051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27432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1447920" y="2514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2286000" y="3581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3809880" y="2286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548640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59436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3"/>
          <p:cNvSpPr/>
          <p:nvPr/>
        </p:nvSpPr>
        <p:spPr>
          <a:xfrm>
            <a:off x="6629400" y="2133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21337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62120" y="228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24"/>
          <p:cNvSpPr/>
          <p:nvPr/>
        </p:nvSpPr>
        <p:spPr>
          <a:xfrm>
            <a:off x="1523880" y="3352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25"/>
          <p:cNvSpPr/>
          <p:nvPr/>
        </p:nvSpPr>
        <p:spPr>
          <a:xfrm>
            <a:off x="2971800" y="4038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26"/>
          <p:cNvSpPr/>
          <p:nvPr/>
        </p:nvSpPr>
        <p:spPr>
          <a:xfrm>
            <a:off x="45720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27"/>
          <p:cNvSpPr/>
          <p:nvPr/>
        </p:nvSpPr>
        <p:spPr>
          <a:xfrm>
            <a:off x="5867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28"/>
          <p:cNvSpPr/>
          <p:nvPr/>
        </p:nvSpPr>
        <p:spPr>
          <a:xfrm>
            <a:off x="609588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6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23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24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25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26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27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8"/>
          <p:cNvSpPr/>
          <p:nvPr/>
        </p:nvSpPr>
        <p:spPr>
          <a:xfrm>
            <a:off x="1355760" y="575640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9"/>
          <p:cNvSpPr/>
          <p:nvPr/>
        </p:nvSpPr>
        <p:spPr>
          <a:xfrm>
            <a:off x="1584360" y="57564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990720" y="76212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533520" y="49860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4800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68580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>
            <a:hlinkClick r:id="" action="ppaction://hlinkshowjump?jump=nextslide"/>
          </p:cNvPr>
          <p:cNvSpPr/>
          <p:nvPr/>
        </p:nvSpPr>
        <p:spPr>
          <a:xfrm>
            <a:off x="6019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6858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24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5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23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24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25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2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27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28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9"/>
          <p:cNvSpPr/>
          <p:nvPr/>
        </p:nvSpPr>
        <p:spPr>
          <a:xfrm>
            <a:off x="1050840" y="52992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1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0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21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22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3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6019920" y="11430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2"/>
          <p:cNvSpPr/>
          <p:nvPr/>
        </p:nvSpPr>
        <p:spPr>
          <a:xfrm>
            <a:off x="5791320" y="19051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5"/>
          <p:cNvSpPr/>
          <p:nvPr/>
        </p:nvSpPr>
        <p:spPr>
          <a:xfrm>
            <a:off x="4038480" y="1981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36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0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1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2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3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4"/>
          <p:cNvSpPr/>
          <p:nvPr/>
        </p:nvSpPr>
        <p:spPr>
          <a:xfrm>
            <a:off x="1143000" y="380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35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7:15:31Z</dcterms:created>
  <dc:creator>Default</dc:creator>
  <dc:description/>
  <dc:language>en-US</dc:language>
  <cp:lastModifiedBy>LEGION2</cp:lastModifiedBy>
  <dcterms:modified xsi:type="dcterms:W3CDTF">2016-01-12T07:48:48Z</dcterms:modified>
  <cp:revision>13</cp:revision>
  <dc:subject/>
  <dc:title>PowerPoint Presentation</dc:title>
</cp:coreProperties>
</file>