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3B7E-980D-4292-BB75-9B0F0774C5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516-B1CF-426A-9FD6-48830DB6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E97-1A08-4E75-9BBF-34D6067C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05CA9-2401-4888-A682-0B95B511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74469-362C-4019-8D61-B21F515B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223F0-A14A-4449-A152-27D59579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5EE52-8A5F-4BA4-A5B7-4FEECA3E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7A3AD-1F1A-4422-BBF3-63721CA1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0DA5C-BFBB-44B2-8B53-453E3787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4B489-8FB1-4352-8B6F-D42E60E2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9D665-40AF-4E9F-90AA-24AB9514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4BA08-2B0E-4C74-9AE2-3FDA569F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4A352-5F99-4C35-B1F8-A61A0D1E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279-22C0-4997-B64E-DE800454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2EA57-6179-4801-B779-A2C14057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62B14-35DD-4218-93C6-26AC6274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F1109-32A8-46E6-AAE6-2253D341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67CBE-13E3-434B-B979-F225C921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0944E-A3EC-4BE9-A738-E398C3C5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EDF40-793C-464E-B055-B68BCC02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447DF-CE46-4FAF-9B23-A1AE90F1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9B112-3C04-4285-8F1F-D361135E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1ECCE-F8EA-475E-9BE2-594D65DC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5B85E-BC2A-4353-B56E-7B7123E8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17BE-E100-4248-AFED-C0D7831E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334A1-2D8C-4204-B246-C91E375E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B5E65-6F63-4582-9465-E8E04B59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C22D7-183E-4DB1-B4EA-A6DE12C3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A8248-D05E-4101-911B-539EF7F3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B54EC-C0F6-44AC-9DA8-B3091BBC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7386F-6FC0-4DB7-9478-C01A0C5C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E4E54-5648-430F-8570-DFC8A7DC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94E5B-9E49-47EC-9CEC-B111BB88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AAA96-FC56-46D6-81C7-3FE026C3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136DC-C731-439D-95EA-39F4F51A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88CB-1CB4-4CA3-860D-20E5D3B2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F4D29-76D7-4D69-9C5C-4FE3D7A5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E7125-1600-49E4-B038-E460A487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56DFA-6B3C-446F-8A38-A0938A7F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69D28-C428-47B6-B81D-DF02D9FC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2C1D0-DE09-4A98-850B-38874C84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B7412-BB69-421B-8DA5-8C300C07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84AE1-FF2A-4A40-98E3-46FF63B9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C667F-EA70-46AE-B0B4-71D2F32F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D5402-1CD1-49A8-B241-5ED179D2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88D23-FDD0-41D6-B7B4-40152843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0EC7-BF9A-407B-8E3C-10F44B90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D6F3C-84AB-4CD3-87CE-36E9616C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D699A-09E3-44E4-8DF1-649825AC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57DF8-F88E-45F1-B982-CA143269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FA496-5C3D-4CB1-91F0-F16204AC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1E3B6-387F-4ABB-9844-3A07482E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1F50-A44E-4213-BDA1-F32D7F9A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60F7-C098-45BC-9750-15FA6B56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CCD4-1093-4866-8A69-5AA4E407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7349-42DD-4F70-8DEF-78D947F3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B314-B5E7-4F7E-866D-D6D0F498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CC0-7CA4-47D0-85D4-79C5C81C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8CF0-0BB8-46AA-A21A-A09B5659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0BC4-B92F-435F-A5BA-6C7636D5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0B07-B2B8-4B4F-A447-4D558E5B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697F-B884-4962-B91B-B087E58B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DC98-7467-46C5-B534-DFD2D9A4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85CBE-E354-497C-9B5F-99B4E44D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B7FA6-959E-4343-B8DD-6F8F20B3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C842-C8ED-4AC0-A521-79DBB6D4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BAF25-DF93-42EB-8D64-C759B21F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73057-A135-4FCE-B250-FC2CDC19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CC0-F603-4479-8932-24A9676E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3B35-19B2-46BA-8E77-0C242F7E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F7A4C-8A32-4A3C-AA4E-1D723BAD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2AAB7-D0C4-4E1D-9346-89124883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707B-0442-490E-9A99-77385F68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13628-351E-4E0E-8881-1EE9354A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DFB9-61BE-430A-826E-73ED2E1C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013AF-A778-4A0B-9EA2-48337313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200ED-4545-4C67-AA4D-0382B887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025CD-209E-47D0-BDD0-98E47FE4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FBE1-8196-4CAD-9991-B2107024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1A0-68BE-49E1-B6EF-1F303030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ED63B-1C0C-4EDA-9865-AA231BD1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24BC3-5A09-4D26-A7E5-7F3F5BCC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3EB41-D24D-44EB-939B-446A42A6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2228-16E3-408C-8B1E-9F2E285E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4B1C3-AE8B-49A2-BF73-AF10FF26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CA531-9F7C-4EF5-B71D-165957B5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FEF44-8E2D-4BE1-8E8F-EA426D7D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82036-084F-43A0-9733-735AD723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19A82-2790-4B16-8F14-64D1208C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3BBF1-8E86-4CF8-8DB3-79629A14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2804-0875-40FF-A84F-992D2CAF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903A5-15BC-46CA-A60E-EFAAFA1E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08E38-E5A1-44BD-9A06-332E286F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66DAE-3FE0-47CF-BEAC-2BC7ECDA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A529C-F801-4F80-B19C-910AE583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F28C5-6DDB-4900-81C7-7FF1109A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B0BC8-BC46-45AF-95CB-66575409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34102-E3C7-4CA9-8BA3-9B1DB3EF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BAAFA-3601-4DD3-9829-ABB027ED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C22CA-2F57-47ED-A82C-E87EFEBC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2C05C-657E-47ED-800A-FD9B21A2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627-912F-4C21-9C9F-C122A312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87899-6F45-4702-B522-214435A4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52D7C-58A9-4AFA-8BC5-56181059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95320-61DA-4AAB-868D-25F4D9FC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6B063-61BE-47BF-A807-CEEA9F90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05F97-0585-48AC-9D11-BB281577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881EE-366F-411A-BBF5-1CC81B69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2184E-CEF9-43E3-9BB2-6E7FF4AA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17665-30CB-40BE-BDDE-B35D9540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83015-22B4-48E3-BB87-475402A6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E89A9-8BC6-4DC0-B8DB-1A2EC772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424-620A-4905-80BE-3EF749A0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719EC-9649-4FE9-A90C-F1A07601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9BA50-8255-4E11-BEED-BC7DE5B4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97302-2AF4-4614-86D1-D750CD5F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DDE56-5496-4B39-A31E-CBAA51A5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58656-74EB-4A2A-84FE-E2AC03D4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82FBE-D231-41EC-972B-B1098AA8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A73C8-C0F6-4310-93C4-1144A8D0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7B821-81F8-4C36-ABC4-C1AF69E3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22EC9-8C16-42E0-9F99-FCE4A2C8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552A7-C21A-40FC-AC7E-8606430A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1204-BD59-4CFD-AEE4-043DFC07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789CB-FBC4-4D15-A2C4-062797D9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DDF31-8E19-4D4B-BCF5-0B93A69E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BDC15-6871-4EF2-9625-F5388C1D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8E5E8-033A-422B-9889-B51C829A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63F3C-5440-4896-811E-645C8093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57700-C514-46D9-82BC-7F22CC98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106D1-F748-4E60-AF02-53CDC54E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DCE5B-2C6A-44F7-8C10-FCFFF9B8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1DEAD-10EB-4826-A6D3-1C5370D3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8478B-2C26-4F50-90AA-69A788D3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14D-4AAD-4BD2-B5E7-C4CCB494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44BF9-0936-4E51-AF64-AD7AEDE5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C048D-9E94-407E-8708-681851BB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BAC55-1ADB-4401-9FCE-B151170C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7B74A-1446-40D8-A655-7BADC2FE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FCBE5-0C5F-42D6-990F-B89DEEB3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8B608-B0C0-44A7-88BD-B1BD217D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8EC25-C2AC-4022-A46C-54DA6488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A1FC4-03B7-4F01-A068-91D1A426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2D9F7-D2B8-474E-9563-81DF2DCC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5FA80-A9A5-4EBE-A27E-2BB44EE3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27CB-2001-4C08-B492-B9C5F10AD8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C83D-2A90-47B0-8990-72E3A6D371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52DD-DDFB-4EC9-BD51-67C8ABAAA9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AF9F-5E6A-46B4-B5CC-AA47D6DE25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5F55-8596-4B82-BD0C-57BF4EAB59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1620-CE9C-41F0-A5ED-D4EEE21D93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F5DA-4C6D-47DA-BE5F-4C2F3E603B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587C-48F6-445A-9618-EB38E3D8BD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5589-74F9-4325-8CC6-9BDB8D20B9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E6B1-8CB4-455F-8EAF-76CE701C85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FBBF-49E4-4EE9-94C5-ED8D1C67A5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7609-F167-4673-8722-342B4B2705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6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7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8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9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20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1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7"/>
          <p:cNvSpPr/>
          <p:nvPr/>
        </p:nvSpPr>
        <p:spPr>
          <a:xfrm>
            <a:off x="1219320" y="5410080"/>
            <a:ext cx="3504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owing variation in col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6477120" y="5486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1052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8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22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24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25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27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28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29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30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32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35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36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37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38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9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0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41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42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43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1052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1054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1055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1056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1057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1058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1059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1060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1061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1062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1063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AutoShape 1064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1065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AutoShape 1066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1067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utoShape 1068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utoShape 1069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1070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1071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1072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1073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1074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43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AutoShape 44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37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38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39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AutoShape 40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7"/>
          <p:cNvSpPr/>
          <p:nvPr/>
        </p:nvSpPr>
        <p:spPr>
          <a:xfrm>
            <a:off x="685800" y="3808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9"/>
          <p:cNvSpPr/>
          <p:nvPr/>
        </p:nvSpPr>
        <p:spPr>
          <a:xfrm>
            <a:off x="10666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AutoShape 1026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utoShape 102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AutoShape 102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102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AutoShape 103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3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3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03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1034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1036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AutoShape 1037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utoShape 1038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AutoShape 1039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040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AutoShape 10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AutoShape 10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AutoShape 10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10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AutoShape 10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AutoShape 10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AutoShape 1047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AutoShape 1048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1049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1050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1051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27432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1447920" y="2514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2286000" y="3581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3809880" y="2286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548640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59436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3"/>
          <p:cNvSpPr/>
          <p:nvPr/>
        </p:nvSpPr>
        <p:spPr>
          <a:xfrm>
            <a:off x="6629400" y="2133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21337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62120" y="228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24"/>
          <p:cNvSpPr/>
          <p:nvPr/>
        </p:nvSpPr>
        <p:spPr>
          <a:xfrm>
            <a:off x="1523880" y="3352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25"/>
          <p:cNvSpPr/>
          <p:nvPr/>
        </p:nvSpPr>
        <p:spPr>
          <a:xfrm>
            <a:off x="2971800" y="4038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26"/>
          <p:cNvSpPr/>
          <p:nvPr/>
        </p:nvSpPr>
        <p:spPr>
          <a:xfrm>
            <a:off x="45720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27"/>
          <p:cNvSpPr/>
          <p:nvPr/>
        </p:nvSpPr>
        <p:spPr>
          <a:xfrm>
            <a:off x="5867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28"/>
          <p:cNvSpPr/>
          <p:nvPr/>
        </p:nvSpPr>
        <p:spPr>
          <a:xfrm>
            <a:off x="609588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6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23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24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25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26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27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8"/>
          <p:cNvSpPr/>
          <p:nvPr/>
        </p:nvSpPr>
        <p:spPr>
          <a:xfrm>
            <a:off x="1355760" y="575640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9"/>
          <p:cNvSpPr/>
          <p:nvPr/>
        </p:nvSpPr>
        <p:spPr>
          <a:xfrm>
            <a:off x="1584360" y="57564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990720" y="76212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533520" y="49860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4800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68580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>
            <a:hlinkClick r:id="" action="ppaction://hlinkshowjump?jump=nextslide"/>
          </p:cNvPr>
          <p:cNvSpPr/>
          <p:nvPr/>
        </p:nvSpPr>
        <p:spPr>
          <a:xfrm>
            <a:off x="6019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6858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24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5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23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24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25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2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27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28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9"/>
          <p:cNvSpPr/>
          <p:nvPr/>
        </p:nvSpPr>
        <p:spPr>
          <a:xfrm>
            <a:off x="1050840" y="52992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1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0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21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22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3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6019920" y="11430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2"/>
          <p:cNvSpPr/>
          <p:nvPr/>
        </p:nvSpPr>
        <p:spPr>
          <a:xfrm>
            <a:off x="5791320" y="19051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5"/>
          <p:cNvSpPr/>
          <p:nvPr/>
        </p:nvSpPr>
        <p:spPr>
          <a:xfrm>
            <a:off x="4038480" y="1981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36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0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1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2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3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4"/>
          <p:cNvSpPr/>
          <p:nvPr/>
        </p:nvSpPr>
        <p:spPr>
          <a:xfrm>
            <a:off x="1143000" y="380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35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7:15:31Z</dcterms:created>
  <dc:creator>Default</dc:creator>
  <dc:description/>
  <dc:language>en-US</dc:language>
  <cp:lastModifiedBy>LEGION2</cp:lastModifiedBy>
  <dcterms:modified xsi:type="dcterms:W3CDTF">2016-01-12T07:48:48Z</dcterms:modified>
  <cp:revision>13</cp:revision>
  <dc:subject/>
  <dc:title>PowerPoint Presentation</dc:title>
</cp:coreProperties>
</file>