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A54E-BE8F-4C7A-AD4F-31128F3C64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1E9-CAAA-4B69-9124-D30392FE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C2D-DAD9-4EF8-BC3B-02C61F5B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9296D-59D3-420F-A8F2-56002B24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A8C74-719C-430C-B118-6F04F4DD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8EB02-88A6-4106-8DE1-65951A16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E6D5B-402C-49A4-A61B-9C08218E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96100-1D1D-432A-96EE-6C13F556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2D167-FC05-4E59-9C4C-AA6E84B7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F1E0A-56D8-4261-BA19-52448003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00F9C-26A4-45E5-9973-F029A4D9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E7238-1F11-47C5-9010-26EBB7B0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AA9BA-ADDA-4C14-BB75-747D18C0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B82-D5AF-4802-9031-9B630CA5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2CA00-27A1-455A-AEDD-FD65FA10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76C77-DA95-4E28-B237-650461A4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79BF6-EA62-4D80-8906-A59E9F9B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85A76-994E-4315-BC7B-0E2569CF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529CB-ACED-4929-9EF7-60B9F27C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F7032-A650-4E94-A14A-E09E8795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12986-9F35-4025-A8FB-2AF566F1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A6AE8-3C7B-4AE0-BEC4-D31EC53D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D3907-2C10-4107-8EB3-EA33D3D8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22635-17A9-4AF8-82D4-C9C2560C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B04B-5FE8-4AEB-818A-37CE863A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5760D-E0AB-4E50-9226-8AC915CA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650A2-7A5E-4CEE-8E50-DF26E25E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94840-1131-47BE-A42C-319AEEBB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A68B6-15BF-4A76-93F6-19983FEA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FBEBC-FE2B-42E0-AB09-65B9A5F4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46FEB-70F1-4DA8-8DA3-6E48D3CF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9E1F3-AB9C-41F2-88A5-5D4DF19C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AC8D9-6E14-40FC-B66E-5E36D010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A3767-6AE3-4548-BB6D-29FCB6B7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F087A-E36D-441D-BA8E-10294644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FE4F-C60A-469E-A639-BEE0D086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A97FD-9B3B-4AFD-A8DC-23B0D0F8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65200-FD66-488A-9331-D0F966FC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504F6-E38F-4CDC-8F1E-801294ED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16D4F-D19A-480F-A67E-817F6D91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4FDA0-6AF5-4E96-B995-FDEC2264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BF946-BA62-40D3-A867-D0287433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CC4D1-10F1-463D-97B9-60D3E8ED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D4121-0933-4E8B-AE87-DE2AEFAC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DDDAB-FC66-46F8-BB22-8779A8BA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8DB7D-AA6D-49F8-9E83-CB3AB763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63E6-DA02-408D-8F8E-EF8C0562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8994C-69C7-48C0-A103-40D3B4EB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8CD91-DA5E-4FB3-9F6C-F1A9B0A5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174B1-8609-49F7-984D-B63BCB19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89D54-25B4-4F09-987C-BF768BA8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A9CC0-4704-47C8-ABAB-E92CE504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DB7B-19CF-48D5-B059-5EC541CD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C6EB-F308-4C22-A236-3FB60762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8B6E-38F0-43EF-90A4-96C16284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2F23-E2BF-4C70-BEEE-3909F796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AB29-5CC4-4CC4-A8E4-74837D38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45D0-D3CB-4DE2-A781-82AEA9CF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129A-9742-42B9-BB60-BA775DF3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4671-4747-489D-A9C2-7534F2B7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8103-89FB-4FE6-8745-FB3E59F1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2DDD-8899-4F58-936A-B7C3F16F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D321-C3D2-4A78-AB3F-42C35381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B75B1-A3C7-45F3-87DE-B429FC2E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93B9F-5FA8-4327-B387-E7C93607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9C451-4435-4511-9DA4-005E1894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238C1-57C2-496B-A81F-25FB81C6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5127B-6C36-44AC-ABCA-74D55749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EB8-043D-4E7D-AC53-5B52B27E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E4059-363B-4E9E-BDDA-595875AE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C652E-5C38-4EF1-9650-AC9AAED4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7AB20-A4E2-43D8-91B7-8F7B4EAE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D56CD-671F-4598-B9AA-021DBD89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ACEE4-FFD9-46C6-907B-C4E5E1E1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7717C-E888-4D0C-9BAE-0FEB5583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11B1-E9A2-4DFF-9F65-C998D49C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9F5E6-F5B2-4877-86D0-63282355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F9BDC-C719-48AD-9E13-DB29CA33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EEB14-7D26-40FF-8375-AC17D0AD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D4F2-24B9-45E8-9B90-90FEF59B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EB110-D884-418F-A475-84346830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2698A-FC80-41F4-A4DE-AB52995B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7C9E3-9BE8-4AEA-A199-4B476877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5D03D-FC0B-4C43-83F8-FD757AAA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7D82F-4315-4132-9F9C-63AC03BF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AA580-7596-45A5-82AC-4A7BD0F8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58E15-B924-433F-B7A9-DEE2CF70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31CE7-2579-463F-A4F7-41376681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B6F77-1DE1-424C-9B69-73CA3AA1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FA1F8-9E98-4BC2-8520-134D1C55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306-709E-4904-A86D-66F7A782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4D8D9-44CA-4608-A60D-2E5A1AFD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4C9DD-7B86-47A9-8683-C8855864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7B811-AC2B-475F-8D76-DA9653BC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C853E-B90D-4780-8D70-F56BB51C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F9177-193E-43CB-8D87-16B12634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61006-D53C-4B7C-B9F2-95AB7FEA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8936B-07BC-45B0-8F93-76C4DB52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4331C-10D7-4AF3-96DA-A55DF64E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D2A49-0E39-4CF0-8B25-55802743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2635C-A45D-4DB7-9654-AAC9AF10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B2C-EA5F-4D1B-8299-784B1B2D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54BC7-483F-46CB-98D0-D6AF3228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BA763-0F57-4B1B-86E8-38FB2E09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20A7C-154E-49EB-99D7-453F206A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1A424-CA85-46DD-8133-C9008EEF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E8B32-5446-4937-81DB-372F4522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13727-FFE4-4A9D-A64B-DEFB5DDF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65AA4-69DD-4259-8173-AF28D168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0AEC5-E3F6-42AB-B83D-B701F121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04AA9-3D0D-4283-80F1-79806B1D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902D6-A6D2-4AF7-B180-DB07BD8D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B5B-1A48-4554-A344-CF4B3ADA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383B6-5250-49E7-B23B-5BE62B3F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75F9C-C977-46E7-ABEA-B8CCDEDA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7AFE0-DB71-4969-AD75-4C13FAAF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F2EDA-C8E3-46E8-AFF4-591FBF4D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BB0F4-C238-4DEC-BBA4-B4EC6745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85F70-C35D-4FF3-8313-C45BFD0C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36899-2A48-42BB-90E8-4C9583A9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AEB53-F482-49B9-A2D7-1688800E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BFF9F-FB7C-4B96-8B4C-1C22A5C0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D7FF3-A2F9-48CF-8897-0F9EA0C5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4D44-31A3-45C7-9661-27F01AE9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F97D5-8DCB-48E4-B1E8-93B5C9CF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990E8-EFCB-41E1-AF6B-4727C45B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F17C7-5C50-43B2-8D63-45608816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ED48F-8FC3-419C-896D-B7EFC4FB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111A9-B83F-42B2-93FF-445D7471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D1DF7-10E3-4227-872D-09FEDAB8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C7E69-3EF8-4E3D-99CA-C8326C71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E2CD2-5A71-48D6-80B2-F89CA45A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92A85-DA8A-438D-AB2F-07B74F3E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D31EC-854C-4B6F-8D37-D3CABDD0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6DC-AFD8-433B-A8BE-8108EF8B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86596-1C43-4EEA-BDBA-A6DC562C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FD726-0A0B-4503-BE07-438EFF2F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BCF7A-B240-4E68-9BDD-67FB9CB6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DA916-B352-4616-840D-1ADD1C1E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81875-2096-47E2-8D13-0D1BA261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FE33A-F552-4A78-88F9-5F659FDB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5E2BD-01EE-4D35-8732-2BD7DD5A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066C4-872E-4BD7-B9EA-427E335F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46457-2CFA-4C34-B3F7-7FBD89B9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03678-EB30-4D64-A194-7F2C8270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8DAE-9550-4599-8938-08C981E6C7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9E63-E2C0-4F60-BE2B-2B1EF838AA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2C23-E050-40E9-9945-412C509321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B0C0-19DE-43F5-8C84-399DD4FFD0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CADD-24EF-4EC3-9532-219B0E07CF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CAEA-69D0-4DC0-BC78-000F209401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7A17-DA4B-479E-9570-EA8DB042E1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1745-79C1-4EE3-814E-A1B74B05F3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D2E7-2BF6-4F4B-929E-31BFFB1578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13FE-2FD6-48E0-9C17-95567D16E0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B444-E6AE-4A03-8C03-1150327B34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3A44-523B-4AB7-8A99-B0E4E1B7C9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6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7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8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9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20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21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5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7"/>
          <p:cNvSpPr/>
          <p:nvPr/>
        </p:nvSpPr>
        <p:spPr>
          <a:xfrm>
            <a:off x="1219320" y="5410080"/>
            <a:ext cx="3504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howing variation in col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8"/>
          <p:cNvSpPr/>
          <p:nvPr/>
        </p:nvSpPr>
        <p:spPr>
          <a:xfrm>
            <a:off x="6477120" y="5486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1052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8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9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0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22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24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AutoShape 25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27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AutoShape 28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29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30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32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35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36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AutoShape 37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38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39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40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41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42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43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1052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1054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1055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AutoShape 1056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AutoShape 1057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AutoShape 1058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AutoShape 1059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AutoShape 1060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1061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AutoShape 1062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AutoShape 1063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AutoShape 1064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AutoShape 1065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AutoShape 1066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AutoShape 1067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AutoShape 1068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AutoShape 1069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AutoShape 1070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AutoShape 1071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AutoShape 1072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1073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AutoShape 1074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43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AutoShape 44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AutoShape 37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38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AutoShape 39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AutoShape 40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7"/>
          <p:cNvSpPr/>
          <p:nvPr/>
        </p:nvSpPr>
        <p:spPr>
          <a:xfrm>
            <a:off x="685800" y="38088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29"/>
          <p:cNvSpPr/>
          <p:nvPr/>
        </p:nvSpPr>
        <p:spPr>
          <a:xfrm>
            <a:off x="10666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AutoShape 1026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AutoShape 102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AutoShape 102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102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AutoShape 103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03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03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03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1034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AutoShape 1036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AutoShape 1037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AutoShape 1038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AutoShape 1039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040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AutoShape 10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AutoShape 10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AutoShape 10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AutoShape 10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AutoShape 10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AutoShape 10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AutoShape 1047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AutoShape 1048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AutoShape 1049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AutoShape 1050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1051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27432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1447920" y="2514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2286000" y="3581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8"/>
          <p:cNvSpPr/>
          <p:nvPr/>
        </p:nvSpPr>
        <p:spPr>
          <a:xfrm>
            <a:off x="3809880" y="2286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548640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59436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13"/>
          <p:cNvSpPr/>
          <p:nvPr/>
        </p:nvSpPr>
        <p:spPr>
          <a:xfrm>
            <a:off x="6629400" y="2133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21337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762120" y="228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24"/>
          <p:cNvSpPr/>
          <p:nvPr/>
        </p:nvSpPr>
        <p:spPr>
          <a:xfrm>
            <a:off x="1523880" y="3352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25"/>
          <p:cNvSpPr/>
          <p:nvPr/>
        </p:nvSpPr>
        <p:spPr>
          <a:xfrm>
            <a:off x="2971800" y="4038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26"/>
          <p:cNvSpPr/>
          <p:nvPr/>
        </p:nvSpPr>
        <p:spPr>
          <a:xfrm>
            <a:off x="45720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27"/>
          <p:cNvSpPr/>
          <p:nvPr/>
        </p:nvSpPr>
        <p:spPr>
          <a:xfrm>
            <a:off x="5867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28"/>
          <p:cNvSpPr/>
          <p:nvPr/>
        </p:nvSpPr>
        <p:spPr>
          <a:xfrm>
            <a:off x="609588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6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AutoShape 23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24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25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AutoShape 26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27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8"/>
          <p:cNvSpPr/>
          <p:nvPr/>
        </p:nvSpPr>
        <p:spPr>
          <a:xfrm>
            <a:off x="1355760" y="575640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9"/>
          <p:cNvSpPr/>
          <p:nvPr/>
        </p:nvSpPr>
        <p:spPr>
          <a:xfrm>
            <a:off x="1584360" y="575640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2"/>
          <p:cNvSpPr/>
          <p:nvPr/>
        </p:nvSpPr>
        <p:spPr>
          <a:xfrm>
            <a:off x="990720" y="762120"/>
            <a:ext cx="7543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2"/>
          <p:cNvSpPr/>
          <p:nvPr/>
        </p:nvSpPr>
        <p:spPr>
          <a:xfrm>
            <a:off x="533520" y="49860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11"/>
          <p:cNvSpPr/>
          <p:nvPr/>
        </p:nvSpPr>
        <p:spPr>
          <a:xfrm>
            <a:off x="4800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2"/>
          <p:cNvSpPr/>
          <p:nvPr/>
        </p:nvSpPr>
        <p:spPr>
          <a:xfrm>
            <a:off x="68580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>
            <a:hlinkClick r:id="" action="ppaction://hlinkshowjump?jump=nextslide"/>
          </p:cNvPr>
          <p:cNvSpPr/>
          <p:nvPr/>
        </p:nvSpPr>
        <p:spPr>
          <a:xfrm>
            <a:off x="6019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2"/>
          <p:cNvSpPr/>
          <p:nvPr/>
        </p:nvSpPr>
        <p:spPr>
          <a:xfrm>
            <a:off x="6858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24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25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2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2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23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24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25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2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27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28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29"/>
          <p:cNvSpPr/>
          <p:nvPr/>
        </p:nvSpPr>
        <p:spPr>
          <a:xfrm>
            <a:off x="1050840" y="52992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1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20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21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22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23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8"/>
          <p:cNvSpPr/>
          <p:nvPr/>
        </p:nvSpPr>
        <p:spPr>
          <a:xfrm>
            <a:off x="6019920" y="11430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32"/>
          <p:cNvSpPr/>
          <p:nvPr/>
        </p:nvSpPr>
        <p:spPr>
          <a:xfrm>
            <a:off x="5791320" y="19051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35"/>
          <p:cNvSpPr/>
          <p:nvPr/>
        </p:nvSpPr>
        <p:spPr>
          <a:xfrm>
            <a:off x="4038480" y="1981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36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30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31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32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3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4"/>
          <p:cNvSpPr/>
          <p:nvPr/>
        </p:nvSpPr>
        <p:spPr>
          <a:xfrm>
            <a:off x="1143000" y="380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35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7:15:31Z</dcterms:created>
  <dc:creator>Default</dc:creator>
  <dc:description/>
  <dc:language>en-US</dc:language>
  <cp:lastModifiedBy>LEGION2</cp:lastModifiedBy>
  <dcterms:modified xsi:type="dcterms:W3CDTF">2016-01-12T07:48:48Z</dcterms:modified>
  <cp:revision>13</cp:revision>
  <dc:subject/>
  <dc:title>PowerPoint Presentation</dc:title>
</cp:coreProperties>
</file>