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644F-6A8E-46FB-8911-212C6FD036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BE0-132A-47F9-90FB-3913DF65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F3A-2836-40CA-898F-A440D495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BF9-B3F0-4A1C-B8F5-997BB9AF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9C9-FEB2-4F3B-80C8-A47E8617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AA0-249D-4CF7-9C63-C26325B0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1FC-83FD-481E-B2E8-39771163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A7D-BB01-4B9A-9267-EDF39F0B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B00-7B37-436A-B46E-6F56024D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B48-B109-46FF-9118-FA9FB5B8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DE1-3DDC-432A-9849-AC14EC5A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72C-51D4-40FA-A831-FDE87ABC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A7B-F8DD-44CC-B2CA-3FB5B4EF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EBEB-4A17-45AC-BD73-07B6D31163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oup 7 –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0160" y="2205000"/>
          <a:ext cx="5962680" cy="277344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764480" y="1268280"/>
          <a:ext cx="1055520" cy="4319640"/>
        </p:xfrm>
        <a:graphic>
          <a:graphicData uri="http://schemas.openxmlformats.org/drawingml/2006/table">
            <a:tbl>
              <a:tblPr/>
              <a:tblGrid>
                <a:gridCol w="1055520"/>
              </a:tblGrid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1" name="Line 225"/>
          <p:cNvSpPr/>
          <p:nvPr/>
        </p:nvSpPr>
        <p:spPr>
          <a:xfrm flipV="1">
            <a:off x="5830920" y="1308240"/>
            <a:ext cx="1933560" cy="123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6"/>
          <p:cNvSpPr/>
          <p:nvPr/>
        </p:nvSpPr>
        <p:spPr>
          <a:xfrm>
            <a:off x="5830920" y="4230720"/>
            <a:ext cx="1933560" cy="138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ti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689120"/>
          <a:ext cx="1047600" cy="4307040"/>
        </p:xfrm>
        <a:graphic>
          <a:graphicData uri="http://schemas.openxmlformats.org/drawingml/2006/table">
            <a:tbl>
              <a:tblPr/>
              <a:tblGrid>
                <a:gridCol w="104760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228"/>
          <p:cNvSpPr/>
          <p:nvPr/>
        </p:nvSpPr>
        <p:spPr>
          <a:xfrm>
            <a:off x="161928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9"/>
          <p:cNvSpPr/>
          <p:nvPr/>
        </p:nvSpPr>
        <p:spPr>
          <a:xfrm>
            <a:off x="1619280" y="2924280"/>
            <a:ext cx="158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y/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0"/>
          <p:cNvSpPr/>
          <p:nvPr/>
        </p:nvSpPr>
        <p:spPr>
          <a:xfrm>
            <a:off x="313200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1"/>
          <p:cNvSpPr/>
          <p:nvPr/>
        </p:nvSpPr>
        <p:spPr>
          <a:xfrm>
            <a:off x="3203640" y="2924280"/>
            <a:ext cx="13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2"/>
          <p:cNvSpPr/>
          <p:nvPr/>
        </p:nvSpPr>
        <p:spPr>
          <a:xfrm>
            <a:off x="1619280" y="1989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4"/>
          <p:cNvSpPr/>
          <p:nvPr/>
        </p:nvSpPr>
        <p:spPr>
          <a:xfrm>
            <a:off x="4716360" y="90792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5"/>
          <p:cNvSpPr/>
          <p:nvPr/>
        </p:nvSpPr>
        <p:spPr>
          <a:xfrm>
            <a:off x="169236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6"/>
          <p:cNvSpPr/>
          <p:nvPr/>
        </p:nvSpPr>
        <p:spPr>
          <a:xfrm>
            <a:off x="320364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7"/>
          <p:cNvSpPr/>
          <p:nvPr/>
        </p:nvSpPr>
        <p:spPr>
          <a:xfrm>
            <a:off x="3182760" y="198900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48"/>
          <p:cNvGrpSpPr/>
          <p:nvPr/>
        </p:nvGrpSpPr>
        <p:grpSpPr>
          <a:xfrm>
            <a:off x="4932360" y="1052640"/>
            <a:ext cx="576000" cy="4752720"/>
            <a:chOff x="4932360" y="1052640"/>
            <a:chExt cx="576000" cy="4752720"/>
          </a:xfrm>
        </p:grpSpPr>
        <p:sp>
          <p:nvSpPr>
            <p:cNvPr id="65" name="Line 240"/>
            <p:cNvSpPr/>
            <p:nvPr/>
          </p:nvSpPr>
          <p:spPr>
            <a:xfrm>
              <a:off x="4932360" y="1052640"/>
              <a:ext cx="0" cy="475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41"/>
            <p:cNvSpPr/>
            <p:nvPr/>
          </p:nvSpPr>
          <p:spPr>
            <a:xfrm rot="5400000">
              <a:off x="3380400" y="353448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MOLECULAR  S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9"/>
          <p:cNvGrpSpPr/>
          <p:nvPr/>
        </p:nvGrpSpPr>
        <p:grpSpPr>
          <a:xfrm>
            <a:off x="5940360" y="1125360"/>
            <a:ext cx="510840" cy="4753080"/>
            <a:chOff x="5940360" y="1125360"/>
            <a:chExt cx="510840" cy="4753080"/>
          </a:xfrm>
        </p:grpSpPr>
        <p:sp>
          <p:nvSpPr>
            <p:cNvPr id="68" name="Line 242"/>
            <p:cNvSpPr/>
            <p:nvPr/>
          </p:nvSpPr>
          <p:spPr>
            <a:xfrm>
              <a:off x="594036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45"/>
            <p:cNvSpPr/>
            <p:nvPr/>
          </p:nvSpPr>
          <p:spPr>
            <a:xfrm rot="5400000">
              <a:off x="4323240" y="345996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0"/>
          <p:cNvGrpSpPr/>
          <p:nvPr/>
        </p:nvGrpSpPr>
        <p:grpSpPr>
          <a:xfrm>
            <a:off x="7812000" y="1125360"/>
            <a:ext cx="511200" cy="4753080"/>
            <a:chOff x="7812000" y="1125360"/>
            <a:chExt cx="511200" cy="4753080"/>
          </a:xfrm>
        </p:grpSpPr>
        <p:sp>
          <p:nvSpPr>
            <p:cNvPr id="71" name="Line 244"/>
            <p:cNvSpPr/>
            <p:nvPr/>
          </p:nvSpPr>
          <p:spPr>
            <a:xfrm>
              <a:off x="781200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47"/>
            <p:cNvSpPr/>
            <p:nvPr/>
          </p:nvSpPr>
          <p:spPr>
            <a:xfrm rot="5400000">
              <a:off x="6195240" y="331704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CREASING RE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964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659640" y="119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56000" y="1197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68360" y="1844640"/>
            <a:ext cx="187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oth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xtraction of 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n stick co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richment of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84360" y="1844640"/>
            <a:ext cx="1873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dis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l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572000" y="183672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otographic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ar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lame retard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732720" y="177336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isinfec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alogen l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X ray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alt add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hyroi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anc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468360" y="105264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kali metals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6"/>
          <p:cNvGrpSpPr/>
          <p:nvPr/>
        </p:nvGrpSpPr>
        <p:grpSpPr>
          <a:xfrm>
            <a:off x="611280" y="1916280"/>
            <a:ext cx="7921440" cy="398880"/>
            <a:chOff x="611280" y="1916280"/>
            <a:chExt cx="7921440" cy="398880"/>
          </a:xfrm>
        </p:grpSpPr>
        <p:sp>
          <p:nvSpPr>
            <p:cNvPr id="85" name="Text Box 22"/>
            <p:cNvSpPr/>
            <p:nvPr/>
          </p:nvSpPr>
          <p:spPr>
            <a:xfrm>
              <a:off x="611280" y="1916280"/>
              <a:ext cx="792144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LKALI METAL  +  HALOGEN                                METAL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4356000" y="213372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24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2"/>
          <p:cNvGrpSpPr/>
          <p:nvPr/>
        </p:nvGrpSpPr>
        <p:grpSpPr>
          <a:xfrm>
            <a:off x="611280" y="2637000"/>
            <a:ext cx="7921440" cy="459720"/>
            <a:chOff x="611280" y="2637000"/>
            <a:chExt cx="7921440" cy="459720"/>
          </a:xfrm>
        </p:grpSpPr>
        <p:sp>
          <p:nvSpPr>
            <p:cNvPr id="89" name="Text Box 27"/>
            <p:cNvSpPr/>
            <p:nvPr/>
          </p:nvSpPr>
          <p:spPr>
            <a:xfrm>
              <a:off x="611280" y="2637000"/>
              <a:ext cx="792144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odium       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  Sodium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4427640" y="285264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1"/>
          <p:cNvGrpSpPr/>
          <p:nvPr/>
        </p:nvGrpSpPr>
        <p:grpSpPr>
          <a:xfrm>
            <a:off x="611280" y="3357720"/>
            <a:ext cx="7921440" cy="510120"/>
            <a:chOff x="611280" y="3357720"/>
            <a:chExt cx="7921440" cy="510120"/>
          </a:xfrm>
        </p:grpSpPr>
        <p:sp>
          <p:nvSpPr>
            <p:cNvPr id="92" name="Text Box 29"/>
            <p:cNvSpPr/>
            <p:nvPr/>
          </p:nvSpPr>
          <p:spPr>
            <a:xfrm>
              <a:off x="611280" y="3357720"/>
              <a:ext cx="792144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Na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Na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0"/>
            <p:cNvSpPr/>
            <p:nvPr/>
          </p:nvSpPr>
          <p:spPr>
            <a:xfrm>
              <a:off x="4427640" y="357336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6"/>
          <p:cNvGrpSpPr/>
          <p:nvPr/>
        </p:nvGrpSpPr>
        <p:grpSpPr>
          <a:xfrm>
            <a:off x="395280" y="4292640"/>
            <a:ext cx="5545080" cy="1783080"/>
            <a:chOff x="395280" y="4292640"/>
            <a:chExt cx="5545080" cy="1783080"/>
          </a:xfrm>
        </p:grpSpPr>
        <p:sp>
          <p:nvSpPr>
            <p:cNvPr id="95" name="Text Box 33"/>
            <p:cNvSpPr/>
            <p:nvPr/>
          </p:nvSpPr>
          <p:spPr>
            <a:xfrm>
              <a:off x="395280" y="429264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Lithium 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otassium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4"/>
            <p:cNvSpPr/>
            <p:nvPr/>
          </p:nvSpPr>
          <p:spPr>
            <a:xfrm>
              <a:off x="2987640" y="5229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2987640" y="5805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7"/>
          <p:cNvSpPr/>
          <p:nvPr/>
        </p:nvSpPr>
        <p:spPr>
          <a:xfrm>
            <a:off x="5580000" y="486900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395280" y="6237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ydrogen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1"/>
          <p:cNvGrpSpPr/>
          <p:nvPr/>
        </p:nvGrpSpPr>
        <p:grpSpPr>
          <a:xfrm>
            <a:off x="395280" y="1916280"/>
            <a:ext cx="8023320" cy="398880"/>
            <a:chOff x="395280" y="1916280"/>
            <a:chExt cx="8023320" cy="398880"/>
          </a:xfrm>
        </p:grpSpPr>
        <p:sp>
          <p:nvSpPr>
            <p:cNvPr id="103" name="Text Box 5"/>
            <p:cNvSpPr/>
            <p:nvPr/>
          </p:nvSpPr>
          <p:spPr>
            <a:xfrm>
              <a:off x="395280" y="1916280"/>
              <a:ext cx="802332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YDROGEN  +  HALOGEN                              HYDROGEN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3780000" y="2133720"/>
              <a:ext cx="17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2"/>
          <p:cNvGrpSpPr/>
          <p:nvPr/>
        </p:nvGrpSpPr>
        <p:grpSpPr>
          <a:xfrm>
            <a:off x="395280" y="2637000"/>
            <a:ext cx="8064360" cy="459720"/>
            <a:chOff x="395280" y="2637000"/>
            <a:chExt cx="8064360" cy="459720"/>
          </a:xfrm>
        </p:grpSpPr>
        <p:sp>
          <p:nvSpPr>
            <p:cNvPr id="106" name="Text Box 9"/>
            <p:cNvSpPr/>
            <p:nvPr/>
          </p:nvSpPr>
          <p:spPr>
            <a:xfrm>
              <a:off x="395280" y="2637000"/>
              <a:ext cx="806436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ydrogen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Hydrogen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3780000" y="28526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395280" y="3357720"/>
            <a:ext cx="7993080" cy="510120"/>
            <a:chOff x="395280" y="3357720"/>
            <a:chExt cx="7993080" cy="510120"/>
          </a:xfrm>
        </p:grpSpPr>
        <p:sp>
          <p:nvSpPr>
            <p:cNvPr id="109" name="Text Box 12"/>
            <p:cNvSpPr/>
            <p:nvPr/>
          </p:nvSpPr>
          <p:spPr>
            <a:xfrm>
              <a:off x="395280" y="3357720"/>
              <a:ext cx="799308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+  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H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370836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395280" y="4149720"/>
            <a:ext cx="5545080" cy="1783080"/>
            <a:chOff x="395280" y="4149720"/>
            <a:chExt cx="5545080" cy="1783080"/>
          </a:xfrm>
        </p:grpSpPr>
        <p:sp>
          <p:nvSpPr>
            <p:cNvPr id="112" name="Text Box 15"/>
            <p:cNvSpPr/>
            <p:nvPr/>
          </p:nvSpPr>
          <p:spPr>
            <a:xfrm>
              <a:off x="395280" y="414972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>
              <a:off x="2987640" y="5086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2987640" y="5662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8"/>
          <p:cNvSpPr/>
          <p:nvPr/>
        </p:nvSpPr>
        <p:spPr>
          <a:xfrm>
            <a:off x="5580000" y="472428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395280" y="61657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ater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2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324000" y="1557360"/>
            <a:ext cx="8497800" cy="398880"/>
            <a:chOff x="324000" y="1557360"/>
            <a:chExt cx="8497800" cy="398880"/>
          </a:xfrm>
        </p:grpSpPr>
        <p:sp>
          <p:nvSpPr>
            <p:cNvPr id="120" name="Text Box 5"/>
            <p:cNvSpPr/>
            <p:nvPr/>
          </p:nvSpPr>
          <p:spPr>
            <a:xfrm>
              <a:off x="324000" y="1557360"/>
              <a:ext cx="849780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ATER   +  HALOGEN                         ACID 1       +        ACI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3348000" y="177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324000" y="2205000"/>
            <a:ext cx="8497800" cy="833040"/>
            <a:chOff x="324000" y="2205000"/>
            <a:chExt cx="8497800" cy="833040"/>
          </a:xfrm>
        </p:grpSpPr>
        <p:sp>
          <p:nvSpPr>
            <p:cNvPr id="124" name="Text Box 9"/>
            <p:cNvSpPr/>
            <p:nvPr/>
          </p:nvSpPr>
          <p:spPr>
            <a:xfrm>
              <a:off x="324000" y="2205000"/>
              <a:ext cx="8497800" cy="833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ter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ic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+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3132000" y="2421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324000" y="3357720"/>
            <a:ext cx="8496000" cy="510120"/>
            <a:chOff x="324000" y="3357720"/>
            <a:chExt cx="8496000" cy="510120"/>
          </a:xfrm>
        </p:grpSpPr>
        <p:sp>
          <p:nvSpPr>
            <p:cNvPr id="127" name="Text Box 12"/>
            <p:cNvSpPr/>
            <p:nvPr/>
          </p:nvSpPr>
          <p:spPr>
            <a:xfrm>
              <a:off x="324000" y="3357720"/>
              <a:ext cx="849600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HCl          +       HO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98764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5"/>
          <p:cNvSpPr/>
          <p:nvPr/>
        </p:nvSpPr>
        <p:spPr>
          <a:xfrm>
            <a:off x="324000" y="436572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also happens with Bromine and Iodine and the acids formed are much strong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3:23:13Z</dcterms:created>
  <dc:creator>AJ Foakes</dc:creator>
  <dc:description/>
  <dc:language>en-US</dc:language>
  <cp:lastModifiedBy>LEGION</cp:lastModifiedBy>
  <dcterms:modified xsi:type="dcterms:W3CDTF">2015-09-04T12:23:21Z</dcterms:modified>
  <cp:revision>15</cp:revision>
  <dc:subject/>
  <dc:title>Group 7 – The Halogens</dc:title>
</cp:coreProperties>
</file>