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993B2-E460-4F8B-99CA-9BC6E93C01C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in 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in 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Trait and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larial reg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natural selection favours people with genotype 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that are HH will die during serious outbreaks of the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s loses selective advantage in non-malarial 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Trait and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larial reg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natural selection favours people with genotype 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that are HH will die during serious outbreaks of the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s loses selective advantage in non-malarial 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 Melanism in Peppered M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forms of Biston betularia (peppered mo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elan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 Melanism in Peppered M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forms of Biston betularia (peppered mo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elan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ston betu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 by only one allele of the gene forming dark pigment (melan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forms fly by 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forms rest on trees during the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ston betu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 by only one allele of the gene forming dark pigment (melan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forms fly by 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forms rest on trees during the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or to Industrial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 1800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form common throughout Bri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arose by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very r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or to Industrial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 1800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form common throughout Bri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arose by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very r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peppered mo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non-polluted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ree trunks covered with pale coloured lich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h well camouflaged against pale back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form easily seen and eaten by pred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peppered mo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non-polluted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ree trunks covered with pale coloured lich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h well camouflaged against pale back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form easily seen and eaten by pred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ey in the 1950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le form most abundant in non-industrial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forms most abundant in areas suffering from heavy air-pol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ey in the 1950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le form most abundant in non-industrial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forms most abundant in areas suffering from heavy air-pol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son for chan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olluted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oxic gases kill lic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oot particles darken tree tru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coloured well hidden and favoured by natur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coloured moth easily s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son for chan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olluted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oxic gases kill lic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oot particles darken tree tru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coloured well hidden and favoured by natur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coloured moth easily s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ies of two forms of peppered moths in the 1950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ies of two forms of peppered moths in the 1950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ural Selection in 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st mutations produce inferior versions of original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me mutations allow adaption to a chang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utant allele gives mutant form of organism a selective advan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ange in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abiotic factor (e.g. pollu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biotic factor (e.g. disea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in 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mutations produce inferior versions of original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utations allow adaption to a chang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nt allele gives mutant form of organism a selective advan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in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biotic factor (e.g. pollu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biotic factor (e.g. disea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anae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ally transmitted disease of the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d by presence of abnormal haemoglobin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normality occurs as result of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anae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ally transmitted disease of the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d by presence of abnormal haemoglobin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normality occurs as result of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emoglobin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 – allele for normal haemo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 – allele for haemoglobin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ople homozygous for mutant allele (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sickle-shaped red blood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inefficient at carrying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cells clump together interfering with cir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emoglobin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– allele for normal haemo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– allele for haemoglobin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homozygous for mutant allele (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ickle-shaped red blood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nefficient at carrying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cells clump together interfering with cir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ptoms of Sickle Cell Anae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ti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eathless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pid heart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layed growth and pub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sceptibility to inf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lcers on the lower legs (in adolescents and adult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aund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tacks of abdominal 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eak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oint 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om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loody (hematuria) ur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cessive thi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cessive penis 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iap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st 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creased fert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toms of Sickle Cell Anae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i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thless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heart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layed growth and pub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sceptibility to inf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cers on the lower legs (in adolescents and adult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und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acks of abdominal 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k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int 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m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y (hematuria) ur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ssive thi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ssive penis 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ap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st 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reased fert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mplete domi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H incompletely dominant to allele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zygotes – 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S partially exp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Tra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 third of the haemoglobin is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mplete domi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H incompletely dominant to allele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zygotes – 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S partially exp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Tra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 third of the haemoglobin is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Anemia in Af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S rare in populations as semi-leth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arts of Africa up to 40% of population is 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with Sickle Cell Trait resistant to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Anemia in Af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S rare in populations as semi-leth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arts of Africa up to 40% of population is 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with Sickle Cell Trait resistant to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on of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on of sickle cell tra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on of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on of sickle cell tra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7B0C-51AA-4E03-B9A5-3692CD485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CDEF-9522-4B1F-9D3B-FF95719FA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6B42-03E1-4263-937F-4DD30E941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41AD-5A7C-4BE5-9BFD-D5E7DA320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37FC-203F-497D-B106-C0ACFE802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34B8-9743-4B24-A145-15AD11C2B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204C-9C6F-46C2-B280-5796508E2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04EB-FCE2-42B6-AD8A-18F6B33F0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1130-6F74-48BA-9597-52380B280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AA66-D7A6-4602-AC65-15179EF5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8054-9317-450D-A574-45977CE8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6091-9C16-40FC-8CC0-B0B8A4AA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09C84-1899-4CFF-BCEC-362AC29ED1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audio" Target="../media/whoosh.wav"/><Relationship Id="rId15" Type="http://schemas.openxmlformats.org/officeDocument/2006/relationships/audio" Target="../media/whoosh.wav"/><Relationship Id="rId16" Type="http://schemas.openxmlformats.org/officeDocument/2006/relationships/audio" Target="../media/whoosh.wav"/><Relationship Id="rId17" Type="http://schemas.openxmlformats.org/officeDocument/2006/relationships/audio" Target="../media/whoosh.wav"/><Relationship Id="rId18" Type="http://schemas.openxmlformats.org/officeDocument/2006/relationships/audio" Target="../media/whoosh.wav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atural Selection in 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igher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ickle Cell Trait and Mala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malarial reg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natural selection favours people with genotype 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ople that are HH will die during serious outbreaks of the dis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s loses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elective advantage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non-malarial s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ndustrial Melanism in Peppered Mo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wo forms of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Biston betularia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(peppered mot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2438280" y="3048120"/>
            <a:ext cx="4724640" cy="34956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2819520" y="59436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melan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Comic Sans MS"/>
              </a:rPr>
              <a:t>Biston betula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iffer by only one allele of the gene forming dark pigment (melan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oth forms fly by n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oth forms rest on trees during the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rior to Industrial rev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re 1800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ight form common throughout Brit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ark arose by mu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very r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3809880" y="2362320"/>
            <a:ext cx="5105520" cy="384480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ight peppered mot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In non-polluted area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-tree trunks covered with pale coloured liche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Moth well </a:t>
            </a:r>
            <a:r>
              <a:rPr b="1" lang="en-GB" sz="2500" spc="-1" strike="noStrike">
                <a:solidFill>
                  <a:srgbClr val="000000"/>
                </a:solidFill>
                <a:latin typeface="Comic Sans MS"/>
              </a:rPr>
              <a:t>camouflaged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 against pale backgroun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Dark form easily seen and eaten by predator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5272200" y="1600200"/>
            <a:ext cx="3671640" cy="502920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urvey in the 1950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ale form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ost abundant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n non-industrial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ark forms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ost abundant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n areas suffering from heavy air-pol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4800600" y="2514600"/>
            <a:ext cx="4086360" cy="272268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ason for chang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In polluted area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-toxic gases kill liche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-soot particles darken tree trunk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Dark coloured well hidden and favoured by natural select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Light coloured moth easily see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5278320" y="1676520"/>
            <a:ext cx="3417840" cy="472428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600200" y="0"/>
            <a:ext cx="6781680" cy="67262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228600" y="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requencies of two forms of peppered moths in the 195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atural Selection in 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Most mutations produce inferior versions of original gen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Some mutations allow </a:t>
            </a:r>
            <a:r>
              <a:rPr b="1" lang="en-GB" sz="2500" spc="-1" strike="noStrike">
                <a:solidFill>
                  <a:srgbClr val="000000"/>
                </a:solidFill>
                <a:latin typeface="Comic Sans MS"/>
              </a:rPr>
              <a:t>adaption to a changing environmen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Mutant allele gives mutant form of organism a </a:t>
            </a:r>
            <a:r>
              <a:rPr b="1" lang="en-GB" sz="2500" spc="-1" strike="noStrike">
                <a:solidFill>
                  <a:srgbClr val="000000"/>
                </a:solidFill>
                <a:latin typeface="Comic Sans MS"/>
              </a:rPr>
              <a:t>selective advantag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Change in environmen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-abiotic factor (e.g. pollution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-biotic factor (e.g. disease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ickle cell anaem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enetically transmitted disease of the bl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aused by presence of abnormal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haemoglobin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bnormality occurs as result of mu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emoglobin 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 – allele for normal haemoglob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 – allele for haemoglobin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ople homozygous for mutant allele (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sickle-shaped red blood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inefficient at carrying oxy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cells clump together interfering with circ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82880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ymptoms of Sickle Cell Anaem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atig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reathless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apid heart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ayed growth and puber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usceptibility to inf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ulcers on the lower legs (in adolescents and adult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jaund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ttacks of abdominal p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joint p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e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Vom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loody (hematuria) ur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excessive thir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excessive penis p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riap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hest p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creased fer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ncomplete domin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llele H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completely dominan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o allele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eterozygotes – 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llele S partially expre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ickle Cell Tra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a third of the haemoglobin is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ickle Cell Anemia in Afr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lele S rare in populations as semi-leth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ome parts of Africa up to 40% of population is 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eople with Sickle Cell Trait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resistant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o mal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0" y="1295280"/>
            <a:ext cx="4619520" cy="4724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2"/>
          <a:srcRect l="0" t="15493" r="45371" b="0"/>
          <a:stretch/>
        </p:blipFill>
        <p:spPr>
          <a:xfrm>
            <a:off x="4876920" y="1600200"/>
            <a:ext cx="4038480" cy="42670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609480" y="2286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istribution of mal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5334120" y="609480"/>
            <a:ext cx="35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istribution of sickle cell tr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10:23:54Z</dcterms:created>
  <dc:creator>hhashmi</dc:creator>
  <dc:description/>
  <dc:language>en-US</dc:language>
  <cp:lastModifiedBy>LEGION2</cp:lastModifiedBy>
  <dcterms:modified xsi:type="dcterms:W3CDTF">2016-01-12T07:38:20Z</dcterms:modified>
  <cp:revision>6</cp:revision>
  <dc:subject/>
  <dc:title>Natural Selection in Action</dc:title>
</cp:coreProperties>
</file>