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D05-B271-4402-BE05-93EDBE3EBF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BF5-4DD9-49BB-8809-94FBBEC5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7DC-0F71-489D-A98E-24109A19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6D5-B4A0-4847-9651-C6ED53CC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B61-6D4B-4B33-9CB6-5973A34F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43D-7E42-45B7-B46B-D9BE6BB3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E86-F203-4A59-B07D-72207DB8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6E6-5E1D-49D2-8530-CB66A35A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DE1-6C86-4926-BDFA-20176E4A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723-649A-4204-B6F6-E4B7671E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AE9-12AC-4041-9A5B-0491C7C5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057-4AEA-4308-8856-250A9371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587-D030-451E-B4D8-5091EA18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7189-981D-4E9A-9AA9-C017E5B364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Trait and M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lar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natural selection favours people with genotype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that are HH will die during serious outbreaks of th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s los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ective advantag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non-malarial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ustrial Melanism in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forms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peppered m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ree trunks covered with pale coloured lich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72200" y="1600200"/>
            <a:ext cx="36716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e form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086360" cy="2722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oxic gases kill lich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coloured well hidden and favoured by natural sel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Light coloured moth easily se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utant allele gives mutant form of organism a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Change in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ally transmitted disease of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used by presence of abnorma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normality occurs as result of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 – allele for normal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– allele for haemoglob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homozygous for mutant allele 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ickle-shaped red bloo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inefficient at carrying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cells clump together interfering wit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ymptoms of 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ath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pid hear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ayed growth and pu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sceptibility to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lcers on the lower legs (in adolescents and adul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tacks of abdominal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i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m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(hematuria) ur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th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peni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ap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reased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completely domina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allel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terozygotes –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S partially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ckle Cell 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 third of the haemoglobin i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emia in Af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 S rare in populations as semi-le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parts of Africa up to 40% of population is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with Sickle Cell Trai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a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619520" cy="472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0" t="15493" r="45371" b="0"/>
          <a:stretch/>
        </p:blipFill>
        <p:spPr>
          <a:xfrm>
            <a:off x="4876920" y="16002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09480" y="228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4120" y="609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sickle cell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LEGION2</cp:lastModifiedBy>
  <dcterms:modified xsi:type="dcterms:W3CDTF">2016-01-12T07:38:20Z</dcterms:modified>
  <cp:revision>6</cp:revision>
  <dc:subject/>
  <dc:title>Natural Selection in Action</dc:title>
</cp:coreProperties>
</file>