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whoosh.wav" ContentType="audio/x-wav"/>
  <Override PartName="/ppt/media/image2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05E6B-BF68-4ED4-BEB1-25011BF02B3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 Selection in 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er Bi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 Selection in 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er Bi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ckle Cell Trait and Mala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malarial reg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natural selection favours people with genotype 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that are HH will die during serious outbreaks of the dise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s loses selective advantage in non-malarial si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ckle Cell Trait and Mala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malarial reg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natural selection favours people with genotype 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that are HH will die during serious outbreaks of the dise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s loses selective advantage in non-malarial si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ustrial Melanism in Peppered Mo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forms of Biston betularia (peppered mot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melani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ustrial Melanism in Peppered Mo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forms of Biston betularia (peppered mot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melani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ston betula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 by only one allele of the gene forming dark pigment (melani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forms fly by n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forms rest on trees during the d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ston betula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 by only one allele of the gene forming dark pigment (melani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forms fly by n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forms rest on trees during the d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ior to Industrial r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 1800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form common throughout Brit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rk arose by mu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very r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ior to Industrial r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 1800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form common throughout Brit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rk arose by mu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very r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peppered mot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non-polluted ar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tree trunks covered with pale coloured lich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h well camouflaged against pale backgro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rk form easily seen and eaten by pred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peppered mot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non-polluted ar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tree trunks covered with pale coloured lich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h well camouflaged against pale backgro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rk form easily seen and eaten by pred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vey in the 1950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le form most abundant in non-industrial ar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rk forms most abundant in areas suffering from heavy air-pol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vey in the 1950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le form most abundant in non-industrial ar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rk forms most abundant in areas suffering from heavy air-pol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son for chang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polluted ar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toxic gases kill lic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soot particles darken tree trun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rk coloured well hidden and favoured by natural sel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coloured moth easily se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son for chang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polluted ar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toxic gases kill lic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soot particles darken tree trun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rk coloured well hidden and favoured by natural sel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coloured moth easily se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quencies of two forms of peppered moths in the 1950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quencies of two forms of peppered moths in the 1950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tural Selection in 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ost mutations produce inferior versions of original ge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ome mutations allow adaption to a changing environ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utant allele gives mutant form of organism a selective advant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hange in environ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-abiotic factor (e.g. pollu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-biotic factor (e.g. diseas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 Selection in 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mutations produce inferior versions of original ge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mutations allow adaption to a changing environ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tant allele gives mutant form of organism a selective advant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 in environ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abiotic factor (e.g. pollu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biotic factor (e.g. diseas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ckle cell anaem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tically transmitted disease of the bl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used by presence of abnormal haemoglobin 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normality occurs as result of mu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ckle cell anaem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tically transmitted disease of the bl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used by presence of abnormal haemoglobin 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normality occurs as result of mu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aemoglobin 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 – allele for normal haemoglob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 – allele for haemoglobin 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eople homozygous for mutant allele (S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-sickle-shaped red blood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-inefficient at carrying oxy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-cells clump together interfering with circ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emoglobin 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 – allele for normal haemoglob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 – allele for haemoglobin 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homozygous for mutant allele (S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sickle-shaped red blood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inefficient at carrying oxy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cells clump together interfering with circ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ptoms of Sickle Cell Anaem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atig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reathless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apid heart 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elayed growth and puber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usceptibility to inf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ulcers on the lower legs (in adolescents and adults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aund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tacks of abdominal p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eak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oint p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e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Vom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loody (hematuria) urin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xcessive thir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xcessive penis p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riap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hest p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ecreased ferti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ptoms of Sickle Cell Anaem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tig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eathless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pid heart 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layed growth and puber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sceptibility to inf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lcers on the lower legs (in adolescents and adults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aund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tacks of abdominal p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ak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int p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m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oody (hematuria) urin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cessive thir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cessive penis p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iap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st p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reased ferti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omplete domin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ele H incompletely dominant to allele 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terozygotes – 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ele S partially expres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ckle Cell Tra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a third of the haemoglobin is 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omplete domin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ele H incompletely dominant to allele 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terozygotes – 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ele S partially expres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ckle Cell Tra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a third of the haemoglobin is 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ckle Cell Anemia in Afr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ele S rare in populations as semi-leth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parts of Africa up to 40% of population is 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with Sickle Cell Trait resistant to mala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ckle Cell Anemia in Afr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ele S rare in populations as semi-leth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parts of Africa up to 40% of population is 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with Sickle Cell Trait resistant to mala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bution of mala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bution of sickle cell tra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bution of mala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bution of sickle cell tra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C7651-8C46-4DFB-ACA7-6757341E4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ED64C-9408-4A00-9AE1-837B4F23D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EB56F-0909-4AD9-BD86-D76B6CF98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A3DC0-69FF-44CA-A30D-FE514BDB8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CEC36-A2F4-4669-AE86-E5478A2D1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DD23E-6FBA-4F6C-82D1-71C2F3FB1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E708A-4AC7-461C-BC01-742759F38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5C95E-CC3E-44DC-8561-5D8CA19D4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26E11-73EA-4BB5-88B3-507C3537E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C6D98-A284-4ABA-91D8-239E8F5ED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68369-FC79-43A8-B88C-69DF8EC56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26274-5CB1-40A4-A808-6EEDC940B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6772C-D1F5-4923-BE14-6F717170FCF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audio" Target="../media/whoosh.wav"/><Relationship Id="rId10" Type="http://schemas.openxmlformats.org/officeDocument/2006/relationships/audio" Target="../media/whoosh.wav"/><Relationship Id="rId11" Type="http://schemas.openxmlformats.org/officeDocument/2006/relationships/audio" Target="../media/whoosh.wav"/><Relationship Id="rId12" Type="http://schemas.openxmlformats.org/officeDocument/2006/relationships/audio" Target="../media/whoosh.wav"/><Relationship Id="rId13" Type="http://schemas.openxmlformats.org/officeDocument/2006/relationships/audio" Target="../media/whoosh.wav"/><Relationship Id="rId14" Type="http://schemas.openxmlformats.org/officeDocument/2006/relationships/audio" Target="../media/whoosh.wav"/><Relationship Id="rId15" Type="http://schemas.openxmlformats.org/officeDocument/2006/relationships/audio" Target="../media/whoosh.wav"/><Relationship Id="rId16" Type="http://schemas.openxmlformats.org/officeDocument/2006/relationships/audio" Target="../media/whoosh.wav"/><Relationship Id="rId17" Type="http://schemas.openxmlformats.org/officeDocument/2006/relationships/audio" Target="../media/whoosh.wav"/><Relationship Id="rId18" Type="http://schemas.openxmlformats.org/officeDocument/2006/relationships/audio" Target="../media/whoosh.wav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Natural Selection in A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Higher Biolo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Sickle Cell Trait and Malar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In malarial reg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-natural selection favours people with genotype H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eople that are HH will die during serious outbreaks of the dis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Hs loses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selective advantage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in non-malarial si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Industrial Melanism in Peppered Mo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wo forms of </a:t>
            </a:r>
            <a:r>
              <a:rPr b="0" i="1" lang="en-GB" sz="3200" spc="-1" strike="noStrike">
                <a:solidFill>
                  <a:srgbClr val="000000"/>
                </a:solidFill>
                <a:latin typeface="Comic Sans MS"/>
              </a:rPr>
              <a:t>Biston betularia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(peppered moth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4" descr=""/>
          <p:cNvPicPr/>
          <p:nvPr/>
        </p:nvPicPr>
        <p:blipFill>
          <a:blip r:embed="rId1"/>
          <a:stretch/>
        </p:blipFill>
        <p:spPr>
          <a:xfrm>
            <a:off x="2438280" y="3048120"/>
            <a:ext cx="4724640" cy="3495600"/>
          </a:xfrm>
          <a:prstGeom prst="rect">
            <a:avLst/>
          </a:prstGeom>
          <a:ln w="0">
            <a:noFill/>
          </a:ln>
        </p:spPr>
      </p:pic>
      <p:sp>
        <p:nvSpPr>
          <p:cNvPr id="82" name="Text Box 5"/>
          <p:cNvSpPr/>
          <p:nvPr/>
        </p:nvSpPr>
        <p:spPr>
          <a:xfrm>
            <a:off x="2819520" y="59436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(melani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0000"/>
                </a:solidFill>
                <a:latin typeface="Comic Sans MS"/>
              </a:rPr>
              <a:t>Biston betular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Differ by only one allele of the gene forming dark pigment (melani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Both forms fly by n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Both forms rest on trees during the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Prior to Industrial revolu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124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re 1800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Light form common throughout Brit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Dark arose by mu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-very r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icture 5" descr=""/>
          <p:cNvPicPr/>
          <p:nvPr/>
        </p:nvPicPr>
        <p:blipFill>
          <a:blip r:embed="rId1"/>
          <a:stretch/>
        </p:blipFill>
        <p:spPr>
          <a:xfrm>
            <a:off x="3809880" y="2362320"/>
            <a:ext cx="5105520" cy="3844800"/>
          </a:xfrm>
          <a:prstGeom prst="rect">
            <a:avLst/>
          </a:prstGeom>
          <a:ln w="0">
            <a:noFill/>
          </a:ln>
        </p:spPr>
      </p:pic>
      <p:sp>
        <p:nvSpPr>
          <p:cNvPr id="9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Light peppered moth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219320"/>
            <a:ext cx="3200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omic Sans MS"/>
              </a:rPr>
              <a:t>In non-polluted area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Comic Sans MS"/>
              </a:rPr>
              <a:t>-tree trunks covered with pale coloured lichen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omic Sans MS"/>
              </a:rPr>
              <a:t>Moth well </a:t>
            </a:r>
            <a:r>
              <a:rPr b="1" lang="en-GB" sz="2500" spc="-1" strike="noStrike">
                <a:solidFill>
                  <a:srgbClr val="000000"/>
                </a:solidFill>
                <a:latin typeface="Comic Sans MS"/>
              </a:rPr>
              <a:t>camouflaged</a:t>
            </a:r>
            <a:r>
              <a:rPr b="0" lang="en-GB" sz="2500" spc="-1" strike="noStrike">
                <a:solidFill>
                  <a:srgbClr val="000000"/>
                </a:solidFill>
                <a:latin typeface="Comic Sans MS"/>
              </a:rPr>
              <a:t> against pale background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omic Sans MS"/>
              </a:rPr>
              <a:t>Dark form easily seen and eaten by predator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4" descr=""/>
          <p:cNvPicPr/>
          <p:nvPr/>
        </p:nvPicPr>
        <p:blipFill>
          <a:blip r:embed="rId1"/>
          <a:stretch/>
        </p:blipFill>
        <p:spPr>
          <a:xfrm>
            <a:off x="5272200" y="1600200"/>
            <a:ext cx="3671640" cy="5029200"/>
          </a:xfrm>
          <a:prstGeom prst="rect">
            <a:avLst/>
          </a:prstGeom>
          <a:ln w="0">
            <a:noFill/>
          </a:ln>
        </p:spPr>
      </p:pic>
      <p:sp>
        <p:nvSpPr>
          <p:cNvPr id="9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Survey in the 1950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Pale form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most abundant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in non-industrial are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Dark forms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most abundant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in areas suffering from heavy air-pollu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Picture 5" descr=""/>
          <p:cNvPicPr/>
          <p:nvPr/>
        </p:nvPicPr>
        <p:blipFill>
          <a:blip r:embed="rId1"/>
          <a:stretch/>
        </p:blipFill>
        <p:spPr>
          <a:xfrm>
            <a:off x="4800600" y="2514600"/>
            <a:ext cx="4086360" cy="2722680"/>
          </a:xfrm>
          <a:prstGeom prst="rect">
            <a:avLst/>
          </a:prstGeom>
          <a:ln w="0">
            <a:noFill/>
          </a:ln>
        </p:spPr>
      </p:pic>
      <p:sp>
        <p:nvSpPr>
          <p:cNvPr id="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Reason for chang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86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omic Sans MS"/>
              </a:rPr>
              <a:t>In polluted area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Comic Sans MS"/>
              </a:rPr>
              <a:t>-toxic gases kill lichen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Comic Sans MS"/>
              </a:rPr>
              <a:t>-soot particles darken tree trunk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omic Sans MS"/>
              </a:rPr>
              <a:t>Dark coloured well hidden and favoured by natural selection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omic Sans MS"/>
              </a:rPr>
              <a:t>Light coloured moth easily seen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icture 5" descr=""/>
          <p:cNvPicPr/>
          <p:nvPr/>
        </p:nvPicPr>
        <p:blipFill>
          <a:blip r:embed="rId1"/>
          <a:stretch/>
        </p:blipFill>
        <p:spPr>
          <a:xfrm>
            <a:off x="5278320" y="1676520"/>
            <a:ext cx="3417840" cy="4724280"/>
          </a:xfrm>
          <a:prstGeom prst="rect">
            <a:avLst/>
          </a:prstGeom>
          <a:ln w="0">
            <a:noFill/>
          </a:ln>
        </p:spPr>
      </p:pic>
      <p:sp>
        <p:nvSpPr>
          <p:cNvPr id="1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"/>
          <p:cNvPicPr/>
          <p:nvPr/>
        </p:nvPicPr>
        <p:blipFill>
          <a:blip r:embed="rId1"/>
          <a:stretch/>
        </p:blipFill>
        <p:spPr>
          <a:xfrm>
            <a:off x="1600200" y="0"/>
            <a:ext cx="6781680" cy="672624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3"/>
          <p:cNvSpPr/>
          <p:nvPr/>
        </p:nvSpPr>
        <p:spPr>
          <a:xfrm>
            <a:off x="228600" y="0"/>
            <a:ext cx="365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Frequencies of two forms of peppered moths in the 1950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Natural Selection in A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omic Sans MS"/>
              </a:rPr>
              <a:t>Most mutations produce inferior versions of original gen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omic Sans MS"/>
              </a:rPr>
              <a:t>Some mutations allow </a:t>
            </a:r>
            <a:r>
              <a:rPr b="1" lang="en-GB" sz="2500" spc="-1" strike="noStrike">
                <a:solidFill>
                  <a:srgbClr val="000000"/>
                </a:solidFill>
                <a:latin typeface="Comic Sans MS"/>
              </a:rPr>
              <a:t>adaption to a changing environment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omic Sans MS"/>
              </a:rPr>
              <a:t>Mutant allele gives mutant form of organism a </a:t>
            </a:r>
            <a:r>
              <a:rPr b="1" lang="en-GB" sz="2500" spc="-1" strike="noStrike">
                <a:solidFill>
                  <a:srgbClr val="000000"/>
                </a:solidFill>
                <a:latin typeface="Comic Sans MS"/>
              </a:rPr>
              <a:t>selective advantag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omic Sans MS"/>
              </a:rPr>
              <a:t>Change in environment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Comic Sans MS"/>
              </a:rPr>
              <a:t>-abiotic factor (e.g. pollution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Comic Sans MS"/>
              </a:rPr>
              <a:t>-biotic factor (e.g. disease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Sickle cell anaem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Genetically transmitted disease of the blo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aused by presence of abnormal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haemoglobin 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bnormality occurs as result of mu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Haemoglobin 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H – allele for normal haemoglob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 – allele for haemoglobin 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eople homozygous for mutant allele (S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-sickle-shaped red blood cel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-inefficient at carrying oxyg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-cells clump together interfering with circu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1828800" y="0"/>
            <a:ext cx="487692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Symptoms of Sickle Cell Anaem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Fatig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Breathless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rapid heart r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delayed growth and puber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susceptibility to infe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ulcers on the lower legs (in adolescents and adults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jaund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attacks of abdominal p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weak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joint p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fe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Vom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bloody (hematuria) ur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excessive thir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excessive penis p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Priap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chest p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decreased fer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6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6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6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6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6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6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6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6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6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6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6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6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6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6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Incomplete domina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llele H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incompletely dominant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to allele 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Heterozygotes – H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llele S partially expres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ickle Cell Tra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-a third of the haemoglobin is 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Sickle Cell Anemia in Afri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llele S rare in populations as semi-leth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ome parts of Africa up to 40% of population is H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People with Sickle Cell Trait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resistant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to malar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4" descr=""/>
          <p:cNvPicPr/>
          <p:nvPr/>
        </p:nvPicPr>
        <p:blipFill>
          <a:blip r:embed="rId1"/>
          <a:stretch/>
        </p:blipFill>
        <p:spPr>
          <a:xfrm>
            <a:off x="0" y="1295280"/>
            <a:ext cx="4619520" cy="47246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5" descr=""/>
          <p:cNvPicPr/>
          <p:nvPr/>
        </p:nvPicPr>
        <p:blipFill>
          <a:blip r:embed="rId2"/>
          <a:srcRect l="0" t="15493" r="45371" b="0"/>
          <a:stretch/>
        </p:blipFill>
        <p:spPr>
          <a:xfrm>
            <a:off x="4876920" y="1600200"/>
            <a:ext cx="4038480" cy="4267080"/>
          </a:xfrm>
          <a:prstGeom prst="rect">
            <a:avLst/>
          </a:prstGeom>
          <a:ln w="0">
            <a:noFill/>
          </a:ln>
        </p:spPr>
      </p:pic>
      <p:sp>
        <p:nvSpPr>
          <p:cNvPr id="73" name="Text Box 6"/>
          <p:cNvSpPr/>
          <p:nvPr/>
        </p:nvSpPr>
        <p:spPr>
          <a:xfrm>
            <a:off x="609480" y="22860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Distribution of mala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7"/>
          <p:cNvSpPr/>
          <p:nvPr/>
        </p:nvSpPr>
        <p:spPr>
          <a:xfrm>
            <a:off x="5334120" y="609480"/>
            <a:ext cx="350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Distribution of sickle cell tra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6T10:23:54Z</dcterms:created>
  <dc:creator>hhashmi</dc:creator>
  <dc:description/>
  <dc:language>en-US</dc:language>
  <cp:lastModifiedBy>LEGION2</cp:lastModifiedBy>
  <dcterms:modified xsi:type="dcterms:W3CDTF">2016-01-12T07:38:20Z</dcterms:modified>
  <cp:revision>6</cp:revision>
  <dc:subject/>
  <dc:title>Natural Selection in Action</dc:title>
</cp:coreProperties>
</file>