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DA32-4651-459B-A48C-FAF5B71DD0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FA2-F53E-452D-898D-EAFE4FEB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B04-66DA-4889-81BB-EF759579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B9D-C7EF-43CD-9538-060454C7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5DE-21EB-4DF5-AC58-300F62E2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6D0A-885C-430E-9842-73E10F7F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AF74-29E9-41C9-8D71-AAF65D62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13EE-B3EF-4A30-957D-389516CD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0F53-CAE9-4007-8234-F2A731E7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F6E1-B314-4F27-A25E-DCA63B01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8CAE-CA93-4E0A-B5F1-7285CBD5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2D89-0ACD-4429-831E-2CF6ED4A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AE6-33F3-4C2B-AE47-4922B312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4012-DFD9-4B7D-9BE2-C4B3E975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AFA4-2D00-4A95-8E18-77B3C3EF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C59E-9DBD-4C85-B350-C7EB4FBB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AF73-53AE-4B27-92CA-84771A9E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B84D-840A-4FCC-888D-3BE218BA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27E-3BBE-40CF-8C2A-0F8DE7A7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5C6-5A9E-4502-BD22-79B8BEBC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819-2A66-451A-841C-5F9810B7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E4F-B7AD-4504-B26F-07671121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B9C-E373-41E2-A7AD-73BE3EED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DD9-8C17-42FF-B7DF-FF15C3C5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AFD-5712-489F-8B95-23AA51E4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17DE-EB8E-4064-9CF6-F7FE75799F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A2BC-A727-4C06-8CEA-ED173853470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Verdana"/>
              </a:rPr>
              <a:t>Animal Adaptations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28" name="Picture 4" descr="bat"/>
          <p:cNvPicPr/>
          <p:nvPr/>
        </p:nvPicPr>
        <p:blipFill>
          <a:blip r:embed="rId1"/>
          <a:stretch/>
        </p:blipFill>
        <p:spPr>
          <a:xfrm>
            <a:off x="4284720" y="3789360"/>
            <a:ext cx="259560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Types of Adapt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ything that helps an organism survive in its environment is an  adaptation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t also refers to the ability of living things to adjust to different conditions within their environ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Protective co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Hiber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Structural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nvolves some part of an animal's bo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ee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ody coverings  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vement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GreatWhite_"/>
          <p:cNvPicPr/>
          <p:nvPr/>
        </p:nvPicPr>
        <p:blipFill>
          <a:blip r:embed="rId1"/>
          <a:stretch/>
        </p:blipFill>
        <p:spPr>
          <a:xfrm>
            <a:off x="4572000" y="3213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Protective Colo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loration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tective resemblanc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llow an animal to blend into its environment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other word for this might be camouflage.  Their camouflage makes it hard for enemies to single out individuals. 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5" descr="Bears,  panda, white bears, brown bears"/>
          <p:cNvPicPr/>
          <p:nvPr/>
        </p:nvPicPr>
        <p:blipFill>
          <a:blip r:embed="rId1"/>
          <a:stretch/>
        </p:blipFill>
        <p:spPr>
          <a:xfrm>
            <a:off x="755640" y="14558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amorabbit"/>
          <p:cNvPicPr/>
          <p:nvPr/>
        </p:nvPicPr>
        <p:blipFill>
          <a:blip r:embed="rId2"/>
          <a:stretch/>
        </p:blipFill>
        <p:spPr>
          <a:xfrm>
            <a:off x="611280" y="4005360"/>
            <a:ext cx="3744720" cy="23605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micry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allows one animal to look, sound, or act like another animal to fool predators into thinking it is poisonous or dangerous.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5" descr="pauwoog"/>
          <p:cNvPicPr/>
          <p:nvPr/>
        </p:nvPicPr>
        <p:blipFill>
          <a:blip r:embed="rId1"/>
          <a:stretch/>
        </p:blipFill>
        <p:spPr>
          <a:xfrm>
            <a:off x="4643280" y="130824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coral"/>
          <p:cNvPicPr/>
          <p:nvPr/>
        </p:nvPicPr>
        <p:blipFill>
          <a:blip r:embed="rId2"/>
          <a:stretch/>
        </p:blipFill>
        <p:spPr>
          <a:xfrm>
            <a:off x="2916360" y="3933720"/>
            <a:ext cx="352872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Red_milk_snake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6164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Behaviour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000" y="155736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include activities that help an animal survive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haviour adaptations can be learned or instincti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behaviour 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haviour for protection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7" descr="opossum_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anadaFam"/>
          <p:cNvPicPr/>
          <p:nvPr/>
        </p:nvPicPr>
        <p:blipFill>
          <a:blip r:embed="rId2"/>
          <a:stretch/>
        </p:blipFill>
        <p:spPr>
          <a:xfrm>
            <a:off x="324000" y="400536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g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2400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imals migrate for different reason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clim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foo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l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raise you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o back to the place they were bor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1412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is is when behavioral adaptation that involves an animal or group of animals moving from one region to another and then back again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1" descr="NI006%20Serengeti%20Migration%20A3"/>
          <p:cNvPicPr/>
          <p:nvPr/>
        </p:nvPicPr>
        <p:blipFill>
          <a:blip r:embed="rId1"/>
          <a:stretch/>
        </p:blipFill>
        <p:spPr>
          <a:xfrm>
            <a:off x="250920" y="4005360"/>
            <a:ext cx="4048200" cy="26766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Hibern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is is deep sleep in which animal’s body temp droops, body activities are slowed to conserve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.g. Bats, woodchucks &amp; bea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bear"/>
          <p:cNvPicPr/>
          <p:nvPr/>
        </p:nvPicPr>
        <p:blipFill>
          <a:blip r:embed="rId1"/>
          <a:stretch/>
        </p:blipFill>
        <p:spPr>
          <a:xfrm>
            <a:off x="5724360" y="3716280"/>
            <a:ext cx="3129120" cy="23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IBERNATION_PICTURE"/>
          <p:cNvPicPr/>
          <p:nvPr/>
        </p:nvPicPr>
        <p:blipFill>
          <a:blip r:embed="rId2"/>
          <a:stretch/>
        </p:blipFill>
        <p:spPr>
          <a:xfrm>
            <a:off x="2843280" y="3716280"/>
            <a:ext cx="2752560" cy="240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no-mamm-fathomseminar-bats-session4-mouseearedpic_6781_1"/>
          <p:cNvPicPr/>
          <p:nvPr/>
        </p:nvPicPr>
        <p:blipFill>
          <a:blip r:embed="rId3"/>
          <a:stretch/>
        </p:blipFill>
        <p:spPr>
          <a:xfrm>
            <a:off x="179280" y="371952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37:10Z</dcterms:created>
  <dc:creator>Burntwood School</dc:creator>
  <dc:description/>
  <dc:language>en-US</dc:language>
  <cp:lastModifiedBy>LEGION2</cp:lastModifiedBy>
  <dcterms:modified xsi:type="dcterms:W3CDTF">2016-01-12T07:30:10Z</dcterms:modified>
  <cp:revision>7</cp:revision>
  <dc:subject/>
  <dc:title>Animal Adaptations</dc:title>
</cp:coreProperties>
</file>