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move the slide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8A68-B8F5-4A84-8F38-8553ABDFBC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imal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dap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thing that helps an organism survive in its environment is an  adaptation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also refers to the ability of living things to adjust to different conditions within their environments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adap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thing that helps an organism survive in its environment is an  adaptation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fers to the ability of living things to adjust to different conditions within their environment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adap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ructural adaptation involves some part of an animal's bo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et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coverings  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uctural adaptation involves some part of an animal's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overings 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ation and protective resemblance allow an animal to blend into its environment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word for this might be camouflage.  Their camouflage makes it hard for enemies to single out individuals.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ation and protective resemblance allow an animal to blend into its environment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word for this might be camouflage.  Their camouflage makes it hard for enemies to single out individuals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 allows one animal to look, sound, or act like another animal to fool predators into thinking it is poisonous or dangerous.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 allows one animal to look, sound, or act like another animal to fool predators into thinking it is poisonous or dangerous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 include activities that help an animal survive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 can be learned or instinctiv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behaviour  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for protection 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 include activities that help an animal survive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 can be learned or instin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behaviour 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for protection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s migrate for different reasons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tter climat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tter foo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fe place to l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fe place to raise young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back to the place they were bor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when behavioral adaptation that involves an animal or group of animals moving from one region to another and then back again.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imals migrate for different reason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clim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 place to l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 place to raise you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 back to the place they were bo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when behavioral adaptation that involves an animal or group of animals moving from one region to another and then back again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deep sleep in which animal’s body temp droops, body activities are slowed to conserve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Bats, woodchucks &amp; bea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deep sleep in which animal’s body temp droops, body activities are slowed to conserv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g. Bats, woodchucks &amp; b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643A-AF81-4859-955D-8075CA3A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C235-D03B-4B96-B08B-E9DF92BF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AAE9-11D9-4B89-863D-D6C23FB5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BD06-EC21-4E85-BFD5-C28A961F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774A-A3A9-41DD-B1C2-58ADC1B5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D783-271B-4763-9549-7E74CB83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1E53-B75D-465A-9DA9-B57E2F81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FDBA-2738-4932-AED4-D9E6ABB9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7EBF-B4F9-4A7A-B783-3DF32263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9FFD-66ED-4A1C-9EAD-9BAF53F4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2C32-CAF6-435D-8510-5CF66085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EE0B-9CC8-4E17-AC10-41077CE9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75CC-5AF4-45CA-9426-A2FCFF2A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79A5-D690-4476-B33D-E724AD8E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2464-D5F9-4FCA-8A01-E5D0CBA8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AEA6-DFC0-4A30-A45F-D627F84C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1AAB-6411-4BB6-A62F-5DEA4986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DB2B-5198-4DDC-95A8-C0674838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351E-5F66-44EE-BE47-01E49E4E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636C-FE01-4C96-86C1-62C0D642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36FD-DB1C-46A9-8EA0-1F479616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1155-38CD-460A-BBCB-78850E8C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4728-41F2-46A6-8AF2-BC9D93B5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5536-13F1-45FD-A2DC-5F3CE6F1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0667-3F7F-4339-8133-E005B5812A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8D06-352E-48A0-AD20-77489B892CC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ffffcc"/>
                </a:solidFill>
                <a:latin typeface="Verdana"/>
              </a:rPr>
              <a:t>Animal Adaptations</a:t>
            </a:r>
            <a:endParaRPr b="1" lang="en-US" sz="5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128" name="Picture 4" descr="bat"/>
          <p:cNvPicPr/>
          <p:nvPr/>
        </p:nvPicPr>
        <p:blipFill>
          <a:blip r:embed="rId1"/>
          <a:stretch/>
        </p:blipFill>
        <p:spPr>
          <a:xfrm>
            <a:off x="4284720" y="3789360"/>
            <a:ext cx="2595600" cy="216072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Types of Adapt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ything that helps an organism survive in its environment is an  adaptation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t also refers to the ability of living things to adjust to different conditions within their environment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Structural adaptation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Protective colo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Mimicry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Behaviour adapt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Mig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Hibern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Structural adaptations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tructural adaptation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involves some part of an animal's bod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eeth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ody coverings  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Movement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4" descr="GreatWhite_"/>
          <p:cNvPicPr/>
          <p:nvPr/>
        </p:nvPicPr>
        <p:blipFill>
          <a:blip r:embed="rId1"/>
          <a:stretch/>
        </p:blipFill>
        <p:spPr>
          <a:xfrm>
            <a:off x="4572000" y="3213000"/>
            <a:ext cx="3887640" cy="29163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Protective Color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oloration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d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rotective resemblance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allow an animal to blend into its environment.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other word for this might be camouflage.  Their camouflage makes it hard for enemies to single out individuals. 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5" descr="Bears,  panda, white bears, brown bears"/>
          <p:cNvPicPr/>
          <p:nvPr/>
        </p:nvPicPr>
        <p:blipFill>
          <a:blip r:embed="rId1"/>
          <a:stretch/>
        </p:blipFill>
        <p:spPr>
          <a:xfrm>
            <a:off x="755640" y="1455840"/>
            <a:ext cx="3456000" cy="244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camorabbit"/>
          <p:cNvPicPr/>
          <p:nvPr/>
        </p:nvPicPr>
        <p:blipFill>
          <a:blip r:embed="rId2"/>
          <a:stretch/>
        </p:blipFill>
        <p:spPr>
          <a:xfrm>
            <a:off x="611280" y="4005360"/>
            <a:ext cx="3744720" cy="23605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Mimicry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4956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Mimicry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allows one animal to look, sound, or act like another animal to fool predators into thinking it is poisonous or dangerous. 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5" name="Picture 15" descr="pauwoog"/>
          <p:cNvPicPr/>
          <p:nvPr/>
        </p:nvPicPr>
        <p:blipFill>
          <a:blip r:embed="rId1"/>
          <a:stretch/>
        </p:blipFill>
        <p:spPr>
          <a:xfrm>
            <a:off x="4643280" y="1308240"/>
            <a:ext cx="4032360" cy="2439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coral"/>
          <p:cNvPicPr/>
          <p:nvPr/>
        </p:nvPicPr>
        <p:blipFill>
          <a:blip r:embed="rId2"/>
          <a:stretch/>
        </p:blipFill>
        <p:spPr>
          <a:xfrm>
            <a:off x="2916360" y="3933720"/>
            <a:ext cx="3528720" cy="261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Red_milk_snake"/>
          <p:cNvPicPr/>
          <p:nvPr/>
        </p:nvPicPr>
        <p:blipFill>
          <a:blip r:embed="rId3"/>
          <a:stretch/>
        </p:blipFill>
        <p:spPr>
          <a:xfrm>
            <a:off x="6084720" y="3933720"/>
            <a:ext cx="3059280" cy="26164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Behaviour adaptations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92000" y="1557360"/>
            <a:ext cx="5327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Behaviour adaptations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include activities that help an animal survive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ehaviour adaptations can be learned or instinctiv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ocial behaviour  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haviour for protection 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Picture 7" descr="opossum_"/>
          <p:cNvPicPr/>
          <p:nvPr/>
        </p:nvPicPr>
        <p:blipFill>
          <a:blip r:embed="rId1"/>
          <a:stretch/>
        </p:blipFill>
        <p:spPr>
          <a:xfrm>
            <a:off x="324000" y="148428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CanadaFam"/>
          <p:cNvPicPr/>
          <p:nvPr/>
        </p:nvPicPr>
        <p:blipFill>
          <a:blip r:embed="rId2"/>
          <a:stretch/>
        </p:blipFill>
        <p:spPr>
          <a:xfrm>
            <a:off x="324000" y="4005360"/>
            <a:ext cx="345600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Migr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24000" y="1341360"/>
            <a:ext cx="48956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imals migrate for different reason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tter climat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tter foo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fe place to liv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fe place to raise you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go back to the place they were bor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14126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is is when behavioral adaptation that involves an animal or group of animals moving from one region to another and then back again.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11" descr="NI006%20Serengeti%20Migration%20A3"/>
          <p:cNvPicPr/>
          <p:nvPr/>
        </p:nvPicPr>
        <p:blipFill>
          <a:blip r:embed="rId1"/>
          <a:stretch/>
        </p:blipFill>
        <p:spPr>
          <a:xfrm>
            <a:off x="250920" y="4005360"/>
            <a:ext cx="4048200" cy="26766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Hibern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his is deep sleep in which animal’s body temp droops, body activities are slowed to conserve energ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.g. Bats, woodchucks &amp; bea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6" descr="bear"/>
          <p:cNvPicPr/>
          <p:nvPr/>
        </p:nvPicPr>
        <p:blipFill>
          <a:blip r:embed="rId1"/>
          <a:stretch/>
        </p:blipFill>
        <p:spPr>
          <a:xfrm>
            <a:off x="5724360" y="3716280"/>
            <a:ext cx="3129120" cy="2357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HIBERNATION_PICTURE"/>
          <p:cNvPicPr/>
          <p:nvPr/>
        </p:nvPicPr>
        <p:blipFill>
          <a:blip r:embed="rId2"/>
          <a:stretch/>
        </p:blipFill>
        <p:spPr>
          <a:xfrm>
            <a:off x="2843280" y="3716280"/>
            <a:ext cx="2752560" cy="2400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no-mamm-fathomseminar-bats-session4-mouseearedpic_6781_1"/>
          <p:cNvPicPr/>
          <p:nvPr/>
        </p:nvPicPr>
        <p:blipFill>
          <a:blip r:embed="rId3"/>
          <a:stretch/>
        </p:blipFill>
        <p:spPr>
          <a:xfrm>
            <a:off x="179280" y="3719520"/>
            <a:ext cx="2448000" cy="2374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3:37:10Z</dcterms:created>
  <dc:creator>Burntwood School</dc:creator>
  <dc:description/>
  <dc:language>en-US</dc:language>
  <cp:lastModifiedBy>LEGION2</cp:lastModifiedBy>
  <dcterms:modified xsi:type="dcterms:W3CDTF">2016-01-12T07:30:10Z</dcterms:modified>
  <cp:revision>7</cp:revision>
  <dc:subject/>
  <dc:title>Animal Adaptations</dc:title>
</cp:coreProperties>
</file>