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Verdana"/>
              </a:rPr>
              <a:t>Click to move the slide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8957F-FFE2-406F-AEED-88005795EF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nimal Adap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Adap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ything that helps an organism survive in its environment is an  adaptation.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also refers to the ability of living things to adjust to different conditions within their environments.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uctural adaptatio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ective col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micry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haviour adap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g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bern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dap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thing that helps an organism survive in its environment is an  adaptation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so refers to the ability of living things to adjust to different conditions within their environments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al adapt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ctive col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micry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ur 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ber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uctural adap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tructural adaptation involves some part of an animal's bod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eth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dy coverings  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ment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al 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ructural adaptation involves some part of an animal's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e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coverings  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ective Col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loration and protective resemblance allow an animal to blend into its environment.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other word for this might be camouflage.  Their camouflage makes it hard for enemies to single out individuals. 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ctive Col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ation and protective resemblance allow an animal to blend into its environment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word for this might be camouflage.  Their camouflage makes it hard for enemies to single out individuals. 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mic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micry allows one animal to look, sound, or act like another animal to fool predators into thinking it is poisonous or dangerous. 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mic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micry allows one animal to look, sound, or act like another animal to fool predators into thinking it is poisonous or dangerous. 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haviour adap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haviour adaptations include activities that help an animal survive.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haviour adaptations can be learned or instinctiv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cial behaviour  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haviour for protection 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haviour 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haviour adaptations include activities that help an animal survive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haviour adaptations can be learned or instinct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cial behaviour  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haviour for protection 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g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imals migrate for different reasons.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tter climat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tter food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fe place to liv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fe place to raise young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 back to the place they were born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when behavioral adaptation that involves an animal or group of animals moving from one region to another and then back again.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imals migrate for different reasons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tter clim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tter foo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fe place to l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fe place to raise you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 back to the place they were bor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is when behavioral adaptation that involves an animal or group of animals moving from one region to another and then back again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bern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deep sleep in which animal’s body temp droops, body activities are slowed to conserve energ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.g. Bats, woodchucks &amp; bea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ber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is deep sleep in which animal’s body temp droops, body activities are slowed to conserve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.g. Bats, woodchucks &amp; b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ABC6-B132-4809-80D4-FCC150A22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045C-8F48-4469-A600-4E319F020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7489-6C69-4146-A280-6D52F884E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80E1-8848-48F1-B54A-1784CE0BD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06940-2DAF-4644-8B52-8BA3D24D7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5BAAE-0742-48C1-B512-D3B6BFA47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0918B-6850-4630-A8EF-4855DAE85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6A09A-B57F-40C2-947E-DB2338FC5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1A79B-81F1-48D2-9785-A376252D0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883CE-E88F-42DA-B2C4-547C80CB8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7A99B-F42D-4435-9813-6378E320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1557-91BC-4A7D-BE18-F35F108AB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2D7B7-E306-4611-8D88-A369BC48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8608C-F6CD-408F-AF54-412138C6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3C1A0-9839-4C6B-9F45-43F697DC7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2429F-B67E-475E-AEC8-F878440A6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EA723-E65A-4EFC-B004-E250B2511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A2B4-6FCD-40F3-B11B-DB652151E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5265-3333-495C-A40C-879D05868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5C96-5D6D-48E8-919B-20076A9FC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6C38-18DC-44B7-B01F-89E03FC62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B117-52B2-4913-B960-F853A20F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4F4D-0DF8-4668-BE3B-4B4ED587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1ED5-2963-4D7C-BBAB-F47CF320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8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A0457-232F-4E6A-BDFE-06237FB24F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8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A94D3-A2FC-4D1A-84FF-D2275D3D205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ffffcc"/>
                </a:solidFill>
                <a:latin typeface="Verdana"/>
              </a:rPr>
              <a:t>Animal Adaptations</a:t>
            </a:r>
            <a:endParaRPr b="1" lang="en-US" sz="5000" spc="-1" strike="noStrike">
              <a:solidFill>
                <a:srgbClr val="ffffcc"/>
              </a:solidFill>
              <a:latin typeface="Verdana"/>
            </a:endParaRPr>
          </a:p>
        </p:txBody>
      </p:sp>
      <p:pic>
        <p:nvPicPr>
          <p:cNvPr id="128" name="Picture 4" descr="bat"/>
          <p:cNvPicPr/>
          <p:nvPr/>
        </p:nvPicPr>
        <p:blipFill>
          <a:blip r:embed="rId1"/>
          <a:stretch/>
        </p:blipFill>
        <p:spPr>
          <a:xfrm>
            <a:off x="4284720" y="3789360"/>
            <a:ext cx="2595600" cy="216072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Types of Adaptation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Anything that helps an organism survive in its environment is an  adaptation.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It also refers to the ability of living things to adjust to different conditions within their environments.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Verdana"/>
              </a:rPr>
              <a:t>Structural adaptation</a:t>
            </a:r>
            <a:r>
              <a:rPr b="0" i="1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Verdana"/>
              </a:rPr>
              <a:t>Protective color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Verdana"/>
              </a:rPr>
              <a:t>Mimicry</a:t>
            </a:r>
            <a:r>
              <a:rPr b="0" i="1" lang="en-GB" sz="28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Verdana"/>
              </a:rPr>
              <a:t>Behaviour adapt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Verdana"/>
              </a:rPr>
              <a:t>Migr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Verdana"/>
              </a:rPr>
              <a:t>Hibern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Structural adaptations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structural adaptation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 involves some part of an animal's bod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Teeth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Body coverings  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Movement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5" name="Picture 4" descr="GreatWhite_"/>
          <p:cNvPicPr/>
          <p:nvPr/>
        </p:nvPicPr>
        <p:blipFill>
          <a:blip r:embed="rId1"/>
          <a:stretch/>
        </p:blipFill>
        <p:spPr>
          <a:xfrm>
            <a:off x="4572000" y="3213000"/>
            <a:ext cx="3887640" cy="291636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Protective Coloration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oloration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and 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protective resemblance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allow an animal to blend into its environment. 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Another word for this might be camouflage.  Their camouflage makes it hard for enemies to single out individuals. 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9" name="Picture 5" descr="Bears,  panda, white bears, brown bears"/>
          <p:cNvPicPr/>
          <p:nvPr/>
        </p:nvPicPr>
        <p:blipFill>
          <a:blip r:embed="rId1"/>
          <a:stretch/>
        </p:blipFill>
        <p:spPr>
          <a:xfrm>
            <a:off x="755640" y="1455840"/>
            <a:ext cx="3456000" cy="2446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camorabbit"/>
          <p:cNvPicPr/>
          <p:nvPr/>
        </p:nvPicPr>
        <p:blipFill>
          <a:blip r:embed="rId2"/>
          <a:stretch/>
        </p:blipFill>
        <p:spPr>
          <a:xfrm>
            <a:off x="611280" y="4005360"/>
            <a:ext cx="3744720" cy="236052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Mimicry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44956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Mimicry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allows one animal to look, sound, or act like another animal to fool predators into thinking it is poisonous or dangerous. 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5" name="Picture 15" descr="pauwoog"/>
          <p:cNvPicPr/>
          <p:nvPr/>
        </p:nvPicPr>
        <p:blipFill>
          <a:blip r:embed="rId1"/>
          <a:stretch/>
        </p:blipFill>
        <p:spPr>
          <a:xfrm>
            <a:off x="4643280" y="1308240"/>
            <a:ext cx="4032360" cy="2439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7" descr="coral"/>
          <p:cNvPicPr/>
          <p:nvPr/>
        </p:nvPicPr>
        <p:blipFill>
          <a:blip r:embed="rId2"/>
          <a:stretch/>
        </p:blipFill>
        <p:spPr>
          <a:xfrm>
            <a:off x="2916360" y="3933720"/>
            <a:ext cx="3528720" cy="2611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9" descr="Red_milk_snake"/>
          <p:cNvPicPr/>
          <p:nvPr/>
        </p:nvPicPr>
        <p:blipFill>
          <a:blip r:embed="rId3"/>
          <a:stretch/>
        </p:blipFill>
        <p:spPr>
          <a:xfrm>
            <a:off x="6084720" y="3933720"/>
            <a:ext cx="3059280" cy="261648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Behaviour adaptations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492000" y="1557360"/>
            <a:ext cx="5327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Behaviour adaptations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include activities that help an animal survive.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Behaviour adaptations can be learned or instinctive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ocial behaviour   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Behaviour for protection  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1" name="Picture 7" descr="opossum_"/>
          <p:cNvPicPr/>
          <p:nvPr/>
        </p:nvPicPr>
        <p:blipFill>
          <a:blip r:embed="rId1"/>
          <a:stretch/>
        </p:blipFill>
        <p:spPr>
          <a:xfrm>
            <a:off x="324000" y="1484280"/>
            <a:ext cx="3095640" cy="2320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CanadaFam"/>
          <p:cNvPicPr/>
          <p:nvPr/>
        </p:nvPicPr>
        <p:blipFill>
          <a:blip r:embed="rId2"/>
          <a:stretch/>
        </p:blipFill>
        <p:spPr>
          <a:xfrm>
            <a:off x="324000" y="4005360"/>
            <a:ext cx="3456000" cy="215892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Migration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924000" y="1341360"/>
            <a:ext cx="48956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Animals migrate for different reasons.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better climat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better food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afe place to liv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afe place to raise young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go back to the place they were born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14126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This is when behavioral adaptation that involves an animal or group of animals moving from one region to another and then back again.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7" name="Picture 11" descr="NI006%20Serengeti%20Migration%20A3"/>
          <p:cNvPicPr/>
          <p:nvPr/>
        </p:nvPicPr>
        <p:blipFill>
          <a:blip r:embed="rId1"/>
          <a:stretch/>
        </p:blipFill>
        <p:spPr>
          <a:xfrm>
            <a:off x="250920" y="4005360"/>
            <a:ext cx="4048200" cy="267660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Hibernation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This is deep sleep in which animal’s body temp droops, body activities are slowed to conserve energy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E.g. Bats, woodchucks &amp; bear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1" name="Picture 6" descr="bear"/>
          <p:cNvPicPr/>
          <p:nvPr/>
        </p:nvPicPr>
        <p:blipFill>
          <a:blip r:embed="rId1"/>
          <a:stretch/>
        </p:blipFill>
        <p:spPr>
          <a:xfrm>
            <a:off x="5724360" y="3716280"/>
            <a:ext cx="3129120" cy="2357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HIBERNATION_PICTURE"/>
          <p:cNvPicPr/>
          <p:nvPr/>
        </p:nvPicPr>
        <p:blipFill>
          <a:blip r:embed="rId2"/>
          <a:stretch/>
        </p:blipFill>
        <p:spPr>
          <a:xfrm>
            <a:off x="2843280" y="3716280"/>
            <a:ext cx="2752560" cy="24004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no-mamm-fathomseminar-bats-session4-mouseearedpic_6781_1"/>
          <p:cNvPicPr/>
          <p:nvPr/>
        </p:nvPicPr>
        <p:blipFill>
          <a:blip r:embed="rId3"/>
          <a:stretch/>
        </p:blipFill>
        <p:spPr>
          <a:xfrm>
            <a:off x="179280" y="3719520"/>
            <a:ext cx="2448000" cy="237492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13:37:10Z</dcterms:created>
  <dc:creator>Burntwood School</dc:creator>
  <dc:description/>
  <dc:language>en-US</dc:language>
  <cp:lastModifiedBy>LEGION2</cp:lastModifiedBy>
  <dcterms:modified xsi:type="dcterms:W3CDTF">2016-01-12T07:30:10Z</dcterms:modified>
  <cp:revision>7</cp:revision>
  <dc:subject/>
  <dc:title>Animal Adaptations</dc:title>
</cp:coreProperties>
</file>