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4D49-9EEB-4DEE-8E21-4EDC49BA4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dap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helps an organism survive in its environment is an  adaptation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refers to the ability of living things to adjust to different conditions within their environment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ructural adaptation involves some part of an animal's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coverings 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Col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tion and protective resemblance allow an animal to blend into its environment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word for this might be camouflage.  Their camouflage makes it hard for enemies to single out individual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micry allows one animal to look, sound, or act like another animal to fool predators into thinking it is poisonous or dangerous.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include activities that help an animal survive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adaptations can be learned or instin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cial behaviour 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aviour for protection 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imals migrate for different reason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cl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ter f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l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fe place to raise you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back to the place they were bo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when behavioral adaptation that involves an animal or group of animals moving from one region to another and then back again.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deep sleep in which animal’s body temp droops, body activities are slowed to conserv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Bats, woodchucks &amp; b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8EE-D88C-4748-A219-1D90CA9D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DD3-2800-4999-97EF-BBB56609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1149-DBDF-4D27-9346-85AD3EEE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A83-8337-4DC4-BADB-1E4CD5F7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7763-4920-4196-BE04-EAC51C729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F612-9DC6-4A7D-8332-335D4F0D5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31A9-EBFC-4F22-8A53-7DC841D9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5166-BF4B-4428-80A9-FB9A454E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5A96-9BC9-4E9B-9160-7F069438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AED8-996E-4A7D-87BF-B4E312D2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2B33-0F7A-4A0E-AF73-2F6F64D2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1559-ED71-4504-87C6-8EB1648D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CDD4-7277-4E76-B171-C701E701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27DE-2C6F-47CD-83D1-104B64B2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8133-3A17-496C-909C-3ACAC4B6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55F7-8716-4DDD-B2FB-A651C9469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0A6A5-0101-48EF-B438-B9371846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EE3E-2CBC-461A-82FC-A4E338F8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AC9-0DB3-4FC5-9BA2-AD0EB2DD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0B0F-C653-4161-9CA5-730DC8B3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9D6-8B79-414E-A1EB-E0375B7B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88E-D24A-4641-802C-F152111E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A5A-7EE4-45A8-B81B-FA23EF55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0E5-FA32-4356-89E9-755851BB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AE46-4E15-4218-97EA-6DE6E5DF2B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8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290B-A4EC-4AA3-9965-CC829257619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ffffcc"/>
                </a:solidFill>
                <a:latin typeface="Verdana"/>
              </a:rPr>
              <a:t>Animal Adaptations</a:t>
            </a:r>
            <a:endParaRPr b="1" lang="en-US" sz="5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128" name="Picture 4" descr="bat"/>
          <p:cNvPicPr/>
          <p:nvPr/>
        </p:nvPicPr>
        <p:blipFill>
          <a:blip r:embed="rId1"/>
          <a:stretch/>
        </p:blipFill>
        <p:spPr>
          <a:xfrm>
            <a:off x="4284720" y="3789360"/>
            <a:ext cx="2595600" cy="2160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Types of Adapt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ything that helps an organism survive in its environment is an  adaptation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It also refers to the ability of living things to adjust to different conditions within their environment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Protective colo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i="1" lang="en-GB" sz="2800" spc="-1" strike="noStrike">
                <a:solidFill>
                  <a:srgbClr val="ffffff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Migr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Verdana"/>
              </a:rPr>
              <a:t>Hibern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Structural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A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structural adaptation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involves some part of an animal's body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eeth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ody coverings  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Movement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5" name="Picture 4" descr="GreatWhite_"/>
          <p:cNvPicPr/>
          <p:nvPr/>
        </p:nvPicPr>
        <p:blipFill>
          <a:blip r:embed="rId1"/>
          <a:stretch/>
        </p:blipFill>
        <p:spPr>
          <a:xfrm>
            <a:off x="4572000" y="3213000"/>
            <a:ext cx="3887640" cy="291636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Protective Colo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Coloration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d 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protective resemblance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allow an animal to blend into its environment.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Another word for this might be camouflage.  Their camouflage makes it hard for enemies to single out individuals. 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Picture 5" descr="Bears,  panda, white bears, brown bears"/>
          <p:cNvPicPr/>
          <p:nvPr/>
        </p:nvPicPr>
        <p:blipFill>
          <a:blip r:embed="rId1"/>
          <a:stretch/>
        </p:blipFill>
        <p:spPr>
          <a:xfrm>
            <a:off x="755640" y="1455840"/>
            <a:ext cx="3456000" cy="244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camorabbit"/>
          <p:cNvPicPr/>
          <p:nvPr/>
        </p:nvPicPr>
        <p:blipFill>
          <a:blip r:embed="rId2"/>
          <a:stretch/>
        </p:blipFill>
        <p:spPr>
          <a:xfrm>
            <a:off x="611280" y="4005360"/>
            <a:ext cx="3744720" cy="236052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micry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Mimicry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allows one animal to look, sound, or act like another animal to fool predators into thinking it is poisonous or dangerous. 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5" name="Picture 15" descr="pauwoog"/>
          <p:cNvPicPr/>
          <p:nvPr/>
        </p:nvPicPr>
        <p:blipFill>
          <a:blip r:embed="rId1"/>
          <a:stretch/>
        </p:blipFill>
        <p:spPr>
          <a:xfrm>
            <a:off x="4643280" y="1308240"/>
            <a:ext cx="4032360" cy="243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coral"/>
          <p:cNvPicPr/>
          <p:nvPr/>
        </p:nvPicPr>
        <p:blipFill>
          <a:blip r:embed="rId2"/>
          <a:stretch/>
        </p:blipFill>
        <p:spPr>
          <a:xfrm>
            <a:off x="2916360" y="3933720"/>
            <a:ext cx="3528720" cy="26114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Red_milk_snake"/>
          <p:cNvPicPr/>
          <p:nvPr/>
        </p:nvPicPr>
        <p:blipFill>
          <a:blip r:embed="rId3"/>
          <a:stretch/>
        </p:blipFill>
        <p:spPr>
          <a:xfrm>
            <a:off x="6084720" y="3933720"/>
            <a:ext cx="3059280" cy="261648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Behaviour adaptations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92000" y="1557360"/>
            <a:ext cx="5327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Behaviour adaptations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include activities that help an animal survive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Behaviour adaptations can be learned or instinctive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ocial behaviour 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haviour for protection  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1" name="Picture 7" descr="opossum_"/>
          <p:cNvPicPr/>
          <p:nvPr/>
        </p:nvPicPr>
        <p:blipFill>
          <a:blip r:embed="rId1"/>
          <a:stretch/>
        </p:blipFill>
        <p:spPr>
          <a:xfrm>
            <a:off x="324000" y="148428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CanadaFam"/>
          <p:cNvPicPr/>
          <p:nvPr/>
        </p:nvPicPr>
        <p:blipFill>
          <a:blip r:embed="rId2"/>
          <a:stretch/>
        </p:blipFill>
        <p:spPr>
          <a:xfrm>
            <a:off x="324000" y="4005360"/>
            <a:ext cx="345600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Migr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924000" y="1341360"/>
            <a:ext cx="4895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Animals migrate for different reasons. 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24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clim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better foo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l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afe place to raise young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go back to the place they were bor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14126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his is when behavioral adaptation that involves an animal or group of animals moving from one region to another and then back again. 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7" name="Picture 11" descr="NI006%20Serengeti%20Migration%20A3"/>
          <p:cNvPicPr/>
          <p:nvPr/>
        </p:nvPicPr>
        <p:blipFill>
          <a:blip r:embed="rId1"/>
          <a:stretch/>
        </p:blipFill>
        <p:spPr>
          <a:xfrm>
            <a:off x="250920" y="4005360"/>
            <a:ext cx="4048200" cy="26766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cc"/>
                </a:solidFill>
                <a:latin typeface="Verdana"/>
              </a:rPr>
              <a:t>Hibernation</a:t>
            </a:r>
            <a:endParaRPr b="1" lang="en-US" sz="4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This is deep sleep in which animal’s body temp droops, body activities are slowed to conserve energ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.g. Bats, woodchucks &amp; bear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6" descr="bear"/>
          <p:cNvPicPr/>
          <p:nvPr/>
        </p:nvPicPr>
        <p:blipFill>
          <a:blip r:embed="rId1"/>
          <a:stretch/>
        </p:blipFill>
        <p:spPr>
          <a:xfrm>
            <a:off x="5724360" y="3716280"/>
            <a:ext cx="3129120" cy="2357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HIBERNATION_PICTURE"/>
          <p:cNvPicPr/>
          <p:nvPr/>
        </p:nvPicPr>
        <p:blipFill>
          <a:blip r:embed="rId2"/>
          <a:stretch/>
        </p:blipFill>
        <p:spPr>
          <a:xfrm>
            <a:off x="2843280" y="3716280"/>
            <a:ext cx="2752560" cy="2400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no-mamm-fathomseminar-bats-session4-mouseearedpic_6781_1"/>
          <p:cNvPicPr/>
          <p:nvPr/>
        </p:nvPicPr>
        <p:blipFill>
          <a:blip r:embed="rId3"/>
          <a:stretch/>
        </p:blipFill>
        <p:spPr>
          <a:xfrm>
            <a:off x="179280" y="3719520"/>
            <a:ext cx="2448000" cy="237492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13:37:10Z</dcterms:created>
  <dc:creator>Burntwood School</dc:creator>
  <dc:description/>
  <dc:language>en-US</dc:language>
  <cp:lastModifiedBy>LEGION2</cp:lastModifiedBy>
  <dcterms:modified xsi:type="dcterms:W3CDTF">2016-01-12T07:30:10Z</dcterms:modified>
  <cp:revision>7</cp:revision>
  <dc:subject/>
  <dc:title>Animal Adaptations</dc:title>
</cp:coreProperties>
</file>