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te Blood Ce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 or Acidophil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, numerous gran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clei with two lob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-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nd in lining of respiratory and digestive tra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rete anti-inflammatory substances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 or Acidophi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, numerous gran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with tw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lining of respiratory and digestive 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unctions involve protections against infections caused by parasitic worms and involvement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 anti-inflammatory substances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st numerous--.5-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histamine,serotonin,heparin—inflammatory chem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numerous--.5-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histamine,serotonin,heparin—inflammatory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st WB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 nuclei/small amount of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ount for 2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W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nuclei/small amount of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 for 2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—T lymphocytes—attack an infect or cancerous cell, B lymphocytes—produce antibodies against specific antigens (foreign bo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st of WB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k kidney bean shaped nucl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phagocyt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of W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kidney bean shaped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phagocy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are also known as Leucocytes as they are colorless due to lack of Haemoglob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6000-8000mm of WBC for 1ml of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also called Scavengers &amp; Microscopic policem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orp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s look at WBC numb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number goes up there is some kind of infection and surgery might be need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ecrease in the number of white blood cells is leukopen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increase in the number of white blood cells is leukocyt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look at WBC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umber goes up there is some kind of infection and surgery might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s will count the number of WBC’s in a blood sample, this is called differential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crease in the number of white blood cells is leukop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crease in the number of white blood cells is leukocyt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mation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re formed in the red marrow of many bon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can also be formed in lymphatic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live for about 13-20 day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re formed in the red marrow of many b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be formed in lymphatic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 for about 13-20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.RajaSekh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RajaSek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GUIIIT,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ve Typ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according to the presence or absence of granules and the staining characteristics of their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ppear brightly colored in stained preparations, they have a nuclei and are generally larger in size than RBC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—have larg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—have larg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—do not hav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—do not hav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t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in light purple with neutral d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es are small and numerous—course appear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lobes in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mobile/very a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gocytosis (eater), contain several lysosomes (janito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t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in light purple with neutral d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es are small and numerous—course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lobe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mobile/very 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gocytosis (eater), contain several lysosomes (jani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B384-8030-4648-A52E-C62ABB593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6606-C989-4FDF-80DF-B1A0BB010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B593-DB01-489F-94F7-0E1580BD5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FD85-D35B-49F5-947F-33AF2B284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DF1F-E200-45A3-B24E-9692E290CF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27B3-7077-4674-9813-7A36D73F13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1FC9-24E6-4D5E-86E7-435EE37277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0D4E-92AC-438F-B844-1EEEF990E0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A7DC-810E-4F6D-ADC7-4CEC919E6F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4AC45-DE90-4523-B099-3571DAE32E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CF77-9ABE-443A-AEDA-100914F619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84E0-B722-4970-88D2-DEFED81DB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7CC3-143E-4385-A5DD-3E70B45613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6235-6F27-42F6-ADD3-8918CD6B7D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7EEA8-9F66-4DAD-BB8A-3AB800DC1E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D997-A9DE-41EE-AC2C-FE841C18FC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6012-DEE5-4EB7-A2E9-8FD9318D63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1989-6E3A-40AC-85FF-74E677114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92D8-834E-4FF1-9D4E-ADC738609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7CA5-C68A-4100-81D9-FC36563FB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3D69-2D98-43F6-91DA-ACE045FC7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E2C9-1618-4BA6-B286-D5576E77D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C61C-3E98-4DFE-85D2-E47409D75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0C78-2291-4E47-AF04-45B080600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1162080" y="6240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A2591-BE08-4EDC-9894-D8B96F0BC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90720" y="624528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3B174-5AD9-4538-9F03-A57955224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ucocyt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te Blood Ce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95200" y="4114800"/>
            <a:ext cx="8620200" cy="685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715000" y="443556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84700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44280" y="304920"/>
            <a:ext cx="3841920" cy="5867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43434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4664160" y="3827520"/>
            <a:ext cx="28796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78296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80880" y="2017800"/>
            <a:ext cx="85741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osinophils or Acidophil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rge, numerous gran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uclei with two l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-5% of WBC cou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nd in lining of respiratory and digestive trac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rete anti-inflammatory substances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4213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numerous--.5-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 histamine,serotonin,heparin—inflammatory chem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2743200" y="485640"/>
            <a:ext cx="47214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310"/>
                <a:gd name="adj2" fmla="val 4333"/>
              </a:avLst>
            </a:prstTxWarp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Times New Roman"/>
              </a:rPr>
              <a:t>Granulocy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9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429000" y="85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st W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nuclei/small amount of 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for 2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38680" y="0"/>
            <a:ext cx="4405320" cy="487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4920" y="3838680"/>
            <a:ext cx="36097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st of WB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k kidney bean shaped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phagocy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146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2286000"/>
            <a:ext cx="8458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2812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Blood cells are also known as Leucocytes as they are colorless due to lack of Haemoglob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are about 6000-8000mm of WBC for 1ml of blo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se are also called Scavengers &amp; Microscopic policeme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286000" y="914400"/>
            <a:ext cx="5257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ahoma"/>
              </a:rPr>
              <a:t>White Blood Corpusc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tors look at WBC nu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umber goes up there is some kind of infection and surgery might be n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crease in the number of white blood cells is leuk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crease in the number of white blood cells is leukocyto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ion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re formed in the red marrow of many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also be formed in lymphatic tiss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live for about 13-20 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1371600" y="228600"/>
            <a:ext cx="6399360" cy="6399360"/>
            <a:chOff x="1371600" y="228600"/>
            <a:chExt cx="6399360" cy="6399360"/>
          </a:xfrm>
        </p:grpSpPr>
        <p:pic>
          <p:nvPicPr>
            <p:cNvPr id="146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228600"/>
              <a:ext cx="6399360" cy="639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3"/>
            <p:cNvSpPr/>
            <p:nvPr/>
          </p:nvSpPr>
          <p:spPr>
            <a:xfrm>
              <a:off x="1371600" y="228600"/>
              <a:ext cx="6399360" cy="639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WordArt 1" descr=""/>
          <p:cNvPicPr/>
          <p:nvPr/>
        </p:nvPicPr>
        <p:blipFill>
          <a:blip r:embed="rId1"/>
          <a:stretch/>
        </p:blipFill>
        <p:spPr>
          <a:xfrm>
            <a:off x="4346640" y="3651120"/>
            <a:ext cx="3882960" cy="2341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685800" y="22860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0" y="594360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Typ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61920" y="2286000"/>
            <a:ext cx="90820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11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Granulocytes—have large granules in their cytoplasm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osin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24400" cy="622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2641680"/>
            <a:ext cx="441972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02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ahoma"/>
              </a:rPr>
              <a:t>Agranulocytes—do not have granules in their cytoplasm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ty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66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n light purple with neutral d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es are small and numerous—course appea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lobes in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mobile/very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gocytosis (eater), contain several lysosomes (jani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6:31:14Z</dcterms:created>
  <dc:creator>HS Room 33</dc:creator>
  <dc:description/>
  <dc:language>en-US</dc:language>
  <cp:lastModifiedBy>RomaK</cp:lastModifiedBy>
  <dcterms:modified xsi:type="dcterms:W3CDTF">2015-09-04T10:58:52Z</dcterms:modified>
  <cp:revision>10</cp:revision>
  <dc:subject/>
  <dc:title>Leukocytes White Blood Cells</dc:title>
</cp:coreProperties>
</file>