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wmf" ContentType="image/x-wmf"/>
  <Override PartName="/ppt/media/image13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A784-1DB1-406C-B004-BAF79E63B91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th Gr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/Eye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 Kno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ing for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ry a Microscope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88-163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 Microscope 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nding Light: The objective (bottom) convex lens magnifies and focuses (bends) the image inside the  body tube and the ocular convex (top) lens of a microscope magnifies it (ag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rts of a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s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phrag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rse Ad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Adju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p to Magnification S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3866-EA0B-4680-AD90-85DAE8BC3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D492-728C-41CD-936F-54D12968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468-82FC-475C-B2B7-B7FCE4155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E7CF-D43D-4B0A-9893-2C37B2AA8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CE7DB-FC61-4A41-8ACB-4F5DAC5FE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B62D0-B2B2-42D9-BE64-433A88856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989-B0D0-4995-8F63-F7D10A1F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16F9-831B-4FCB-B1C3-84423045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42334-6E60-4CCE-B43A-8BD8A526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4FB4F-0823-4FA3-8D9F-90F4643A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26526-40DB-4FF2-9FB4-55D1D0D91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43D5-2CB5-41C4-8654-E260076BD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626B-E8E0-4B98-A0BD-F5586C4F3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C18C-F5AB-4D6E-A25A-76DAB335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D275-9F21-44D6-8F05-444CB8703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B338-C0BF-472E-A7BA-52CEFD070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2ADB-8690-4952-9F21-3832361B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1927-4E28-49D1-9304-BD022FFD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523A-2B8B-4711-92BD-79844053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40DB-DB94-44DF-BD42-FFCD7743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3DA0-F140-468B-B15E-7E5B970A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5461-1D05-4454-BBDA-E140A87B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7E28-9E40-4414-9C15-AEA4EC8E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ECDF-99EA-47DC-9709-536E3DD36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955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955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F1573-CB2D-41E0-9B13-E71FD6B55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1BD21-704B-448D-98AA-6D48C217C7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" Target="slide8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slide" Target="slide11.xml"/><Relationship Id="rId6" Type="http://schemas.openxmlformats.org/officeDocument/2006/relationships/slide" Target="slide12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48006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2200" y="5334120"/>
            <a:ext cx="274320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Nose 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se Piece holds the objective lenses and can be turned to increase the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387645"/>
          <p:cNvPicPr/>
          <p:nvPr/>
        </p:nvPicPr>
        <p:blipFill>
          <a:blip r:embed="rId1"/>
          <a:stretch/>
        </p:blipFill>
        <p:spPr>
          <a:xfrm>
            <a:off x="4572000" y="281952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154" name="Line 6"/>
          <p:cNvSpPr/>
          <p:nvPr/>
        </p:nvSpPr>
        <p:spPr>
          <a:xfrm flipH="1">
            <a:off x="6248520" y="3809880"/>
            <a:ext cx="1752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bjective Lens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bjective Lenses increase magnification (usually from 10x to 40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60" name="Line 6"/>
          <p:cNvSpPr/>
          <p:nvPr/>
        </p:nvSpPr>
        <p:spPr>
          <a:xfrm flipH="1">
            <a:off x="4723920" y="4114800"/>
            <a:ext cx="2133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 Clip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2 clips hold the slide/specimen in place on the st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4" descr="stageclips"/>
          <p:cNvPicPr/>
          <p:nvPr/>
        </p:nvPicPr>
        <p:blipFill>
          <a:blip r:embed="rId1"/>
          <a:stretch/>
        </p:blipFill>
        <p:spPr>
          <a:xfrm>
            <a:off x="2590920" y="297180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166" name="Line 5"/>
          <p:cNvSpPr/>
          <p:nvPr/>
        </p:nvSpPr>
        <p:spPr>
          <a:xfrm flipH="1">
            <a:off x="4647960" y="4267080"/>
            <a:ext cx="2895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6"/>
          <p:cNvSpPr/>
          <p:nvPr/>
        </p:nvSpPr>
        <p:spPr>
          <a:xfrm flipH="1" flipV="1">
            <a:off x="4724280" y="411480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Diaphrag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aphragm controls the amount of light on the slide/speci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microscopediaphragm"/>
          <p:cNvPicPr/>
          <p:nvPr/>
        </p:nvPicPr>
        <p:blipFill>
          <a:blip r:embed="rId1"/>
          <a:stretch/>
        </p:blipFill>
        <p:spPr>
          <a:xfrm>
            <a:off x="2057400" y="2895480"/>
            <a:ext cx="2119320" cy="28195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microscopediaphragm2"/>
          <p:cNvPicPr/>
          <p:nvPr/>
        </p:nvPicPr>
        <p:blipFill>
          <a:blip r:embed="rId2"/>
          <a:stretch/>
        </p:blipFill>
        <p:spPr>
          <a:xfrm>
            <a:off x="5334120" y="2889360"/>
            <a:ext cx="2743200" cy="2014560"/>
          </a:xfrm>
          <a:prstGeom prst="rect">
            <a:avLst/>
          </a:prstGeom>
          <a:ln w="0">
            <a:noFill/>
          </a:ln>
        </p:spPr>
      </p:pic>
      <p:sp>
        <p:nvSpPr>
          <p:cNvPr id="174" name="Line 6"/>
          <p:cNvSpPr/>
          <p:nvPr/>
        </p:nvSpPr>
        <p:spPr>
          <a:xfrm flipV="1">
            <a:off x="1219320" y="4495320"/>
            <a:ext cx="13716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5473080" y="4989600"/>
            <a:ext cx="303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 to let more light in or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dimm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Light Sour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s light upwards through the diaphragm, the specimen and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lights, others have mirrors where you must move the mirror to reflect l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microscopelight"/>
          <p:cNvPicPr/>
          <p:nvPr/>
        </p:nvPicPr>
        <p:blipFill>
          <a:blip r:embed="rId1"/>
          <a:stretch/>
        </p:blipFill>
        <p:spPr>
          <a:xfrm>
            <a:off x="6172200" y="4419720"/>
            <a:ext cx="1755720" cy="1942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microscopelight2"/>
          <p:cNvPicPr/>
          <p:nvPr/>
        </p:nvPicPr>
        <p:blipFill>
          <a:blip r:embed="rId2"/>
          <a:stretch/>
        </p:blipFill>
        <p:spPr>
          <a:xfrm>
            <a:off x="3505320" y="4267080"/>
            <a:ext cx="1847880" cy="2210040"/>
          </a:xfrm>
          <a:prstGeom prst="rect">
            <a:avLst/>
          </a:prstGeom>
          <a:ln w="0">
            <a:noFill/>
          </a:ln>
        </p:spPr>
      </p:pic>
      <p:sp>
        <p:nvSpPr>
          <p:cNvPr id="182" name="Line 7"/>
          <p:cNvSpPr/>
          <p:nvPr/>
        </p:nvSpPr>
        <p:spPr>
          <a:xfrm flipV="1">
            <a:off x="2819520" y="5943240"/>
            <a:ext cx="1600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Ocular Lens/Eyepiec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gnifies the specimen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j0387645"/>
          <p:cNvPicPr/>
          <p:nvPr/>
        </p:nvPicPr>
        <p:blipFill>
          <a:blip r:embed="rId1"/>
          <a:stretch/>
        </p:blipFill>
        <p:spPr>
          <a:xfrm>
            <a:off x="3505320" y="259092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88" name="Line 5"/>
          <p:cNvSpPr/>
          <p:nvPr/>
        </p:nvSpPr>
        <p:spPr>
          <a:xfrm flipV="1">
            <a:off x="2514600" y="3047760"/>
            <a:ext cx="1828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Arm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o support the microscope when carried.  Holds the body tube, nose piece and objectiv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j0387645"/>
          <p:cNvPicPr/>
          <p:nvPr/>
        </p:nvPicPr>
        <p:blipFill>
          <a:blip r:embed="rId1"/>
          <a:stretch/>
        </p:blipFill>
        <p:spPr>
          <a:xfrm>
            <a:off x="4572000" y="3352680"/>
            <a:ext cx="2228760" cy="3124440"/>
          </a:xfrm>
          <a:prstGeom prst="rect">
            <a:avLst/>
          </a:prstGeom>
          <a:ln w="0">
            <a:noFill/>
          </a:ln>
        </p:spPr>
      </p:pic>
      <p:sp>
        <p:nvSpPr>
          <p:cNvPr id="194" name="Line 5"/>
          <p:cNvSpPr/>
          <p:nvPr/>
        </p:nvSpPr>
        <p:spPr>
          <a:xfrm>
            <a:off x="2819520" y="4648320"/>
            <a:ext cx="24382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Stag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slide/specim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4" descr="j0387645"/>
          <p:cNvPicPr/>
          <p:nvPr/>
        </p:nvPicPr>
        <p:blipFill>
          <a:blip r:embed="rId1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 flipH="1">
            <a:off x="2971800" y="3657600"/>
            <a:ext cx="9144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6" descr="stageclips"/>
          <p:cNvPicPr/>
          <p:nvPr/>
        </p:nvPicPr>
        <p:blipFill>
          <a:blip r:embed="rId2"/>
          <a:stretch/>
        </p:blipFill>
        <p:spPr>
          <a:xfrm>
            <a:off x="5105520" y="3048120"/>
            <a:ext cx="3333600" cy="2500200"/>
          </a:xfrm>
          <a:prstGeom prst="rect">
            <a:avLst/>
          </a:prstGeom>
          <a:ln w="0">
            <a:noFill/>
          </a:ln>
        </p:spPr>
      </p:pic>
      <p:sp>
        <p:nvSpPr>
          <p:cNvPr id="202" name="Line 7"/>
          <p:cNvSpPr/>
          <p:nvPr/>
        </p:nvSpPr>
        <p:spPr>
          <a:xfrm>
            <a:off x="4495680" y="3276720"/>
            <a:ext cx="106704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oars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s the stage up and down (quickly) for focusing your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Microscopeadjustmentknob"/>
          <p:cNvPicPr/>
          <p:nvPr/>
        </p:nvPicPr>
        <p:blipFill>
          <a:blip r:embed="rId1"/>
          <a:stretch/>
        </p:blipFill>
        <p:spPr>
          <a:xfrm>
            <a:off x="5257800" y="3657600"/>
            <a:ext cx="2422440" cy="24526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j0387645"/>
          <p:cNvPicPr/>
          <p:nvPr/>
        </p:nvPicPr>
        <p:blipFill>
          <a:blip r:embed="rId2"/>
          <a:stretch/>
        </p:blipFill>
        <p:spPr>
          <a:xfrm>
            <a:off x="914400" y="2895480"/>
            <a:ext cx="2610000" cy="3276720"/>
          </a:xfrm>
          <a:prstGeom prst="rect">
            <a:avLst/>
          </a:prstGeom>
          <a:ln w="0">
            <a:noFill/>
          </a:ln>
        </p:spPr>
      </p:pic>
      <p:sp>
        <p:nvSpPr>
          <p:cNvPr id="209" name="Line 7"/>
          <p:cNvSpPr/>
          <p:nvPr/>
        </p:nvSpPr>
        <p:spPr>
          <a:xfrm flipH="1">
            <a:off x="6857640" y="31240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8" descr="j0387645"/>
          <p:cNvPicPr/>
          <p:nvPr/>
        </p:nvPicPr>
        <p:blipFill>
          <a:blip r:embed="rId3"/>
          <a:stretch/>
        </p:blipFill>
        <p:spPr>
          <a:xfrm>
            <a:off x="914400" y="2514600"/>
            <a:ext cx="2610000" cy="3657600"/>
          </a:xfrm>
          <a:prstGeom prst="rect">
            <a:avLst/>
          </a:prstGeom>
          <a:ln w="0">
            <a:noFill/>
          </a:ln>
        </p:spPr>
      </p:pic>
      <p:sp>
        <p:nvSpPr>
          <p:cNvPr id="211" name="Line 9"/>
          <p:cNvSpPr/>
          <p:nvPr/>
        </p:nvSpPr>
        <p:spPr>
          <a:xfrm>
            <a:off x="685800" y="358128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Fine Adjustment Knob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knob moves the stage SLIGHTLY to sharpen the i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6" descr="Microscopeadjustmentknob"/>
          <p:cNvPicPr/>
          <p:nvPr/>
        </p:nvPicPr>
        <p:blipFill>
          <a:blip r:embed="rId1"/>
          <a:stretch/>
        </p:blipFill>
        <p:spPr>
          <a:xfrm>
            <a:off x="5791320" y="2971800"/>
            <a:ext cx="2422440" cy="2452680"/>
          </a:xfrm>
          <a:prstGeom prst="rect">
            <a:avLst/>
          </a:prstGeom>
          <a:ln w="0">
            <a:noFill/>
          </a:ln>
        </p:spPr>
      </p:pic>
      <p:sp>
        <p:nvSpPr>
          <p:cNvPr id="217" name="Line 7"/>
          <p:cNvSpPr/>
          <p:nvPr/>
        </p:nvSpPr>
        <p:spPr>
          <a:xfrm>
            <a:off x="5410080" y="3429000"/>
            <a:ext cx="38124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microscopeknob"/>
          <p:cNvPicPr/>
          <p:nvPr/>
        </p:nvPicPr>
        <p:blipFill>
          <a:blip r:embed="rId2"/>
          <a:stretch/>
        </p:blipFill>
        <p:spPr>
          <a:xfrm>
            <a:off x="1143000" y="2895480"/>
            <a:ext cx="2184480" cy="3276720"/>
          </a:xfrm>
          <a:prstGeom prst="rect">
            <a:avLst/>
          </a:prstGeom>
          <a:ln w="0">
            <a:noFill/>
          </a:ln>
        </p:spPr>
      </p:pic>
      <p:sp>
        <p:nvSpPr>
          <p:cNvPr id="219" name="Line 9"/>
          <p:cNvSpPr/>
          <p:nvPr/>
        </p:nvSpPr>
        <p:spPr>
          <a:xfrm flipH="1" flipV="1">
            <a:off x="2742840" y="5181480"/>
            <a:ext cx="1676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people experimented with making microsco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s the microscope originally made by accident? (Most people were creating telescop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rst microscope was 6 feet long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Greeks &amp; Romans used “lenses” to magnify objects over 1000 years 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as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s the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225" name="Line 5"/>
          <p:cNvSpPr/>
          <p:nvPr/>
        </p:nvSpPr>
        <p:spPr>
          <a:xfrm>
            <a:off x="1600200" y="4038480"/>
            <a:ext cx="236232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ra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gnificatio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etermine your magnification…you just multiply the ocular lens by the objective l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ular 10x  Objective 40x:10 x 40 =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stageclips"/>
          <p:cNvPicPr/>
          <p:nvPr/>
        </p:nvPicPr>
        <p:blipFill>
          <a:blip r:embed="rId1"/>
          <a:stretch/>
        </p:blipFill>
        <p:spPr>
          <a:xfrm>
            <a:off x="990720" y="3886200"/>
            <a:ext cx="2819160" cy="2114640"/>
          </a:xfrm>
          <a:prstGeom prst="rect">
            <a:avLst/>
          </a:prstGeom>
          <a:ln w="0">
            <a:noFill/>
          </a:ln>
        </p:spPr>
      </p:pic>
      <p:sp>
        <p:nvSpPr>
          <p:cNvPr id="233" name="Line 5"/>
          <p:cNvSpPr/>
          <p:nvPr/>
        </p:nvSpPr>
        <p:spPr>
          <a:xfrm flipH="1">
            <a:off x="2437920" y="46483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4880160" y="4419720"/>
            <a:ext cx="231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ive Lens ha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ir mag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ten on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4119840" y="5867280"/>
            <a:ext cx="41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ular lenses usually magnifies by 10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8"/>
          <p:cNvSpPr/>
          <p:nvPr/>
        </p:nvSpPr>
        <p:spPr>
          <a:xfrm>
            <a:off x="3950280" y="3770280"/>
            <a:ext cx="359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 the object is 400 times “large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aring for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 only with a soft cloth/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sure it’s on a flat su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bang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ry it with 2 HANDS…one on the arm and the other on the 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Carry a Microscope Correctly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242" name="Picture 4" descr="01_carry_microscope_P1200161"/>
          <p:cNvPicPr/>
          <p:nvPr/>
        </p:nvPicPr>
        <p:blipFill>
          <a:blip r:embed="rId1"/>
          <a:stretch/>
        </p:blipFill>
        <p:spPr>
          <a:xfrm>
            <a:off x="2590920" y="1447920"/>
            <a:ext cx="4152960" cy="505764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Using a Microscop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on the lowest magn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use the coarse adjustment knob on high magnification…you’ll break the slide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 slide on stage and lock cl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ust light source (if it’s a mirror…don’t stand in front of i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fine adjustment to fo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References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cerebromente.org.br/n17/history/neurons1_i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oogle Imag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science.howstuffworks.com/light-microscope1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3300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s and Zacharias Janssen of Holland in the 1590’s created the “first” compound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hony van Leeuwenhoek and Robert Hooke made improvements by working on the len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leeuwenhoekpaint"/>
          <p:cNvPicPr/>
          <p:nvPr/>
        </p:nvPicPr>
        <p:blipFill>
          <a:blip r:embed="rId1"/>
          <a:stretch/>
        </p:blipFill>
        <p:spPr>
          <a:xfrm>
            <a:off x="990720" y="4267080"/>
            <a:ext cx="1619280" cy="161928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462240" y="5943600"/>
            <a:ext cx="293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hony van Leeuwenho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2-17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705720" y="5867280"/>
            <a:ext cx="176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Hook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35-170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images"/>
          <p:cNvPicPr/>
          <p:nvPr/>
        </p:nvPicPr>
        <p:blipFill>
          <a:blip r:embed="rId2"/>
          <a:stretch/>
        </p:blipFill>
        <p:spPr>
          <a:xfrm>
            <a:off x="6705720" y="3886200"/>
            <a:ext cx="1434960" cy="198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hooke_scope"/>
          <p:cNvPicPr/>
          <p:nvPr/>
        </p:nvPicPr>
        <p:blipFill>
          <a:blip r:embed="rId3"/>
          <a:stretch/>
        </p:blipFill>
        <p:spPr>
          <a:xfrm>
            <a:off x="4191120" y="4114800"/>
            <a:ext cx="1222200" cy="1752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3809880" y="59436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oke Microsc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"/>
              </a:rPr>
              <a:t>The History</a:t>
            </a:r>
            <a:endParaRPr b="0" lang="en-US" sz="4000" spc="-1" strike="noStrike">
              <a:solidFill>
                <a:srgbClr val="ffcc99"/>
              </a:solidFill>
              <a:latin typeface="Arial"/>
            </a:endParaRPr>
          </a:p>
        </p:txBody>
      </p:sp>
      <p:pic>
        <p:nvPicPr>
          <p:cNvPr id="105" name="Picture 4" descr="Jansen microscope"/>
          <p:cNvPicPr/>
          <p:nvPr/>
        </p:nvPicPr>
        <p:blipFill>
          <a:blip r:embed="rId1"/>
          <a:stretch/>
        </p:blipFill>
        <p:spPr>
          <a:xfrm>
            <a:off x="533520" y="1600200"/>
            <a:ext cx="320328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anssen microscope1"/>
          <p:cNvPicPr/>
          <p:nvPr/>
        </p:nvPicPr>
        <p:blipFill>
          <a:blip r:embed="rId2"/>
          <a:stretch/>
        </p:blipFill>
        <p:spPr>
          <a:xfrm>
            <a:off x="4343400" y="2438280"/>
            <a:ext cx="4343400" cy="24321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85800" y="52182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charias Ja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88-163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029200" y="51814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“First” Microsc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1" name="Picture 4" descr="convex lense"/>
          <p:cNvPicPr/>
          <p:nvPr/>
        </p:nvPicPr>
        <p:blipFill>
          <a:blip r:embed="rId1"/>
          <a:stretch/>
        </p:blipFill>
        <p:spPr>
          <a:xfrm>
            <a:off x="5029200" y="1600200"/>
            <a:ext cx="3048120" cy="214632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5"/>
          <p:cNvSpPr/>
          <p:nvPr/>
        </p:nvSpPr>
        <p:spPr>
          <a:xfrm>
            <a:off x="1905120" y="1828800"/>
            <a:ext cx="1768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609480" y="1600200"/>
            <a:ext cx="426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vex Lenses 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ved glass used to make microsco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nd glasses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j0303765"/>
          <p:cNvPicPr/>
          <p:nvPr/>
        </p:nvPicPr>
        <p:blipFill>
          <a:blip r:embed="rId2"/>
          <a:stretch/>
        </p:blipFill>
        <p:spPr>
          <a:xfrm>
            <a:off x="1066680" y="4267080"/>
            <a:ext cx="1187640" cy="1806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convex lense2"/>
          <p:cNvPicPr/>
          <p:nvPr/>
        </p:nvPicPr>
        <p:blipFill>
          <a:blip r:embed="rId3"/>
          <a:stretch/>
        </p:blipFill>
        <p:spPr>
          <a:xfrm>
            <a:off x="3048120" y="4343400"/>
            <a:ext cx="2438280" cy="182880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9"/>
          <p:cNvSpPr/>
          <p:nvPr/>
        </p:nvSpPr>
        <p:spPr>
          <a:xfrm>
            <a:off x="5567400" y="4572000"/>
            <a:ext cx="304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x Lenses b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and focus it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p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How a Microscope Work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19" name="Picture 7" descr="j0387645"/>
          <p:cNvPicPr/>
          <p:nvPr/>
        </p:nvPicPr>
        <p:blipFill>
          <a:blip r:embed="rId1"/>
          <a:stretch/>
        </p:blipFill>
        <p:spPr>
          <a:xfrm>
            <a:off x="3276720" y="129528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20" name="Line 10"/>
          <p:cNvSpPr/>
          <p:nvPr/>
        </p:nvSpPr>
        <p:spPr>
          <a:xfrm flipV="1">
            <a:off x="2590920" y="1828440"/>
            <a:ext cx="1600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1"/>
          <p:cNvSpPr/>
          <p:nvPr/>
        </p:nvSpPr>
        <p:spPr>
          <a:xfrm flipH="1">
            <a:off x="4876920" y="2133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2"/>
          <p:cNvSpPr/>
          <p:nvPr/>
        </p:nvSpPr>
        <p:spPr>
          <a:xfrm flipV="1">
            <a:off x="2514600" y="2438280"/>
            <a:ext cx="1752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612000" y="1600200"/>
            <a:ext cx="262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cular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gnifies Im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4"/>
          <p:cNvSpPr/>
          <p:nvPr/>
        </p:nvSpPr>
        <p:spPr>
          <a:xfrm>
            <a:off x="5945040" y="1752480"/>
            <a:ext cx="3061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Gathers Ligh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gnif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cuses Im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de Body Tu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5"/>
          <p:cNvSpPr/>
          <p:nvPr/>
        </p:nvSpPr>
        <p:spPr>
          <a:xfrm>
            <a:off x="763920" y="3276720"/>
            <a:ext cx="246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dy Tu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age Focu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533520" y="4876920"/>
            <a:ext cx="75405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nding Ligh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objective (bottom) convex lens magnifies and focuses (bends) the image inside the  body tube and the ocular convex (top) lens of a microscope magnifies it (agai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Arial"/>
              </a:rPr>
              <a:t>The Parts of a Microscope</a:t>
            </a:r>
            <a:endParaRPr b="0" lang="en-US" sz="4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microscope-boxed"/>
          <p:cNvPicPr/>
          <p:nvPr/>
        </p:nvPicPr>
        <p:blipFill>
          <a:blip r:embed="rId1"/>
          <a:stretch/>
        </p:blipFill>
        <p:spPr>
          <a:xfrm>
            <a:off x="1447920" y="500040"/>
            <a:ext cx="6248160" cy="585792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1586880" y="1027080"/>
            <a:ext cx="128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Body 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1663560" y="19414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3" action="ppaction://hlinksldjump"/>
              </a:rPr>
              <a:t>Nose Pie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78680" y="2514600"/>
            <a:ext cx="113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4" action="ppaction://hlinksldjump"/>
              </a:rPr>
              <a:t>Ob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5" action="ppaction://hlinksldjump"/>
              </a:rPr>
              <a:t>L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1602360" y="3429000"/>
            <a:ext cx="7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6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7" action="ppaction://hlinksldjump"/>
              </a:rPr>
              <a:t> Cl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1663920" y="4303800"/>
            <a:ext cx="12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8" action="ppaction://hlinksldjump"/>
              </a:rPr>
              <a:t>Diaphrag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679400" y="48006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9" action="ppaction://hlinksldjump"/>
              </a:rPr>
              <a:t>Light 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6235200" y="569880"/>
            <a:ext cx="141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0" action="ppaction://hlinksldjump"/>
              </a:rPr>
              <a:t>Ocular L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2"/>
          <p:cNvSpPr/>
          <p:nvPr/>
        </p:nvSpPr>
        <p:spPr>
          <a:xfrm>
            <a:off x="6386760" y="2246400"/>
            <a:ext cx="59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1" action="ppaction://hlinksldjump"/>
              </a:rPr>
              <a:t>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6310800" y="3236760"/>
            <a:ext cx="7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2" action="ppaction://hlinksldjump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4"/>
          <p:cNvSpPr/>
          <p:nvPr/>
        </p:nvSpPr>
        <p:spPr>
          <a:xfrm>
            <a:off x="6311160" y="3846600"/>
            <a:ext cx="137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3" action="ppaction://hlinksldjump"/>
              </a:rPr>
              <a:t>Coarse Adj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5"/>
          <p:cNvSpPr/>
          <p:nvPr/>
        </p:nvSpPr>
        <p:spPr>
          <a:xfrm>
            <a:off x="6235200" y="430380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4" action="ppaction://hlinksldjump"/>
              </a:rPr>
              <a:t>Fine Adju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6"/>
          <p:cNvSpPr/>
          <p:nvPr/>
        </p:nvSpPr>
        <p:spPr>
          <a:xfrm>
            <a:off x="6387120" y="52182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5" action="ppaction://hlinksldjump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7"/>
          <p:cNvSpPr/>
          <p:nvPr/>
        </p:nvSpPr>
        <p:spPr>
          <a:xfrm>
            <a:off x="461160" y="6172200"/>
            <a:ext cx="31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16" action="ppaction://hlinksldjump"/>
              </a:rPr>
              <a:t>Skip to Magnification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Body Tub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dy tube holds the objective lenses and the ocular lens at the proper dist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j0387645"/>
          <p:cNvPicPr/>
          <p:nvPr/>
        </p:nvPicPr>
        <p:blipFill>
          <a:blip r:embed="rId1"/>
          <a:stretch/>
        </p:blipFill>
        <p:spPr>
          <a:xfrm>
            <a:off x="3276720" y="2743200"/>
            <a:ext cx="2609640" cy="3657600"/>
          </a:xfrm>
          <a:prstGeom prst="rect">
            <a:avLst/>
          </a:prstGeom>
          <a:ln w="0">
            <a:noFill/>
          </a:ln>
        </p:spPr>
      </p:pic>
      <p:sp>
        <p:nvSpPr>
          <p:cNvPr id="148" name="Line 5"/>
          <p:cNvSpPr/>
          <p:nvPr/>
        </p:nvSpPr>
        <p:spPr>
          <a:xfrm flipV="1">
            <a:off x="1600200" y="3657240"/>
            <a:ext cx="2514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67560" y="6056280"/>
            <a:ext cx="11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cc"/>
                </a:solidFill>
                <a:uFillTx/>
                <a:latin typeface="Arial"/>
                <a:hlinkClick r:id="rId2" action="ppaction://hlinksldjump"/>
              </a:rPr>
              <a:t>Diagr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0958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3T05:29:08Z</dcterms:created>
  <dc:creator>Gary Blue</dc:creator>
  <dc:description/>
  <dc:language>en-US</dc:language>
  <cp:lastModifiedBy>LEGION2</cp:lastModifiedBy>
  <dcterms:modified xsi:type="dcterms:W3CDTF">2016-01-11T14:11:37Z</dcterms:modified>
  <cp:revision>32</cp:revision>
  <dc:subject/>
  <dc:title>Slide 1</dc:title>
</cp:coreProperties>
</file>