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E3FD3-C344-47E9-8D1D-6651D9F10EE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A73-677D-4034-B1C7-AC71C5B07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972-7FF9-4F88-8408-BBD9446F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608C-06C3-452C-920E-D3E584D6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670-7584-4AE7-8DE4-B87E90C0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1FC3-A201-4915-BC0F-6AC6F55B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8D22-2C92-4CA0-9CE1-FE17C5CC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08E8-3DE5-4667-AFD0-D863C6EC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0A86-E1EE-42EE-9E29-5ABBFC4E9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4517-57F9-4D91-A335-E25E6F04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F3AB-6D48-4159-B620-E90D16B8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0524-614B-40F3-95AB-054D1E02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149-50F6-4EF0-A959-1A2F0684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8AC9-362A-4050-8EFB-0EB4980D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A8D4-31F0-457D-ACF1-1021616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9528-2D02-4756-BC91-B62A6416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9F2C-CC86-4757-B619-3C580433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022D-6DC7-4B99-9206-26C033B58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2456-9464-4CFB-974A-8D02FE6C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4211-6D44-4FBB-9CE9-59D60E39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AC9-CD9F-4F84-A06E-BB3857B7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3DA-3F4E-44EA-B55B-AB0BD199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821-4AF0-4876-9970-9C0BFF4F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F0C6-B4D1-423B-B4D7-9B799623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DA3-44D1-44FC-BEB7-3F94CD0D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4BCF-97A7-4171-9291-D863F6CA1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4937-BACC-4CF4-8668-DAD5F8C28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387645"/>
          <p:cNvPicPr/>
          <p:nvPr/>
        </p:nvPicPr>
        <p:blipFill>
          <a:blip r:embed="rId1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Line 6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tageclips"/>
          <p:cNvPicPr/>
          <p:nvPr/>
        </p:nvPicPr>
        <p:blipFill>
          <a:blip r:embed="rId1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66" name="Line 5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icroscopediaphragm"/>
          <p:cNvPicPr/>
          <p:nvPr/>
        </p:nvPicPr>
        <p:blipFill>
          <a:blip r:embed="rId1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icroscopediaphragm2"/>
          <p:cNvPicPr/>
          <p:nvPr/>
        </p:nvPicPr>
        <p:blipFill>
          <a:blip r:embed="rId2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74" name="Line 6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icroscopelight"/>
          <p:cNvPicPr/>
          <p:nvPr/>
        </p:nvPicPr>
        <p:blipFill>
          <a:blip r:embed="rId1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icroscopelight2"/>
          <p:cNvPicPr/>
          <p:nvPr/>
        </p:nvPicPr>
        <p:blipFill>
          <a:blip r:embed="rId2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82" name="Line 7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87645"/>
          <p:cNvPicPr/>
          <p:nvPr/>
        </p:nvPicPr>
        <p:blipFill>
          <a:blip r:embed="rId1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j0387645"/>
          <p:cNvPicPr/>
          <p:nvPr/>
        </p:nvPicPr>
        <p:blipFill>
          <a:blip r:embed="rId1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94" name="Line 5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387645"/>
          <p:cNvPicPr/>
          <p:nvPr/>
        </p:nvPicPr>
        <p:blipFill>
          <a:blip r:embed="rId1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stageclips"/>
          <p:cNvPicPr/>
          <p:nvPr/>
        </p:nvPicPr>
        <p:blipFill>
          <a:blip r:embed="rId2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Microscopeadjustmentknob"/>
          <p:cNvPicPr/>
          <p:nvPr/>
        </p:nvPicPr>
        <p:blipFill>
          <a:blip r:embed="rId1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87645"/>
          <p:cNvPicPr/>
          <p:nvPr/>
        </p:nvPicPr>
        <p:blipFill>
          <a:blip r:embed="rId2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209" name="Line 7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j0387645"/>
          <p:cNvPicPr/>
          <p:nvPr/>
        </p:nvPicPr>
        <p:blipFill>
          <a:blip r:embed="rId3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11" name="Line 9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Microscopeadjustmentknob"/>
          <p:cNvPicPr/>
          <p:nvPr/>
        </p:nvPicPr>
        <p:blipFill>
          <a:blip r:embed="rId1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217" name="Line 7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microscopeknob"/>
          <p:cNvPicPr/>
          <p:nvPr/>
        </p:nvPicPr>
        <p:blipFill>
          <a:blip r:embed="rId2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19" name="Line 9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stageclips"/>
          <p:cNvPicPr/>
          <p:nvPr/>
        </p:nvPicPr>
        <p:blipFill>
          <a:blip r:embed="rId1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33" name="Line 5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42" name="Picture 4" descr="01_carry_microscope_P1200161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eeuwenhoekpaint"/>
          <p:cNvPicPr/>
          <p:nvPr/>
        </p:nvPicPr>
        <p:blipFill>
          <a:blip r:embed="rId1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mages"/>
          <p:cNvPicPr/>
          <p:nvPr/>
        </p:nvPicPr>
        <p:blipFill>
          <a:blip r:embed="rId2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ooke_scope"/>
          <p:cNvPicPr/>
          <p:nvPr/>
        </p:nvPicPr>
        <p:blipFill>
          <a:blip r:embed="rId3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105" name="Picture 4" descr="Jansen microscope"/>
          <p:cNvPicPr/>
          <p:nvPr/>
        </p:nvPicPr>
        <p:blipFill>
          <a:blip r:embed="rId1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anssen microscope1"/>
          <p:cNvPicPr/>
          <p:nvPr/>
        </p:nvPicPr>
        <p:blipFill>
          <a:blip r:embed="rId2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4" descr="convex lense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j0303765"/>
          <p:cNvPicPr/>
          <p:nvPr/>
        </p:nvPicPr>
        <p:blipFill>
          <a:blip r:embed="rId2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onvex lense2"/>
          <p:cNvPicPr/>
          <p:nvPr/>
        </p:nvPicPr>
        <p:blipFill>
          <a:blip r:embed="rId3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9" name="Picture 7" descr="j0387645"/>
          <p:cNvPicPr/>
          <p:nvPr/>
        </p:nvPicPr>
        <p:blipFill>
          <a:blip r:embed="rId1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Line 10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microscope-boxed"/>
          <p:cNvPicPr/>
          <p:nvPr/>
        </p:nvPicPr>
        <p:blipFill>
          <a:blip r:embed="rId1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Coarse 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Line 5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LEGION2</cp:lastModifiedBy>
  <dcterms:modified xsi:type="dcterms:W3CDTF">2016-01-11T14:11:37Z</dcterms:modified>
  <cp:revision>32</cp:revision>
  <dc:subject/>
  <dc:title>Slide 1</dc:title>
</cp:coreProperties>
</file>