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0B15D-7BEC-4845-9059-4BA7B9D3163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pecialised Ce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1 Biolo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ise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1 Bi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hite Blood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Blood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perm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rm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Xyl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y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d Blood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Blood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Nerve Ce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e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155C-C101-43FE-B00E-788F35966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08EC-0193-4693-8933-2C5604F9A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C1AC-F2EE-4D42-AD33-95245EBC1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5C44-A7E2-490A-936F-61C2B2FA8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35C7F-F1FD-4714-9F61-77748D9A3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BBCC0-77DC-4549-A144-713BE7CC2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B0A71-30CB-4CDF-A313-97636285E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C012E-429E-4C2E-B4EA-F12AC0EB9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06EE8-0217-4B21-B5A8-0DD70D7CE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F6C84-2324-4F9A-9284-424AA134B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E4C75-B81A-449B-91F6-8B45D0DD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DE2C-2C19-4446-8634-8B4FDC486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690D1-710F-4C80-AACF-6531CE0E6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1B061-E503-4260-B129-91893E8D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B9441-F7DA-450B-B751-D799CB3B3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32C14-8FFB-4975-A6A4-81E7F2F7E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86C68-97A4-4443-80D2-313CEEEBC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0EEE-5196-422F-99DA-6E9654FC1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6AFA-3944-46AD-AA54-813D684FB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DDDE-AF24-436F-82B1-642912CD5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0EA9-0EFA-4E57-8A89-C2B89F268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1943-CEB2-42DB-B069-16982307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B76E-50EA-46DE-A4FF-DC81E36B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EB19-D9FF-40C3-A89E-C96E9A6A6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B2B13-425E-49BC-BD97-88CA817B8A7A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DE1C7-3028-4924-BAF5-A5DC7DA34C94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Specialised Cell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S1 Biolo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hite Blood Ce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5" descr="White blood cell engulfing yeast"/>
          <p:cNvPicPr/>
          <p:nvPr/>
        </p:nvPicPr>
        <p:blipFill>
          <a:blip r:embed="rId1"/>
          <a:stretch/>
        </p:blipFill>
        <p:spPr>
          <a:xfrm>
            <a:off x="539640" y="1535040"/>
            <a:ext cx="8101080" cy="532296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perm Ce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6" descr="Sperm fertilizing egg"/>
          <p:cNvPicPr/>
          <p:nvPr/>
        </p:nvPicPr>
        <p:blipFill>
          <a:blip r:embed="rId1"/>
          <a:stretch/>
        </p:blipFill>
        <p:spPr>
          <a:xfrm>
            <a:off x="1692360" y="1557360"/>
            <a:ext cx="6048360" cy="499428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Xyl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5" descr="Xylem plant cells, SEM"/>
          <p:cNvPicPr/>
          <p:nvPr/>
        </p:nvPicPr>
        <p:blipFill>
          <a:blip r:embed="rId1"/>
          <a:stretch/>
        </p:blipFill>
        <p:spPr>
          <a:xfrm>
            <a:off x="900000" y="1413000"/>
            <a:ext cx="7417080" cy="493704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Red Blood Ce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5" descr="Red blood cells, SEM"/>
          <p:cNvPicPr/>
          <p:nvPr/>
        </p:nvPicPr>
        <p:blipFill>
          <a:blip r:embed="rId1"/>
          <a:stretch/>
        </p:blipFill>
        <p:spPr>
          <a:xfrm>
            <a:off x="1116000" y="1341360"/>
            <a:ext cx="6840720" cy="521820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Nerve Cel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6" descr="Nerve cell, computer artwork"/>
          <p:cNvPicPr/>
          <p:nvPr/>
        </p:nvPicPr>
        <p:blipFill>
          <a:blip r:embed="rId1"/>
          <a:stretch/>
        </p:blipFill>
        <p:spPr>
          <a:xfrm>
            <a:off x="1476360" y="1197000"/>
            <a:ext cx="7056360" cy="516096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9T16:30:41Z</dcterms:created>
  <dc:creator>CEC</dc:creator>
  <dc:description/>
  <dc:language>en-US</dc:language>
  <cp:lastModifiedBy>LEGION2</cp:lastModifiedBy>
  <dcterms:modified xsi:type="dcterms:W3CDTF">2016-01-11T14:02:17Z</dcterms:modified>
  <cp:revision>7</cp:revision>
  <dc:subject/>
  <dc:title>Specialised Cells</dc:title>
</cp:coreProperties>
</file>