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9A15-C321-4F60-A4D8-B2558EAB75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FCF-4DAA-4CBE-80C2-99F6DC7C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7E6-D5AF-48D6-A963-FF9A62E5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378-B4A1-4171-8792-F5E04CC9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72A-AF0A-4BC6-97C8-3E1E1969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BBA-CC5C-4171-BF0A-A6FCCE7C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F72-5748-4C2B-99BF-AEE1C780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763-0104-4EEB-9F71-159EF755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EEC-16F4-48F0-BC6F-2620BEFD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8DE-A518-4946-B69D-CAECCD8B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0EC-C018-491A-BEA5-AED7A43F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711-C7B3-46E2-BD20-0DFA790A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AC8D-43B4-4820-84E7-F69C5434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767E-99E3-4D4E-8A00-12756E9997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6913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Protein Syn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6381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NA6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95280" y="4149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5445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635280" y="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tein Synthesis takes place in 2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95280" y="472428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 of the DNA molecule (the gene) unz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 RNA copy is produced, by matching complementary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1_4c"/>
          <p:cNvPicPr/>
          <p:nvPr/>
        </p:nvPicPr>
        <p:blipFill>
          <a:blip r:embed="rId1"/>
          <a:stretch/>
        </p:blipFill>
        <p:spPr>
          <a:xfrm>
            <a:off x="179280" y="134136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1_4d"/>
          <p:cNvPicPr/>
          <p:nvPr/>
        </p:nvPicPr>
        <p:blipFill>
          <a:blip r:embed="rId2"/>
          <a:stretch/>
        </p:blipFill>
        <p:spPr>
          <a:xfrm>
            <a:off x="4606920" y="1341360"/>
            <a:ext cx="4537080" cy="3144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4724280"/>
            <a:ext cx="820872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mRNA copy is made with the help of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RNA polymerase.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ary R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7"/>
          <p:cNvSpPr/>
          <p:nvPr/>
        </p:nvSpPr>
        <p:spPr>
          <a:xfrm>
            <a:off x="6156360" y="270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156360" y="3500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15636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084720" y="537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300px-MRNA-interaction"/>
          <p:cNvPicPr/>
          <p:nvPr/>
        </p:nvPicPr>
        <p:blipFill>
          <a:blip r:embed="rId1"/>
          <a:stretch/>
        </p:blipFill>
        <p:spPr>
          <a:xfrm>
            <a:off x="1979640" y="1459080"/>
            <a:ext cx="5346720" cy="5398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5219280" y="1916280"/>
            <a:ext cx="1297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835280" y="400536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84360" y="3789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516720" y="1628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588000" y="1700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5796000" y="501336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38036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nlabelled_animal_cell_for_cell_worksheet_with_ribosomes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557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835280" y="3500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940360" y="2349360"/>
            <a:ext cx="194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1692360" y="5373720"/>
            <a:ext cx="115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5508720" y="5084280"/>
            <a:ext cx="1295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85928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 flipV="1">
            <a:off x="4788000" y="436572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12589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25892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508720" y="609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80400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88508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71636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nimal_cell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657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NA_Cycle"/>
          <p:cNvPicPr/>
          <p:nvPr/>
        </p:nvPicPr>
        <p:blipFill>
          <a:blip r:embed="rId1"/>
          <a:stretch/>
        </p:blipFill>
        <p:spPr>
          <a:xfrm>
            <a:off x="1908000" y="1844640"/>
            <a:ext cx="538164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rna"/>
          <p:cNvPicPr/>
          <p:nvPr/>
        </p:nvPicPr>
        <p:blipFill>
          <a:blip r:embed="rId1"/>
          <a:stretch/>
        </p:blipFill>
        <p:spPr>
          <a:xfrm>
            <a:off x="971640" y="1197000"/>
            <a:ext cx="6732360" cy="5522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4000"/>
            <a:ext cx="9074160" cy="6804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NA2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4691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24000" y="5300640"/>
            <a:ext cx="8496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made up of 4 different subunit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otid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ich can be arranged in an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enine to Thym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tosine to Guan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-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NA9"/>
          <p:cNvPicPr/>
          <p:nvPr/>
        </p:nvPicPr>
        <p:blipFill>
          <a:blip r:embed="rId1"/>
          <a:stretch/>
        </p:blipFill>
        <p:spPr>
          <a:xfrm>
            <a:off x="179280" y="82440"/>
            <a:ext cx="8964720" cy="6761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that act like 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81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order) of bases tells the cell what proteins to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213372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dictate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amino acids, which determines the shape of a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5280" y="400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5280" y="544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 if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 the DNA is wrong it may result in a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ckle cell anaemia is caused by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hange in the DNA bas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7596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NA7"/>
          <p:cNvPicPr/>
          <p:nvPr/>
        </p:nvPicPr>
        <p:blipFill>
          <a:blip r:embed="rId1"/>
          <a:stretch/>
        </p:blipFill>
        <p:spPr>
          <a:xfrm>
            <a:off x="2509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932360" y="692280"/>
            <a:ext cx="324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NA10"/>
          <p:cNvPicPr/>
          <p:nvPr/>
        </p:nvPicPr>
        <p:blipFill>
          <a:blip r:embed="rId1"/>
          <a:stretch/>
        </p:blipFill>
        <p:spPr>
          <a:xfrm>
            <a:off x="250920" y="-380880"/>
            <a:ext cx="8893080" cy="6672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9640" y="595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35:41Z</dcterms:created>
  <dc:creator>Holloway</dc:creator>
  <dc:description/>
  <dc:language>en-US</dc:language>
  <cp:lastModifiedBy>LEGION2</cp:lastModifiedBy>
  <dcterms:modified xsi:type="dcterms:W3CDTF">2016-01-11T13:53:25Z</dcterms:modified>
  <cp:revision>22</cp:revision>
  <dc:subject/>
  <dc:title>The Human Genome and Disease</dc:title>
</cp:coreProperties>
</file>