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93A7-810E-4A89-B16E-A043919700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anks to Jenny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anks to Jenny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arries the code for every protein that can be made by a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ene is a length of DNA which codes for a particular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 takes place in 2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arries the code for every protein that can be made by a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ene is a length of DNA which codes for a particular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 takes place in 2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DNA molecule (the gene) unz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RNA copy is produced, by matching complementary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king a messenger RNA copy of 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DNA molecule (the gene) unz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RNA copy is produced, by matching complementary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king a messenger RNA copy of 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RNA copy is made with the help of RNA polymer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RNA copy is made with the help of RNA polymer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ary base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ary base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leaves the nucleus through a nuclear 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leaving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leaves the nucleus through a nuclear 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leaving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goes to the Ribosomes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goes to the Ribosomes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bosomes read the code and join the amino acid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bosomes read the code and join the amino acid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RNA brings the correct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RNA brings the correct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a very long molecule that looks like a twisted ladd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made up of 4 different subunits called nucleotides which can be arranged in any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a very long molecule that looks like a twisted ladd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made up of 4 different subunits called nucleotides which can be arranged in any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es are comple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has two stra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ands are stuck together by the complementary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ine to Thymine  A-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sine to Guanine  C-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es are comple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has two stra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ands are stuck together by the complementary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ine to Thymine  A-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sine to Guanine  C-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Sequence of bases that act like a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(order) of bases tells the cell what proteins to ma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of bases dictates the sequence of amino acids, which determines the shape of a prote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otein is the wrong shape it will not work properly (it may work different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f the sequence in the DNA is wrong it may result in a genetic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Sequence of bases that act like a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(order) of bases tells the cell what proteins to ma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of bases dictates the sequence of amino acids, which determines the shape of a prote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otein is the wrong shape it will not work properly (it may work different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f the sequence in the DNA is wrong it may result in a genetic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kle cell anaemia is caused by one change in the DNA bas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kle cell anaemia is caused by one change in the DNA bas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triplet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3 bases to code for one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triplet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3 bases to code for one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riplet codes for a different amino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riplet codes for a different amino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8162-0D2E-4AA4-B223-3970EC6D3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FF0A-4116-4BAF-A59A-4B94EEDB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C382-EDCE-4E6B-BCD6-BCE7264AC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8DB1-898F-4A58-A769-9D107F193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F240-9231-4483-9784-4C81861E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B07D-18A0-4AB9-AD17-DB188894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5434-6BA8-455D-B9B4-4D2A170E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0FED-2EEA-4FEB-9BE4-E8F875AD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9A03-B019-4C53-9F76-EB1CB6DD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0ECD-317B-4CE6-BD91-E382E252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0233-1D74-45FC-84A4-ADD0E28B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7D09-DCB7-4B34-80A0-ACA573EB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1A40-CD4B-4430-89DD-2DB5FEEA5FE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1413000"/>
            <a:ext cx="69138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Arial"/>
              </a:rPr>
              <a:t>Protein Synthes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50920" y="6381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thanks to Jenny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DNA6"/>
          <p:cNvPicPr/>
          <p:nvPr/>
        </p:nvPicPr>
        <p:blipFill>
          <a:blip r:embed="rId1"/>
          <a:stretch/>
        </p:blipFill>
        <p:spPr>
          <a:xfrm>
            <a:off x="0" y="649440"/>
            <a:ext cx="9144000" cy="34606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395280" y="41497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NA carries the code for every protein that can be made by a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95280" y="544500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gene is a length of DNA which codes for a particular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3635280" y="0"/>
            <a:ext cx="55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Protein Synthesis takes place in 2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465300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11_4a"/>
          <p:cNvPicPr/>
          <p:nvPr/>
        </p:nvPicPr>
        <p:blipFill>
          <a:blip r:embed="rId1"/>
          <a:stretch/>
        </p:blipFill>
        <p:spPr>
          <a:xfrm>
            <a:off x="826920" y="1989000"/>
            <a:ext cx="4248360" cy="2619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11_4b"/>
          <p:cNvPicPr/>
          <p:nvPr/>
        </p:nvPicPr>
        <p:blipFill>
          <a:blip r:embed="rId2"/>
          <a:stretch/>
        </p:blipFill>
        <p:spPr>
          <a:xfrm>
            <a:off x="4788000" y="1989000"/>
            <a:ext cx="4149720" cy="26035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395280" y="4724280"/>
            <a:ext cx="8280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art of the DNA molecule (the gene) unz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n RNA copy is produced, by matching complementary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ranscription 1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making a messenger RNA copy of DN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nscrip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11_4c"/>
          <p:cNvPicPr/>
          <p:nvPr/>
        </p:nvPicPr>
        <p:blipFill>
          <a:blip r:embed="rId1"/>
          <a:stretch/>
        </p:blipFill>
        <p:spPr>
          <a:xfrm>
            <a:off x="179280" y="1341360"/>
            <a:ext cx="4537080" cy="3138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11_4d"/>
          <p:cNvPicPr/>
          <p:nvPr/>
        </p:nvPicPr>
        <p:blipFill>
          <a:blip r:embed="rId2"/>
          <a:stretch/>
        </p:blipFill>
        <p:spPr>
          <a:xfrm>
            <a:off x="4606920" y="1341360"/>
            <a:ext cx="4537080" cy="31449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684360" y="4724280"/>
            <a:ext cx="8208720" cy="17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he mRNA copy is made with the help of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RNA polymerase.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cc"/>
                </a:solidFill>
                <a:latin typeface="Arial"/>
              </a:rPr>
              <a:t>Complementary base pa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600200"/>
          <a:ext cx="8229600" cy="4565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 B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mentary RNA B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Text Box 27"/>
          <p:cNvSpPr/>
          <p:nvPr/>
        </p:nvSpPr>
        <p:spPr>
          <a:xfrm>
            <a:off x="6156360" y="2708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6156360" y="35002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6156360" y="4437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0"/>
          <p:cNvSpPr/>
          <p:nvPr/>
        </p:nvSpPr>
        <p:spPr>
          <a:xfrm>
            <a:off x="6084720" y="5373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m-RNA leaves the nucleus through a nuclear p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300px-MRNA-interaction"/>
          <p:cNvPicPr/>
          <p:nvPr/>
        </p:nvPicPr>
        <p:blipFill>
          <a:blip r:embed="rId1"/>
          <a:stretch/>
        </p:blipFill>
        <p:spPr>
          <a:xfrm>
            <a:off x="1979640" y="1459080"/>
            <a:ext cx="5346720" cy="5398920"/>
          </a:xfrm>
          <a:prstGeom prst="rect">
            <a:avLst/>
          </a:prstGeom>
          <a:ln w="0">
            <a:noFill/>
          </a:ln>
        </p:spPr>
      </p:pic>
      <p:sp>
        <p:nvSpPr>
          <p:cNvPr id="102" name="Line 7"/>
          <p:cNvSpPr/>
          <p:nvPr/>
        </p:nvSpPr>
        <p:spPr>
          <a:xfrm flipH="1">
            <a:off x="5219280" y="1916280"/>
            <a:ext cx="1297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835280" y="4005360"/>
            <a:ext cx="1368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684360" y="3789360"/>
            <a:ext cx="11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NA leaving the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516720" y="162864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6588000" y="1700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 flipH="1">
            <a:off x="5796000" y="5013360"/>
            <a:ext cx="1512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7380360" y="4797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NA in the cytopl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Unlabelled_animal_cell_for_cell_worksheet_with_ribosomes"/>
          <p:cNvPicPr/>
          <p:nvPr/>
        </p:nvPicPr>
        <p:blipFill>
          <a:blip r:embed="rId1"/>
          <a:stretch/>
        </p:blipFill>
        <p:spPr>
          <a:xfrm>
            <a:off x="1476360" y="1628640"/>
            <a:ext cx="6192720" cy="5573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-RNA goes to the Ribosomes in the cytopla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1835280" y="3500280"/>
            <a:ext cx="115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"/>
          <p:cNvSpPr/>
          <p:nvPr/>
        </p:nvSpPr>
        <p:spPr>
          <a:xfrm flipH="1">
            <a:off x="5940360" y="2349360"/>
            <a:ext cx="19447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 flipV="1">
            <a:off x="1692360" y="5373720"/>
            <a:ext cx="1150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"/>
          <p:cNvSpPr/>
          <p:nvPr/>
        </p:nvSpPr>
        <p:spPr>
          <a:xfrm flipH="1" flipV="1">
            <a:off x="5508720" y="5084280"/>
            <a:ext cx="12952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>
            <a:off x="4859280" y="2492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 flipH="1" flipV="1">
            <a:off x="4788000" y="4365720"/>
            <a:ext cx="72072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1258920" y="33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1258920" y="55897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5508720" y="6093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6804000" y="5950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7885080" y="2133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4716360" y="220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animal_cell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6578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ribosomes read the code and join the amino acid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RNA_Cycle"/>
          <p:cNvPicPr/>
          <p:nvPr/>
        </p:nvPicPr>
        <p:blipFill>
          <a:blip r:embed="rId1"/>
          <a:stretch/>
        </p:blipFill>
        <p:spPr>
          <a:xfrm>
            <a:off x="1908000" y="1844640"/>
            <a:ext cx="5381640" cy="424836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fer RNA brings the correct amino ac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trna"/>
          <p:cNvPicPr/>
          <p:nvPr/>
        </p:nvPicPr>
        <p:blipFill>
          <a:blip r:embed="rId1"/>
          <a:stretch/>
        </p:blipFill>
        <p:spPr>
          <a:xfrm>
            <a:off x="971640" y="1197000"/>
            <a:ext cx="6732360" cy="552276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54000"/>
            <a:ext cx="9074160" cy="68040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DNA2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46911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324000" y="5300640"/>
            <a:ext cx="849600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NA is a very long molecule that looks like a twisted ladder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made up of 4 different subunits calle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nucleotid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which can be arranged in any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bases are complement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NA has two str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trands are stuck together by the complementary b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enine to Thymine  </a:t>
            </a: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A-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ytosine to Guanine  </a:t>
            </a: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C-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DNA9"/>
          <p:cNvPicPr/>
          <p:nvPr/>
        </p:nvPicPr>
        <p:blipFill>
          <a:blip r:embed="rId1"/>
          <a:stretch/>
        </p:blipFill>
        <p:spPr>
          <a:xfrm>
            <a:off x="179280" y="82440"/>
            <a:ext cx="8964720" cy="67611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50920" y="18900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t is 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bases that act like 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95280" y="9810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(order) of bases tells the cell what proteins to m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95280" y="213372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bases dictates 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amino acids, which determines the shape of a prot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95280" y="400536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the protein is the wrong shape it will not work properly (it may work different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95280" y="544500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o if 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n the DNA is wrong it may result in a genetic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ickle cell anaemia is caused by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change in the DNA base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1476360" y="1600200"/>
            <a:ext cx="5759640" cy="45259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DNA7"/>
          <p:cNvPicPr/>
          <p:nvPr/>
        </p:nvPicPr>
        <p:blipFill>
          <a:blip r:embed="rId1"/>
          <a:stretch/>
        </p:blipFill>
        <p:spPr>
          <a:xfrm>
            <a:off x="25092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4932360" y="692280"/>
            <a:ext cx="3240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is a triplet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takes 3 bases to code for one amino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DNA10"/>
          <p:cNvPicPr/>
          <p:nvPr/>
        </p:nvPicPr>
        <p:blipFill>
          <a:blip r:embed="rId1"/>
          <a:stretch/>
        </p:blipFill>
        <p:spPr>
          <a:xfrm>
            <a:off x="250920" y="-380880"/>
            <a:ext cx="8893080" cy="66722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539640" y="59500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ach triplet codes for a different amino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20:35:41Z</dcterms:created>
  <dc:creator>Holloway</dc:creator>
  <dc:description/>
  <dc:language>en-US</dc:language>
  <cp:lastModifiedBy>LEGION2</cp:lastModifiedBy>
  <dcterms:modified xsi:type="dcterms:W3CDTF">2016-01-11T13:53:25Z</dcterms:modified>
  <cp:revision>22</cp:revision>
  <dc:subject/>
  <dc:title>The Human Genome and Disease</dc:title>
</cp:coreProperties>
</file>