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C709-D469-4E99-A7A4-4561D02AEB4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tein Synthesis takes place in 2 st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 of the DNA molecule (the gene) unzi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RNA copy is produced, by matching complementary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RNA copy is made with the help of RNA polymera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mentary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made up of 4 different subunits called nucleotides which can be arranged in any or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enine to Thymine  A-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ytosine to Guanine  C-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the Sequence of bases that act like a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(order) of bases tells the cell what proteins to ma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equence of bases dictates the sequence of amino acids, which determines the shape of a prote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if the sequence in the DNA is wrong it may result in a genetic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ckle cell anaemia is caused by one change in the DNA base co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6FFF-BC0A-469A-B3D5-568F010F4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BC01-2C1C-4C6C-B8E1-BB799DB90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5B01-3387-4436-B505-1C4A2DE07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69CD-A876-47B4-97F1-56FAB21F4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0201-7D1D-4FD9-9F73-CB2E3A622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FB75-5E84-43FD-9CBD-11A1902D4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166F-AB09-4771-8A71-BB0B468DE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7A5E-670B-4FAE-A435-A18EE24A3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CA0A-D1D4-467A-AF36-557E8FC1D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542-6997-43BD-9022-4648017B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0A8-A3C5-430D-B946-0442F18C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777-1715-43D0-8E83-555F65E3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FD838-420B-4EDD-BD5A-7A329671E4E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1413000"/>
            <a:ext cx="6913800" cy="201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Arial"/>
              </a:rPr>
              <a:t>Protein Synthesi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50920" y="6381720"/>
            <a:ext cx="27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ith thanks to Jenny 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DNA6"/>
          <p:cNvPicPr/>
          <p:nvPr/>
        </p:nvPicPr>
        <p:blipFill>
          <a:blip r:embed="rId1"/>
          <a:stretch/>
        </p:blipFill>
        <p:spPr>
          <a:xfrm>
            <a:off x="0" y="649440"/>
            <a:ext cx="9144000" cy="34606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5"/>
          <p:cNvSpPr/>
          <p:nvPr/>
        </p:nvSpPr>
        <p:spPr>
          <a:xfrm>
            <a:off x="395280" y="4149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NA carries the code for every protein that can be made by a cel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6"/>
          <p:cNvSpPr/>
          <p:nvPr/>
        </p:nvSpPr>
        <p:spPr>
          <a:xfrm>
            <a:off x="395280" y="544500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 gene is a length of DNA which codes for a particular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7"/>
          <p:cNvSpPr/>
          <p:nvPr/>
        </p:nvSpPr>
        <p:spPr>
          <a:xfrm>
            <a:off x="3635280" y="0"/>
            <a:ext cx="550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Protein Synthesis takes place in 2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57200" y="4653000"/>
            <a:ext cx="8229600" cy="147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1_4a"/>
          <p:cNvPicPr/>
          <p:nvPr/>
        </p:nvPicPr>
        <p:blipFill>
          <a:blip r:embed="rId1"/>
          <a:stretch/>
        </p:blipFill>
        <p:spPr>
          <a:xfrm>
            <a:off x="826920" y="1989000"/>
            <a:ext cx="4248360" cy="2619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11_4b"/>
          <p:cNvPicPr/>
          <p:nvPr/>
        </p:nvPicPr>
        <p:blipFill>
          <a:blip r:embed="rId2"/>
          <a:stretch/>
        </p:blipFill>
        <p:spPr>
          <a:xfrm>
            <a:off x="4788000" y="1989000"/>
            <a:ext cx="4149720" cy="26035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395280" y="4724280"/>
            <a:ext cx="8280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Part of the DNA molecule (the gene) unz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mic Sans MS"/>
                <a:ea typeface="Arial"/>
              </a:rPr>
              <a:t>An RNA copy is produced, by matching complementary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ranscription 1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(making a messenger RNA copy of DN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ranscription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11_4c"/>
          <p:cNvPicPr/>
          <p:nvPr/>
        </p:nvPicPr>
        <p:blipFill>
          <a:blip r:embed="rId1"/>
          <a:stretch/>
        </p:blipFill>
        <p:spPr>
          <a:xfrm>
            <a:off x="179280" y="1341360"/>
            <a:ext cx="4537080" cy="31384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11_4d"/>
          <p:cNvPicPr/>
          <p:nvPr/>
        </p:nvPicPr>
        <p:blipFill>
          <a:blip r:embed="rId2"/>
          <a:stretch/>
        </p:blipFill>
        <p:spPr>
          <a:xfrm>
            <a:off x="4606920" y="1341360"/>
            <a:ext cx="4537080" cy="31449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684360" y="4724280"/>
            <a:ext cx="8208720" cy="17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The mRNA copy is made with the help of </a:t>
            </a:r>
            <a:r>
              <a:rPr b="1" lang="en-GB" sz="3200" spc="-1" strike="noStrike">
                <a:solidFill>
                  <a:srgbClr val="ff0000"/>
                </a:solidFill>
                <a:latin typeface="Comic Sans MS"/>
                <a:ea typeface="Arial"/>
              </a:rPr>
              <a:t>RNA polymerase.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cc"/>
                </a:solidFill>
                <a:latin typeface="Arial"/>
              </a:rPr>
              <a:t>Complementary base pai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7200" y="1600200"/>
          <a:ext cx="8229600" cy="45655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mentary RNA Bas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64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5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4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4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Text Box 27"/>
          <p:cNvSpPr/>
          <p:nvPr/>
        </p:nvSpPr>
        <p:spPr>
          <a:xfrm>
            <a:off x="6156360" y="270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6156360" y="350028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6156360" y="443700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cc0000"/>
                </a:solidFill>
                <a:latin typeface="Arial"/>
              </a:rPr>
              <a:t>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6084720" y="537372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m-RNA leaves the nucleus through a nuclear p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300px-MRNA-interaction"/>
          <p:cNvPicPr/>
          <p:nvPr/>
        </p:nvPicPr>
        <p:blipFill>
          <a:blip r:embed="rId1"/>
          <a:stretch/>
        </p:blipFill>
        <p:spPr>
          <a:xfrm>
            <a:off x="1979640" y="1459080"/>
            <a:ext cx="5346720" cy="5398920"/>
          </a:xfrm>
          <a:prstGeom prst="rect">
            <a:avLst/>
          </a:prstGeom>
          <a:ln w="0">
            <a:noFill/>
          </a:ln>
        </p:spPr>
      </p:pic>
      <p:sp>
        <p:nvSpPr>
          <p:cNvPr id="102" name="Line 7"/>
          <p:cNvSpPr/>
          <p:nvPr/>
        </p:nvSpPr>
        <p:spPr>
          <a:xfrm flipH="1">
            <a:off x="5219280" y="1916280"/>
            <a:ext cx="12970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8"/>
          <p:cNvSpPr/>
          <p:nvPr/>
        </p:nvSpPr>
        <p:spPr>
          <a:xfrm>
            <a:off x="1835280" y="4005360"/>
            <a:ext cx="1368360" cy="7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84360" y="3789360"/>
            <a:ext cx="115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leaving the nucle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516720" y="1628640"/>
            <a:ext cx="172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6588000" y="1700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ucle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2"/>
          <p:cNvSpPr/>
          <p:nvPr/>
        </p:nvSpPr>
        <p:spPr>
          <a:xfrm flipH="1">
            <a:off x="5796000" y="5013360"/>
            <a:ext cx="15127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7380360" y="4797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NA in the cytopla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000000"/>
                </a:solidFill>
                <a:latin typeface="Arial"/>
              </a:rPr>
              <a:t>Transl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5" descr="Unlabelled_animal_cell_for_cell_worksheet_with_ribosomes"/>
          <p:cNvPicPr/>
          <p:nvPr/>
        </p:nvPicPr>
        <p:blipFill>
          <a:blip r:embed="rId1"/>
          <a:stretch/>
        </p:blipFill>
        <p:spPr>
          <a:xfrm>
            <a:off x="1476360" y="1628640"/>
            <a:ext cx="6192720" cy="55738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m-RNA goes to the Ribosomes in the cytoplas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1835280" y="350028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7"/>
          <p:cNvSpPr/>
          <p:nvPr/>
        </p:nvSpPr>
        <p:spPr>
          <a:xfrm flipH="1">
            <a:off x="5940360" y="2349360"/>
            <a:ext cx="194472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8"/>
          <p:cNvSpPr/>
          <p:nvPr/>
        </p:nvSpPr>
        <p:spPr>
          <a:xfrm flipV="1">
            <a:off x="1692360" y="5373720"/>
            <a:ext cx="11509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9"/>
          <p:cNvSpPr/>
          <p:nvPr/>
        </p:nvSpPr>
        <p:spPr>
          <a:xfrm flipH="1" flipV="1">
            <a:off x="5508720" y="5084280"/>
            <a:ext cx="1295280" cy="100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0"/>
          <p:cNvSpPr/>
          <p:nvPr/>
        </p:nvSpPr>
        <p:spPr>
          <a:xfrm>
            <a:off x="4859280" y="2492280"/>
            <a:ext cx="0" cy="144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3"/>
          <p:cNvSpPr/>
          <p:nvPr/>
        </p:nvSpPr>
        <p:spPr>
          <a:xfrm flipH="1" flipV="1">
            <a:off x="4788000" y="4365720"/>
            <a:ext cx="72072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4"/>
          <p:cNvSpPr/>
          <p:nvPr/>
        </p:nvSpPr>
        <p:spPr>
          <a:xfrm>
            <a:off x="125892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5"/>
          <p:cNvSpPr/>
          <p:nvPr/>
        </p:nvSpPr>
        <p:spPr>
          <a:xfrm>
            <a:off x="1258920" y="5589720"/>
            <a:ext cx="4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6"/>
          <p:cNvSpPr/>
          <p:nvPr/>
        </p:nvSpPr>
        <p:spPr>
          <a:xfrm>
            <a:off x="5508720" y="6093000"/>
            <a:ext cx="3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7"/>
          <p:cNvSpPr/>
          <p:nvPr/>
        </p:nvSpPr>
        <p:spPr>
          <a:xfrm>
            <a:off x="6804000" y="5950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8"/>
          <p:cNvSpPr/>
          <p:nvPr/>
        </p:nvSpPr>
        <p:spPr>
          <a:xfrm>
            <a:off x="7885080" y="21337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9"/>
          <p:cNvSpPr/>
          <p:nvPr/>
        </p:nvSpPr>
        <p:spPr>
          <a:xfrm>
            <a:off x="4716360" y="220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animal_cell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578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The ribosomes read the code and join the amino acid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RNA_Cycle"/>
          <p:cNvPicPr/>
          <p:nvPr/>
        </p:nvPicPr>
        <p:blipFill>
          <a:blip r:embed="rId1"/>
          <a:stretch/>
        </p:blipFill>
        <p:spPr>
          <a:xfrm>
            <a:off x="1908000" y="1844640"/>
            <a:ext cx="5381640" cy="424836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ansfer RNA brings the correct amino aci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trna"/>
          <p:cNvPicPr/>
          <p:nvPr/>
        </p:nvPicPr>
        <p:blipFill>
          <a:blip r:embed="rId1"/>
          <a:stretch/>
        </p:blipFill>
        <p:spPr>
          <a:xfrm>
            <a:off x="971640" y="1197000"/>
            <a:ext cx="6732360" cy="552276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54000"/>
            <a:ext cx="9074160" cy="6804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DNA2"/>
          <p:cNvPicPr/>
          <p:nvPr/>
        </p:nvPicPr>
        <p:blipFill>
          <a:blip r:embed="rId1"/>
          <a:stretch/>
        </p:blipFill>
        <p:spPr>
          <a:xfrm>
            <a:off x="395280" y="260280"/>
            <a:ext cx="8424720" cy="469116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324000" y="5300640"/>
            <a:ext cx="849600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NA is a very long molecule that looks like a twisted ladder.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t is made up of 4 different subunits called 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nucleotide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which can be arranged in any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he bases are complement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NA has two stra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 strands are stuck together by the complementary ba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denine to Thym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A-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ytosine to Guanine  </a:t>
            </a:r>
            <a:r>
              <a:rPr b="1" lang="en-GB" sz="3200" spc="-1" strike="noStrike">
                <a:solidFill>
                  <a:srgbClr val="0000cc"/>
                </a:solidFill>
                <a:latin typeface="Arial"/>
              </a:rPr>
              <a:t>C-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DNA9"/>
          <p:cNvPicPr/>
          <p:nvPr/>
        </p:nvPicPr>
        <p:blipFill>
          <a:blip r:embed="rId1"/>
          <a:stretch/>
        </p:blipFill>
        <p:spPr>
          <a:xfrm>
            <a:off x="179280" y="82440"/>
            <a:ext cx="8964720" cy="676116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250920" y="18900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 i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that act like a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395280" y="981000"/>
            <a:ext cx="784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(order) of bases tells the cell what proteins to mak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395280" y="213372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bases dictates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of amino acids, which determines the shape of a prote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395280" y="4005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f the protein is the wrong shape it will not work properly (it may work different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395280" y="544500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 if th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sequenc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in the DNA is wrong it may result in a genetic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Sickle cell anaemia is caused by </a:t>
            </a:r>
            <a:r>
              <a:rPr b="0" i="1" lang="en-GB" sz="40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change in the DNA base co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476360" y="1600200"/>
            <a:ext cx="5759640" cy="452592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DNA7"/>
          <p:cNvPicPr/>
          <p:nvPr/>
        </p:nvPicPr>
        <p:blipFill>
          <a:blip r:embed="rId1"/>
          <a:stretch/>
        </p:blipFill>
        <p:spPr>
          <a:xfrm>
            <a:off x="250920" y="0"/>
            <a:ext cx="403848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5"/>
          <p:cNvSpPr/>
          <p:nvPr/>
        </p:nvSpPr>
        <p:spPr>
          <a:xfrm>
            <a:off x="4932360" y="692280"/>
            <a:ext cx="324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is a triplet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t takes 3 bases to code for one amino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DNA10"/>
          <p:cNvPicPr/>
          <p:nvPr/>
        </p:nvPicPr>
        <p:blipFill>
          <a:blip r:embed="rId1"/>
          <a:stretch/>
        </p:blipFill>
        <p:spPr>
          <a:xfrm>
            <a:off x="250920" y="-380880"/>
            <a:ext cx="8893080" cy="66722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5"/>
          <p:cNvSpPr/>
          <p:nvPr/>
        </p:nvSpPr>
        <p:spPr>
          <a:xfrm>
            <a:off x="539640" y="5950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ach triplet codes for a different amino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5T20:35:41Z</dcterms:created>
  <dc:creator>Holloway</dc:creator>
  <dc:description/>
  <dc:language>en-US</dc:language>
  <cp:lastModifiedBy>LEGION2</cp:lastModifiedBy>
  <dcterms:modified xsi:type="dcterms:W3CDTF">2016-01-11T13:53:25Z</dcterms:modified>
  <cp:revision>22</cp:revision>
  <dc:subject/>
  <dc:title>The Human Genome and Disease</dc:title>
</cp:coreProperties>
</file>