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25.gif" ContentType="image/gif"/>
  <Override PartName="/ppt/media/image26.gif" ContentType="image/gif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24.gif" ContentType="image/gif"/>
  <Override PartName="/ppt/media/image14.png" ContentType="image/png"/>
  <Override PartName="/ppt/media/image22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4A46-0DBE-42B9-B9C6-6149AC80CF8D}" type="slidenum"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rotein Synthesi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s Griffith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S Biology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s Griffi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Biolo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 - animation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- ani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attaches to small ribosomal subunit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attaches to small ribosomal sub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 - outlin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- 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lation.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used to make polypeptide chain (protein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used to make polypeptide chain (prote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First the mRNA attaches itself to a ribosome (to the small subunit)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Six bases of the mRNA are expose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first tRNA (without its amino acid)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he mRNA attaches itself to a ribosome (to the small subunit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bases of the mRNA are expos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first tRNA (without its amino acid)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lation 2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ribosome moves along the mRNA to the next codon (three bases)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second tRNA molecule moves into position P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growing polypeptide is formed in this way until a stop codon is reache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ibosome moves along the mRNA to the next codon (three bas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econd tRNA molecule moves into position 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growing polypeptide is formed in this way until a stop codon is reach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End of Translation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 of Trans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mRNA to Polypeptid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to Polypep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rotein synthesis pg 72-73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DNA unwind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is made of one of the DNA strand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moves out of nucleus into cytoplasm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NA molecules are activated as their complementary amino acids are attached to them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 attaches to the small subunit of the ribosomes in cytoplasm. 6 of the bases in the mRNA are exposed in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tRNA bonds complementarily with the mRNA via its anticodon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second tRNA bonds with the next three bases of the mRNA, the amino acid joins onto the amino acid of the first tRNA via a peptide bon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ribosome moves along. The first tRNA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third tRNA brings a third amino acid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Eventually a stop codon is reached on the mRNA. The newly synthesised polypeptide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 synthesis pg 72-7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unwi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is made of one of the DNA str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moves out of nucleus into cytopla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NA molecules are activated as their complementary amino acids are attached to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 attaches to the small subunit of the ribosomes in cytoplasm. 6 of the bases in the mRNA are exposed in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tRNA bonds complementarily with the mRNA via its anticod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second tRNA bonds with the next three bases of the mRNA, the amino acid joins onto the amino acid of the first tRNA via a peptide bo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ibosome moves along. The first tRNA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third tRNA brings a third amino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ventually a stop codon is reached on the mRNA. The newly synthesised polypeptide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Rough endoplasmic reticulu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ugh endoplasmic reticul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One ribosome from the RER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ribosome from the R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A ribosom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riboso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Overview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Summary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(making a mRNA copy of DNA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making a mRNA copy of D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cription 2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is mRNA strand is a complementary copy of the DNA (gene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mRNA molecule leaves the nucleus via a nuclear pore into the cytoplas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mRNA strand is a complementary copy of the DNA (ge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RNA molecule leaves the nucleus via a nuclear pore into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NA –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ick up their specific amino acids from the cytoplas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NA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ck up their specific amino acids from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45EE-CE8A-4636-B6FB-669978D6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FB54-440C-4230-BBA4-7C887931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676-6C9C-4687-8324-41EB811E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91A-E15C-4588-BF1F-CE132AC3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A741-9D36-4671-B375-A969474A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AD8E-5B2E-4080-8FF2-3534945F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281F-3330-4CCB-99A2-C7FF7F5C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A97B-A3CC-4421-B8B9-2CC82571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59B7-64AE-4756-AC31-F1871BC9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81F5-C42E-4F4E-9B73-91CE430F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FCD7-902B-477A-A5B5-8D98973F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8B15-81A2-4D7E-AAF4-6D91FE7B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8BAA-F347-4B48-A1EA-A14F673F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FD96-3B2A-4515-A716-AF5A1CF5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0C5B-8E34-4251-BE5D-28F15AEA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6A44-3A29-4CE6-9C3D-1A39A92A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1AFF-54DB-4D60-AE22-22467D31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FE1D5-1E94-4354-9AAD-F38A73B4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CBD22-6004-4B71-8CCB-FF0B453D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1BC0E-DEDA-482E-9D37-878A629B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5BAA6-35C7-4CA5-AC04-F17925E9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78579-6D5E-4FFA-AFEC-78216059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72A9-4B77-4071-91FB-15862881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7EECF-A84E-4460-BEA9-CA65C87B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9C1B8-3F65-4870-9004-5BBA825B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1B686-D5D1-4167-A981-32F53F44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0F1E4-421D-4473-8CD8-8085D3DA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99D5B-32C2-4C9B-97FB-DCA37CA3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B9C2A-6941-40C0-9251-F31F26A7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39792-48E6-40A7-BE1A-364A3BB1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2D73F-D54F-455E-B135-5C986AAC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2338D-5882-43FD-B318-F5B56C77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99039-A529-4117-9243-6BF34825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4D5-4F4B-45B0-B7A1-AC2F5A41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97729-5ED2-4344-AC57-DB647810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56A4C-151C-4BF8-AAE6-F156952A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35293-7D40-4AD2-95BC-FC84FB38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37A23-02E7-4E94-8B25-9092748A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03CCD-A38E-45E9-85D4-E4F0A070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86C63-6076-495A-A3B2-CEAD3A28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D1298-1406-452B-96E4-CC7EFFE8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D4FD0-74FE-4633-8B75-A63CE4F3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EC377-B6F1-4CA9-BE19-484C93AD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0197-630B-45DE-8621-4E9E47B2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442-E6F8-4749-A57F-15373336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6390-D1F6-438B-895F-63C97A48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EB60-7C45-44AC-BCBC-316A0D10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ABB-E838-4ABB-907F-61C3621E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A15F-208B-4CBF-8448-10F8B388BE1D}" type="slidenum">
              <a:rPr b="1" lang="en-GB" sz="2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6288-9FD8-40A5-A58E-787893C69E63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1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80DA-4426-4846-B061-73980D1F068B}" type="slidenum">
              <a:rPr b="1" lang="en-GB" sz="2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53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4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7E8D-31C0-48D0-9E23-53A10AFBB22E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886280" y="2505240"/>
            <a:ext cx="3633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66"/>
                </a:solidFill>
                <a:latin typeface="Comic Sans MS"/>
              </a:rPr>
              <a:t>Protein Synthesis</a:t>
            </a:r>
            <a:endParaRPr b="0" lang="en-US" sz="4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17" name="Picture 5" descr="book"/>
          <p:cNvPicPr/>
          <p:nvPr/>
        </p:nvPicPr>
        <p:blipFill>
          <a:blip r:embed="rId1"/>
          <a:stretch/>
        </p:blipFill>
        <p:spPr>
          <a:xfrm>
            <a:off x="684360" y="549360"/>
            <a:ext cx="3767040" cy="49672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5940360" y="4724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Mrs Griffith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5796000" y="836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Comic Sans MS"/>
              </a:rPr>
              <a:t>AS Biology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0" name="Picture 5" descr="trna"/>
          <p:cNvPicPr/>
          <p:nvPr/>
        </p:nvPicPr>
        <p:blipFill>
          <a:blip r:embed="rId1"/>
          <a:stretch/>
        </p:blipFill>
        <p:spPr>
          <a:xfrm>
            <a:off x="755640" y="476280"/>
            <a:ext cx="7488360" cy="61437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729720" y="306000"/>
            <a:ext cx="783324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- animation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4" name="Picture 5" descr="aProteinSyn"/>
          <p:cNvPicPr/>
          <p:nvPr/>
        </p:nvPicPr>
        <p:blipFill>
          <a:blip r:embed="rId1"/>
          <a:stretch/>
        </p:blipFill>
        <p:spPr>
          <a:xfrm>
            <a:off x="324000" y="1989000"/>
            <a:ext cx="5543280" cy="292428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8" name="Picture 5" descr="ribosome_1"/>
          <p:cNvPicPr/>
          <p:nvPr/>
        </p:nvPicPr>
        <p:blipFill>
          <a:blip r:embed="rId1"/>
          <a:stretch/>
        </p:blipFill>
        <p:spPr>
          <a:xfrm>
            <a:off x="1476360" y="549360"/>
            <a:ext cx="5533920" cy="5904000"/>
          </a:xfrm>
          <a:prstGeom prst="rect">
            <a:avLst/>
          </a:prstGeom>
          <a:ln w="0">
            <a:noFill/>
          </a:ln>
        </p:spPr>
      </p:pic>
      <p:sp>
        <p:nvSpPr>
          <p:cNvPr id="269" name="Freeform 6"/>
          <p:cNvSpPr/>
          <p:nvPr/>
        </p:nvSpPr>
        <p:spPr>
          <a:xfrm>
            <a:off x="611280" y="2384280"/>
            <a:ext cx="11748960" cy="3853080"/>
          </a:xfrm>
          <a:custGeom>
            <a:avLst/>
            <a:gdLst/>
            <a:ahLst/>
            <a:rect l="l" t="t" r="r" b="b"/>
            <a:pathLst>
              <a:path w="7401" h="2427">
                <a:moveTo>
                  <a:pt x="0" y="930"/>
                </a:moveTo>
                <a:cubicBezTo>
                  <a:pt x="329" y="790"/>
                  <a:pt x="658" y="651"/>
                  <a:pt x="1044" y="613"/>
                </a:cubicBezTo>
                <a:cubicBezTo>
                  <a:pt x="1430" y="575"/>
                  <a:pt x="1830" y="718"/>
                  <a:pt x="2314" y="703"/>
                </a:cubicBezTo>
                <a:cubicBezTo>
                  <a:pt x="2798" y="688"/>
                  <a:pt x="3622" y="537"/>
                  <a:pt x="3947" y="522"/>
                </a:cubicBezTo>
                <a:cubicBezTo>
                  <a:pt x="4272" y="507"/>
                  <a:pt x="4067" y="590"/>
                  <a:pt x="4264" y="613"/>
                </a:cubicBezTo>
                <a:cubicBezTo>
                  <a:pt x="4461" y="636"/>
                  <a:pt x="4612" y="711"/>
                  <a:pt x="5126" y="658"/>
                </a:cubicBezTo>
                <a:cubicBezTo>
                  <a:pt x="5640" y="605"/>
                  <a:pt x="7295" y="0"/>
                  <a:pt x="7348" y="295"/>
                </a:cubicBezTo>
                <a:cubicBezTo>
                  <a:pt x="7401" y="590"/>
                  <a:pt x="6422" y="1508"/>
                  <a:pt x="5443" y="2427"/>
                </a:cubicBezTo>
              </a:path>
            </a:pathLst>
          </a:custGeom>
          <a:noFill/>
          <a:ln w="76320">
            <a:solidFill>
              <a:srgbClr val="99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50920" y="422100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mRNA attaches to small ribosomal subunit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1" name="Line 8"/>
          <p:cNvSpPr/>
          <p:nvPr/>
        </p:nvSpPr>
        <p:spPr>
          <a:xfrm flipV="1">
            <a:off x="1042920" y="3789000"/>
            <a:ext cx="7308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734040" y="30996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- outlin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75" name="Picture 5" descr="polysome"/>
          <p:cNvPicPr/>
          <p:nvPr/>
        </p:nvPicPr>
        <p:blipFill>
          <a:blip r:embed="rId1"/>
          <a:stretch/>
        </p:blipFill>
        <p:spPr>
          <a:xfrm>
            <a:off x="324000" y="1414440"/>
            <a:ext cx="8064360" cy="48261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19000" y="613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lation.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mRNA used to make polypeptide chain (protein)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78" name="Picture 4" descr="ELONGATION3"/>
          <p:cNvPicPr/>
          <p:nvPr/>
        </p:nvPicPr>
        <p:blipFill>
          <a:blip r:embed="rId1"/>
          <a:stretch/>
        </p:blipFill>
        <p:spPr>
          <a:xfrm>
            <a:off x="0" y="1989000"/>
            <a:ext cx="4427640" cy="2676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elongation_4"/>
          <p:cNvPicPr/>
          <p:nvPr/>
        </p:nvPicPr>
        <p:blipFill>
          <a:blip r:embed="rId2"/>
          <a:stretch/>
        </p:blipFill>
        <p:spPr>
          <a:xfrm>
            <a:off x="4427640" y="1989000"/>
            <a:ext cx="4716360" cy="269748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27000" y="216000"/>
            <a:ext cx="3364920" cy="37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1.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83" name="Picture 5" descr="ELONGATION3"/>
          <p:cNvPicPr/>
          <p:nvPr/>
        </p:nvPicPr>
        <p:blipFill>
          <a:blip r:embed="rId1"/>
          <a:stretch/>
        </p:blipFill>
        <p:spPr>
          <a:xfrm>
            <a:off x="684360" y="189000"/>
            <a:ext cx="7561080" cy="41036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179280" y="4437000"/>
            <a:ext cx="8964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First the mRNA attaches itself to a ribosome (to the small subunit)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Six bases of the mRNA are expos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first tRNA (without its amino acid) leaves the ribosom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2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88" name="Picture 5" descr="elongation_4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5041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0" y="515772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50920" y="5300640"/>
            <a:ext cx="84978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ribosome moves along the mRNA to the next codon (three bases)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second tRNA molecule moves into position P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growing polypeptide is formed in this way until a stop codon is reach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End of Translation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94" name="Picture 5" descr="termination_5"/>
          <p:cNvPicPr/>
          <p:nvPr/>
        </p:nvPicPr>
        <p:blipFill>
          <a:blip r:embed="rId1"/>
          <a:stretch/>
        </p:blipFill>
        <p:spPr>
          <a:xfrm>
            <a:off x="900000" y="189000"/>
            <a:ext cx="7345440" cy="5200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6"/>
          <p:cNvSpPr/>
          <p:nvPr/>
        </p:nvSpPr>
        <p:spPr>
          <a:xfrm>
            <a:off x="430200" y="5877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lation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mRNA to Polypeptide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98" name="Picture 5" descr="code_2"/>
          <p:cNvPicPr/>
          <p:nvPr/>
        </p:nvPicPr>
        <p:blipFill>
          <a:blip r:embed="rId1"/>
          <a:stretch/>
        </p:blipFill>
        <p:spPr>
          <a:xfrm>
            <a:off x="4427640" y="2492280"/>
            <a:ext cx="4410000" cy="3095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polyphenyl"/>
          <p:cNvPicPr/>
          <p:nvPr/>
        </p:nvPicPr>
        <p:blipFill>
          <a:blip r:embed="rId2"/>
          <a:stretch/>
        </p:blipFill>
        <p:spPr>
          <a:xfrm>
            <a:off x="1117440" y="2800440"/>
            <a:ext cx="2448000" cy="255564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03" name="Picture 5" descr="code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48964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Protein synthesis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pg 72-7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DNA unwin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is made of one of the DNA strand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moves out of nucleus into cytoplas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RNA molecules are activated as their complementary amino acids are attached to the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 attaches to the small subunit of the ribosomes in cytoplasm. 6 of the bases in the mRNA are exposed in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tRNA bonds complementarily with the mRNA via its anticod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second tRNA bonds with the next three bases of the mRNA, the amino acid joins onto the amino acid of the first tRNA via a peptide bon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he ribosome moves along. The first tRNA leaves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third tRNA brings a third amino aci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Eventually a stop codon is reached on the mRNA. The newly synthesised polypeptide leaves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06" name="Picture 10" descr="protein_synthesis"/>
          <p:cNvPicPr/>
          <p:nvPr/>
        </p:nvPicPr>
        <p:blipFill>
          <a:blip r:embed="rId1"/>
          <a:stretch/>
        </p:blipFill>
        <p:spPr>
          <a:xfrm>
            <a:off x="1305000" y="260280"/>
            <a:ext cx="6427800" cy="65977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11800" y="454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Rough endoplasmic reticulum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1" name="Picture 5" descr="rough1"/>
          <p:cNvPicPr/>
          <p:nvPr/>
        </p:nvPicPr>
        <p:blipFill>
          <a:blip r:embed="rId1"/>
          <a:stretch/>
        </p:blipFill>
        <p:spPr>
          <a:xfrm>
            <a:off x="2411280" y="155736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5" name="Picture 5" descr="rough4"/>
          <p:cNvPicPr/>
          <p:nvPr/>
        </p:nvPicPr>
        <p:blipFill>
          <a:blip r:embed="rId1"/>
          <a:stretch/>
        </p:blipFill>
        <p:spPr>
          <a:xfrm>
            <a:off x="2340000" y="2421000"/>
            <a:ext cx="4319640" cy="431964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5636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One ribosome from the RER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9" name="Picture 5" descr="rough3"/>
          <p:cNvPicPr/>
          <p:nvPr/>
        </p:nvPicPr>
        <p:blipFill>
          <a:blip r:embed="rId1"/>
          <a:stretch/>
        </p:blipFill>
        <p:spPr>
          <a:xfrm>
            <a:off x="1979640" y="1628640"/>
            <a:ext cx="4968720" cy="496908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3" name="Picture 5" descr="rough3"/>
          <p:cNvPicPr/>
          <p:nvPr/>
        </p:nvPicPr>
        <p:blipFill>
          <a:blip r:embed="rId1"/>
          <a:stretch/>
        </p:blipFill>
        <p:spPr>
          <a:xfrm>
            <a:off x="2411280" y="1484280"/>
            <a:ext cx="4321440" cy="432108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27640" y="72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A ribosom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7" name="Picture 5" descr="cyto3"/>
          <p:cNvPicPr/>
          <p:nvPr/>
        </p:nvPicPr>
        <p:blipFill>
          <a:blip r:embed="rId1"/>
          <a:stretch/>
        </p:blipFill>
        <p:spPr>
          <a:xfrm>
            <a:off x="2050920" y="1341360"/>
            <a:ext cx="5185080" cy="51847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Overview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27" name="Picture 5" descr="dogma1"/>
          <p:cNvPicPr/>
          <p:nvPr/>
        </p:nvPicPr>
        <p:blipFill>
          <a:blip r:embed="rId1"/>
          <a:stretch/>
        </p:blipFill>
        <p:spPr>
          <a:xfrm>
            <a:off x="395280" y="3213000"/>
            <a:ext cx="8353440" cy="13924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468360" y="4365720"/>
            <a:ext cx="820728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32" name="Picture 5" descr="central_dogma"/>
          <p:cNvPicPr/>
          <p:nvPr/>
        </p:nvPicPr>
        <p:blipFill>
          <a:blip r:embed="rId1"/>
          <a:stretch/>
        </p:blipFill>
        <p:spPr>
          <a:xfrm>
            <a:off x="611280" y="549360"/>
            <a:ext cx="7777080" cy="5856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36" name="Picture 8" descr="cendogma"/>
          <p:cNvPicPr/>
          <p:nvPr/>
        </p:nvPicPr>
        <p:blipFill>
          <a:blip r:embed="rId1"/>
          <a:stretch/>
        </p:blipFill>
        <p:spPr>
          <a:xfrm>
            <a:off x="395280" y="2060640"/>
            <a:ext cx="8280360" cy="46213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cription 1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(making a mRNA copy of DNA)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40" name="Picture 5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1042920" y="4724280"/>
            <a:ext cx="7274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cription 2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46" name="Picture 5" descr="11_4c"/>
          <p:cNvPicPr/>
          <p:nvPr/>
        </p:nvPicPr>
        <p:blipFill>
          <a:blip r:embed="rId1"/>
          <a:stretch/>
        </p:blipFill>
        <p:spPr>
          <a:xfrm>
            <a:off x="179280" y="191628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11_4d"/>
          <p:cNvPicPr/>
          <p:nvPr/>
        </p:nvPicPr>
        <p:blipFill>
          <a:blip r:embed="rId2"/>
          <a:stretch/>
        </p:blipFill>
        <p:spPr>
          <a:xfrm>
            <a:off x="4606920" y="1916280"/>
            <a:ext cx="4537080" cy="31446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684360" y="5157720"/>
            <a:ext cx="82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is mRNA strand is a complementary copy of the DNA (gene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mRNA molecule leaves the nucleus via a nuclear pore into the cytoplasm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52" name="Picture 5" descr="template_strand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4831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72640" y="810360"/>
            <a:ext cx="7833600" cy="62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NA –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pick up their specific amino acids from the cytoplasm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56" name="Picture 5" descr="tRNA2"/>
          <p:cNvPicPr/>
          <p:nvPr/>
        </p:nvPicPr>
        <p:blipFill>
          <a:blip r:embed="rId1"/>
          <a:stretch/>
        </p:blipFill>
        <p:spPr>
          <a:xfrm>
            <a:off x="755640" y="1916280"/>
            <a:ext cx="7489800" cy="4941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20:24:59Z</dcterms:created>
  <dc:creator>Bella Griffiths</dc:creator>
  <dc:description/>
  <dc:language>en-US</dc:language>
  <cp:lastModifiedBy>LEGION2</cp:lastModifiedBy>
  <dcterms:modified xsi:type="dcterms:W3CDTF">2016-01-11T13:49:33Z</dcterms:modified>
  <cp:revision>77</cp:revision>
  <dc:subject/>
  <dc:title>Slide 1</dc:title>
</cp:coreProperties>
</file>