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25.gif" ContentType="image/gif"/>
  <Override PartName="/ppt/media/image26.gif" ContentType="image/gif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24.gif" ContentType="image/gif"/>
  <Override PartName="/ppt/media/image14.png" ContentType="image/png"/>
  <Override PartName="/ppt/media/image22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BD95-CE5F-4ED8-8A93-ED5E6F7CAD89}" type="slidenum"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rotein Synthesi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s Griffith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S Biology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s Griffi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Biolo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 - animation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- ani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attaches to small ribosomal subunit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attaches to small ribosomal sub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 - outlin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- 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lation.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used to make polypeptide chain (protein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used to make polypeptide chain (prote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First the mRNA attaches itself to a ribosome (to the small subunit)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Six bases of the mRNA are expose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first tRNA (without its amino acid)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 the mRNA attaches itself to a ribosome (to the small subunit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bases of the mRNA are expos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first tRNA (without its amino acid)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lation 2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ribosome moves along the mRNA to the next codon (three bases)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second tRNA molecule moves into position P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growing polypeptide is formed in this way until a stop codon is reache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ibosome moves along the mRNA to the next codon (three bas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econd tRNA molecule moves into position 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growing polypeptide is formed in this way until a stop codon is reach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End of Translation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 of Trans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mRNA to Polypeptid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to Polypep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rotein synthesis pg 72-73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DNA unwind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is made of one of the DNA strand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moves out of nucleus into cytoplasm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NA molecules are activated as their complementary amino acids are attached to them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 attaches to the small subunit of the ribosomes in cytoplasm. 6 of the bases in the mRNA are exposed in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tRNA bonds complementarily with the mRNA via its anticodon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second tRNA bonds with the next three bases of the mRNA, the amino acid joins onto the amino acid of the first tRNA via a peptide bon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ribosome moves along. The first tRNA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third tRNA brings a third amino acid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Eventually a stop codon is reached on the mRNA. The newly synthesised polypeptide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 synthesis pg 72-7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unwi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is made of one of the DNA str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moves out of nucleus into cytopla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NA molecules are activated as their complementary amino acids are attached to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 attaches to the small subunit of the ribosomes in cytoplasm. 6 of the bases in the mRNA are exposed in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tRNA bonds complementarily with the mRNA via its anticod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second tRNA bonds with the next three bases of the mRNA, the amino acid joins onto the amino acid of the first tRNA via a peptide bo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ibosome moves along. The first tRNA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third tRNA brings a third amino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ventually a stop codon is reached on the mRNA. The newly synthesised polypeptide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Rough endoplasmic reticulu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ugh endoplasmic reticul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One ribosome from the RER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ribosome from the R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A ribosom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riboso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Overview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Summary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(making a mRNA copy of DNA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making a mRNA copy of D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cription 2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is mRNA strand is a complementary copy of the DNA (gene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mRNA molecule leaves the nucleus via a nuclear pore into the cytoplas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mRNA strand is a complementary copy of the DNA (ge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mRNA molecule leaves the nucleus via a nuclear pore into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NA –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ick up their specific amino acids from the cytoplas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NA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ick up their specific amino acids from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B82E-C369-4EB2-9DD0-B6F464B9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0D0-5143-408F-A7E5-682CC732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FBA4-4B17-4A15-B573-401C8DD8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2D3-C59A-4B55-8E1D-685FBD07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E172-E0A7-4EB0-A921-242D6D8A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1BBD-9D0E-4FFB-A880-468747CA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D0AB-E264-4A38-BA6E-BF7F4573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4133-AAEC-4673-B079-1E722727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0DC6-07BD-45EB-A939-719EBCBA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1928-6CBC-43F1-92E2-5DDA433C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DAF6-1232-45ED-929C-C6CA6E7F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D44A-7BB2-446D-AE9F-E1CF2F22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5B6E-BA49-4146-AE32-0E857AD1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EDC5-BF12-4B83-964E-D659EB94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52F4-5901-45AC-B717-A9841615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F036-B975-4E26-A91B-E726B796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B150-A484-4DC6-9F65-25D0A9EA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039C0-E479-494C-885E-1F5DF33E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9634F-3329-4B4B-8F58-F8DAB77F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FA237-18B2-4161-AE73-B25B63E8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0DBE7-AACA-4485-A293-8C9D2DC3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BDD9A-B0B1-41FE-94E2-A3C6C6DA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7CB0-0452-41DB-A5C1-E2B671BD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9D1F5-6ACE-440D-89B9-8F058025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D0B42-4638-4F85-AFAE-5F14F590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122A9-8786-493D-9102-C7E50ED0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9A0F7-65C1-4410-B3B8-4FE4A895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74ED4-4A4D-4434-8906-191501C4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3D674-0222-4352-A588-29F984BC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D7156-2C41-4548-B8D6-3FFD69A6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E23C6-2A6E-4B91-A790-03B81C93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A4DF9-C8ED-45E2-948B-F8D9BCDA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E127D-9F65-4588-9883-CF95FA9C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980D-F9FD-4477-9A23-7520D602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2BC06-9850-4A0C-9B33-A4371EBE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C9B36-5A78-4094-9049-3BE007F0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67ADA-CD7C-45DE-95FB-A732C07A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0D9D1-CB37-4E0C-BF3E-62284FB2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2BB5F-84B7-4443-9C26-D451B728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CA147-96EB-4362-9EE3-96DED78C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9F73A-45D5-4F96-B5EA-C9100862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69958-1340-40CE-9AC0-7DDA865A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C97A0-F7A9-40D3-BC53-4296044A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208E-DA38-46C1-974E-C524E5A9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68F-9FE1-490D-938B-B5B7FE75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914E-9552-444B-80E5-D4B2189E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F243-E4B8-4578-BFE3-D790A287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CB03-8712-44FB-8BE8-881A74B9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C326-EC85-45E7-8D7B-23313AC4D07F}" type="slidenum">
              <a:rPr b="1" lang="en-GB" sz="2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423B-5622-4F79-9FF6-4DE3DF0051C5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0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0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10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0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6895-5527-4B96-9801-319DB225FD5A}" type="slidenum">
              <a:rPr b="1" lang="en-GB" sz="2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53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4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77AB-BD0B-4CDE-B6A2-82FD21C43946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886280" y="2505240"/>
            <a:ext cx="3633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66"/>
                </a:solidFill>
                <a:latin typeface="Comic Sans MS"/>
              </a:rPr>
              <a:t>Protein Synthesis</a:t>
            </a:r>
            <a:endParaRPr b="0" lang="en-US" sz="4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17" name="Picture 5" descr="book"/>
          <p:cNvPicPr/>
          <p:nvPr/>
        </p:nvPicPr>
        <p:blipFill>
          <a:blip r:embed="rId1"/>
          <a:stretch/>
        </p:blipFill>
        <p:spPr>
          <a:xfrm>
            <a:off x="684360" y="549360"/>
            <a:ext cx="3767040" cy="49672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9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5940360" y="4724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Mrs Griffith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5796000" y="836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Comic Sans MS"/>
              </a:rPr>
              <a:t>AS Biology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0" name="Picture 5" descr="trna"/>
          <p:cNvPicPr/>
          <p:nvPr/>
        </p:nvPicPr>
        <p:blipFill>
          <a:blip r:embed="rId1"/>
          <a:stretch/>
        </p:blipFill>
        <p:spPr>
          <a:xfrm>
            <a:off x="755640" y="476280"/>
            <a:ext cx="7488360" cy="61437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729720" y="306000"/>
            <a:ext cx="783324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- animation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4" name="Picture 5" descr="aProteinSyn"/>
          <p:cNvPicPr/>
          <p:nvPr/>
        </p:nvPicPr>
        <p:blipFill>
          <a:blip r:embed="rId1"/>
          <a:stretch/>
        </p:blipFill>
        <p:spPr>
          <a:xfrm>
            <a:off x="324000" y="1989000"/>
            <a:ext cx="5543280" cy="292428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8" name="Picture 5" descr="ribosome_1"/>
          <p:cNvPicPr/>
          <p:nvPr/>
        </p:nvPicPr>
        <p:blipFill>
          <a:blip r:embed="rId1"/>
          <a:stretch/>
        </p:blipFill>
        <p:spPr>
          <a:xfrm>
            <a:off x="1476360" y="549360"/>
            <a:ext cx="5533920" cy="5904000"/>
          </a:xfrm>
          <a:prstGeom prst="rect">
            <a:avLst/>
          </a:prstGeom>
          <a:ln w="0">
            <a:noFill/>
          </a:ln>
        </p:spPr>
      </p:pic>
      <p:sp>
        <p:nvSpPr>
          <p:cNvPr id="269" name="Freeform 6"/>
          <p:cNvSpPr/>
          <p:nvPr/>
        </p:nvSpPr>
        <p:spPr>
          <a:xfrm>
            <a:off x="611280" y="2384280"/>
            <a:ext cx="11748960" cy="3853080"/>
          </a:xfrm>
          <a:custGeom>
            <a:avLst/>
            <a:gdLst/>
            <a:ahLst/>
            <a:rect l="l" t="t" r="r" b="b"/>
            <a:pathLst>
              <a:path w="7401" h="2427">
                <a:moveTo>
                  <a:pt x="0" y="930"/>
                </a:moveTo>
                <a:cubicBezTo>
                  <a:pt x="329" y="790"/>
                  <a:pt x="658" y="651"/>
                  <a:pt x="1044" y="613"/>
                </a:cubicBezTo>
                <a:cubicBezTo>
                  <a:pt x="1430" y="575"/>
                  <a:pt x="1830" y="718"/>
                  <a:pt x="2314" y="703"/>
                </a:cubicBezTo>
                <a:cubicBezTo>
                  <a:pt x="2798" y="688"/>
                  <a:pt x="3622" y="537"/>
                  <a:pt x="3947" y="522"/>
                </a:cubicBezTo>
                <a:cubicBezTo>
                  <a:pt x="4272" y="507"/>
                  <a:pt x="4067" y="590"/>
                  <a:pt x="4264" y="613"/>
                </a:cubicBezTo>
                <a:cubicBezTo>
                  <a:pt x="4461" y="636"/>
                  <a:pt x="4612" y="711"/>
                  <a:pt x="5126" y="658"/>
                </a:cubicBezTo>
                <a:cubicBezTo>
                  <a:pt x="5640" y="605"/>
                  <a:pt x="7295" y="0"/>
                  <a:pt x="7348" y="295"/>
                </a:cubicBezTo>
                <a:cubicBezTo>
                  <a:pt x="7401" y="590"/>
                  <a:pt x="6422" y="1508"/>
                  <a:pt x="5443" y="2427"/>
                </a:cubicBezTo>
              </a:path>
            </a:pathLst>
          </a:custGeom>
          <a:noFill/>
          <a:ln w="76320">
            <a:solidFill>
              <a:srgbClr val="99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50920" y="4221000"/>
            <a:ext cx="151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mRNA attaches to small ribosomal subunit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1" name="Line 8"/>
          <p:cNvSpPr/>
          <p:nvPr/>
        </p:nvSpPr>
        <p:spPr>
          <a:xfrm flipV="1">
            <a:off x="1042920" y="3789000"/>
            <a:ext cx="7308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734040" y="30996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- outlin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75" name="Picture 5" descr="polysome"/>
          <p:cNvPicPr/>
          <p:nvPr/>
        </p:nvPicPr>
        <p:blipFill>
          <a:blip r:embed="rId1"/>
          <a:stretch/>
        </p:blipFill>
        <p:spPr>
          <a:xfrm>
            <a:off x="324000" y="1414440"/>
            <a:ext cx="8064360" cy="48261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19000" y="613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lation.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mRNA used to make polypeptide chain (protein)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78" name="Picture 4" descr="ELONGATION3"/>
          <p:cNvPicPr/>
          <p:nvPr/>
        </p:nvPicPr>
        <p:blipFill>
          <a:blip r:embed="rId1"/>
          <a:stretch/>
        </p:blipFill>
        <p:spPr>
          <a:xfrm>
            <a:off x="0" y="1989000"/>
            <a:ext cx="4427640" cy="2676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elongation_4"/>
          <p:cNvPicPr/>
          <p:nvPr/>
        </p:nvPicPr>
        <p:blipFill>
          <a:blip r:embed="rId2"/>
          <a:stretch/>
        </p:blipFill>
        <p:spPr>
          <a:xfrm>
            <a:off x="4427640" y="1989000"/>
            <a:ext cx="4716360" cy="269748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27000" y="216000"/>
            <a:ext cx="3364920" cy="37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1.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83" name="Picture 5" descr="ELONGATION3"/>
          <p:cNvPicPr/>
          <p:nvPr/>
        </p:nvPicPr>
        <p:blipFill>
          <a:blip r:embed="rId1"/>
          <a:stretch/>
        </p:blipFill>
        <p:spPr>
          <a:xfrm>
            <a:off x="684360" y="189000"/>
            <a:ext cx="7561080" cy="41036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179280" y="4437000"/>
            <a:ext cx="8964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First the mRNA attaches itself to a ribosome (to the small subunit)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Six bases of the mRNA are expose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first tRNA (without its amino acid) leaves the ribosome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2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88" name="Picture 5" descr="elongation_4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5041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0" y="515772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50920" y="5300640"/>
            <a:ext cx="849780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ribosome moves along the mRNA to the next codon (three bases)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second tRNA molecule moves into position P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growing polypeptide is formed in this way until a stop codon is reache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End of Translation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94" name="Picture 5" descr="termination_5"/>
          <p:cNvPicPr/>
          <p:nvPr/>
        </p:nvPicPr>
        <p:blipFill>
          <a:blip r:embed="rId1"/>
          <a:stretch/>
        </p:blipFill>
        <p:spPr>
          <a:xfrm>
            <a:off x="900000" y="189000"/>
            <a:ext cx="7345440" cy="52005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6"/>
          <p:cNvSpPr/>
          <p:nvPr/>
        </p:nvSpPr>
        <p:spPr>
          <a:xfrm>
            <a:off x="430200" y="5877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lation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mRNA to Polypeptide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98" name="Picture 5" descr="code_2"/>
          <p:cNvPicPr/>
          <p:nvPr/>
        </p:nvPicPr>
        <p:blipFill>
          <a:blip r:embed="rId1"/>
          <a:stretch/>
        </p:blipFill>
        <p:spPr>
          <a:xfrm>
            <a:off x="4427640" y="2492280"/>
            <a:ext cx="4410000" cy="3095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polyphenyl"/>
          <p:cNvPicPr/>
          <p:nvPr/>
        </p:nvPicPr>
        <p:blipFill>
          <a:blip r:embed="rId2"/>
          <a:stretch/>
        </p:blipFill>
        <p:spPr>
          <a:xfrm>
            <a:off x="1117440" y="2800440"/>
            <a:ext cx="2448000" cy="255564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03" name="Picture 5" descr="code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48964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Protein synthesis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pg 72-73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DNA unwind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is made of one of the DNA strand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moves out of nucleus into cytoplasm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RNA molecules are activated as their complementary amino acids are attached to them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 attaches to the small subunit of the ribosomes in cytoplasm. 6 of the bases in the mRNA are exposed in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tRNA bonds complementarily with the mRNA via its anticod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second tRNA bonds with the next three bases of the mRNA, the amino acid joins onto the amino acid of the first tRNA via a peptide bon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he ribosome moves along. The first tRNA leaves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third tRNA brings a third amino aci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Eventually a stop codon is reached on the mRNA. The newly synthesised polypeptide leaves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06" name="Picture 10" descr="protein_synthesis"/>
          <p:cNvPicPr/>
          <p:nvPr/>
        </p:nvPicPr>
        <p:blipFill>
          <a:blip r:embed="rId1"/>
          <a:stretch/>
        </p:blipFill>
        <p:spPr>
          <a:xfrm>
            <a:off x="1305000" y="260280"/>
            <a:ext cx="6427800" cy="65977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11800" y="454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Rough endoplasmic reticulum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1" name="Picture 5" descr="rough1"/>
          <p:cNvPicPr/>
          <p:nvPr/>
        </p:nvPicPr>
        <p:blipFill>
          <a:blip r:embed="rId1"/>
          <a:stretch/>
        </p:blipFill>
        <p:spPr>
          <a:xfrm>
            <a:off x="2411280" y="155736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5" name="Picture 5" descr="rough4"/>
          <p:cNvPicPr/>
          <p:nvPr/>
        </p:nvPicPr>
        <p:blipFill>
          <a:blip r:embed="rId1"/>
          <a:stretch/>
        </p:blipFill>
        <p:spPr>
          <a:xfrm>
            <a:off x="2340000" y="2421000"/>
            <a:ext cx="4319640" cy="431964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5636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One ribosome from the RER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9" name="Picture 5" descr="rough3"/>
          <p:cNvPicPr/>
          <p:nvPr/>
        </p:nvPicPr>
        <p:blipFill>
          <a:blip r:embed="rId1"/>
          <a:stretch/>
        </p:blipFill>
        <p:spPr>
          <a:xfrm>
            <a:off x="1979640" y="1628640"/>
            <a:ext cx="4968720" cy="496908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23" name="Picture 5" descr="rough3"/>
          <p:cNvPicPr/>
          <p:nvPr/>
        </p:nvPicPr>
        <p:blipFill>
          <a:blip r:embed="rId1"/>
          <a:stretch/>
        </p:blipFill>
        <p:spPr>
          <a:xfrm>
            <a:off x="2411280" y="1484280"/>
            <a:ext cx="4321440" cy="432108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27640" y="72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A ribosom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27" name="Picture 5" descr="cyto3"/>
          <p:cNvPicPr/>
          <p:nvPr/>
        </p:nvPicPr>
        <p:blipFill>
          <a:blip r:embed="rId1"/>
          <a:stretch/>
        </p:blipFill>
        <p:spPr>
          <a:xfrm>
            <a:off x="2050920" y="1341360"/>
            <a:ext cx="5185080" cy="51847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Overview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27" name="Picture 5" descr="dogma1"/>
          <p:cNvPicPr/>
          <p:nvPr/>
        </p:nvPicPr>
        <p:blipFill>
          <a:blip r:embed="rId1"/>
          <a:stretch/>
        </p:blipFill>
        <p:spPr>
          <a:xfrm>
            <a:off x="395280" y="3213000"/>
            <a:ext cx="8353440" cy="13924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468360" y="4365720"/>
            <a:ext cx="820728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32" name="Picture 5" descr="central_dogma"/>
          <p:cNvPicPr/>
          <p:nvPr/>
        </p:nvPicPr>
        <p:blipFill>
          <a:blip r:embed="rId1"/>
          <a:stretch/>
        </p:blipFill>
        <p:spPr>
          <a:xfrm>
            <a:off x="611280" y="549360"/>
            <a:ext cx="7777080" cy="5856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36" name="Picture 8" descr="cendogma"/>
          <p:cNvPicPr/>
          <p:nvPr/>
        </p:nvPicPr>
        <p:blipFill>
          <a:blip r:embed="rId1"/>
          <a:stretch/>
        </p:blipFill>
        <p:spPr>
          <a:xfrm>
            <a:off x="395280" y="2060640"/>
            <a:ext cx="8280360" cy="46213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cription 1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(making a mRNA copy of DNA)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40" name="Picture 5" descr="11_4a"/>
          <p:cNvPicPr/>
          <p:nvPr/>
        </p:nvPicPr>
        <p:blipFill>
          <a:blip r:embed="rId1"/>
          <a:stretch/>
        </p:blipFill>
        <p:spPr>
          <a:xfrm>
            <a:off x="826920" y="1989000"/>
            <a:ext cx="4248360" cy="2619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11_4b"/>
          <p:cNvPicPr/>
          <p:nvPr/>
        </p:nvPicPr>
        <p:blipFill>
          <a:blip r:embed="rId2"/>
          <a:stretch/>
        </p:blipFill>
        <p:spPr>
          <a:xfrm>
            <a:off x="4788000" y="1989000"/>
            <a:ext cx="4149720" cy="26035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1042920" y="4724280"/>
            <a:ext cx="7274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cription 2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46" name="Picture 5" descr="11_4c"/>
          <p:cNvPicPr/>
          <p:nvPr/>
        </p:nvPicPr>
        <p:blipFill>
          <a:blip r:embed="rId1"/>
          <a:stretch/>
        </p:blipFill>
        <p:spPr>
          <a:xfrm>
            <a:off x="179280" y="1916280"/>
            <a:ext cx="4537080" cy="3138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11_4d"/>
          <p:cNvPicPr/>
          <p:nvPr/>
        </p:nvPicPr>
        <p:blipFill>
          <a:blip r:embed="rId2"/>
          <a:stretch/>
        </p:blipFill>
        <p:spPr>
          <a:xfrm>
            <a:off x="4606920" y="1916280"/>
            <a:ext cx="4537080" cy="31446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8"/>
          <p:cNvSpPr/>
          <p:nvPr/>
        </p:nvSpPr>
        <p:spPr>
          <a:xfrm>
            <a:off x="684360" y="5157720"/>
            <a:ext cx="82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is mRNA strand is a complementary copy of the DNA (gene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mRNA molecule leaves the nucleus via a nuclear pore into the cytoplasm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52" name="Picture 5" descr="template_strand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4831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72640" y="810360"/>
            <a:ext cx="7833600" cy="62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NA –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pick up their specific amino acids from the cytoplasm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56" name="Picture 5" descr="tRNA2"/>
          <p:cNvPicPr/>
          <p:nvPr/>
        </p:nvPicPr>
        <p:blipFill>
          <a:blip r:embed="rId1"/>
          <a:stretch/>
        </p:blipFill>
        <p:spPr>
          <a:xfrm>
            <a:off x="755640" y="1916280"/>
            <a:ext cx="7489800" cy="4941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20:24:59Z</dcterms:created>
  <dc:creator>Bella Griffiths</dc:creator>
  <dc:description/>
  <dc:language>en-US</dc:language>
  <cp:lastModifiedBy>LEGION2</cp:lastModifiedBy>
  <dcterms:modified xsi:type="dcterms:W3CDTF">2016-01-11T13:49:33Z</dcterms:modified>
  <cp:revision>77</cp:revision>
  <dc:subject/>
  <dc:title>Slide 1</dc:title>
</cp:coreProperties>
</file>