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25.gif" ContentType="image/gif"/>
  <Override PartName="/ppt/media/image26.gif" ContentType="image/gif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24.gif" ContentType="image/gif"/>
  <Override PartName="/ppt/media/image14.png" ContentType="image/png"/>
  <Override PartName="/ppt/media/image22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8B61-C409-4986-90C4-8CF71B2F38C9}" type="slidenum"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rotein Synthesi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s Griffith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S Biology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s Griffi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Biolo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 - animation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- ani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attaches to small ribosomal subunit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attaches to small ribosomal sub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 - outlin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- 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lation.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used to make polypeptide chain (protein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used to make polypeptide chain (prote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First the mRNA attaches itself to a ribosome (to the small subunit)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Six bases of the mRNA are expose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first tRNA (without its amino acid)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he mRNA attaches itself to a ribosome (to the small subunit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bases of the mRNA are expos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first tRNA (without its amino acid)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lation 2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ribosome moves along the mRNA to the next codon (three bases)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second tRNA molecule moves into position P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growing polypeptide is formed in this way until a stop codon is reache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ibosome moves along the mRNA to the next codon (three bas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econd tRNA molecule moves into position 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growing polypeptide is formed in this way until a stop codon is reach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End of Translation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 of Trans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mRNA to Polypeptid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to Polypep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rotein synthesis pg 72-73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DNA unwind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is made of one of the DNA strand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moves out of nucleus into cytoplasm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NA molecules are activated as their complementary amino acids are attached to them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 attaches to the small subunit of the ribosomes in cytoplasm. 6 of the bases in the mRNA are exposed in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tRNA bonds complementarily with the mRNA via its anticodon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second tRNA bonds with the next three bases of the mRNA, the amino acid joins onto the amino acid of the first tRNA via a peptide bon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ribosome moves along. The first tRNA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third tRNA brings a third amino acid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Eventually a stop codon is reached on the mRNA. The newly synthesised polypeptide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 synthesis pg 72-7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unwi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is made of one of the DNA str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moves out of nucleus into cytopla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NA molecules are activated as their complementary amino acids are attached to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 attaches to the small subunit of the ribosomes in cytoplasm. 6 of the bases in the mRNA are exposed in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tRNA bonds complementarily with the mRNA via its anticod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second tRNA bonds with the next three bases of the mRNA, the amino acid joins onto the amino acid of the first tRNA via a peptide bo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ibosome moves along. The first tRNA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third tRNA brings a third amino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ventually a stop codon is reached on the mRNA. The newly synthesised polypeptide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Rough endoplasmic reticulu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ugh endoplasmic reticul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One ribosome from the RER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ribosome from the R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A ribosom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riboso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Overview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Summary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(making a mRNA copy of DNA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making a mRNA copy of D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cription 2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is mRNA strand is a complementary copy of the DNA (gene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mRNA molecule leaves the nucleus via a nuclear pore into the cytoplas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mRNA strand is a complementary copy of the DNA (ge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RNA molecule leaves the nucleus via a nuclear pore into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NA –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ick up their specific amino acids from the cytoplas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NA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ck up their specific amino acids from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5A16-8B2D-478B-BE4F-9C3FF92E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83EC-2F58-4E58-ADEB-2D17A24B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F4D8-A845-4017-9902-51201A93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919C-61AB-4F76-9CB6-07A7ECD4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0FE1-32BC-4640-9FE2-C9F981797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AD6E-1E11-4E91-B5F2-8FB4CDBE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24FF-B53D-42B4-8C02-8E37AFE4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3382-A731-4B42-BE3E-442EC434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30E0-CCCB-449A-BCF9-9AA121D1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70C63-5C50-4BEB-A251-1B46F245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CADB-072F-4786-8CB6-A527DA97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3860-253E-43A5-B9E4-178433D5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3549-4369-4EEE-B96E-F031A1D3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C289-A8BF-4F10-B6D8-54D81150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9F6EC-A405-4DF6-8E04-C39437E1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EADE-C012-4CE2-AB33-FB341DD32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54A2-74AD-481F-8987-8F1E1142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ECBEA-E990-4446-8470-349ED55F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78D37-5EF8-435D-9BF5-DB21C86E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FA284-1457-4280-8F34-D2A21B41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492DA-A727-4181-BD95-1DD59E91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8FEF0-8F47-4C7D-9DFB-43B47F5F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B44-DAEE-4A67-8514-FF21680C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AA4B1-0326-42E8-A472-258827C5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8239A-E9F4-41AC-BAFE-7AA90782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9DAF0-760B-44D8-B8BA-5C651D56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DBE0B-CAA3-4F43-A47C-2BFC49E0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E9543-2A61-4838-A0CF-E02232C8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B7857-A00B-4964-A172-619C0228E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977E6-B952-426D-BC35-841223D6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5EB17-5A89-4639-B3D9-79BB7AD91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CA251-9EE7-45A7-B2B2-92046433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C9F3A-EFA3-4FE0-9907-ADC35F3E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84E-1BA6-4F7D-84B8-71633B15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B4194-80B6-40BF-BA4A-22EC7989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A6761-9D2D-4E90-85C7-E357EDAC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3FF36-DBC3-45B4-8220-FC09FDD2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E2132-7CA9-45B1-A94B-661DBC7E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200AF-7221-4068-A7E2-E14B6D74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D62DC-168F-41DF-817D-4791DC61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E5CC6-40FD-4CAF-8F46-D64C5B6E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26560-0A02-4AFE-9EFE-9F6767FC4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EEBB8-DA17-43EA-9A14-880AC5ACA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62A8-AFAC-47E5-B7E4-34FA3F55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F804-D2CC-4E8D-859D-FF2F3397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FAF-9470-482E-B9EA-18D53458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FEB7-A73A-479B-8954-3CC3E01F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385-9B3D-44D2-BE3D-F3F14E73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D1EE-3EC8-4E9C-BEEF-07072B703B0A}" type="slidenum">
              <a:rPr b="1" lang="en-GB" sz="2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F7152-10C6-412A-BAEB-E4ED54970AE7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1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4B98-B2C5-4B6A-9C10-CA7405294B2C}" type="slidenum">
              <a:rPr b="1" lang="en-GB" sz="2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53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4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F302-A93B-44AF-84B6-B38D3D851F96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886280" y="2505240"/>
            <a:ext cx="3633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66"/>
                </a:solidFill>
                <a:latin typeface="Comic Sans MS"/>
              </a:rPr>
              <a:t>Protein Synthesis</a:t>
            </a:r>
            <a:endParaRPr b="0" lang="en-US" sz="4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17" name="Picture 5" descr="book"/>
          <p:cNvPicPr/>
          <p:nvPr/>
        </p:nvPicPr>
        <p:blipFill>
          <a:blip r:embed="rId1"/>
          <a:stretch/>
        </p:blipFill>
        <p:spPr>
          <a:xfrm>
            <a:off x="684360" y="549360"/>
            <a:ext cx="3767040" cy="49672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5940360" y="4724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Mrs Griffith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5796000" y="836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Comic Sans MS"/>
              </a:rPr>
              <a:t>AS Biology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0" name="Picture 5" descr="trna"/>
          <p:cNvPicPr/>
          <p:nvPr/>
        </p:nvPicPr>
        <p:blipFill>
          <a:blip r:embed="rId1"/>
          <a:stretch/>
        </p:blipFill>
        <p:spPr>
          <a:xfrm>
            <a:off x="755640" y="476280"/>
            <a:ext cx="7488360" cy="61437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729720" y="306000"/>
            <a:ext cx="783324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- animation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4" name="Picture 5" descr="aProteinSyn"/>
          <p:cNvPicPr/>
          <p:nvPr/>
        </p:nvPicPr>
        <p:blipFill>
          <a:blip r:embed="rId1"/>
          <a:stretch/>
        </p:blipFill>
        <p:spPr>
          <a:xfrm>
            <a:off x="324000" y="1989000"/>
            <a:ext cx="5543280" cy="292428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8" name="Picture 5" descr="ribosome_1"/>
          <p:cNvPicPr/>
          <p:nvPr/>
        </p:nvPicPr>
        <p:blipFill>
          <a:blip r:embed="rId1"/>
          <a:stretch/>
        </p:blipFill>
        <p:spPr>
          <a:xfrm>
            <a:off x="1476360" y="549360"/>
            <a:ext cx="5533920" cy="5904000"/>
          </a:xfrm>
          <a:prstGeom prst="rect">
            <a:avLst/>
          </a:prstGeom>
          <a:ln w="0">
            <a:noFill/>
          </a:ln>
        </p:spPr>
      </p:pic>
      <p:sp>
        <p:nvSpPr>
          <p:cNvPr id="269" name="Freeform 6"/>
          <p:cNvSpPr/>
          <p:nvPr/>
        </p:nvSpPr>
        <p:spPr>
          <a:xfrm>
            <a:off x="611280" y="2384280"/>
            <a:ext cx="11748960" cy="3853080"/>
          </a:xfrm>
          <a:custGeom>
            <a:avLst/>
            <a:gdLst/>
            <a:ahLst/>
            <a:rect l="l" t="t" r="r" b="b"/>
            <a:pathLst>
              <a:path w="7401" h="2427">
                <a:moveTo>
                  <a:pt x="0" y="930"/>
                </a:moveTo>
                <a:cubicBezTo>
                  <a:pt x="329" y="790"/>
                  <a:pt x="658" y="651"/>
                  <a:pt x="1044" y="613"/>
                </a:cubicBezTo>
                <a:cubicBezTo>
                  <a:pt x="1430" y="575"/>
                  <a:pt x="1830" y="718"/>
                  <a:pt x="2314" y="703"/>
                </a:cubicBezTo>
                <a:cubicBezTo>
                  <a:pt x="2798" y="688"/>
                  <a:pt x="3622" y="537"/>
                  <a:pt x="3947" y="522"/>
                </a:cubicBezTo>
                <a:cubicBezTo>
                  <a:pt x="4272" y="507"/>
                  <a:pt x="4067" y="590"/>
                  <a:pt x="4264" y="613"/>
                </a:cubicBezTo>
                <a:cubicBezTo>
                  <a:pt x="4461" y="636"/>
                  <a:pt x="4612" y="711"/>
                  <a:pt x="5126" y="658"/>
                </a:cubicBezTo>
                <a:cubicBezTo>
                  <a:pt x="5640" y="605"/>
                  <a:pt x="7295" y="0"/>
                  <a:pt x="7348" y="295"/>
                </a:cubicBezTo>
                <a:cubicBezTo>
                  <a:pt x="7401" y="590"/>
                  <a:pt x="6422" y="1508"/>
                  <a:pt x="5443" y="2427"/>
                </a:cubicBezTo>
              </a:path>
            </a:pathLst>
          </a:custGeom>
          <a:noFill/>
          <a:ln w="76320">
            <a:solidFill>
              <a:srgbClr val="99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50920" y="422100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mRNA attaches to small ribosomal subunit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1" name="Line 8"/>
          <p:cNvSpPr/>
          <p:nvPr/>
        </p:nvSpPr>
        <p:spPr>
          <a:xfrm flipV="1">
            <a:off x="1042920" y="3789000"/>
            <a:ext cx="7308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734040" y="30996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- outlin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75" name="Picture 5" descr="polysome"/>
          <p:cNvPicPr/>
          <p:nvPr/>
        </p:nvPicPr>
        <p:blipFill>
          <a:blip r:embed="rId1"/>
          <a:stretch/>
        </p:blipFill>
        <p:spPr>
          <a:xfrm>
            <a:off x="324000" y="1414440"/>
            <a:ext cx="8064360" cy="48261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19000" y="613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lation.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mRNA used to make polypeptide chain (protein)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78" name="Picture 4" descr="ELONGATION3"/>
          <p:cNvPicPr/>
          <p:nvPr/>
        </p:nvPicPr>
        <p:blipFill>
          <a:blip r:embed="rId1"/>
          <a:stretch/>
        </p:blipFill>
        <p:spPr>
          <a:xfrm>
            <a:off x="0" y="1989000"/>
            <a:ext cx="4427640" cy="2676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elongation_4"/>
          <p:cNvPicPr/>
          <p:nvPr/>
        </p:nvPicPr>
        <p:blipFill>
          <a:blip r:embed="rId2"/>
          <a:stretch/>
        </p:blipFill>
        <p:spPr>
          <a:xfrm>
            <a:off x="4427640" y="1989000"/>
            <a:ext cx="4716360" cy="269748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27000" y="216000"/>
            <a:ext cx="3364920" cy="37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1.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83" name="Picture 5" descr="ELONGATION3"/>
          <p:cNvPicPr/>
          <p:nvPr/>
        </p:nvPicPr>
        <p:blipFill>
          <a:blip r:embed="rId1"/>
          <a:stretch/>
        </p:blipFill>
        <p:spPr>
          <a:xfrm>
            <a:off x="684360" y="189000"/>
            <a:ext cx="7561080" cy="41036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179280" y="4437000"/>
            <a:ext cx="8964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First the mRNA attaches itself to a ribosome (to the small subunit)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Six bases of the mRNA are expos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first tRNA (without its amino acid) leaves the ribosom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2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88" name="Picture 5" descr="elongation_4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5041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0" y="515772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50920" y="5300640"/>
            <a:ext cx="84978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ribosome moves along the mRNA to the next codon (three bases)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second tRNA molecule moves into position P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growing polypeptide is formed in this way until a stop codon is reach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End of Translation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94" name="Picture 5" descr="termination_5"/>
          <p:cNvPicPr/>
          <p:nvPr/>
        </p:nvPicPr>
        <p:blipFill>
          <a:blip r:embed="rId1"/>
          <a:stretch/>
        </p:blipFill>
        <p:spPr>
          <a:xfrm>
            <a:off x="900000" y="189000"/>
            <a:ext cx="7345440" cy="5200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6"/>
          <p:cNvSpPr/>
          <p:nvPr/>
        </p:nvSpPr>
        <p:spPr>
          <a:xfrm>
            <a:off x="430200" y="5877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lation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mRNA to Polypeptide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98" name="Picture 5" descr="code_2"/>
          <p:cNvPicPr/>
          <p:nvPr/>
        </p:nvPicPr>
        <p:blipFill>
          <a:blip r:embed="rId1"/>
          <a:stretch/>
        </p:blipFill>
        <p:spPr>
          <a:xfrm>
            <a:off x="4427640" y="2492280"/>
            <a:ext cx="4410000" cy="3095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polyphenyl"/>
          <p:cNvPicPr/>
          <p:nvPr/>
        </p:nvPicPr>
        <p:blipFill>
          <a:blip r:embed="rId2"/>
          <a:stretch/>
        </p:blipFill>
        <p:spPr>
          <a:xfrm>
            <a:off x="1117440" y="2800440"/>
            <a:ext cx="2448000" cy="255564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03" name="Picture 5" descr="code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48964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Protein synthesis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pg 72-7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DNA unwin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is made of one of the DNA strand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moves out of nucleus into cytoplas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RNA molecules are activated as their complementary amino acids are attached to the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 attaches to the small subunit of the ribosomes in cytoplasm. 6 of the bases in the mRNA are exposed in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tRNA bonds complementarily with the mRNA via its anticod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second tRNA bonds with the next three bases of the mRNA, the amino acid joins onto the amino acid of the first tRNA via a peptide bon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he ribosome moves along. The first tRNA leaves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third tRNA brings a third amino aci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Eventually a stop codon is reached on the mRNA. The newly synthesised polypeptide leaves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06" name="Picture 10" descr="protein_synthesis"/>
          <p:cNvPicPr/>
          <p:nvPr/>
        </p:nvPicPr>
        <p:blipFill>
          <a:blip r:embed="rId1"/>
          <a:stretch/>
        </p:blipFill>
        <p:spPr>
          <a:xfrm>
            <a:off x="1305000" y="260280"/>
            <a:ext cx="6427800" cy="65977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11800" y="454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Rough endoplasmic reticulum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1" name="Picture 5" descr="rough1"/>
          <p:cNvPicPr/>
          <p:nvPr/>
        </p:nvPicPr>
        <p:blipFill>
          <a:blip r:embed="rId1"/>
          <a:stretch/>
        </p:blipFill>
        <p:spPr>
          <a:xfrm>
            <a:off x="2411280" y="155736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5" name="Picture 5" descr="rough4"/>
          <p:cNvPicPr/>
          <p:nvPr/>
        </p:nvPicPr>
        <p:blipFill>
          <a:blip r:embed="rId1"/>
          <a:stretch/>
        </p:blipFill>
        <p:spPr>
          <a:xfrm>
            <a:off x="2340000" y="2421000"/>
            <a:ext cx="4319640" cy="431964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5636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One ribosome from the RER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9" name="Picture 5" descr="rough3"/>
          <p:cNvPicPr/>
          <p:nvPr/>
        </p:nvPicPr>
        <p:blipFill>
          <a:blip r:embed="rId1"/>
          <a:stretch/>
        </p:blipFill>
        <p:spPr>
          <a:xfrm>
            <a:off x="1979640" y="1628640"/>
            <a:ext cx="4968720" cy="496908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3" name="Picture 5" descr="rough3"/>
          <p:cNvPicPr/>
          <p:nvPr/>
        </p:nvPicPr>
        <p:blipFill>
          <a:blip r:embed="rId1"/>
          <a:stretch/>
        </p:blipFill>
        <p:spPr>
          <a:xfrm>
            <a:off x="2411280" y="1484280"/>
            <a:ext cx="4321440" cy="432108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27640" y="72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A ribosom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7" name="Picture 5" descr="cyto3"/>
          <p:cNvPicPr/>
          <p:nvPr/>
        </p:nvPicPr>
        <p:blipFill>
          <a:blip r:embed="rId1"/>
          <a:stretch/>
        </p:blipFill>
        <p:spPr>
          <a:xfrm>
            <a:off x="2050920" y="1341360"/>
            <a:ext cx="5185080" cy="51847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Overview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27" name="Picture 5" descr="dogma1"/>
          <p:cNvPicPr/>
          <p:nvPr/>
        </p:nvPicPr>
        <p:blipFill>
          <a:blip r:embed="rId1"/>
          <a:stretch/>
        </p:blipFill>
        <p:spPr>
          <a:xfrm>
            <a:off x="395280" y="3213000"/>
            <a:ext cx="8353440" cy="13924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468360" y="4365720"/>
            <a:ext cx="820728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32" name="Picture 5" descr="central_dogma"/>
          <p:cNvPicPr/>
          <p:nvPr/>
        </p:nvPicPr>
        <p:blipFill>
          <a:blip r:embed="rId1"/>
          <a:stretch/>
        </p:blipFill>
        <p:spPr>
          <a:xfrm>
            <a:off x="611280" y="549360"/>
            <a:ext cx="7777080" cy="5856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36" name="Picture 8" descr="cendogma"/>
          <p:cNvPicPr/>
          <p:nvPr/>
        </p:nvPicPr>
        <p:blipFill>
          <a:blip r:embed="rId1"/>
          <a:stretch/>
        </p:blipFill>
        <p:spPr>
          <a:xfrm>
            <a:off x="395280" y="2060640"/>
            <a:ext cx="8280360" cy="46213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cription 1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(making a mRNA copy of DNA)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40" name="Picture 5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1042920" y="4724280"/>
            <a:ext cx="7274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cription 2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46" name="Picture 5" descr="11_4c"/>
          <p:cNvPicPr/>
          <p:nvPr/>
        </p:nvPicPr>
        <p:blipFill>
          <a:blip r:embed="rId1"/>
          <a:stretch/>
        </p:blipFill>
        <p:spPr>
          <a:xfrm>
            <a:off x="179280" y="191628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11_4d"/>
          <p:cNvPicPr/>
          <p:nvPr/>
        </p:nvPicPr>
        <p:blipFill>
          <a:blip r:embed="rId2"/>
          <a:stretch/>
        </p:blipFill>
        <p:spPr>
          <a:xfrm>
            <a:off x="4606920" y="1916280"/>
            <a:ext cx="4537080" cy="31446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684360" y="5157720"/>
            <a:ext cx="82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is mRNA strand is a complementary copy of the DNA (gene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mRNA molecule leaves the nucleus via a nuclear pore into the cytoplasm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52" name="Picture 5" descr="template_strand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4831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72640" y="810360"/>
            <a:ext cx="7833600" cy="62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NA –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pick up their specific amino acids from the cytoplasm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56" name="Picture 5" descr="tRNA2"/>
          <p:cNvPicPr/>
          <p:nvPr/>
        </p:nvPicPr>
        <p:blipFill>
          <a:blip r:embed="rId1"/>
          <a:stretch/>
        </p:blipFill>
        <p:spPr>
          <a:xfrm>
            <a:off x="755640" y="1916280"/>
            <a:ext cx="7489800" cy="4941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20:24:59Z</dcterms:created>
  <dc:creator>Bella Griffiths</dc:creator>
  <dc:description/>
  <dc:language>en-US</dc:language>
  <cp:lastModifiedBy>LEGION2</cp:lastModifiedBy>
  <dcterms:modified xsi:type="dcterms:W3CDTF">2016-01-11T13:49:33Z</dcterms:modified>
  <cp:revision>77</cp:revision>
  <dc:subject/>
  <dc:title>Slide 1</dc:title>
</cp:coreProperties>
</file>