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D670-94E1-4DDD-A343-B4F2BE20D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CC7-EB59-4290-BCBD-20B8EFDA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959-2299-4156-8D17-942B42A0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E50-7B93-4C76-AD7F-75A83ABF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8EB-4E22-4FB7-8BA1-E2AB3208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E22-D626-46AD-A476-D574A476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DE2-8919-4A81-A692-90C4AA60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ED7-341F-4A8D-9B43-D941F51D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3CC-8D06-4E35-8C52-D818EE83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C90-3B91-4647-A711-72351D0E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04F-10D0-4522-A781-33AAE666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9B0-1AC8-4382-BC6C-7728604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047-A2C3-439F-B8E0-D35ABC4F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6F57-CCA3-420C-BF8E-AA38ABA64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7,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elements in Group 17 are nonmetals except for astatine, which is a radioactive metalloi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590920"/>
            <a:ext cx="4419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re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oge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means “salt-former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3975120"/>
            <a:ext cx="4190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halogens form salts with sodium and with the other alkali met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39"/>
          <p:cNvPicPr/>
          <p:nvPr/>
        </p:nvPicPr>
        <p:blipFill>
          <a:blip r:embed="rId1"/>
          <a:stretch/>
        </p:blipFill>
        <p:spPr>
          <a:xfrm>
            <a:off x="5014800" y="2252520"/>
            <a:ext cx="3575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1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ogen fluorine is the most reactive of the halogens in combining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31719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less reactive than fluorine,       and bromine is less reactive than chlorin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437832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the least reactive of the four non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8571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76800" y="952560"/>
          <a:ext cx="374976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208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9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65" name="AutoShape 210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1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2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3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4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70" name="Rectangle 215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16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72" name="Oval 217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18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19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75" name="Oval 220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21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22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78" name="Oval 223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24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5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81" name="Oval 226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27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8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84" name="Oval 229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30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31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87" name="Oval 232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3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234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90" name="Oval 235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6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37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8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9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0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1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2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3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4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100" name="Oval 245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6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47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8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9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50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1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2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53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5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halogens – so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113" name="Group 5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114" name="Group 6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115" name="Oval 7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8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bbe0e3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9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122" name="Group 14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123" name="Oval 15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16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17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8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19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20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21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22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23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AutoShape 24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5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6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27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8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137" name="Oval 29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bbe0e3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141" name="Oval 33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5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154" name="Oval 46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158" name="Oval 50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59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170" name="Oval 62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3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0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179" name="Oval 71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3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74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5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184" name="Text Box 76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8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187" name="Text Box 79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90400" y="97164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To put it simply, a MORE reactive halogen will displace a LESS reactive halogen from a solution of its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2254320"/>
          <a:ext cx="952560" cy="406404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16"/>
          <p:cNvGrpSpPr/>
          <p:nvPr/>
        </p:nvGrpSpPr>
        <p:grpSpPr>
          <a:xfrm>
            <a:off x="1333440" y="2521080"/>
            <a:ext cx="1046160" cy="3574800"/>
            <a:chOff x="1333440" y="2521080"/>
            <a:chExt cx="1046160" cy="3574800"/>
          </a:xfrm>
        </p:grpSpPr>
        <p:sp>
          <p:nvSpPr>
            <p:cNvPr id="193" name="AutoShape 17"/>
            <p:cNvSpPr/>
            <p:nvPr/>
          </p:nvSpPr>
          <p:spPr>
            <a:xfrm>
              <a:off x="1333440" y="2521080"/>
              <a:ext cx="533520" cy="3354120"/>
            </a:xfrm>
            <a:prstGeom prst="downArrow">
              <a:avLst>
                <a:gd name="adj1" fmla="val 50000"/>
                <a:gd name="adj2" fmla="val 1571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 rot="5400000">
              <a:off x="387360" y="4104000"/>
              <a:ext cx="35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 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2724120" y="2178000"/>
          <a:ext cx="6419880" cy="4573800"/>
        </p:xfrm>
        <a:graphic>
          <a:graphicData uri="http://schemas.openxmlformats.org/drawingml/2006/table">
            <a:tbl>
              <a:tblPr/>
              <a:tblGrid>
                <a:gridCol w="1604880"/>
                <a:gridCol w="1605240"/>
                <a:gridCol w="1604880"/>
                <a:gridCol w="1604880"/>
              </a:tblGrid>
              <a:tr h="1256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chlorid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bromide KBr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iodide   KI 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e Cl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ine Br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2355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alogen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lver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silver chloride, silver bromi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These are used in photographic paper.  They are reduced by light and x-ray radiation to leave a silver photograph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4724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ydrogen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hydrogen chloride, hydrogen fluo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Comic Sans MS"/>
              </a:rPr>
              <a:t>When these dissolve in water they make acids and will turn universal indicator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x-ray"/>
          <p:cNvPicPr/>
          <p:nvPr/>
        </p:nvPicPr>
        <p:blipFill>
          <a:blip r:embed="rId1"/>
          <a:srcRect l="0" t="0" r="6264" b="6248"/>
          <a:stretch/>
        </p:blipFill>
        <p:spPr>
          <a:xfrm>
            <a:off x="2209680" y="2895480"/>
            <a:ext cx="1395360" cy="156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RADIACT"/>
          <p:cNvPicPr/>
          <p:nvPr/>
        </p:nvPicPr>
        <p:blipFill>
          <a:blip r:embed="rId2"/>
          <a:stretch/>
        </p:blipFill>
        <p:spPr>
          <a:xfrm>
            <a:off x="4724280" y="2819520"/>
            <a:ext cx="2079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term “halogen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3640" y="143352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ogen means “salt-former.” All the halogens form salts with sodium (and other alkali met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39"/>
          <p:cNvPicPr/>
          <p:nvPr/>
        </p:nvPicPr>
        <p:blipFill>
          <a:blip r:embed="rId1"/>
          <a:stretch/>
        </p:blipFill>
        <p:spPr>
          <a:xfrm>
            <a:off x="4818240" y="1523880"/>
            <a:ext cx="392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2:22Z</dcterms:created>
  <dc:creator>CIC1</dc:creator>
  <dc:description/>
  <dc:language>en-US</dc:language>
  <cp:lastModifiedBy>RomaK</cp:lastModifiedBy>
  <dcterms:modified xsi:type="dcterms:W3CDTF">2015-09-01T16:26:17Z</dcterms:modified>
  <cp:revision>10</cp:revision>
  <dc:subject/>
  <dc:title>Group 7, the Halogens</dc:title>
</cp:coreProperties>
</file>