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B146-1A3B-4CC0-9EE8-4FFBF83931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oup 7,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oup 7, the Hal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7—The Hal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elements in Group 17 are nonmetals except for astatine, which is a radioactive metallo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are called halogens, which means “salt-former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form salts with sodium and with the other 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7—The Hal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elements in Group 17 are nonmetals except for astatine, which is a radioactive metallo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are called halogens, which means “salt-former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halogens form salts with sodium and with the other alkali 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7—The Hal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logen fluorine is the most reactive of the halogens in combining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less reactive than fluorine,       and bromine is less reactive than chlor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dine is the least reactive of the four non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7—The Hal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alogen fluorine is the most reactive of the halogens in combining with other elem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is less reactive than fluorine,       and bromine is less reactive than chlor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dine is the least reactive of the four nonmet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Reactivity DECREASES as you go down th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is is because the electrons are further away from the nucleus and so any extra electrons aren’t attracted as muc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They exist as diatomic molecules (so that they both have a full outer shell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Because of this fluorine and chlorine are liquid at room temperature and bromine is a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fact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Reactivity DECREASES as you go down th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is is because the electrons are further away from the nucleus and so any extra electrons aren’t attracted as muc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They exist as diatomic molecules (so that they both have a full outer shell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Because of this fluorine and chlorine are liquid at room temperature and bromine is a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alogens – so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)  Halogen + met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 Halogen + non-met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alogens – some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)  Halogen + met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 Halogen + non-met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ut it simply, a MORE reactive halogen will displace a LESS reactive halogen from a solution of its sa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ut it simply, a MORE reactive halogen will displace a LESS reactive halogen from a solution of its sa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logen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ver halides (e.g. silver chloride, silver bromide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used in photographic paper.  They are reduced by light and x-ray radiation to leave a silver photographic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halides (e.g. hydrogen chloride, hydrogen fluor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n these dissolve in water they make acids and will turn universal indicator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logen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ver halides (e.g. silver chloride, silver bromide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used in photographic paper.  They are reduced by light and x-ray radiation to leave a silver photographic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halides (e.g. hydrogen chloride, hydrogen fluor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n these dissolve in water they make acids and will turn universal indicator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term “halogen”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the term “halogen” m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ogen means “salt-former.” All the halogens form salts with sodium (and other alkali metal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Ch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ogen means “salt-former.” All the halogens form salts with sodium (and other alkali metal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5635-070F-40BD-805F-442E14D06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D9FE-03CC-456B-A21D-8C7D65C0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BF58-C7E5-4B6C-817F-E95E3B2D6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E4DE-39BA-49AF-A26A-04A5AC6E8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199A-6664-4190-ABC5-6E258A78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F7DF-33A4-4D60-83C7-66382F29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9178-0CA3-45BC-8599-374F4D6B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216A-BCF7-430E-B459-0D192D10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6E1D-4302-494E-BB77-470C865B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C157-3D2A-4C73-8777-67464309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A189-A7B8-4FFF-A727-EE607A13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CCD5-739C-4419-94ED-2B956F54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E849-273E-41DF-93A9-C4E13D424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7, the Halo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70680" y="685800"/>
            <a:ext cx="6415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7—The Hal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21932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the elements in Group 17 are nonmetals except for astatine, which is a radioactive metalloi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33520" y="2590920"/>
            <a:ext cx="4419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elements are called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alogen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which means “salt-former.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3520" y="3975120"/>
            <a:ext cx="41907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f the halogens form salts with sodium and with the other alkali metal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im39"/>
          <p:cNvPicPr/>
          <p:nvPr/>
        </p:nvPicPr>
        <p:blipFill>
          <a:blip r:embed="rId1"/>
          <a:stretch/>
        </p:blipFill>
        <p:spPr>
          <a:xfrm>
            <a:off x="5014800" y="2252520"/>
            <a:ext cx="357516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570680" y="685800"/>
            <a:ext cx="64155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7—The Hal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533520" y="1521000"/>
            <a:ext cx="7543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alogen fluorine is the most reactive of the halogens in combining with other el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33520" y="317196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lorine is less reactive than fluorine,       and bromine is less reactive than chlorin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533520" y="4378320"/>
            <a:ext cx="73911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odine is the least reactive of the four nonmet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0" y="857160"/>
            <a:ext cx="35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ccff"/>
                </a:solidFill>
                <a:latin typeface="Comic Sans MS"/>
              </a:rPr>
              <a:t>Some fac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276800" y="952560"/>
          <a:ext cx="3749760" cy="192096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  <a:gridCol w="218880"/>
              </a:tblGrid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4320"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sp>
        <p:nvSpPr>
          <p:cNvPr id="63" name="Text Box 208"/>
          <p:cNvSpPr/>
          <p:nvPr/>
        </p:nvSpPr>
        <p:spPr>
          <a:xfrm>
            <a:off x="0" y="1657440"/>
            <a:ext cx="409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Comic Sans MS"/>
              </a:rPr>
              <a:t>1)  Reactivity DECREASES as you go down th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09"/>
          <p:cNvGrpSpPr/>
          <p:nvPr/>
        </p:nvGrpSpPr>
        <p:grpSpPr>
          <a:xfrm>
            <a:off x="7658280" y="1008000"/>
            <a:ext cx="1485360" cy="1828800"/>
            <a:chOff x="7658280" y="1008000"/>
            <a:chExt cx="1485360" cy="1828800"/>
          </a:xfrm>
        </p:grpSpPr>
        <p:sp>
          <p:nvSpPr>
            <p:cNvPr id="65" name="AutoShape 210"/>
            <p:cNvSpPr/>
            <p:nvPr/>
          </p:nvSpPr>
          <p:spPr>
            <a:xfrm>
              <a:off x="7658280" y="1143000"/>
              <a:ext cx="533160" cy="1123920"/>
            </a:xfrm>
            <a:prstGeom prst="downArrow">
              <a:avLst>
                <a:gd name="adj1" fmla="val 50000"/>
                <a:gd name="adj2" fmla="val 5270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211"/>
            <p:cNvSpPr/>
            <p:nvPr/>
          </p:nvSpPr>
          <p:spPr>
            <a:xfrm rot="5400000">
              <a:off x="7721280" y="1414440"/>
              <a:ext cx="18288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Decrea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reacti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212"/>
          <p:cNvSpPr/>
          <p:nvPr/>
        </p:nvSpPr>
        <p:spPr>
          <a:xfrm>
            <a:off x="0" y="2724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ccff"/>
                </a:solidFill>
                <a:latin typeface="Comic Sans MS"/>
              </a:rPr>
              <a:t>(This is because the electrons are further away from the nucleus and so any extra electrons aren’t attracted as mu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13"/>
          <p:cNvSpPr/>
          <p:nvPr/>
        </p:nvSpPr>
        <p:spPr>
          <a:xfrm>
            <a:off x="0" y="398160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2)  They exist as diatomic molecules (so that they both have a full outer shel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214"/>
          <p:cNvGrpSpPr/>
          <p:nvPr/>
        </p:nvGrpSpPr>
        <p:grpSpPr>
          <a:xfrm>
            <a:off x="7067520" y="4191120"/>
            <a:ext cx="2076480" cy="1619280"/>
            <a:chOff x="7067520" y="4191120"/>
            <a:chExt cx="2076480" cy="1619280"/>
          </a:xfrm>
        </p:grpSpPr>
        <p:sp>
          <p:nvSpPr>
            <p:cNvPr id="70" name="Rectangle 215"/>
            <p:cNvSpPr/>
            <p:nvPr/>
          </p:nvSpPr>
          <p:spPr>
            <a:xfrm>
              <a:off x="7067520" y="4191120"/>
              <a:ext cx="2076480" cy="161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216"/>
            <p:cNvGrpSpPr/>
            <p:nvPr/>
          </p:nvGrpSpPr>
          <p:grpSpPr>
            <a:xfrm>
              <a:off x="7277040" y="4553280"/>
              <a:ext cx="380880" cy="380880"/>
              <a:chOff x="7277040" y="4553280"/>
              <a:chExt cx="380880" cy="380880"/>
            </a:xfrm>
          </p:grpSpPr>
          <p:sp>
            <p:nvSpPr>
              <p:cNvPr id="72" name="Oval 217"/>
              <p:cNvSpPr/>
              <p:nvPr/>
            </p:nvSpPr>
            <p:spPr>
              <a:xfrm>
                <a:off x="7277040" y="45532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Oval 218"/>
              <p:cNvSpPr/>
              <p:nvPr/>
            </p:nvSpPr>
            <p:spPr>
              <a:xfrm>
                <a:off x="7429320" y="470556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219"/>
            <p:cNvGrpSpPr/>
            <p:nvPr/>
          </p:nvGrpSpPr>
          <p:grpSpPr>
            <a:xfrm>
              <a:off x="8380440" y="5235840"/>
              <a:ext cx="422280" cy="387360"/>
              <a:chOff x="8380440" y="5235840"/>
              <a:chExt cx="422280" cy="387360"/>
            </a:xfrm>
          </p:grpSpPr>
          <p:sp>
            <p:nvSpPr>
              <p:cNvPr id="75" name="Oval 220"/>
              <p:cNvSpPr/>
              <p:nvPr/>
            </p:nvSpPr>
            <p:spPr>
              <a:xfrm rot="5800200">
                <a:off x="8561520" y="52480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Oval 221"/>
              <p:cNvSpPr/>
              <p:nvPr/>
            </p:nvSpPr>
            <p:spPr>
              <a:xfrm rot="5800200">
                <a:off x="8392680" y="538164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Group 222"/>
            <p:cNvGrpSpPr/>
            <p:nvPr/>
          </p:nvGrpSpPr>
          <p:grpSpPr>
            <a:xfrm>
              <a:off x="7754040" y="4319280"/>
              <a:ext cx="531720" cy="353520"/>
              <a:chOff x="7754040" y="4319280"/>
              <a:chExt cx="531720" cy="353520"/>
            </a:xfrm>
          </p:grpSpPr>
          <p:sp>
            <p:nvSpPr>
              <p:cNvPr id="78" name="Oval 223"/>
              <p:cNvSpPr/>
              <p:nvPr/>
            </p:nvSpPr>
            <p:spPr>
              <a:xfrm rot="18348600">
                <a:off x="7799040" y="43984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Oval 224"/>
              <p:cNvSpPr/>
              <p:nvPr/>
            </p:nvSpPr>
            <p:spPr>
              <a:xfrm rot="18348600">
                <a:off x="8011800" y="43642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Group 225"/>
            <p:cNvGrpSpPr/>
            <p:nvPr/>
          </p:nvGrpSpPr>
          <p:grpSpPr>
            <a:xfrm>
              <a:off x="7234920" y="5259240"/>
              <a:ext cx="503640" cy="378720"/>
              <a:chOff x="7234920" y="5259240"/>
              <a:chExt cx="503640" cy="378720"/>
            </a:xfrm>
          </p:grpSpPr>
          <p:sp>
            <p:nvSpPr>
              <p:cNvPr id="81" name="Oval 226"/>
              <p:cNvSpPr/>
              <p:nvPr/>
            </p:nvSpPr>
            <p:spPr>
              <a:xfrm rot="20147400">
                <a:off x="7271640" y="529560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Oval 227"/>
              <p:cNvSpPr/>
              <p:nvPr/>
            </p:nvSpPr>
            <p:spPr>
              <a:xfrm rot="20147400">
                <a:off x="7472880" y="537228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Group 228"/>
            <p:cNvGrpSpPr/>
            <p:nvPr/>
          </p:nvGrpSpPr>
          <p:grpSpPr>
            <a:xfrm>
              <a:off x="7977240" y="4820400"/>
              <a:ext cx="352080" cy="532080"/>
              <a:chOff x="7977240" y="4820400"/>
              <a:chExt cx="352080" cy="532080"/>
            </a:xfrm>
          </p:grpSpPr>
          <p:sp>
            <p:nvSpPr>
              <p:cNvPr id="84" name="Oval 229"/>
              <p:cNvSpPr/>
              <p:nvPr/>
            </p:nvSpPr>
            <p:spPr>
              <a:xfrm rot="3228000">
                <a:off x="8055000" y="486576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Oval 230"/>
              <p:cNvSpPr/>
              <p:nvPr/>
            </p:nvSpPr>
            <p:spPr>
              <a:xfrm rot="3228000">
                <a:off x="8022240" y="507852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231"/>
            <p:cNvGrpSpPr/>
            <p:nvPr/>
          </p:nvGrpSpPr>
          <p:grpSpPr>
            <a:xfrm>
              <a:off x="8534520" y="4515120"/>
              <a:ext cx="380880" cy="380880"/>
              <a:chOff x="8534520" y="4515120"/>
              <a:chExt cx="380880" cy="380880"/>
            </a:xfrm>
          </p:grpSpPr>
          <p:sp>
            <p:nvSpPr>
              <p:cNvPr id="87" name="Oval 232"/>
              <p:cNvSpPr/>
              <p:nvPr/>
            </p:nvSpPr>
            <p:spPr>
              <a:xfrm>
                <a:off x="8534520" y="451512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233"/>
              <p:cNvSpPr/>
              <p:nvPr/>
            </p:nvSpPr>
            <p:spPr>
              <a:xfrm>
                <a:off x="8686800" y="4667400"/>
                <a:ext cx="228600" cy="2286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" name="Group 234"/>
          <p:cNvGrpSpPr/>
          <p:nvPr/>
        </p:nvGrpSpPr>
        <p:grpSpPr>
          <a:xfrm>
            <a:off x="3957480" y="4162320"/>
            <a:ext cx="1317960" cy="1336680"/>
            <a:chOff x="3957480" y="4162320"/>
            <a:chExt cx="1317960" cy="1336680"/>
          </a:xfrm>
        </p:grpSpPr>
        <p:sp>
          <p:nvSpPr>
            <p:cNvPr id="90" name="Oval 235"/>
            <p:cNvSpPr/>
            <p:nvPr/>
          </p:nvSpPr>
          <p:spPr>
            <a:xfrm>
              <a:off x="4019400" y="4229280"/>
              <a:ext cx="1200240" cy="1199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36"/>
            <p:cNvSpPr/>
            <p:nvPr/>
          </p:nvSpPr>
          <p:spPr>
            <a:xfrm>
              <a:off x="4643280" y="4162320"/>
              <a:ext cx="136800" cy="13680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37"/>
            <p:cNvSpPr/>
            <p:nvPr/>
          </p:nvSpPr>
          <p:spPr>
            <a:xfrm>
              <a:off x="4433760" y="4162320"/>
              <a:ext cx="136800" cy="13680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38"/>
            <p:cNvSpPr/>
            <p:nvPr/>
          </p:nvSpPr>
          <p:spPr>
            <a:xfrm>
              <a:off x="4471920" y="5362560"/>
              <a:ext cx="136440" cy="1364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39"/>
            <p:cNvSpPr/>
            <p:nvPr/>
          </p:nvSpPr>
          <p:spPr>
            <a:xfrm>
              <a:off x="4681440" y="5343480"/>
              <a:ext cx="136800" cy="1364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240"/>
            <p:cNvSpPr/>
            <p:nvPr/>
          </p:nvSpPr>
          <p:spPr>
            <a:xfrm>
              <a:off x="4305240" y="4629240"/>
              <a:ext cx="5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ff99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41"/>
            <p:cNvSpPr/>
            <p:nvPr/>
          </p:nvSpPr>
          <p:spPr>
            <a:xfrm>
              <a:off x="5138640" y="4676760"/>
              <a:ext cx="136800" cy="1364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242"/>
            <p:cNvSpPr/>
            <p:nvPr/>
          </p:nvSpPr>
          <p:spPr>
            <a:xfrm>
              <a:off x="3976560" y="4619520"/>
              <a:ext cx="136800" cy="13680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243"/>
            <p:cNvSpPr/>
            <p:nvPr/>
          </p:nvSpPr>
          <p:spPr>
            <a:xfrm>
              <a:off x="3957480" y="4867200"/>
              <a:ext cx="136800" cy="136440"/>
            </a:xfrm>
            <a:prstGeom prst="ellipse">
              <a:avLst/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44"/>
          <p:cNvGrpSpPr/>
          <p:nvPr/>
        </p:nvGrpSpPr>
        <p:grpSpPr>
          <a:xfrm>
            <a:off x="5084640" y="4094280"/>
            <a:ext cx="1431360" cy="1431360"/>
            <a:chOff x="5084640" y="4094280"/>
            <a:chExt cx="1431360" cy="1431360"/>
          </a:xfrm>
        </p:grpSpPr>
        <p:sp>
          <p:nvSpPr>
            <p:cNvPr id="100" name="Oval 245"/>
            <p:cNvSpPr/>
            <p:nvPr/>
          </p:nvSpPr>
          <p:spPr>
            <a:xfrm>
              <a:off x="5181480" y="4191120"/>
              <a:ext cx="1200240" cy="1199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246"/>
            <p:cNvSpPr/>
            <p:nvPr/>
          </p:nvSpPr>
          <p:spPr>
            <a:xfrm>
              <a:off x="5467320" y="4591080"/>
              <a:ext cx="5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66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247"/>
            <p:cNvSpPr/>
            <p:nvPr/>
          </p:nvSpPr>
          <p:spPr>
            <a:xfrm rot="8100000">
              <a:off x="5123880" y="481932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248"/>
            <p:cNvSpPr/>
            <p:nvPr/>
          </p:nvSpPr>
          <p:spPr>
            <a:xfrm rot="8100000">
              <a:off x="5562000" y="413352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249"/>
            <p:cNvSpPr/>
            <p:nvPr/>
          </p:nvSpPr>
          <p:spPr>
            <a:xfrm rot="8100000">
              <a:off x="5752440" y="413352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250"/>
            <p:cNvSpPr/>
            <p:nvPr/>
          </p:nvSpPr>
          <p:spPr>
            <a:xfrm rot="8100000">
              <a:off x="6285960" y="481932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251"/>
            <p:cNvSpPr/>
            <p:nvPr/>
          </p:nvSpPr>
          <p:spPr>
            <a:xfrm rot="8100000">
              <a:off x="6285960" y="460980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252"/>
            <p:cNvSpPr/>
            <p:nvPr/>
          </p:nvSpPr>
          <p:spPr>
            <a:xfrm rot="8100000">
              <a:off x="5581080" y="529560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253"/>
            <p:cNvSpPr/>
            <p:nvPr/>
          </p:nvSpPr>
          <p:spPr>
            <a:xfrm rot="8100000">
              <a:off x="5828760" y="5295600"/>
              <a:ext cx="190440" cy="190440"/>
            </a:xfrm>
            <a:prstGeom prst="plus">
              <a:avLst>
                <a:gd name="adj" fmla="val 35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 Box 254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3)  Because of this fluorine and chlorine are liquid at room temperature and bromine is a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he halogens – some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0" y="8190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ccff"/>
                </a:solidFill>
                <a:latin typeface="Comic Sans MS"/>
              </a:rPr>
              <a:t>1)  Halogen + me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4705200" y="1409760"/>
            <a:ext cx="4438440" cy="1747440"/>
            <a:chOff x="4705200" y="1409760"/>
            <a:chExt cx="4438440" cy="1747440"/>
          </a:xfrm>
        </p:grpSpPr>
        <p:grpSp>
          <p:nvGrpSpPr>
            <p:cNvPr id="113" name="Group 5"/>
            <p:cNvGrpSpPr/>
            <p:nvPr/>
          </p:nvGrpSpPr>
          <p:grpSpPr>
            <a:xfrm>
              <a:off x="4705200" y="1409760"/>
              <a:ext cx="2285640" cy="1747440"/>
              <a:chOff x="4705200" y="1409760"/>
              <a:chExt cx="2285640" cy="1747440"/>
            </a:xfrm>
          </p:grpSpPr>
          <p:grpSp>
            <p:nvGrpSpPr>
              <p:cNvPr id="114" name="Group 6"/>
              <p:cNvGrpSpPr/>
              <p:nvPr/>
            </p:nvGrpSpPr>
            <p:grpSpPr>
              <a:xfrm>
                <a:off x="4906800" y="1611360"/>
                <a:ext cx="1478880" cy="1478880"/>
                <a:chOff x="4906800" y="1611360"/>
                <a:chExt cx="1478880" cy="1478880"/>
              </a:xfrm>
            </p:grpSpPr>
            <p:sp>
              <p:nvSpPr>
                <p:cNvPr id="115" name="Oval 7"/>
                <p:cNvSpPr/>
                <p:nvPr/>
              </p:nvSpPr>
              <p:spPr>
                <a:xfrm>
                  <a:off x="4906800" y="1611360"/>
                  <a:ext cx="1478880" cy="1478880"/>
                </a:xfrm>
                <a:prstGeom prst="ellipse">
                  <a:avLst/>
                </a:pr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Text Box 8"/>
                <p:cNvSpPr/>
                <p:nvPr/>
              </p:nvSpPr>
              <p:spPr>
                <a:xfrm>
                  <a:off x="5378400" y="2148840"/>
                  <a:ext cx="603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bbe0e3"/>
                      </a:solidFill>
                      <a:latin typeface="Comic Sans MS"/>
                    </a:rPr>
                    <a:t>N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AutoShape 9"/>
              <p:cNvSpPr/>
              <p:nvPr/>
            </p:nvSpPr>
            <p:spPr>
              <a:xfrm>
                <a:off x="4705200" y="1544040"/>
                <a:ext cx="403200" cy="1613160"/>
              </a:xfrm>
              <a:custGeom>
                <a:avLst/>
                <a:gdLst>
                  <a:gd name="textAreaLeft" fmla="*/ 118440 w 403200"/>
                  <a:gd name="textAreaRight" fmla="*/ 403560 w 403200"/>
                  <a:gd name="textAreaTop" fmla="*/ 0 h 1613160"/>
                  <a:gd name="textAreaBottom" fmla="*/ 1613520 h 161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0"/>
                      <a:pt x="0" y="0"/>
                    </a:cubicBezTo>
                    <a:lnTo>
                      <a:pt x="0" y="21600"/>
                    </a:lnTo>
                    <a:cubicBezTo>
                      <a:pt x="0" y="21600"/>
                      <a:pt x="108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AutoShape 10"/>
              <p:cNvSpPr/>
              <p:nvPr/>
            </p:nvSpPr>
            <p:spPr>
              <a:xfrm flipH="1">
                <a:off x="6184080" y="1544040"/>
                <a:ext cx="403200" cy="1613160"/>
              </a:xfrm>
              <a:custGeom>
                <a:avLst/>
                <a:gdLst>
                  <a:gd name="textAreaLeft" fmla="*/ 118440 w 403200"/>
                  <a:gd name="textAreaRight" fmla="*/ 403560 w 403200"/>
                  <a:gd name="textAreaTop" fmla="*/ 0 h 1613160"/>
                  <a:gd name="textAreaBottom" fmla="*/ 1613520 h 1613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0"/>
                      <a:pt x="0" y="0"/>
                    </a:cubicBezTo>
                    <a:lnTo>
                      <a:pt x="0" y="21600"/>
                    </a:lnTo>
                    <a:cubicBezTo>
                      <a:pt x="0" y="21600"/>
                      <a:pt x="108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11"/>
              <p:cNvSpPr/>
              <p:nvPr/>
            </p:nvSpPr>
            <p:spPr>
              <a:xfrm>
                <a:off x="6587640" y="1409760"/>
                <a:ext cx="403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Comic Sans MS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2"/>
            <p:cNvGrpSpPr/>
            <p:nvPr/>
          </p:nvGrpSpPr>
          <p:grpSpPr>
            <a:xfrm>
              <a:off x="6993000" y="1409760"/>
              <a:ext cx="2150640" cy="1747440"/>
              <a:chOff x="6993000" y="1409760"/>
              <a:chExt cx="2150640" cy="1747440"/>
            </a:xfrm>
          </p:grpSpPr>
          <p:grpSp>
            <p:nvGrpSpPr>
              <p:cNvPr id="121" name="Group 13"/>
              <p:cNvGrpSpPr/>
              <p:nvPr/>
            </p:nvGrpSpPr>
            <p:grpSpPr>
              <a:xfrm>
                <a:off x="6993000" y="1409760"/>
                <a:ext cx="2150640" cy="1747440"/>
                <a:chOff x="6993000" y="1409760"/>
                <a:chExt cx="2150640" cy="1747440"/>
              </a:xfrm>
            </p:grpSpPr>
            <p:grpSp>
              <p:nvGrpSpPr>
                <p:cNvPr id="122" name="Group 14"/>
                <p:cNvGrpSpPr/>
                <p:nvPr/>
              </p:nvGrpSpPr>
              <p:grpSpPr>
                <a:xfrm>
                  <a:off x="7127280" y="1678680"/>
                  <a:ext cx="1478160" cy="1344240"/>
                  <a:chOff x="7127280" y="1678680"/>
                  <a:chExt cx="1478160" cy="1344240"/>
                </a:xfrm>
              </p:grpSpPr>
              <p:sp>
                <p:nvSpPr>
                  <p:cNvPr id="123" name="Oval 15"/>
                  <p:cNvSpPr/>
                  <p:nvPr/>
                </p:nvSpPr>
                <p:spPr>
                  <a:xfrm>
                    <a:off x="7194240" y="1678680"/>
                    <a:ext cx="1343880" cy="13442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Oval 16"/>
                  <p:cNvSpPr/>
                  <p:nvPr/>
                </p:nvSpPr>
                <p:spPr>
                  <a:xfrm>
                    <a:off x="7261560" y="1880280"/>
                    <a:ext cx="134280" cy="13428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Text Box 17"/>
                  <p:cNvSpPr/>
                  <p:nvPr/>
                </p:nvSpPr>
                <p:spPr>
                  <a:xfrm>
                    <a:off x="7665840" y="2147400"/>
                    <a:ext cx="536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ff9999"/>
                        </a:solidFill>
                        <a:latin typeface="Comic Sans MS"/>
                      </a:rPr>
                      <a:t>Cl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Oval 18"/>
                  <p:cNvSpPr/>
                  <p:nvPr/>
                </p:nvSpPr>
                <p:spPr>
                  <a:xfrm>
                    <a:off x="7463160" y="1678680"/>
                    <a:ext cx="134280" cy="134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Oval 19"/>
                  <p:cNvSpPr/>
                  <p:nvPr/>
                </p:nvSpPr>
                <p:spPr>
                  <a:xfrm>
                    <a:off x="8067960" y="1678680"/>
                    <a:ext cx="134280" cy="134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Oval 20"/>
                  <p:cNvSpPr/>
                  <p:nvPr/>
                </p:nvSpPr>
                <p:spPr>
                  <a:xfrm>
                    <a:off x="7127280" y="2148840"/>
                    <a:ext cx="134280" cy="1346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Oval 21"/>
                  <p:cNvSpPr/>
                  <p:nvPr/>
                </p:nvSpPr>
                <p:spPr>
                  <a:xfrm>
                    <a:off x="7328880" y="2753640"/>
                    <a:ext cx="134280" cy="1346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Oval 22"/>
                  <p:cNvSpPr/>
                  <p:nvPr/>
                </p:nvSpPr>
                <p:spPr>
                  <a:xfrm>
                    <a:off x="8135280" y="2888280"/>
                    <a:ext cx="134280" cy="134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Oval 23"/>
                  <p:cNvSpPr/>
                  <p:nvPr/>
                </p:nvSpPr>
                <p:spPr>
                  <a:xfrm>
                    <a:off x="8471160" y="2283480"/>
                    <a:ext cx="134280" cy="1342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AutoShape 24"/>
                <p:cNvSpPr/>
                <p:nvPr/>
              </p:nvSpPr>
              <p:spPr>
                <a:xfrm>
                  <a:off x="6993000" y="1544040"/>
                  <a:ext cx="403200" cy="1613160"/>
                </a:xfrm>
                <a:custGeom>
                  <a:avLst/>
                  <a:gdLst>
                    <a:gd name="textAreaLeft" fmla="*/ 118440 w 403200"/>
                    <a:gd name="textAreaRight" fmla="*/ 403560 w 403200"/>
                    <a:gd name="textAreaTop" fmla="*/ 0 h 1613160"/>
                    <a:gd name="textAreaBottom" fmla="*/ 1613520 h 161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0"/>
                        <a:pt x="0" y="0"/>
                      </a:cubicBezTo>
                      <a:lnTo>
                        <a:pt x="0" y="21600"/>
                      </a:lnTo>
                      <a:cubicBezTo>
                        <a:pt x="0" y="216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AutoShape 25"/>
                <p:cNvSpPr/>
                <p:nvPr/>
              </p:nvSpPr>
              <p:spPr>
                <a:xfrm flipH="1">
                  <a:off x="8337240" y="1544040"/>
                  <a:ext cx="403200" cy="1613160"/>
                </a:xfrm>
                <a:custGeom>
                  <a:avLst/>
                  <a:gdLst>
                    <a:gd name="textAreaLeft" fmla="*/ 118440 w 403200"/>
                    <a:gd name="textAreaRight" fmla="*/ 403560 w 403200"/>
                    <a:gd name="textAreaTop" fmla="*/ 0 h 1613160"/>
                    <a:gd name="textAreaBottom" fmla="*/ 1613520 h 1613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0"/>
                        <a:pt x="0" y="0"/>
                      </a:cubicBezTo>
                      <a:lnTo>
                        <a:pt x="0" y="21600"/>
                      </a:lnTo>
                      <a:cubicBezTo>
                        <a:pt x="0" y="216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Text Box 26"/>
                <p:cNvSpPr/>
                <p:nvPr/>
              </p:nvSpPr>
              <p:spPr>
                <a:xfrm>
                  <a:off x="8740440" y="1409760"/>
                  <a:ext cx="403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Comic Sans MS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" name="Oval 27"/>
              <p:cNvSpPr/>
              <p:nvPr/>
            </p:nvSpPr>
            <p:spPr>
              <a:xfrm>
                <a:off x="8364600" y="194292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6" name="Group 28"/>
          <p:cNvGrpSpPr/>
          <p:nvPr/>
        </p:nvGrpSpPr>
        <p:grpSpPr>
          <a:xfrm>
            <a:off x="0" y="1504800"/>
            <a:ext cx="1676160" cy="1676160"/>
            <a:chOff x="0" y="1504800"/>
            <a:chExt cx="1676160" cy="1676160"/>
          </a:xfrm>
        </p:grpSpPr>
        <p:sp>
          <p:nvSpPr>
            <p:cNvPr id="137" name="Oval 29"/>
            <p:cNvSpPr/>
            <p:nvPr/>
          </p:nvSpPr>
          <p:spPr>
            <a:xfrm>
              <a:off x="0" y="1504800"/>
              <a:ext cx="1676160" cy="16761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0"/>
            <p:cNvSpPr/>
            <p:nvPr/>
          </p:nvSpPr>
          <p:spPr>
            <a:xfrm>
              <a:off x="533160" y="21142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bbe0e3"/>
                  </a:solidFill>
                  <a:latin typeface="Comic Sans MS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31"/>
            <p:cNvSpPr/>
            <p:nvPr/>
          </p:nvSpPr>
          <p:spPr>
            <a:xfrm>
              <a:off x="1143000" y="1504800"/>
              <a:ext cx="152280" cy="152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32"/>
          <p:cNvGrpSpPr/>
          <p:nvPr/>
        </p:nvGrpSpPr>
        <p:grpSpPr>
          <a:xfrm>
            <a:off x="2190600" y="1562040"/>
            <a:ext cx="1676520" cy="1600200"/>
            <a:chOff x="2190600" y="1562040"/>
            <a:chExt cx="1676520" cy="1600200"/>
          </a:xfrm>
        </p:grpSpPr>
        <p:sp>
          <p:nvSpPr>
            <p:cNvPr id="141" name="Oval 33"/>
            <p:cNvSpPr/>
            <p:nvPr/>
          </p:nvSpPr>
          <p:spPr>
            <a:xfrm>
              <a:off x="2266920" y="1562040"/>
              <a:ext cx="1523880" cy="1523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34"/>
            <p:cNvSpPr/>
            <p:nvPr/>
          </p:nvSpPr>
          <p:spPr>
            <a:xfrm>
              <a:off x="2800440" y="2095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99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35"/>
            <p:cNvSpPr/>
            <p:nvPr/>
          </p:nvSpPr>
          <p:spPr>
            <a:xfrm>
              <a:off x="2571840" y="15620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6"/>
            <p:cNvSpPr/>
            <p:nvPr/>
          </p:nvSpPr>
          <p:spPr>
            <a:xfrm>
              <a:off x="3257640" y="15620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37"/>
            <p:cNvSpPr/>
            <p:nvPr/>
          </p:nvSpPr>
          <p:spPr>
            <a:xfrm>
              <a:off x="2190600" y="2095200"/>
              <a:ext cx="15264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38"/>
            <p:cNvSpPr/>
            <p:nvPr/>
          </p:nvSpPr>
          <p:spPr>
            <a:xfrm>
              <a:off x="2419200" y="2781000"/>
              <a:ext cx="15264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39"/>
            <p:cNvSpPr/>
            <p:nvPr/>
          </p:nvSpPr>
          <p:spPr>
            <a:xfrm>
              <a:off x="3486240" y="278100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40"/>
            <p:cNvSpPr/>
            <p:nvPr/>
          </p:nvSpPr>
          <p:spPr>
            <a:xfrm>
              <a:off x="3714840" y="224784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41"/>
            <p:cNvSpPr/>
            <p:nvPr/>
          </p:nvSpPr>
          <p:spPr>
            <a:xfrm>
              <a:off x="2876400" y="3009600"/>
              <a:ext cx="15264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42"/>
          <p:cNvSpPr/>
          <p:nvPr/>
        </p:nvSpPr>
        <p:spPr>
          <a:xfrm>
            <a:off x="1809720" y="20955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3"/>
          <p:cNvSpPr/>
          <p:nvPr/>
        </p:nvSpPr>
        <p:spPr>
          <a:xfrm>
            <a:off x="3962520" y="2209680"/>
            <a:ext cx="647640" cy="324000"/>
          </a:xfrm>
          <a:prstGeom prst="rightArrow">
            <a:avLst>
              <a:gd name="adj1" fmla="val 50000"/>
              <a:gd name="adj2" fmla="val 49972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4"/>
          <p:cNvSpPr/>
          <p:nvPr/>
        </p:nvSpPr>
        <p:spPr>
          <a:xfrm>
            <a:off x="0" y="4191120"/>
            <a:ext cx="76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cc"/>
                </a:solidFill>
                <a:latin typeface="Comic Sans MS"/>
              </a:rPr>
              <a:t>2)  Halogen + non-me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45"/>
          <p:cNvGrpSpPr/>
          <p:nvPr/>
        </p:nvGrpSpPr>
        <p:grpSpPr>
          <a:xfrm>
            <a:off x="674280" y="5086440"/>
            <a:ext cx="771480" cy="761760"/>
            <a:chOff x="674280" y="5086440"/>
            <a:chExt cx="771480" cy="761760"/>
          </a:xfrm>
        </p:grpSpPr>
        <p:sp>
          <p:nvSpPr>
            <p:cNvPr id="154" name="Oval 46"/>
            <p:cNvSpPr/>
            <p:nvPr/>
          </p:nvSpPr>
          <p:spPr>
            <a:xfrm flipH="1">
              <a:off x="683280" y="5086440"/>
              <a:ext cx="762120" cy="76176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47"/>
            <p:cNvSpPr/>
            <p:nvPr/>
          </p:nvSpPr>
          <p:spPr>
            <a:xfrm flipH="1">
              <a:off x="673920" y="5229000"/>
              <a:ext cx="136440" cy="1360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8"/>
            <p:cNvSpPr/>
            <p:nvPr/>
          </p:nvSpPr>
          <p:spPr>
            <a:xfrm>
              <a:off x="799920" y="5257440"/>
              <a:ext cx="59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6ccff"/>
                  </a:solidFill>
                  <a:latin typeface="Comic Sans MS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49"/>
          <p:cNvGrpSpPr/>
          <p:nvPr/>
        </p:nvGrpSpPr>
        <p:grpSpPr>
          <a:xfrm>
            <a:off x="2114640" y="4705200"/>
            <a:ext cx="1675800" cy="1600200"/>
            <a:chOff x="2114640" y="4705200"/>
            <a:chExt cx="1675800" cy="1600200"/>
          </a:xfrm>
        </p:grpSpPr>
        <p:sp>
          <p:nvSpPr>
            <p:cNvPr id="158" name="Oval 50"/>
            <p:cNvSpPr/>
            <p:nvPr/>
          </p:nvSpPr>
          <p:spPr>
            <a:xfrm>
              <a:off x="2190600" y="4705200"/>
              <a:ext cx="1523520" cy="1523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51"/>
            <p:cNvSpPr/>
            <p:nvPr/>
          </p:nvSpPr>
          <p:spPr>
            <a:xfrm>
              <a:off x="2724120" y="523836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99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52"/>
            <p:cNvSpPr/>
            <p:nvPr/>
          </p:nvSpPr>
          <p:spPr>
            <a:xfrm>
              <a:off x="2495520" y="470520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53"/>
            <p:cNvSpPr/>
            <p:nvPr/>
          </p:nvSpPr>
          <p:spPr>
            <a:xfrm>
              <a:off x="3181320" y="470520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54"/>
            <p:cNvSpPr/>
            <p:nvPr/>
          </p:nvSpPr>
          <p:spPr>
            <a:xfrm>
              <a:off x="2114640" y="52383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55"/>
            <p:cNvSpPr/>
            <p:nvPr/>
          </p:nvSpPr>
          <p:spPr>
            <a:xfrm>
              <a:off x="2342880" y="5924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56"/>
            <p:cNvSpPr/>
            <p:nvPr/>
          </p:nvSpPr>
          <p:spPr>
            <a:xfrm>
              <a:off x="3409920" y="5924160"/>
              <a:ext cx="15192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57"/>
            <p:cNvSpPr/>
            <p:nvPr/>
          </p:nvSpPr>
          <p:spPr>
            <a:xfrm>
              <a:off x="3638520" y="5391000"/>
              <a:ext cx="15192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58"/>
            <p:cNvSpPr/>
            <p:nvPr/>
          </p:nvSpPr>
          <p:spPr>
            <a:xfrm>
              <a:off x="2800080" y="61527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AutoShape 59"/>
          <p:cNvSpPr/>
          <p:nvPr/>
        </p:nvSpPr>
        <p:spPr>
          <a:xfrm>
            <a:off x="4229280" y="5334120"/>
            <a:ext cx="647640" cy="32364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0"/>
          <p:cNvSpPr/>
          <p:nvPr/>
        </p:nvSpPr>
        <p:spPr>
          <a:xfrm>
            <a:off x="1600200" y="521964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61"/>
          <p:cNvGrpSpPr/>
          <p:nvPr/>
        </p:nvGrpSpPr>
        <p:grpSpPr>
          <a:xfrm>
            <a:off x="5410080" y="4724280"/>
            <a:ext cx="2303280" cy="1600200"/>
            <a:chOff x="5410080" y="4724280"/>
            <a:chExt cx="2303280" cy="1600200"/>
          </a:xfrm>
        </p:grpSpPr>
        <p:sp>
          <p:nvSpPr>
            <p:cNvPr id="170" name="Oval 62"/>
            <p:cNvSpPr/>
            <p:nvPr/>
          </p:nvSpPr>
          <p:spPr>
            <a:xfrm>
              <a:off x="5486400" y="4724280"/>
              <a:ext cx="1523880" cy="1524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63"/>
            <p:cNvSpPr/>
            <p:nvPr/>
          </p:nvSpPr>
          <p:spPr>
            <a:xfrm>
              <a:off x="6019920" y="52578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99"/>
                  </a:solidFill>
                  <a:latin typeface="Comic Sans MS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64"/>
            <p:cNvSpPr/>
            <p:nvPr/>
          </p:nvSpPr>
          <p:spPr>
            <a:xfrm>
              <a:off x="5791320" y="47242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65"/>
            <p:cNvSpPr/>
            <p:nvPr/>
          </p:nvSpPr>
          <p:spPr>
            <a:xfrm>
              <a:off x="6477120" y="47242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66"/>
            <p:cNvSpPr/>
            <p:nvPr/>
          </p:nvSpPr>
          <p:spPr>
            <a:xfrm>
              <a:off x="5410080" y="52578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67"/>
            <p:cNvSpPr/>
            <p:nvPr/>
          </p:nvSpPr>
          <p:spPr>
            <a:xfrm>
              <a:off x="5638680" y="59436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68"/>
            <p:cNvSpPr/>
            <p:nvPr/>
          </p:nvSpPr>
          <p:spPr>
            <a:xfrm>
              <a:off x="6705720" y="59436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69"/>
            <p:cNvSpPr/>
            <p:nvPr/>
          </p:nvSpPr>
          <p:spPr>
            <a:xfrm>
              <a:off x="6095880" y="61722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70"/>
            <p:cNvGrpSpPr/>
            <p:nvPr/>
          </p:nvGrpSpPr>
          <p:grpSpPr>
            <a:xfrm>
              <a:off x="6941880" y="5143680"/>
              <a:ext cx="771480" cy="761760"/>
              <a:chOff x="6941880" y="5143680"/>
              <a:chExt cx="771480" cy="761760"/>
            </a:xfrm>
          </p:grpSpPr>
          <p:sp>
            <p:nvSpPr>
              <p:cNvPr id="179" name="Oval 71"/>
              <p:cNvSpPr/>
              <p:nvPr/>
            </p:nvSpPr>
            <p:spPr>
              <a:xfrm flipH="1">
                <a:off x="6950880" y="5143680"/>
                <a:ext cx="762120" cy="76176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Oval 72"/>
              <p:cNvSpPr/>
              <p:nvPr/>
            </p:nvSpPr>
            <p:spPr>
              <a:xfrm flipH="1">
                <a:off x="6941520" y="5286240"/>
                <a:ext cx="136440" cy="13608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3"/>
              <p:cNvSpPr/>
              <p:nvPr/>
            </p:nvSpPr>
            <p:spPr>
              <a:xfrm>
                <a:off x="7067520" y="5314680"/>
                <a:ext cx="590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66ccff"/>
                    </a:solidFill>
                    <a:latin typeface="Comic Sans MS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Oval 74"/>
            <p:cNvSpPr/>
            <p:nvPr/>
          </p:nvSpPr>
          <p:spPr>
            <a:xfrm>
              <a:off x="6934320" y="54864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75"/>
          <p:cNvGrpSpPr/>
          <p:nvPr/>
        </p:nvGrpSpPr>
        <p:grpSpPr>
          <a:xfrm>
            <a:off x="1924200" y="3371760"/>
            <a:ext cx="5333760" cy="459720"/>
            <a:chOff x="1924200" y="3371760"/>
            <a:chExt cx="5333760" cy="459720"/>
          </a:xfrm>
        </p:grpSpPr>
        <p:sp>
          <p:nvSpPr>
            <p:cNvPr id="184" name="Text Box 76"/>
            <p:cNvSpPr/>
            <p:nvPr/>
          </p:nvSpPr>
          <p:spPr>
            <a:xfrm>
              <a:off x="1924200" y="3371760"/>
              <a:ext cx="5333760" cy="459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Halogen + metal              ionic sal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77"/>
            <p:cNvSpPr/>
            <p:nvPr/>
          </p:nvSpPr>
          <p:spPr>
            <a:xfrm>
              <a:off x="4419720" y="3619440"/>
              <a:ext cx="952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78"/>
          <p:cNvGrpSpPr/>
          <p:nvPr/>
        </p:nvGrpSpPr>
        <p:grpSpPr>
          <a:xfrm>
            <a:off x="1028880" y="6381720"/>
            <a:ext cx="7486560" cy="459720"/>
            <a:chOff x="1028880" y="6381720"/>
            <a:chExt cx="7486560" cy="459720"/>
          </a:xfrm>
        </p:grpSpPr>
        <p:sp>
          <p:nvSpPr>
            <p:cNvPr id="187" name="Text Box 79"/>
            <p:cNvSpPr/>
            <p:nvPr/>
          </p:nvSpPr>
          <p:spPr>
            <a:xfrm>
              <a:off x="1028880" y="6381720"/>
              <a:ext cx="7486560" cy="4597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Halogen + non-metal               covalent molecu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80"/>
            <p:cNvSpPr/>
            <p:nvPr/>
          </p:nvSpPr>
          <p:spPr>
            <a:xfrm>
              <a:off x="4133880" y="6591240"/>
              <a:ext cx="9525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Displacement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590400" y="971640"/>
            <a:ext cx="794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To put it simply, a MORE reactive halogen will displace a LESS reactive halogen from a solution of its sa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66760" y="2254320"/>
          <a:ext cx="952560" cy="406404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101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1016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  <p:grpSp>
        <p:nvGrpSpPr>
          <p:cNvPr id="192" name="Group 16"/>
          <p:cNvGrpSpPr/>
          <p:nvPr/>
        </p:nvGrpSpPr>
        <p:grpSpPr>
          <a:xfrm>
            <a:off x="1333440" y="2521080"/>
            <a:ext cx="1046160" cy="3574800"/>
            <a:chOff x="1333440" y="2521080"/>
            <a:chExt cx="1046160" cy="3574800"/>
          </a:xfrm>
        </p:grpSpPr>
        <p:sp>
          <p:nvSpPr>
            <p:cNvPr id="193" name="AutoShape 17"/>
            <p:cNvSpPr/>
            <p:nvPr/>
          </p:nvSpPr>
          <p:spPr>
            <a:xfrm>
              <a:off x="1333440" y="2521080"/>
              <a:ext cx="533520" cy="3354120"/>
            </a:xfrm>
            <a:prstGeom prst="downArrow">
              <a:avLst>
                <a:gd name="adj1" fmla="val 50000"/>
                <a:gd name="adj2" fmla="val 15716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8"/>
            <p:cNvSpPr/>
            <p:nvPr/>
          </p:nvSpPr>
          <p:spPr>
            <a:xfrm rot="5400000">
              <a:off x="387360" y="4104000"/>
              <a:ext cx="352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Decreasing reactiv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5" name=""/>
          <p:cNvGraphicFramePr/>
          <p:nvPr/>
        </p:nvGraphicFramePr>
        <p:xfrm>
          <a:off x="2724120" y="2178000"/>
          <a:ext cx="6419880" cy="4573800"/>
        </p:xfrm>
        <a:graphic>
          <a:graphicData uri="http://schemas.openxmlformats.org/drawingml/2006/table">
            <a:tbl>
              <a:tblPr/>
              <a:tblGrid>
                <a:gridCol w="1604880"/>
                <a:gridCol w="1605240"/>
                <a:gridCol w="1604880"/>
                <a:gridCol w="1604880"/>
              </a:tblGrid>
              <a:tr h="125640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ssium chloride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Cl</a:t>
                      </a:r>
                      <a:r>
                        <a:rPr b="0" lang="en-GB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ssium bromide KBr</a:t>
                      </a:r>
                      <a:r>
                        <a:rPr b="0" lang="en-GB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aq</a:t>
                      </a:r>
                      <a:r>
                        <a:rPr b="0" lang="en-GB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assium iodide   KI </a:t>
                      </a:r>
                      <a:r>
                        <a:rPr b="0" lang="en-GB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aq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113400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ine Cl</a:t>
                      </a:r>
                      <a:r>
                        <a:rPr b="0" lang="en-GB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113400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mine Br</a:t>
                      </a:r>
                      <a:r>
                        <a:rPr b="0" lang="en-GB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  <a:tr h="123552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din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GB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66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alogen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0" y="914400"/>
            <a:ext cx="914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Silver halide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(e.g. silver chloride, silver bromide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cc"/>
                </a:solidFill>
                <a:latin typeface="Comic Sans MS"/>
              </a:rPr>
              <a:t>These are used in photographic paper.  They are reduced by light and x-ray radiation to leave a silver photographic im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0" y="4724280"/>
            <a:ext cx="914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Hydrogen halide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(e.g. hydrogen chloride, hydrogen fluor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66"/>
                </a:solidFill>
                <a:latin typeface="Comic Sans MS"/>
              </a:rPr>
              <a:t>When these dissolve in water they make acids and will turn universal indicator 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x-ray"/>
          <p:cNvPicPr/>
          <p:nvPr/>
        </p:nvPicPr>
        <p:blipFill>
          <a:blip r:embed="rId1"/>
          <a:srcRect l="0" t="0" r="6264" b="6248"/>
          <a:stretch/>
        </p:blipFill>
        <p:spPr>
          <a:xfrm>
            <a:off x="2209680" y="2895480"/>
            <a:ext cx="1395360" cy="15624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RADIACT"/>
          <p:cNvPicPr/>
          <p:nvPr/>
        </p:nvPicPr>
        <p:blipFill>
          <a:blip r:embed="rId2"/>
          <a:stretch/>
        </p:blipFill>
        <p:spPr>
          <a:xfrm>
            <a:off x="4724280" y="2819520"/>
            <a:ext cx="20797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1760400" y="785880"/>
            <a:ext cx="2276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Question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593640" y="1676520"/>
            <a:ext cx="794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es the term “halogen”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3491280" y="0"/>
            <a:ext cx="214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Section 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760040" y="785880"/>
            <a:ext cx="168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593640" y="1433520"/>
            <a:ext cx="4206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logen means “salt-former.” All the halogens form salts with sodium (and other alkali metal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im39"/>
          <p:cNvPicPr/>
          <p:nvPr/>
        </p:nvPicPr>
        <p:blipFill>
          <a:blip r:embed="rId1"/>
          <a:stretch/>
        </p:blipFill>
        <p:spPr>
          <a:xfrm>
            <a:off x="4818240" y="1523880"/>
            <a:ext cx="392256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1:32:22Z</dcterms:created>
  <dc:creator>CIC1</dc:creator>
  <dc:description/>
  <dc:language>en-US</dc:language>
  <cp:lastModifiedBy>RomaK</cp:lastModifiedBy>
  <dcterms:modified xsi:type="dcterms:W3CDTF">2015-09-01T16:26:17Z</dcterms:modified>
  <cp:revision>10</cp:revision>
  <dc:subject/>
  <dc:title>Group 7, the Halogens</dc:title>
</cp:coreProperties>
</file>