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1153-424B-449B-BD2B-CB9B75A4C1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ternary structure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differen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nary structure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differen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spiral-shaped polypeptid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d in parallel by disulphide brid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has a rope-lik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spiral-shaped polypeptid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d in parallel by disulphide brid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has a rope-lik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ed roughly into a spherical shape like a tangled ball of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are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vital component in cell and sub-cellular membra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ed roughly into a spherical shape like a tangled ball of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are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vital component in cell and sub-cellular membra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messe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obular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ert a specific effect on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messe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t a specific effect on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-shaped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nd body against anti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-shaped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nd body against anti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obular protein associated with a non-protein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protein and carbohyd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 associated with a non-protein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tein and carbohyd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ygen-transporting pigment i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e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globular protein 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haem (non-protein containing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transporting pigment i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lobular protein 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aem (non-protein containing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 Endoplasmic Reticulum (rough 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flattened sacs and tub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rusted with ribosomes on the outer surface if their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with outer nuclea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 large surface area for 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for 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 Endoplasmic Reticulum (rough 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flattened sacs and tub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rusted with ribosomes on the outer surface if their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with outer nuclea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 large surface area for 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for 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oup of flattened fluid-filled sa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sicles containing newly synthesised protein pinched off from rough 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se with outermost sac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 passed from sac to sac by means of ves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lgi apparatus processes prote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e.g. adds a carbohyd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form a 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flattened fluid-filled sa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newly synthesised protein pinched off from rough 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with outermost sac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passed from sac to sac by means of ves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apparatus processes prote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e.g. adds a carbohyd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orm a 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finished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gestiv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rm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ched off at end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move towards cell membrane and fuse with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s of vesicle discharged to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finished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gestiv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rm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ched off at end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move towards cell membrane and fuse with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s of vesicle discharged to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bodies especially numerous and active in secreto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astric gland cells in stomach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ep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su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bodies especially numerous and active in secreto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astric gland cells in stomach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ep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su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ments in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x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ulph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ments in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x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ulph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cture of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034-B872-4372-86DC-F6338271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41CF-1B05-47DE-88D0-DC6D809F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79DB-7CF6-451C-9246-6A5FAF24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5F3B-8AB9-48D3-8950-D148DBD3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1833-8699-4744-B604-9F5AF790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0CF2-4086-4DED-B21F-A83367C9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D308-2356-4F3C-AAAF-1DD62B9D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A9BC-AA81-4416-B584-83D45C68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037E-A3B5-4601-9E2B-2CBAF5E3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516A-078E-4AFA-BEBB-B5996E53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DAA8-430E-4F64-AE31-8CF354C4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5B9C-90A9-454C-9BC2-5837E65E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88EE-FD06-4771-A927-446F410466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image" Target="../media/image8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nteractivehuman.blogspot.com/2008/05/protein-secretion.html" TargetMode="External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ywebspace.wisc.edu/jonovic/web/proteins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tein Secre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aternary structure of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different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fibrous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lobular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conjugated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brous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ral spiral-shaped polypeptide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ked in parallel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sulphide bri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te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rope-lik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nsp-protein-2-5-2_17"/>
          <p:cNvPicPr/>
          <p:nvPr/>
        </p:nvPicPr>
        <p:blipFill>
          <a:blip r:embed="rId1"/>
          <a:srcRect l="0" t="8547" r="0" b="0"/>
          <a:stretch/>
        </p:blipFill>
        <p:spPr>
          <a:xfrm>
            <a:off x="6251400" y="0"/>
            <a:ext cx="2732400" cy="6621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04920" y="228600"/>
          <a:ext cx="8839080" cy="646416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2210040"/>
                <a:gridCol w="2209680"/>
              </a:tblGrid>
              <a:tr h="15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rou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tural prope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sue rich in thi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 of thi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ll of large arte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exible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la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in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B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Tendon and liga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Rigid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attach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ra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in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n and myo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ct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lobular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veral polypeptide ch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lded roughly into a spherical shape like a tangled ball of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re globular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so vital component 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ell and sub-cellular membra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27" descr="8883n06_23"/>
          <p:cNvPicPr/>
          <p:nvPr/>
        </p:nvPicPr>
        <p:blipFill>
          <a:blip r:embed="rId1"/>
          <a:stretch/>
        </p:blipFill>
        <p:spPr>
          <a:xfrm>
            <a:off x="0" y="0"/>
            <a:ext cx="5257800" cy="3651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29" descr="Image17"/>
          <p:cNvPicPr/>
          <p:nvPr/>
        </p:nvPicPr>
        <p:blipFill>
          <a:blip r:embed="rId2"/>
          <a:stretch/>
        </p:blipFill>
        <p:spPr>
          <a:xfrm>
            <a:off x="5864400" y="2286000"/>
            <a:ext cx="327960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ical messen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lobular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ert a specific effect on 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Picture of Appetite represing hormo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54480" y="2811600"/>
            <a:ext cx="3989520" cy="40464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tibo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-shaped globular 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by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ymphoc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fend body against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ti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AntibodyCHODisulfide"/>
          <p:cNvPicPr/>
          <p:nvPr/>
        </p:nvPicPr>
        <p:blipFill>
          <a:blip r:embed="rId1"/>
          <a:stretch/>
        </p:blipFill>
        <p:spPr>
          <a:xfrm>
            <a:off x="4525920" y="3565440"/>
            <a:ext cx="4618080" cy="32925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jugated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lobular prote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ssociated with a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n-protein chem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lyco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rotein and carbohyd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mu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complex-gain-both"/>
          <p:cNvPicPr/>
          <p:nvPr/>
        </p:nvPicPr>
        <p:blipFill>
          <a:blip r:embed="rId1"/>
          <a:stretch/>
        </p:blipFill>
        <p:spPr>
          <a:xfrm>
            <a:off x="6172200" y="4290840"/>
            <a:ext cx="2971800" cy="25671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emoglo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xygen-transporting pigment in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jugated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lobular prote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lob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ae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non-protein containing ir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haemoglobin"/>
          <p:cNvPicPr/>
          <p:nvPr/>
        </p:nvPicPr>
        <p:blipFill>
          <a:blip r:embed="rId1"/>
          <a:stretch/>
        </p:blipFill>
        <p:spPr>
          <a:xfrm>
            <a:off x="685800" y="0"/>
            <a:ext cx="8686800" cy="6896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ugh Endoplasmic Reticulum (rough 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ystem of flattened sacs and tub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crusted with ribosomes on the outer surface if their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tinuous with outer nuclear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vides a large surface area for chemical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thway for transport of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ER"/>
          <p:cNvPicPr/>
          <p:nvPr/>
        </p:nvPicPr>
        <p:blipFill>
          <a:blip r:embed="rId1"/>
          <a:srcRect l="0" t="51043" r="0" b="0"/>
          <a:stretch/>
        </p:blipFill>
        <p:spPr>
          <a:xfrm>
            <a:off x="2050920" y="3500280"/>
            <a:ext cx="5562720" cy="335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image006"/>
          <p:cNvPicPr/>
          <p:nvPr/>
        </p:nvPicPr>
        <p:blipFill>
          <a:blip r:embed="rId2"/>
          <a:stretch/>
        </p:blipFill>
        <p:spPr>
          <a:xfrm>
            <a:off x="2050920" y="0"/>
            <a:ext cx="5400720" cy="35164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gi Appar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oup of flattened fluid-filled sa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esic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ntaining newly synthesised protein pinched off from rough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use with outermost sac of Golgi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ein passed from sac to sac by means of ves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olgi apparatu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rote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e.g. adds a carbohyd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form a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lyco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Processing the proteins"/>
          <p:cNvPicPr/>
          <p:nvPr/>
        </p:nvPicPr>
        <p:blipFill>
          <a:blip r:embed="rId1"/>
          <a:stretch/>
        </p:blipFill>
        <p:spPr>
          <a:xfrm>
            <a:off x="1066680" y="11160"/>
            <a:ext cx="7543800" cy="68468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xocy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sicles containing finished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mu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digestive enzy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horm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inched off at end of Golgi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sicles move towards cell membrane and fuse with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ents of vesicle discharged to out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Protein Secretion_x000b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olgi bodies especially numerous and active 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ecretory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astric gland cells in stomach w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muc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eps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anc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insu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ements in a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x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sulph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Structure of a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protein-structure2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2:40:51Z</dcterms:created>
  <dc:creator>hhashmi</dc:creator>
  <dc:description/>
  <dc:language>en-US</dc:language>
  <cp:lastModifiedBy>LEGION2</cp:lastModifiedBy>
  <dcterms:modified xsi:type="dcterms:W3CDTF">2016-01-11T13:45:48Z</dcterms:modified>
  <cp:revision>13</cp:revision>
  <dc:subject/>
  <dc:title>Protein Secretion</dc:title>
</cp:coreProperties>
</file>