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ED34-4318-4EA7-AC3C-76BD99E16F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ternary structure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different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ternary structure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different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spiral-shaped polypeptid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ed in parallel by disulphide brid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has a rope-lik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spiral-shaped polypeptid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ed in parallel by disulphide brid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has a rope-lik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ed roughly into a spherical shape like a tangled ball of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are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vital component in cell and sub-cellular membra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ed roughly into a spherical shape like a tangled ball of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are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vital component in cell and sub-cellular membra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messe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obular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ert a specific effect on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messe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t a specific effect on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-shaped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nd body against anti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-shaped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nd body against anti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obular protein associated with a non-protein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protein and carbohyd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 associated with a non-protein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tein and carbohyd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xygen-transporting pigment i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e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globular protein 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haem (non-protein containing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transporting pigment i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lobular protein 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aem (non-protein containing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 Endoplasmic Reticulum (rough 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flattened sacs and tub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rusted with ribosomes on the outer surface if their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with outer nuclea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a large surface area for 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for 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 Endoplasmic Reticulum (rough 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flattened sacs and tub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rusted with ribosomes on the outer surface if their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with outer nuclea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a large surface area for 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for 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oup of flattened fluid-filled sa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esicles containing newly synthesised protein pinched off from rough 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se with outermost sac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 passed from sac to sac by means of ves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lgi apparatus processes prote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e.g. adds a carbohyd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form a 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flattened fluid-filled sa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newly synthesised protein pinched off from rough 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with outermost sac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passed from sac to sac by means of ves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apparatus processes prote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e.g. adds a carbohyd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orm a 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finished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gestiv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rm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ched off at end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move towards cell membrane and fuse with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s of vesicle discharged to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finished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gestiv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rm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ched off at end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move towards cell membrane and fuse with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s of vesicle discharged to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bodies especially numerous and active in secreto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astric gland cells in stomach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ep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su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bodies especially numerous and active in secreto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astric gland cells in stomach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ep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su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ments in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x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sulphu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ments in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x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sulphu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cture of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4992-AEC1-43DA-80D2-E205764E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D095-0D50-44DD-B841-EC38C93C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ACA8-843E-40D1-BD81-3DDC9752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F81A-37A9-476B-8C1F-CB81F3D2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2B8-0BBB-4E6B-84DD-B68F7F7B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BE61-DD64-42BA-B477-49B78F4A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735D-E430-4DA7-B7E7-9999D2AA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7352-A13F-4AF1-B557-C2F6871E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9071-EF95-481C-8CB0-5B37B7D7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DC4-AED3-4EAB-8F4C-1C35E5C8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8E0B-A99F-4E22-9521-58424220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1891-A895-47CA-BFC2-900EC867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5341-DC70-4572-85E8-3C25DFCF03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image" Target="../media/image8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nteractivehuman.blogspot.com/2008/05/protein-secretion.html" TargetMode="External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mywebspace.wisc.edu/jonovic/web/proteins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otein Secre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aternary structure of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different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fibrous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lobular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conjugated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brous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ral spiral-shaped polypeptide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nked in parallel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sulphide bri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tei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 a rope-lik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nsp-protein-2-5-2_17"/>
          <p:cNvPicPr/>
          <p:nvPr/>
        </p:nvPicPr>
        <p:blipFill>
          <a:blip r:embed="rId1"/>
          <a:srcRect l="0" t="8547" r="0" b="0"/>
          <a:stretch/>
        </p:blipFill>
        <p:spPr>
          <a:xfrm>
            <a:off x="6251400" y="0"/>
            <a:ext cx="2732400" cy="6621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04920" y="228600"/>
          <a:ext cx="8839080" cy="6464160"/>
        </p:xfrm>
        <a:graphic>
          <a:graphicData uri="http://schemas.openxmlformats.org/drawingml/2006/table">
            <a:tbl>
              <a:tblPr/>
              <a:tblGrid>
                <a:gridCol w="2209680"/>
                <a:gridCol w="2209680"/>
                <a:gridCol w="2210040"/>
                <a:gridCol w="2209680"/>
              </a:tblGrid>
              <a:tr h="151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rou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uctural proper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sue rich in thi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 of thi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ll of large arte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exible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la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in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B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Tendon and liga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Rigid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attach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ra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in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n and myo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act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lobular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veral polypeptide ch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lded roughly into a spherical shape like a tangled ball of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re globular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so vital component 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ell and sub-cellular membra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27" descr="8883n06_23"/>
          <p:cNvPicPr/>
          <p:nvPr/>
        </p:nvPicPr>
        <p:blipFill>
          <a:blip r:embed="rId1"/>
          <a:stretch/>
        </p:blipFill>
        <p:spPr>
          <a:xfrm>
            <a:off x="0" y="0"/>
            <a:ext cx="5257800" cy="3651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29" descr="Image17"/>
          <p:cNvPicPr/>
          <p:nvPr/>
        </p:nvPicPr>
        <p:blipFill>
          <a:blip r:embed="rId2"/>
          <a:stretch/>
        </p:blipFill>
        <p:spPr>
          <a:xfrm>
            <a:off x="5864400" y="2286000"/>
            <a:ext cx="3279600" cy="4572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ical messen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lobular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ert a specific effect on t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Picture of Appetite represing hormo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54480" y="2811600"/>
            <a:ext cx="3989520" cy="40464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tibo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-shaped globular 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by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ymphoc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fend body against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nti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AntibodyCHODisulfide"/>
          <p:cNvPicPr/>
          <p:nvPr/>
        </p:nvPicPr>
        <p:blipFill>
          <a:blip r:embed="rId1"/>
          <a:stretch/>
        </p:blipFill>
        <p:spPr>
          <a:xfrm>
            <a:off x="4525920" y="3565440"/>
            <a:ext cx="4618080" cy="32925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jugated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Globular protei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ssociated with a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on-protein chem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lyco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rotein and carbohyd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mu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complex-gain-both"/>
          <p:cNvPicPr/>
          <p:nvPr/>
        </p:nvPicPr>
        <p:blipFill>
          <a:blip r:embed="rId1"/>
          <a:stretch/>
        </p:blipFill>
        <p:spPr>
          <a:xfrm>
            <a:off x="6172200" y="4290840"/>
            <a:ext cx="2971800" cy="25671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emoglo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xygen-transporting pigment in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jugated 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lobular prote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glob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ae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non-protein containing ir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haemoglobin"/>
          <p:cNvPicPr/>
          <p:nvPr/>
        </p:nvPicPr>
        <p:blipFill>
          <a:blip r:embed="rId1"/>
          <a:stretch/>
        </p:blipFill>
        <p:spPr>
          <a:xfrm>
            <a:off x="685800" y="0"/>
            <a:ext cx="8686800" cy="68961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ugh Endoplasmic Reticulum (rough 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ystem of flattened sacs and tub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crusted with ribosomes on the outer surface if their membr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tinuous with outer nuclear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vides a large surface area for chemical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thway for transport of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ER"/>
          <p:cNvPicPr/>
          <p:nvPr/>
        </p:nvPicPr>
        <p:blipFill>
          <a:blip r:embed="rId1"/>
          <a:srcRect l="0" t="51043" r="0" b="0"/>
          <a:stretch/>
        </p:blipFill>
        <p:spPr>
          <a:xfrm>
            <a:off x="2050920" y="3500280"/>
            <a:ext cx="5562720" cy="3357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image006"/>
          <p:cNvPicPr/>
          <p:nvPr/>
        </p:nvPicPr>
        <p:blipFill>
          <a:blip r:embed="rId2"/>
          <a:stretch/>
        </p:blipFill>
        <p:spPr>
          <a:xfrm>
            <a:off x="2050920" y="0"/>
            <a:ext cx="5400720" cy="35164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lgi Appar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oup of flattened fluid-filled sa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esic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ontaining newly synthesised protein pinched off from rough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use with outermost sac of Golgi 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tein passed from sac to sac by means of ves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olgi apparatu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rocess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rote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e.g. adds a carbohyd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form a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lyco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Processing the proteins"/>
          <p:cNvPicPr/>
          <p:nvPr/>
        </p:nvPicPr>
        <p:blipFill>
          <a:blip r:embed="rId1"/>
          <a:stretch/>
        </p:blipFill>
        <p:spPr>
          <a:xfrm>
            <a:off x="1066680" y="11160"/>
            <a:ext cx="7543800" cy="68468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xocy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sicles containing finished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mu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digestive enzy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horm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inched off at end of Golgi 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sicles move towards cell membrane and fuse with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ents of vesicle discharged to out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Protein Secretion_x000b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olgi bodies especially numerous and active 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ecretory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astric gland cells in stomach wa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muc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eps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anc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insu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ements in a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x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sulph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Structure of a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protein-structure2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2:40:51Z</dcterms:created>
  <dc:creator>hhashmi</dc:creator>
  <dc:description/>
  <dc:language>en-US</dc:language>
  <cp:lastModifiedBy>LEGION2</cp:lastModifiedBy>
  <dcterms:modified xsi:type="dcterms:W3CDTF">2016-01-11T13:45:48Z</dcterms:modified>
  <cp:revision>13</cp:revision>
  <dc:subject/>
  <dc:title>Protein Secretion</dc:title>
</cp:coreProperties>
</file>