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231A-47CB-4002-A65F-86E46B336A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ein Secre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Secre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ternary structure of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 different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fibrous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conjugated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ternary structure of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different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fibrous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conjugated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brous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spiral-shaped polypeptide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ed in parallel by disulphide brid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has a rope-lik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brous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spiral-shaped polypeptide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ed in parallel by disulphide brid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has a rope-lik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polypeptide ch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ed roughly into a spherical shape like a tangled ball of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are 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vital component in cell and sub-cellular membran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polypeptide ch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ed roughly into a spherical shape like a tangled ball of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are 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vital component in cell and sub-cellular membran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 messen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obular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ert a specific effect on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messen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t a specific effect on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-shaped 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by lymph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nd body against anti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-shaped 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by lymph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nd body against anti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gated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obular protein associated with a non-protein 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yco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protein and carbohyd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mu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d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protein associated with a non-protein 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co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tein and carbohyd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xygen-transporting pigment in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gated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globular protein 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haem (non-protein containing ir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-transporting pigment in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d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lobular protein 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aem (non-protein containing ir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gh Endoplasmic Reticulum (rough 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of flattened sacs and tub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crusted with ribosomes on the outer surface if their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with outer nuclea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s a large surface area for chemical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for 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gh Endoplasmic Reticulum (rough 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of flattened sacs and tub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crusted with ribosomes on the outer surface if their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with outer nuclea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s a large surface area for chemical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for 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oup of flattened fluid-filled sa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esicles containing newly synthesised protein pinched off from rough 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se with outermost sac of 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ein passed from sac to sac by means of ves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lgi apparatus processes prote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e.g. adds a carbohydr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form a glyco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flattened fluid-filled sa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containing newly synthesised protein pinched off from rough 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with outermost sac of 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passed from sac to sac by means of ves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gi apparatus processes prote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e.g. adds a carbohydr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form a glyco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ocy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containing finished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gestive en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rm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ched off at end of 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move towards cell membrane and fuse with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s of vesicle discharged to out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ocy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containing finished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gestive en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rm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ched off at end of 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move towards cell membrane and fuse with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s of vesicle discharged to out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Secre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gi bodies especially numerous and active in secretor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astric gland cells in stomach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ep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anc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su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Secre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gi bodies especially numerous and active in secretor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astric gland cells in stomach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ep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anc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su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lements in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x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sulphu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lements in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x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sulphu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ucture of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C784-A5D6-4A9C-A815-CB026B4A1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5423-8765-4264-B9D8-18D6CF21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CA28-36DB-4217-89C2-E70B4D362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2A4C-AD6B-4000-B371-8324FB84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7B89-017A-4BB3-BFF3-89DA5E26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3DF7-2603-4E0D-B611-34562E50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8CF0-5378-4DBB-B682-973EAE58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D18A-3530-4F89-A08C-AE72324A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903A-BD12-4F26-BE32-3A79094F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2468-677F-42E8-8F03-EEA23CB9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1876-D4F3-411E-A727-5D655F50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2EBA-3A48-4E75-89B3-A30A7560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C6E9-FDB0-48DE-9015-4FFBF8024D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image" Target="../media/image8.jpe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nteractivehuman.blogspot.com/2008/05/protein-secretion.html" TargetMode="External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mywebspace.wisc.edu/jonovic/web/proteins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otein Secre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aternary structure of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different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fibrous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globular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conjugated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brous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ral spiral-shaped polypeptide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nked in parallel b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sulphide bri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tei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s a rope-lik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nsp-protein-2-5-2_17"/>
          <p:cNvPicPr/>
          <p:nvPr/>
        </p:nvPicPr>
        <p:blipFill>
          <a:blip r:embed="rId1"/>
          <a:srcRect l="0" t="8547" r="0" b="0"/>
          <a:stretch/>
        </p:blipFill>
        <p:spPr>
          <a:xfrm>
            <a:off x="6251400" y="0"/>
            <a:ext cx="2732400" cy="66214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04920" y="228600"/>
          <a:ext cx="8839080" cy="6464160"/>
        </p:xfrm>
        <a:graphic>
          <a:graphicData uri="http://schemas.openxmlformats.org/drawingml/2006/table">
            <a:tbl>
              <a:tblPr/>
              <a:tblGrid>
                <a:gridCol w="2209680"/>
                <a:gridCol w="2209680"/>
                <a:gridCol w="2210040"/>
                <a:gridCol w="2209680"/>
              </a:tblGrid>
              <a:tr h="151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rous prot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uctural proper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sue rich in this prot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tion of this prot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as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ong and ela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ll of large arte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exible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lag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ong and inela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B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Tendon and liga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Rigid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attach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ra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ong and inela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n and myo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act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c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v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lobular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veral polypeptide ch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lded roughly into a spherical shape like a tangled ball of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nzym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re globular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so vital component in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ell and sub-cellular membran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27" descr="8883n06_23"/>
          <p:cNvPicPr/>
          <p:nvPr/>
        </p:nvPicPr>
        <p:blipFill>
          <a:blip r:embed="rId1"/>
          <a:stretch/>
        </p:blipFill>
        <p:spPr>
          <a:xfrm>
            <a:off x="0" y="0"/>
            <a:ext cx="5257800" cy="3651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29" descr="Image17"/>
          <p:cNvPicPr/>
          <p:nvPr/>
        </p:nvPicPr>
        <p:blipFill>
          <a:blip r:embed="rId2"/>
          <a:stretch/>
        </p:blipFill>
        <p:spPr>
          <a:xfrm>
            <a:off x="5864400" y="2286000"/>
            <a:ext cx="3279600" cy="45720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orm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191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emical messen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lobular pro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ert a specific effect on t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Picture of Appetite represing hormo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54480" y="2811600"/>
            <a:ext cx="3989520" cy="40464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ntibo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Y-shaped globular prote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de by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ymphoc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fend body against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nti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AntibodyCHODisulfide"/>
          <p:cNvPicPr/>
          <p:nvPr/>
        </p:nvPicPr>
        <p:blipFill>
          <a:blip r:embed="rId1"/>
          <a:stretch/>
        </p:blipFill>
        <p:spPr>
          <a:xfrm>
            <a:off x="4525920" y="3565440"/>
            <a:ext cx="4618080" cy="32925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njugated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Globular protei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ssociated with a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on-protein chem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lycopro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protein and carbohyd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muc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complex-gain-both"/>
          <p:cNvPicPr/>
          <p:nvPr/>
        </p:nvPicPr>
        <p:blipFill>
          <a:blip r:embed="rId1"/>
          <a:stretch/>
        </p:blipFill>
        <p:spPr>
          <a:xfrm>
            <a:off x="6172200" y="4290840"/>
            <a:ext cx="2971800" cy="25671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emoglo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xygen-transporting pigment in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jugated pro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globular protein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glob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aem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non-protein containing ir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haemoglobin"/>
          <p:cNvPicPr/>
          <p:nvPr/>
        </p:nvPicPr>
        <p:blipFill>
          <a:blip r:embed="rId1"/>
          <a:stretch/>
        </p:blipFill>
        <p:spPr>
          <a:xfrm>
            <a:off x="685800" y="0"/>
            <a:ext cx="8686800" cy="68961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ough Endoplasmic Reticulum (rough 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ystem of flattened sacs and tub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crusted with ribosomes on the outer surface if their membr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tinuous with outer nuclear 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rovides a large surface area for chemical re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thway for transport of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ER"/>
          <p:cNvPicPr/>
          <p:nvPr/>
        </p:nvPicPr>
        <p:blipFill>
          <a:blip r:embed="rId1"/>
          <a:srcRect l="0" t="51043" r="0" b="0"/>
          <a:stretch/>
        </p:blipFill>
        <p:spPr>
          <a:xfrm>
            <a:off x="2050920" y="3500280"/>
            <a:ext cx="5562720" cy="3357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image006"/>
          <p:cNvPicPr/>
          <p:nvPr/>
        </p:nvPicPr>
        <p:blipFill>
          <a:blip r:embed="rId2"/>
          <a:stretch/>
        </p:blipFill>
        <p:spPr>
          <a:xfrm>
            <a:off x="2050920" y="0"/>
            <a:ext cx="5400720" cy="351648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lgi Appar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oup of flattened fluid-filled sa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esic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ontaining newly synthesised protein pinched off from rough 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use with outermost sac of Golgi appar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tein passed from sac to sac by means of ves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olgi apparatus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rocess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rote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e.g. adds a carbohydr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form a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lycopro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Processing the proteins"/>
          <p:cNvPicPr/>
          <p:nvPr/>
        </p:nvPicPr>
        <p:blipFill>
          <a:blip r:embed="rId1"/>
          <a:stretch/>
        </p:blipFill>
        <p:spPr>
          <a:xfrm>
            <a:off x="1066680" y="11160"/>
            <a:ext cx="7543800" cy="68468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xocyt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sicles containing finished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mu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digestive enzy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horm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inched off at end of Golgi appar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sicles move towards cell membrane and fuse with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tents of vesicle discharged to out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Protein Secretion_x000b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olgi bodies especially numerous and active in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ecretory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gastric gland cells in stomach wa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muc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peps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panc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insu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ements in a prot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ydro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x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sulphu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Structure of a prot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protein-structure2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2:40:51Z</dcterms:created>
  <dc:creator>hhashmi</dc:creator>
  <dc:description/>
  <dc:language>en-US</dc:language>
  <cp:lastModifiedBy>LEGION2</cp:lastModifiedBy>
  <dcterms:modified xsi:type="dcterms:W3CDTF">2016-01-11T13:45:48Z</dcterms:modified>
  <cp:revision>13</cp:revision>
  <dc:subject/>
  <dc:title>Protein Secretion</dc:title>
</cp:coreProperties>
</file>