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313A-7712-424F-A822-38BA93C113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DB6-A7AB-4136-A7E6-B19F0DA1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831-5225-4FCD-A4C2-DD2F7E90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4DD-0F5E-48A4-A122-422A292E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A09-5CE5-473B-92D2-A26243E5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E48-7D25-4536-A869-C3420FCB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4AD-9B44-4C97-8348-9270F27E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47F-38E7-4D05-ADE2-BED7DE20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916-01FC-4D04-95A8-85016A04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99D9-F988-44A6-B741-625945C3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AFC-000B-4D5F-8F83-BD078B9F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A72-3BDC-4D8C-80EA-44091A29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D76-8158-44EB-A9F4-F872B3E7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B233-A21F-4375-A2F5-326AC2133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ll Membran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 and 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2209680" y="1397160"/>
          <a:ext cx="518184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97160"/>
                    <a:ext cx="518184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"/>
          <p:cNvSpPr/>
          <p:nvPr/>
        </p:nvSpPr>
        <p:spPr>
          <a:xfrm>
            <a:off x="3809880" y="4572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Diffu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4" descr="08"/>
          <p:cNvPicPr/>
          <p:nvPr/>
        </p:nvPicPr>
        <p:blipFill>
          <a:blip r:embed="rId5"/>
          <a:stretch/>
        </p:blipFill>
        <p:spPr>
          <a:xfrm>
            <a:off x="1219320" y="1447920"/>
            <a:ext cx="7162560" cy="4657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794400" y="480960"/>
            <a:ext cx="217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nicity is a relative t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low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er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high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both solutions have same concentrations of solu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8"/>
          <p:cNvPicPr/>
          <p:nvPr/>
        </p:nvPicPr>
        <p:blipFill>
          <a:blip r:embed="rId1"/>
          <a:stretch/>
        </p:blipFill>
        <p:spPr>
          <a:xfrm>
            <a:off x="1447920" y="1523880"/>
            <a:ext cx="6248160" cy="4496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447920" y="3808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lant and Animal Cells put i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various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8"/>
          <p:cNvPicPr/>
          <p:nvPr/>
        </p:nvPicPr>
        <p:blipFill>
          <a:blip r:embed="rId1"/>
          <a:stretch/>
        </p:blipFill>
        <p:spPr>
          <a:xfrm>
            <a:off x="1981080" y="1828800"/>
            <a:ext cx="548640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820600" y="685800"/>
            <a:ext cx="39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ypes of Trans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day’s La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mbrane Perme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u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eosin-starch-chloride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v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dica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resence of  starch is 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triiodine ion) which is solub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mbines with the amylose and the starch molecule turns blue-bl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for St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547starchiodine"/>
          <p:cNvPicPr/>
          <p:nvPr/>
        </p:nvPicPr>
        <p:blipFill>
          <a:blip r:embed="rId1"/>
          <a:stretch/>
        </p:blipFill>
        <p:spPr>
          <a:xfrm>
            <a:off x="1447920" y="1371600"/>
            <a:ext cx="640080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651040" y="633564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Chlorid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Sulfat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rium sulfate,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forms a white 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l + N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---&gt;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+ Na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nctions of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ving C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447920" y="1371600"/>
          <a:ext cx="617220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1722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2516760" y="380880"/>
            <a:ext cx="42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8"/>
          <p:cNvPicPr/>
          <p:nvPr/>
        </p:nvPicPr>
        <p:blipFill>
          <a:blip r:embed="rId1"/>
          <a:stretch/>
        </p:blipFill>
        <p:spPr>
          <a:xfrm>
            <a:off x="1600200" y="1619280"/>
            <a:ext cx="6095880" cy="4400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894400" y="609480"/>
            <a:ext cx="35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lood-Brain Barri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,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Glucose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mino Acids,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Times New Roman"/>
              </a:rPr>
              <a:t>Alcoho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antihistamines.  HIV and bacterial meningitis can cross the barri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6:48:03Z</dcterms:created>
  <dc:creator>Educational Technologies</dc:creator>
  <dc:description/>
  <dc:language>en-US</dc:language>
  <cp:lastModifiedBy>LEGION2</cp:lastModifiedBy>
  <dcterms:modified xsi:type="dcterms:W3CDTF">2016-01-11T13:42:09Z</dcterms:modified>
  <cp:revision>40</cp:revision>
  <dc:subject/>
  <dc:title>Cell Membranes Osmosis and Diffusion</dc:title>
</cp:coreProperties>
</file>