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CB08-F567-4CD0-81CB-CF8BC38BD4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ell Membranes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smosis and Diff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ll Membran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smosis and Dif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Diff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sm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nicity is a relative ter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ypotonic Solution - One solution has a lower concentration of solute than anoth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ypertonic Solution - one solution has a higher concentration of solute than anoth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otonic Solution - both solutions have same concentrations of solut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nicity is a relative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onic Solution - One solution has a lower concentration of solute than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ertonic Solution - one solution has a higher concentration of solute than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nic Solution - both solutions have same concentrations of sol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ant and Animal Cells put i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rious solu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and Animal Cells put i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ous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ypes of Transp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pes of Trans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day’s La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 are using dialysis tubing as the cell membrane - It is selectively perme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olute is either the eosin starch solution or the sugar s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the solven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using dialysis tubing as the cell membrane - It is selectively perme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e is either the eosin starch solution or the sugar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olv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mbrane Permeabil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e is eosin-starch-chloride s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vent is Wate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dicator for presence of  starch is IK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rch is made of amylose and amylopectin – amylopectin is insolu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odine is not very soluble in water, but with KI it forms  a I3- (triiodine ion) which is solubl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3- combines with the amylose and the starch molecule turns blue-black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rane Perm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e is eosin-starch-chlorid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nt is Wa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or for presence of  starch is IK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ch is made of amylose and amylopectin – amylopectin is insol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dine is not very soluble in water, but with KI it forms  a I3- (triiodine ion) which is solu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3- combines with the amylose and the starch molecule turns blue-bl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st for Star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mhurst College Webs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for St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mhurst College Web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st for Chloride 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dicator for presence of chloride ions is silver nitrate, AgNO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white precipitate, AgCl, forms if chloride is presen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for Chloride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or for presence of chloride ions is silver nitrate, AgN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hite precipitate, AgCl, forms if chloride is pres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st for Sulfate 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dicator for the presence of sulfate ions is Barium chloride, BaC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rium sulfate, BaSO4 - forms a white precipit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Cl + NaSO4  ----&gt; BaSO4 + NaC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for Sulfate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or for the presence of sulfate ions is Barium chloride, B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ium sulfate, BaSO4 - forms a white precipi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l + NaSO4  ----&gt; BaSO4 + N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nctions of Membra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 Protect ce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 Control incoming and outgoing substa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 Maintain ion concentrations of various substa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  Selectively permeable - allows some molecules in, others are kept 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 of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Protec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Control incoming and outgoing subst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Maintain ion concentrations of various subst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Selectively permeable - allows some molecules in, others are kept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ving Ce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et cubes will be used to see the result of boiling and adding alcohol to a live membra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east cells are used to see effects of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rn gametophytes are used to see result of putting live cells in solutions of varying tonic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et cubes will be used to see the result of boiling and adding alcohol to a live membr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st cells are used to see effects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 gametophytes are used to see result of putting live cells in solutions of varying ton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sm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 will make an osmometer to see osm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gar solution in a dialysis tube is used to simulate a cell membra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rious concentrations of solute may be used around the roo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make an osmometer to see 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 solution in a dialysis tube is used to simulate a cell membr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ous concentrations of solute may be used around the ro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ospholipid Bilay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spholipid Bi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luid Mosaic Mod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luid Mosa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lood-Brain Barr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ows some substances into the brain, but screens out toxins and  bacte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stances allowed to cross includ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ter, CO2, Glucose, O2, Amino Acids, Alcohol, and antihistamines.  HIV and bacterial meningitis can cross the barri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-Brain Barr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s some substances into the brain, but screens out toxins and 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ances allowed to cross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, CO2, Glucose, O2, Amino Acids, Alcohol, and antihistamines.  HIV and bacterial meningitis can cross the barr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ions are made of solute and a solv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vent - the liquid into which the solute is poured and dissolved. We will use water as our solvent tod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e - substance that is dissolved or put into the solvent. Salt and sucrose are solut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s are made of solute and a sol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nt - the liquid into which the solute is poured and dissolved. We will use water as our solvent to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e - substance that is dissolved or put into the solvent. Salt and sucrose are solu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ethods of Transport Across Membra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.  Diff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2.  Osm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3.  Facilitated Diff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4.  Active Transp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thods of Transport Across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  Dif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  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.  Facilitated Dif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.  Active Trans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hods of Transport Across Membra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 Diffusion -passive transport - no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expen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 Osmosis - Passive transport of water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across membra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 Facilitated Diffusion - Use of proteins to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ry polar molecules or ions acro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  Active Transport- requires energy to transport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lecules against a concentration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dient – energy is in the form of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s of Transport Across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Diffusion -passive transport - n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xp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Osmosis - Passive transport of wa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ross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Facilitated Diffusion - Use of proteins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polar molecules or ions a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Active Transport- requires energy to transpor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against a concentr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ient – energy is in the form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vement of molecules from an area of high concentration to an area of low concentrati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vement from one side of a membrane to another, un-facilit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ment of molecules from an area of high concentration to an area of low concent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ment from one side of a membrane to another, un-facilit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9ED6-F77A-4B81-9254-C4ED068BE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874B-806B-4486-8A21-7D6BC33D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A8F5-289D-483F-B8BD-826FFAEF3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E4B4-9CF2-4126-970C-6F84A88AD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A157-DD80-4B94-9A7E-1A60B7A1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0C1B-072B-4BC4-948F-F2F96055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70AD-2320-44FE-8170-1288A87A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A2E4-EEC9-4375-923F-95365548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3E16-7161-4CF0-A214-60BEB0F4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2B30-C0FB-4CC9-AD33-E45BD7D1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FAE2-896A-46AE-9021-D671FE1E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4F44-F6DF-47A0-9570-61CB94CF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29BC-EB22-490F-8D5C-1AC098A0EE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ell Membranes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smosis and Diffu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2209680" y="1397160"/>
          <a:ext cx="518184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397160"/>
                    <a:ext cx="518184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Text Box 3"/>
          <p:cNvSpPr/>
          <p:nvPr/>
        </p:nvSpPr>
        <p:spPr>
          <a:xfrm>
            <a:off x="3809880" y="45720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Times New Roman"/>
              </a:rPr>
              <a:t>Diffus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2"/>
          <p:cNvGraphicFramePr/>
          <p:nvPr/>
        </p:nvGraphicFramePr>
        <p:xfrm>
          <a:off x="2297160" y="173196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7160" y="173196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3"/>
          <p:cNvGraphicFramePr/>
          <p:nvPr/>
        </p:nvGraphicFramePr>
        <p:xfrm>
          <a:off x="2297160" y="1731960"/>
          <a:ext cx="4549680" cy="339408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8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97160" y="173196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Picture 4" descr="08"/>
          <p:cNvPicPr/>
          <p:nvPr/>
        </p:nvPicPr>
        <p:blipFill>
          <a:blip r:embed="rId5"/>
          <a:stretch/>
        </p:blipFill>
        <p:spPr>
          <a:xfrm>
            <a:off x="1219320" y="1447920"/>
            <a:ext cx="7162560" cy="46576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3794400" y="480960"/>
            <a:ext cx="217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Osmos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nicity is a relative ter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ypotonic Solu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- One solution has a lower concentration of solute than ano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ypertonic Solu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- one solution has a higher concentration of solute than ano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sotonic Solu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- both solutions have same concentrations of solu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08"/>
          <p:cNvPicPr/>
          <p:nvPr/>
        </p:nvPicPr>
        <p:blipFill>
          <a:blip r:embed="rId1"/>
          <a:stretch/>
        </p:blipFill>
        <p:spPr>
          <a:xfrm>
            <a:off x="1447920" y="1523880"/>
            <a:ext cx="6248160" cy="44960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1447920" y="38088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Plant and Animal Cells put i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various sol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08"/>
          <p:cNvPicPr/>
          <p:nvPr/>
        </p:nvPicPr>
        <p:blipFill>
          <a:blip r:embed="rId1"/>
          <a:stretch/>
        </p:blipFill>
        <p:spPr>
          <a:xfrm>
            <a:off x="1981080" y="1828800"/>
            <a:ext cx="5486400" cy="39625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2820600" y="685800"/>
            <a:ext cx="396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ypes of Transpo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day’s Lab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e are using dialysis tubing as the cell membrane - It is selectively permea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solute is either the eosin starch solution or the sugar s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is the solve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embrane Permeabi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Solut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s eosin-starch-chloride s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Solven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s Wat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Indicato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or presence of  starch is IK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arch is made of amylose and amylopectin – amylopectin is insolu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odine is not very soluble in water, but with KI it forms  a 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triiodine ion) which is solubl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combines with the amylose and the starch molecule turns blue-blac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st for Star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" name="Picture 3" descr="547starchiodine"/>
          <p:cNvPicPr/>
          <p:nvPr/>
        </p:nvPicPr>
        <p:blipFill>
          <a:blip r:embed="rId1"/>
          <a:stretch/>
        </p:blipFill>
        <p:spPr>
          <a:xfrm>
            <a:off x="1447920" y="1371600"/>
            <a:ext cx="6400800" cy="52578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2651040" y="6335640"/>
            <a:ext cx="329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lmhurst College Websi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est for Chloride 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dicator for presence of chloride ions is silver nitrate, AgN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white precipitate, AgCl, forms if chloride is pres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est for Sulfate 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dicator for the presence of sulfate ions is Barium chloride, BaC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rium sulfate, BaS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forms a white precipit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Cl + NaS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---&gt; BaS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+ Na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unctions of Membra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  Protect c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.  Control incoming and outgoing subst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.  Maintain ion concentrations of various subst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.  Selectively permeable - allows some molecules in, others are kept 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iving Cel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eet cubes will be used to see the result of boiling and adding alcohol to a live membra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Yeast cells are used to see effects of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ern gametophytes are used to see result of putting live cells in solutions of varying toni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smo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e will make an osmometer to see osm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gar solution in a dialysis tube is used to simulate a cell membra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arious concentrations of solute may be used around the ro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1447920" y="1371600"/>
          <a:ext cx="617220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371600"/>
                    <a:ext cx="617220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 Box 3"/>
          <p:cNvSpPr/>
          <p:nvPr/>
        </p:nvSpPr>
        <p:spPr>
          <a:xfrm>
            <a:off x="2516760" y="380880"/>
            <a:ext cx="42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hospholipid Bilay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08"/>
          <p:cNvPicPr/>
          <p:nvPr/>
        </p:nvPicPr>
        <p:blipFill>
          <a:blip r:embed="rId1"/>
          <a:stretch/>
        </p:blipFill>
        <p:spPr>
          <a:xfrm>
            <a:off x="1600200" y="1619280"/>
            <a:ext cx="6095880" cy="4400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2894400" y="609480"/>
            <a:ext cx="350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uid Mosaic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lood-Brain Barri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lows some substances into the brain, but screens out toxins and  bacte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bstances allowed to cross includ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ater, 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Glucose, 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Amino Acids, </a:t>
            </a:r>
            <a:r>
              <a:rPr b="1" lang="en-US" sz="3300" spc="-1" strike="noStrike" u="sng">
                <a:solidFill>
                  <a:srgbClr val="ffffff"/>
                </a:solidFill>
                <a:uFillTx/>
                <a:latin typeface="Times New Roman"/>
              </a:rPr>
              <a:t>Alcoho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and antihistamines.  HIV and bacterial meningitis can cross the barri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olu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lutions are made of solute and a solv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lvent - the liquid into which the solute is poured and dissolved. We will use water as our solvent to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lute - substance that is dissolved or put into the solvent. Salt and sucrose are solu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ethods of Transport Across Membra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  Dif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.  Osm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.  Facilitated Dif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.  Active Trans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ethods of Transport Across Membra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 Diffusion -passive transport - n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erg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expen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 Osmosis - Passive transport of wat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across membra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  Facilitated Diffusion - Use of proteins 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rry polar molecules or ions acro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  Active Transport- requires energy to transpor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lecules against a concentra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radient – energy is in the form of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T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iffu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vement of molecules from an area of high concentration to an area of low concentr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vement from one side of a membrane to another, un-facilit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16:48:03Z</dcterms:created>
  <dc:creator>Educational Technologies</dc:creator>
  <dc:description/>
  <dc:language>en-US</dc:language>
  <cp:lastModifiedBy>LEGION2</cp:lastModifiedBy>
  <dcterms:modified xsi:type="dcterms:W3CDTF">2016-01-11T13:42:09Z</dcterms:modified>
  <cp:revision>40</cp:revision>
  <dc:subject/>
  <dc:title>Cell Membranes Osmosis and Diffusion</dc:title>
</cp:coreProperties>
</file>