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wmf" ContentType="image/x-wmf"/>
  <Override PartName="/ppt/media/image7.jpeg" ContentType="image/jpeg"/>
  <Override PartName="/ppt/media/image6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1F7B4-1843-4C57-8FA9-99B358D7A72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Cell Membranes</a:t>
            </a: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Osmosis and Diffu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ell Membrane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smosis and Dif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Diffu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f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Osmo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sm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nicity is a relative ter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ypotonic Solution - One solution has a lower concentration of solute than anothe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ypertonic Solution - one solution has a higher concentration of solute than anothe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sotonic Solution - both solutions have same concentrations of solut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nicity is a relative 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potonic Solution - One solution has a lower concentration of solute than an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pertonic Solution - one solution has a higher concentration of solute than an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nic Solution - both solutions have same concentrations of sol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lant and Animal Cells put in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arious solu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 and Animal Cells put i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ous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Types of Transpor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ypes of Trans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day’s La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e are using dialysis tubing as the cell membrane - It is selectively perme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solute is either the eosin starch solution or the sugar solu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is the solvent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L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re using dialysis tubing as the cell membrane - It is selectively perme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ute is either the eosin starch solution or the sugar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solve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mbrane Permeabil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ute is eosin-starch-chloride solu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vent is Water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dicator for presence of  starch is IK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arch is made of amylose and amylopectin – amylopectin is insolu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odine is not very soluble in water, but with KI it forms  a I3- (triiodine ion) which is soluble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3- combines with the amylose and the starch molecule turns blue-black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rane Perme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e is eosin-starch-chloride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nt is Wa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cator for presence of  starch is IK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ch is made of amylose and amylopectin – amylopectin is insol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dine is not very soluble in water, but with KI it forms  a I3- (triiodine ion) which is solub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3- combines with the amylose and the starch molecule turns blue-bla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st for Starc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lmhurst College Webs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for St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mhurst College Webs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st for Chloride 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dicator for presence of chloride ions is silver nitrate, AgNO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white precipitate, AgCl, forms if chloride is present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for Chloride 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cator for presence of chloride ions is silver nitrate, AgN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hite precipitate, AgCl, forms if chloride is pres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st for Sulfate 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dicator for the presence of sulfate ions is Barium chloride, BaC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rium sulfate, BaSO4 - forms a white precipita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Cl + NaSO4  ----&gt; BaSO4 + NaC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for Sulfate 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cator for the presence of sulfate ions is Barium chloride, Ba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rium sulfate, BaSO4 - forms a white precipit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l + NaSO4  ----&gt; BaSO4 + Na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unctions of Membra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.  Protect cel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  Control incoming and outgoing substan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  Maintain ion concentrations of various substan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.  Selectively permeable - allows some molecules in, others are kept ou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 of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Protect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Control incoming and outgoing substa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Maintain ion concentrations of various substa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Selectively permeable - allows some molecules in, others are kept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ving Cel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et cubes will be used to see the result of boiling and adding alcohol to a live membran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east cells are used to see effects of he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ern gametophytes are used to see result of putting live cells in solutions of varying tonic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ing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et cubes will be used to see the result of boiling and adding alcohol to a live membra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ast cells are used to see effects of 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n gametophytes are used to see result of putting live cells in solutions of varying ton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smo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e will make an osmometer to see osmo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gar solution in a dialysis tube is used to simulate a cell membran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arious concentrations of solute may be used around the room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m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ill make an osmometer to see osm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gar solution in a dialysis tube is used to simulate a cell membra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ous concentrations of solute may be used around the ro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hospholipid Bilay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ospholipid Bi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Fluid Mosaic Mod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luid Mosaic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lood-Brain Barri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ows some substances into the brain, but screens out toxins and  bacter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bstances allowed to cross includ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ater, CO2, Glucose, O2, Amino Acids, Alcohol, and antihistamines.  HIV and bacterial meningitis can cross the barrie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od-Brain Barr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ws some substances into the brain, but screens out toxins and 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ances allowed to cross inclu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, CO2, Glucose, O2, Amino Acids, Alcohol, and antihistamines.  HIV and bacterial meningitis can cross the barri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u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utions are made of solute and a solv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vent - the liquid into which the solute is poured and dissolved. We will use water as our solvent tod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ute - substance that is dissolved or put into the solvent. Salt and sucrose are solut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s are made of solute and a sol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nt - the liquid into which the solute is poured and dissolved. We will use water as our solvent tod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e - substance that is dissolved or put into the solvent. Salt and sucrose are solu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Methods of Transport Across Membra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.  Diffu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2.  Osmo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3.  Facilitated Diffu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4.  Active Transpor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thods of Transport Across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.  Dif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  Osm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.  Facilitated Dif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.  Active Trans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thods of Transport Across Membra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.  Diffusion -passive transport - no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nergy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expend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  Osmosis - Passive transport of water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across membra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  Facilitated Diffusion - Use of proteins to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rry polar molecules or ions acro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.  Active Transport- requires energy to transport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lecules against a concentration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adient – energy is in the form of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ods of Transport Across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Diffusion -passive transport - n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expen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Osmosis - Passive transport of wat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cross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Facilitated Diffusion - Use of proteins t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ry polar molecules or ions acr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Active Transport- requires energy to transpor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 against a concentr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dient – energy is in the form of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ffu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vement of molecules from an area of high concentration to an area of low concentratio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vement from one side of a membrane to another, un-facilit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ement of molecules from an area of high concentration to an area of low concent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ement from one side of a membrane to another, un-facilit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7CA0-BBCA-43AE-BE30-6C02FB296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9946-A20C-4ED3-AF80-1DAE71E71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019E-00FF-4E27-A167-1ADE2D37B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B599-6914-43F9-ADA6-6069485A6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7149-DA49-4E5F-A51D-0BED553FF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66D7-C45B-456D-B355-38578F1EF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1FFF-6A45-492E-B4EF-99189E3CB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4289-8237-4B15-B4A6-3979264E2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8548-AEAF-45BE-A4A1-5D7A6E716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3466-433D-4355-971A-14D79E30D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26B5-6CDC-4DFF-8931-429D96398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B61C-104F-45F4-96E8-2B0070897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2374F-CFA3-4B28-BF4E-358C4107B2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5.wmf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ell Membranes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Osmosis and Diffus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Object 2"/>
          <p:cNvGraphicFramePr/>
          <p:nvPr/>
        </p:nvGraphicFramePr>
        <p:xfrm>
          <a:off x="2209680" y="1397160"/>
          <a:ext cx="5181840" cy="47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397160"/>
                    <a:ext cx="5181840" cy="47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Text Box 3"/>
          <p:cNvSpPr/>
          <p:nvPr/>
        </p:nvSpPr>
        <p:spPr>
          <a:xfrm>
            <a:off x="3809880" y="457200"/>
            <a:ext cx="259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Times New Roman"/>
              </a:rPr>
              <a:t>Diffusio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Object 2"/>
          <p:cNvGraphicFramePr/>
          <p:nvPr/>
        </p:nvGraphicFramePr>
        <p:xfrm>
          <a:off x="2297160" y="1731960"/>
          <a:ext cx="4549680" cy="33940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97160" y="1731960"/>
                    <a:ext cx="4549680" cy="33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Object 3"/>
          <p:cNvGraphicFramePr/>
          <p:nvPr/>
        </p:nvGraphicFramePr>
        <p:xfrm>
          <a:off x="2297160" y="1731960"/>
          <a:ext cx="4549680" cy="339408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8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97160" y="1731960"/>
                    <a:ext cx="4549680" cy="33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3" name="Picture 4" descr="08"/>
          <p:cNvPicPr/>
          <p:nvPr/>
        </p:nvPicPr>
        <p:blipFill>
          <a:blip r:embed="rId5"/>
          <a:stretch/>
        </p:blipFill>
        <p:spPr>
          <a:xfrm>
            <a:off x="1219320" y="1447920"/>
            <a:ext cx="7162560" cy="46576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5"/>
          <p:cNvSpPr/>
          <p:nvPr/>
        </p:nvSpPr>
        <p:spPr>
          <a:xfrm>
            <a:off x="3794400" y="480960"/>
            <a:ext cx="217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imes New Roman"/>
              </a:rPr>
              <a:t>Osmosi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onicity is a relative ter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ypotonic Solutio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- One solution has a lower concentration of solute than anot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ypertonic Solutio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- one solution has a higher concentration of solute than anot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sotonic Solutio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- both solutions have same concentrations of solu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08"/>
          <p:cNvPicPr/>
          <p:nvPr/>
        </p:nvPicPr>
        <p:blipFill>
          <a:blip r:embed="rId1"/>
          <a:stretch/>
        </p:blipFill>
        <p:spPr>
          <a:xfrm>
            <a:off x="1447920" y="1523880"/>
            <a:ext cx="6248160" cy="449604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1447920" y="380880"/>
            <a:ext cx="655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Plant and Animal Cells put in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various solu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08"/>
          <p:cNvPicPr/>
          <p:nvPr/>
        </p:nvPicPr>
        <p:blipFill>
          <a:blip r:embed="rId1"/>
          <a:stretch/>
        </p:blipFill>
        <p:spPr>
          <a:xfrm>
            <a:off x="1981080" y="1828800"/>
            <a:ext cx="5486400" cy="39625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2820600" y="685800"/>
            <a:ext cx="396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ypes of Transpor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oday’s Lab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e are using dialysis tubing as the cell membrane - It is selectively permeab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solute is either the eosin starch solution or the sugar solu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at is the solven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Membrane Permeabili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99"/>
                </a:solidFill>
                <a:uFillTx/>
                <a:latin typeface="Times New Roman"/>
              </a:rPr>
              <a:t>Solut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is eosin-starch-chloride sol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99"/>
                </a:solidFill>
                <a:uFillTx/>
                <a:latin typeface="Times New Roman"/>
              </a:rPr>
              <a:t>Solven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is Wate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99"/>
                </a:solidFill>
                <a:uFillTx/>
                <a:latin typeface="Times New Roman"/>
              </a:rPr>
              <a:t>Indicator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for presence of  starch is IK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arch is made of amylose and amylopectin – amylopectin is insolu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odine is not very soluble in water, but with KI it forms  a I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(triiodine ion) which is solubl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combines with the amylose and the starch molecule turns blue-blac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st for Starc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2" name="Picture 3" descr="547starchiodine"/>
          <p:cNvPicPr/>
          <p:nvPr/>
        </p:nvPicPr>
        <p:blipFill>
          <a:blip r:embed="rId1"/>
          <a:stretch/>
        </p:blipFill>
        <p:spPr>
          <a:xfrm>
            <a:off x="1447920" y="1371600"/>
            <a:ext cx="6400800" cy="52578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4"/>
          <p:cNvSpPr/>
          <p:nvPr/>
        </p:nvSpPr>
        <p:spPr>
          <a:xfrm>
            <a:off x="2651040" y="6335640"/>
            <a:ext cx="329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lmhurst College Websi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est for Chloride 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dicator for presence of chloride ions is silver nitrate, AgN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white precipitate, AgCl, forms if chloride is pres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est for Sulfate 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dicator for the presence of sulfate ions is Barium chloride, BaC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arium sulfate, BaS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- forms a white precipit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aCl + NaS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---&gt; BaS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+ NaC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Functions of Membran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.  Protect ce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.  Control incoming and outgoing substa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3.  Maintain ion concentrations of various substa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4.  Selectively permeable - allows some molecules in, others are kept o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Living Cel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eet cubes will be used to see the result of boiling and adding alcohol to a live membra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Yeast cells are used to see effects of he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ern gametophytes are used to see result of putting live cells in solutions of varying tonic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Osmosi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e will make an osmometer to see osmo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ugar solution in a dialysis tube is used to simulate a cell membra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arious concentrations of solute may be used around the roo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Object 2"/>
          <p:cNvGraphicFramePr/>
          <p:nvPr/>
        </p:nvGraphicFramePr>
        <p:xfrm>
          <a:off x="1447920" y="1371600"/>
          <a:ext cx="6172200" cy="47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371600"/>
                    <a:ext cx="6172200" cy="47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Text Box 3"/>
          <p:cNvSpPr/>
          <p:nvPr/>
        </p:nvSpPr>
        <p:spPr>
          <a:xfrm>
            <a:off x="2516760" y="380880"/>
            <a:ext cx="428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hospholipid Bilay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08"/>
          <p:cNvPicPr/>
          <p:nvPr/>
        </p:nvPicPr>
        <p:blipFill>
          <a:blip r:embed="rId1"/>
          <a:stretch/>
        </p:blipFill>
        <p:spPr>
          <a:xfrm>
            <a:off x="1600200" y="1619280"/>
            <a:ext cx="6095880" cy="44006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2894400" y="609480"/>
            <a:ext cx="350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uid Mosaic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Blood-Brain Barri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llows some substances into the brain, but screens out toxins and  bacter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ubstances allowed to cross include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ater, C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, Glucose, 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, Amino Acids, </a:t>
            </a:r>
            <a:r>
              <a:rPr b="1" lang="en-US" sz="3300" spc="-1" strike="noStrike" u="sng">
                <a:solidFill>
                  <a:srgbClr val="ffffff"/>
                </a:solidFill>
                <a:uFillTx/>
                <a:latin typeface="Times New Roman"/>
              </a:rPr>
              <a:t>Alcohol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, and antihistamines.  HIV and bacterial meningitis can cross the barrier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olu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olutions are made of solute and a solv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olvent - the liquid into which the solute is poured and dissolved. We will use water as our solvent tod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olute - substance that is dissolved or put into the solvent. Salt and sucrose are solut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Methods of Transport Across Membran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.  Diffu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.  Osmo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3.  Facilitated Diffu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4.  Active Trans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Methods of Transport Across Membran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.  Diffusion -passive transport - no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ergy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expen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  Osmosis - Passive transport of water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across membra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.  Facilitated Diffusion - Use of proteins to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arry polar molecules or ions acro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.  Active Transport- requires energy to transpor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lecules against a concentratio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radient – energy is in the form of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T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Diffus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ovement of molecules from an area of high concentration to an area of low concentr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ovement from one side of a membrane to another, un-facilita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0T16:48:03Z</dcterms:created>
  <dc:creator>Educational Technologies</dc:creator>
  <dc:description/>
  <dc:language>en-US</dc:language>
  <cp:lastModifiedBy>LEGION2</cp:lastModifiedBy>
  <dcterms:modified xsi:type="dcterms:W3CDTF">2016-01-11T13:42:09Z</dcterms:modified>
  <cp:revision>40</cp:revision>
  <dc:subject/>
  <dc:title>Cell Membranes Osmosis and Diffusion</dc:title>
</cp:coreProperties>
</file>