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DB93-6626-40A0-A27E-C9825255FD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microscop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e toda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afe we wore goggles and were very careful how we used the scalpel.  Because the glass could have broken we were very careful how we hel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periment we used a microscope, a glass slide, a cover slip, a pair of forceps and a piece of onion sk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ut open an onion and took a piece of very thin skin.  We placed this onto the middle of a microscope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put a thin piece of glass called a cover slip on top of the onion skin and gently pressed it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put the slide under a microscope with the lens set at low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urned the focus dial until we could clearly see the skin.  We used a pencil to draw what we saw and labelled it with the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saw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magnification we u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r the cells beca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20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5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0 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up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ion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cope let us see the onion skin at different magnif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x 20 magnification it still looked quite far away but we could see som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50 magnification we could see the cells clear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x 100 magnification we could see individual cells, and the cell walls containing the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A2E-C5E0-4913-A79C-6D30135B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7C4-5DA1-42C5-9769-1929A4D3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6A9-D3E9-4450-9488-2DB17EF1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782-5916-4FEB-86E7-6E9CE4DB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8EA2-76AC-4B72-9BF9-B1B421B5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F5CC-F284-4D31-ABBF-62A1C321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0027-2277-488F-B365-03D322B8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907D-F0D9-45AE-AA62-27078D24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E572-ED42-4809-A115-70BB783A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85D7-E2B1-4CD6-A11C-9D464869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4193-8359-4346-8736-3B1BF98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E77-8D7F-4054-8EE8-09127856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24B5-A12D-4675-B8F8-9416C4AC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A2F-6F16-4C3C-BFB6-9E485F9E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BF6C-26B8-4C9F-A182-AAC276EC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FA0B-1A95-44B4-9D86-EE5AC505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7016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1520" y="198108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82844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7016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1520" y="4130640"/>
            <a:ext cx="213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4CD8-7C38-4181-B307-3C4530DA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4EB-1B43-428E-BD52-FD147FA4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BDC-3CFC-453E-82F7-4F129DA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2C1-FE1F-49AC-ADD6-30C173D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754-9097-4533-90A6-92E4D525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E75-A749-4753-87A5-7415876F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5400" y="413064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3C1-397D-4978-AD77-BAE8E7A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5400" y="1981080"/>
            <a:ext cx="3234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130640"/>
            <a:ext cx="6629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862-8F0F-4322-BC2C-A647B09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3FB8-D143-4A6C-95DC-7AAF0D61E0B8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ens_anim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2660-828B-495F-977E-F66A0F169DAB}" type="slidenum"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aking a microscope slid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124000" y="83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date today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im of the experimen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27280" y="2205000"/>
            <a:ext cx="61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aim of the experiment was to make a microscope slide of an onion skin, look at it at different magnifications and draw what we saw.  We needed to identify the cell walls, nucleus and the cytoplasm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exclaim_hg_clr"/>
          <p:cNvPicPr/>
          <p:nvPr/>
        </p:nvPicPr>
        <p:blipFill>
          <a:blip r:embed="rId1"/>
          <a:stretch/>
        </p:blipFill>
        <p:spPr>
          <a:xfrm>
            <a:off x="8129520" y="260280"/>
            <a:ext cx="843120" cy="21099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0" y="2133720"/>
            <a:ext cx="55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o be safe we wore goggles and were very careful how we used the scalpel.  Because the glass could have broken we were very careful how we held it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chemical_hazard_safety_poisonous_square_rotate_lg_clr"/>
          <p:cNvPicPr/>
          <p:nvPr/>
        </p:nvPicPr>
        <p:blipFill>
          <a:blip r:embed="rId1"/>
          <a:stretch/>
        </p:blipFill>
        <p:spPr>
          <a:xfrm>
            <a:off x="2700360" y="54936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safety_goggles_detail_lg_clr"/>
          <p:cNvPicPr/>
          <p:nvPr/>
        </p:nvPicPr>
        <p:blipFill>
          <a:blip r:embed="rId2"/>
          <a:stretch/>
        </p:blipFill>
        <p:spPr>
          <a:xfrm>
            <a:off x="6372360" y="907920"/>
            <a:ext cx="1145880" cy="6811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Apparatu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87640" y="249228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this experiment we used a microscope, a glass slide, a cover slip, a pair of forceps and a piece of onion skin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microscope_switching_lenses_hg_clr"/>
          <p:cNvPicPr/>
          <p:nvPr/>
        </p:nvPicPr>
        <p:blipFill>
          <a:blip r:embed="rId1"/>
          <a:stretch/>
        </p:blipFill>
        <p:spPr>
          <a:xfrm>
            <a:off x="6659640" y="404640"/>
            <a:ext cx="1438200" cy="1771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e cut open an onion and took a piece of very thin skin.  We placed this onto the middle of a microscope slide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n we put a thin piece of glass called a cover slip on top of the onion skin and gently pressed it flat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fter that we put the slide under a microscope with the lens set at low magnification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Method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234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e turned the focus dial until we could clearly see the skin.  We used a pencil to draw what we saw and labelled it with the magnificatio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6" descr="mad_scientist_mixing_solution_hg_clr"/>
          <p:cNvPicPr/>
          <p:nvPr/>
        </p:nvPicPr>
        <p:blipFill>
          <a:blip r:embed="rId1"/>
          <a:stretch/>
        </p:blipFill>
        <p:spPr>
          <a:xfrm>
            <a:off x="6588000" y="333360"/>
            <a:ext cx="1084320" cy="14889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19280" y="691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00000" y="1762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is is what we saw. 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higher the magnification we used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bigger the cells became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mag1"/>
          <p:cNvPicPr/>
          <p:nvPr/>
        </p:nvPicPr>
        <p:blipFill>
          <a:blip r:embed="rId1"/>
          <a:stretch/>
        </p:blipFill>
        <p:spPr>
          <a:xfrm>
            <a:off x="3179880" y="42559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ag2"/>
          <p:cNvPicPr/>
          <p:nvPr/>
        </p:nvPicPr>
        <p:blipFill>
          <a:blip r:embed="rId2"/>
          <a:stretch/>
        </p:blipFill>
        <p:spPr>
          <a:xfrm>
            <a:off x="5146560" y="4265640"/>
            <a:ext cx="1225800" cy="81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g3"/>
          <p:cNvPicPr/>
          <p:nvPr/>
        </p:nvPicPr>
        <p:blipFill>
          <a:blip r:embed="rId3"/>
          <a:stretch/>
        </p:blipFill>
        <p:spPr>
          <a:xfrm>
            <a:off x="7236000" y="4267080"/>
            <a:ext cx="1225440" cy="817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130560" y="356868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20 x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005440" y="35686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5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054920" y="3573360"/>
            <a:ext cx="20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At 100 x magn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3" descr="mad_scientist_giving_lecture_hg_clr"/>
          <p:cNvPicPr/>
          <p:nvPr/>
        </p:nvPicPr>
        <p:blipFill>
          <a:blip r:embed="rId4"/>
          <a:stretch/>
        </p:blipFill>
        <p:spPr>
          <a:xfrm>
            <a:off x="6659640" y="549360"/>
            <a:ext cx="147636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6516720" y="5229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ell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7380360" y="4436640"/>
            <a:ext cx="28728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219640" y="52531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133800" y="515304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lose up of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onion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9"/>
          <p:cNvSpPr/>
          <p:nvPr/>
        </p:nvSpPr>
        <p:spPr>
          <a:xfrm flipV="1">
            <a:off x="5508720" y="450864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09308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702560" y="5229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ill Sans MT Schoolbook"/>
              </a:rPr>
              <a:t>Cytopla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2"/>
          <p:cNvSpPr/>
          <p:nvPr/>
        </p:nvSpPr>
        <p:spPr>
          <a:xfrm flipH="1" flipV="1">
            <a:off x="8027640" y="4868640"/>
            <a:ext cx="28908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ffff"/>
                </a:solidFill>
                <a:uFillTx/>
                <a:latin typeface="Gill Sans MT Schoolbook"/>
              </a:rPr>
              <a:t>Our conclusion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5838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microscope let us see the onion skin at different magnifications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 x 20 magnification it still looked quite far away but we could see some cells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50 magnification we could see the cells clearly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At x 100 magnification we could see individual cells, and the cell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alls containing the cytoplasm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8" name="Picture 4" descr="mad_scientist_magnifying_glass_hg_clr"/>
          <p:cNvPicPr/>
          <p:nvPr/>
        </p:nvPicPr>
        <p:blipFill>
          <a:blip r:embed="rId1"/>
          <a:stretch/>
        </p:blipFill>
        <p:spPr>
          <a:xfrm>
            <a:off x="7164360" y="476280"/>
            <a:ext cx="1093680" cy="1306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36360" y="-2700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028000" y="-2700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 Rounded MT Bold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1:59:39Z</dcterms:created>
  <dc:creator>The Learning Trust</dc:creator>
  <dc:description/>
  <dc:language>en-US</dc:language>
  <cp:lastModifiedBy>LEGION2</cp:lastModifiedBy>
  <dcterms:modified xsi:type="dcterms:W3CDTF">2016-01-11T13:35:08Z</dcterms:modified>
  <cp:revision>48</cp:revision>
  <dc:subject/>
  <dc:title>Making a microscope slide</dc:title>
</cp:coreProperties>
</file>