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71D1-E239-41A6-94A2-F5C886AAB1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microscop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e toda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afe we wore goggles and were very careful how we used the scalpel.  Because the glass could have broken we were very careful how we hel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periment we used a microscope, a glass slide, a cover slip, a pair of forceps and a piece of onion sk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ut open an onion and took a piece of very thin skin.  We placed this onto the middle of a microscope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put a thin piece of glass called a cover slip on top of the onion skin and gently pressed it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put the slide under a microscope with the lens set at low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urned the focus dial until we could clearly see the skin.  We used a pencil to draw what we saw and labelled it with the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saw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magnification we u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r the cells beca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20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5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up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io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cope let us see the onion skin at different magnifica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x 20 magnification it still looked quite far away but we could see som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50 magnification we could see the cells clear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100 magnification we could see individual cells, and the cell walls containing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5E6-5905-4165-BF2A-027B4ACD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94C-03DF-4014-89C4-BE2E9CEB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F82-DCE8-45CA-BB4F-D2EB80ED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21A-029C-4AAA-AF8C-ED2A2356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94C3-482E-4E39-B5CA-03F31EBA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9354-CEF4-49BC-BF1B-096A35DA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D053-0BAC-4E12-93D9-797B022F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F4EF-D8EA-4A12-9908-2A39B2BF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EA7B-02B6-4649-9E6D-1108B263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7C39-D009-4733-9E6E-47DA7B89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80D2-D630-4D75-B87E-FEB33897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AA3-7280-4507-9A29-83D738D9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FBBC-BC6C-4700-AF2B-4B7685F9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BD0A-9E3F-4F67-9812-6503915E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E602-A8B6-42FA-9ECE-8DBB77C3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8695-B93A-4CCD-BC84-70DB3CF3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9EE7-9F5C-46CD-826E-8DEDD991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C93-726D-4547-8710-5514EEB1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862-4109-4D88-A6F9-D026268E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605-03C6-4D58-9786-92EB97B6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153-6104-475F-BA63-0D369EF7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D11-B385-4C7E-8096-96A2326C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13F-EE90-4505-ADF9-8B4C02FD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3B0-8E1B-42DA-A488-01A3BA67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B33D-D42F-494C-B87B-5E607EDAAA54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ens_anim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A6F4-25A1-487A-BBCE-E31D966A87DA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aking a microscop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4000" y="83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date today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im of the experimen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2205000"/>
            <a:ext cx="61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xclaim_hg_clr"/>
          <p:cNvPicPr/>
          <p:nvPr/>
        </p:nvPicPr>
        <p:blipFill>
          <a:blip r:embed="rId1"/>
          <a:stretch/>
        </p:blipFill>
        <p:spPr>
          <a:xfrm>
            <a:off x="8129520" y="260280"/>
            <a:ext cx="843120" cy="21099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2133720"/>
            <a:ext cx="55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o be safe we wore goggles and were very careful how we used the scalpel.  Because the glass could have broken we were very careful how we held it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chemical_hazard_safety_poisonous_square_rotate_lg_clr"/>
          <p:cNvPicPr/>
          <p:nvPr/>
        </p:nvPicPr>
        <p:blipFill>
          <a:blip r:embed="rId1"/>
          <a:stretch/>
        </p:blipFill>
        <p:spPr>
          <a:xfrm>
            <a:off x="2700360" y="54936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afety_goggles_detail_lg_clr"/>
          <p:cNvPicPr/>
          <p:nvPr/>
        </p:nvPicPr>
        <p:blipFill>
          <a:blip r:embed="rId2"/>
          <a:stretch/>
        </p:blipFill>
        <p:spPr>
          <a:xfrm>
            <a:off x="6372360" y="907920"/>
            <a:ext cx="1145880" cy="6811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ppar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87640" y="249228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this experiment we used a microscope, a glass slide, a cover slip, a pair of forceps and a piece of onion skin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microscope_switching_lenses_hg_clr"/>
          <p:cNvPicPr/>
          <p:nvPr/>
        </p:nvPicPr>
        <p:blipFill>
          <a:blip r:embed="rId1"/>
          <a:stretch/>
        </p:blipFill>
        <p:spPr>
          <a:xfrm>
            <a:off x="6659640" y="404640"/>
            <a:ext cx="1438200" cy="1771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e cut open an onion and took a piece of very thin skin.  We placed this onto the middle of a microscope slide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n we put a thin piece of glass called a cover slip on top of the onion skin and gently pressed it flat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fter that we put the slide under a microscope with the lens set at low magnification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e turned the focus dial until we could clearly see the skin.  We used a pencil to draw what we saw and labelled it with the magnificatio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19280" y="691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00000" y="1762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is is what we saw. 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higher the magnification we use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bigger the cells became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g1"/>
          <p:cNvPicPr/>
          <p:nvPr/>
        </p:nvPicPr>
        <p:blipFill>
          <a:blip r:embed="rId1"/>
          <a:stretch/>
        </p:blipFill>
        <p:spPr>
          <a:xfrm>
            <a:off x="3179880" y="42559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ag2"/>
          <p:cNvPicPr/>
          <p:nvPr/>
        </p:nvPicPr>
        <p:blipFill>
          <a:blip r:embed="rId2"/>
          <a:stretch/>
        </p:blipFill>
        <p:spPr>
          <a:xfrm>
            <a:off x="5146560" y="4265640"/>
            <a:ext cx="1225800" cy="81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g3"/>
          <p:cNvPicPr/>
          <p:nvPr/>
        </p:nvPicPr>
        <p:blipFill>
          <a:blip r:embed="rId3"/>
          <a:stretch/>
        </p:blipFill>
        <p:spPr>
          <a:xfrm>
            <a:off x="7236000" y="4267080"/>
            <a:ext cx="1225440" cy="817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130560" y="35686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20 x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005440" y="35686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5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05492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10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mad_scientist_giving_lecture_hg_clr"/>
          <p:cNvPicPr/>
          <p:nvPr/>
        </p:nvPicPr>
        <p:blipFill>
          <a:blip r:embed="rId4"/>
          <a:stretch/>
        </p:blipFill>
        <p:spPr>
          <a:xfrm>
            <a:off x="6659640" y="549360"/>
            <a:ext cx="147636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6516720" y="5229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ell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7380360" y="4436640"/>
            <a:ext cx="28728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219640" y="52531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133800" y="515304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lose up of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onion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5508720" y="4508640"/>
            <a:ext cx="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09308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702560" y="5229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ytopla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H="1" flipV="1">
            <a:off x="8027640" y="4868640"/>
            <a:ext cx="2890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Our conclusion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583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microscope let us see the onion skin at different magnifications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 x 20 magnification it still looked quite far away but we could see some cell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50 magnification we could see the cells clearly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100 magnification we could see individual cells, and the cell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alls containing the cytoplasm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4" descr="mad_scientist_magnifying_glass_hg_clr"/>
          <p:cNvPicPr/>
          <p:nvPr/>
        </p:nvPicPr>
        <p:blipFill>
          <a:blip r:embed="rId1"/>
          <a:stretch/>
        </p:blipFill>
        <p:spPr>
          <a:xfrm>
            <a:off x="7164360" y="476280"/>
            <a:ext cx="1093680" cy="1306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1:59:39Z</dcterms:created>
  <dc:creator>The Learning Trust</dc:creator>
  <dc:description/>
  <dc:language>en-US</dc:language>
  <cp:lastModifiedBy>LEGION2</cp:lastModifiedBy>
  <dcterms:modified xsi:type="dcterms:W3CDTF">2016-01-11T13:35:08Z</dcterms:modified>
  <cp:revision>48</cp:revision>
  <dc:subject/>
  <dc:title>Making a microscope slide</dc:title>
</cp:coreProperties>
</file>