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2698-4025-4C8B-94FA-34C22D7170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 and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A GCSE Science Double Award SPECIFICATION B: Co-ord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 and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A GCSE Science Double Award SPECIFICATION B: Co-ord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A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A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Material for 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controlled by enzymes. The cytoplasm contains special structures called Mitochondria, which is where most of the energy is released during respi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Material for 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controlled by enzymes. The cytoplasm contains special structures called Mitochondria, which is where most of the energy is released during respi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question is taken from a past GCSE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the function of these parts of a plan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question is taken from a past GCSE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the function of these parts of a plan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, Tissues and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similar cells is call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afferent tissues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organs working together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 whol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, Tissues and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similar cells is call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afferent tissues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organs working together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 whol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 are designed for Photosynthe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shape means a lot of surface area exposed down the side for absorbing C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chance of light hitting the chloroplast before it reaches the bottom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 are designed for Photosynthe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shape means a lot of surface area exposed down the side for absorbing C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chance of light hitting the chloroplast before it reaches the bottom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 have a particular functions that help them to carry out their job efficie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be asked how a particular type of cell is adapted to the job it does.  You will therefore need to make notes on the following pieces of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 have a particular functions that help them to carry out their job efficie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be asked how a particular type of cell is adapted to the job it does.  You will therefore need to make notes on the following pieces of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The sperm cell - designed to fertilise eg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rm cell is very small and has a little tail which provides movement so it can swim and find an egg to fertili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head contains enzymes (in the vacuole) which allow it to digest its way through an egg membrane so the two nuclei can jo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 in the nucleus - these carry genetic information from the father, which will be passed on to the offsp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The sperm cell - designed to fertilise eg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rm cell is very small and has a little tail which provides movement so it can swim and find an egg to fertili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head contains enzymes (in the vacuole) which allow it to digest its way through an egg membrane so the two nuclei can jo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 in the nucleus - these carry genetic information from the father, which will be passed on to the offsp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The cilia cell - designed to stop lung dama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s line all the air passages in your lu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tiny hairs, which filter the air as it blows throug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irs sweep mucus (snot) with trapped dust and bacteria up to the back of the throat where it is swallow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The cilia cell - designed to stop lung dama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s line all the air passages in your lu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tiny hairs, which filter the air as it blows throug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irs sweep mucus (snot) with trapped dust and bacteria up to the back of the throat where it is swallow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The ovum (egg) cell - designed to be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vum is large and bulky because no active movement is needed - it just sits and waits for the sperm to find 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yolk (in the cytoplasm) which provides a large food store needed for the developing young organism once it's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, which carry genetic information from the mother - this will be passed on to th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The ovum (egg) cell - designed to be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vum is large and bulky because no active movement is needed - it just sits and waits for the sperm to find 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yolk (in the cytoplasm) which provides a large food store needed for the developing young organism once it's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, which carry genetic information from the mother - this will be passed on to th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 hai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The root hair cell - designed for absorb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hair cell increases the surface area of the root, which helps absorption of water and miner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a really thin cell wall, which makes it easier for minerals to pass across into the root it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 hai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The root hair cell - designed for absorb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hair cell increases the surface area of the root, which helps absorption of water and miner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a really thin cell wall, which makes it easier for minerals to pass across into the root it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Your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irst lesson of your Year 10 GCSE Biology Course. Science is worth two GCSEs from A*A*-DD at Higher level and from CC-GG at Foundation Level. We will discuss your tier of entry after the Y11 Mock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contributes 26 2/3% towards your final GCSE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% of your final grade is an Coursework Investigati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Your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irst lesson of your Year 10 GCSE Biology Course. Science is worth two GCSEs from A*A*-DD at Higher level and from CC-GG at Foundation Level. We will discuss your tier of entry after the Y11 Mock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contributes 26 2/3% towards your final GCSE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% of your final grade is an Coursework Investigati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hnut shape to allow maximum O2 absorbed by the haemoglobin they contain. The function is similar the the Palisade Cells . They are doughnut shaped rather than tall to allow smooth passage through th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o packed with Haemoglobin that they have no room for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hnut shape to allow maximum O2 absorbed by the haemoglobin they contain. The function is similar the the Palisade Cells . They are doughnut shaped rather than tall to allow smooth passage through th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o packed with Haemoglobin that they have no room for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pecialised because they help protect us  against disease. They do this in two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ngulfing the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producing Antibodies, which recognise a particular type of illness the first time you have it, so when it appears again, you will not become 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oes not, however, work with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pecialised because they help protect us  against disease. They do this in two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ngulfing the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producing Antibodies, which recognise a particular type of illness the first time you have it, so when it appears again, you will not become 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oes not, however, work with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Red Blood Cell [or a cell of your choice] is adapted to the job it carries out. In order to gain full marks, you should express your ideas using the correct scientific works and use good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marks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Red Blood Cell [or a cell of your choice] is adapted to the job it carries out. In order to gain full marks, you should express your ideas using the correct scientific works and use good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marks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: [Y1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: Cell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: Transport across Bound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3 Cell Division (Year 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4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5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7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8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9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1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3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4 Plant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5 Transport and Water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: [Y1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: Cell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: Transport across Bound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3 Cell Division (Year 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4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5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7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8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9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1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3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4 Plant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5 Transport and Water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 [Y1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6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7 Genetics an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8 Controlling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9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0 Adoption and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1 Human impact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2 Energy and Nutrient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3 Nutrient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 [Y1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6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7 Genetics an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8 Controlling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9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0 Adoption and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1 Human impact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2 Energy and Nutrient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3 Nutrient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p the 7 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tart 10.1: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differences between plant and animals in terms of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functions of the different parts of plants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how this in a visual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: To understand the term 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p the 7 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tart 10.1: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differences between plant and animals in terms of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functions of the different parts of plants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how this in a visual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: To understand the term 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n be remembered using the Mnemonic ‘’MRS NERG’’ or ‘’MES GREN’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- the ability to move from one place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– a chemical process that takes place in every livin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– the ability to respond to you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 – turning food into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– getting rid of 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– producing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- becoming larger i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n be remembered using the Mnemonic ‘’MRS NERG’’ or ‘’MES GREN’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- the ability to move from one place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– a chemical process that takes place in every livin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– the ability to respond to you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 – turning food into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– getting rid of 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– producing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- becoming larger i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main parts that are common to both plants and Animal Cells. Organise these into the headings: Plant and Animal Cells and plant cells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Ce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Va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Chol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ARRANGE SO THEY ARE IN THE CORRECT COLOM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main parts that are common to both plants and Animal Cells. Organise these into the headings: Plant and Animal Cells and plant cells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Ce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Va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Chol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ARRANGE SO THEY ARE IN THE CORRECT COLOM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is made of cellulose – it strengthens and support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, which contain Chlorophyll, absorb light energy to make food through Phot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cuole is filled with cell sap [a sugar and water solution] and it provides rigid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 PLANTS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is made of cellulose – it strengthens and support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, which contain Chlorophyll, absorb light energy to make food through Phot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cuole is filled with cell sap [a sugar and water solution] and it provides rigid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 PLANTS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controls what goes in and out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where all the reactions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is like the ‘’brain’’ of the cell and controls the activity of the c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types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controls what goes in and out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where all the reactions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is like the ‘’brain’’ of the cell and controls the activity of the c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types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7C32-CEAE-4F14-8505-10836B5A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965F-7291-48B1-BCB4-C6C901B2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078F-13A0-4BA2-A346-26B75D7D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F8A7-B971-4782-A4B6-E700E8E0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BBFE-3480-4374-80E1-E5903297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33CF-0DBB-4FE6-8EFF-12C8E5FD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7F71-E291-4D37-9493-A0FF487B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4F87-A720-4491-8EEE-33A66E4C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5ED2-9CEE-4D7E-987F-D44654F7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FC41-7056-4080-81C3-F8D145A2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DC49-EA30-4B43-B8D3-5D9C6C87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F51F-67FF-46C8-8E69-6C962CBE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43BC-6798-4357-A8A3-242DC3634A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Life Processes and Living things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QA GCSE Science Double Award SPECIFICATION B: Co-ord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at do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liver"/>
          <p:cNvPicPr/>
          <p:nvPr/>
        </p:nvPicPr>
        <p:blipFill>
          <a:blip r:embed="rId1"/>
          <a:stretch/>
        </p:blipFill>
        <p:spPr>
          <a:xfrm>
            <a:off x="468360" y="2637000"/>
            <a:ext cx="4464000" cy="2819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palisade"/>
          <p:cNvPicPr/>
          <p:nvPr/>
        </p:nvPicPr>
        <p:blipFill>
          <a:blip r:embed="rId2"/>
          <a:stretch/>
        </p:blipFill>
        <p:spPr>
          <a:xfrm>
            <a:off x="5005440" y="2228760"/>
            <a:ext cx="3887640" cy="3267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9"/>
          <p:cNvSpPr txBox="1"/>
          <p:nvPr/>
        </p:nvSpPr>
        <p:spPr>
          <a:xfrm>
            <a:off x="1547640" y="1844640"/>
            <a:ext cx="1638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NIAMAL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0" name="WordArt 10"/>
          <p:cNvSpPr txBox="1"/>
          <p:nvPr/>
        </p:nvSpPr>
        <p:spPr>
          <a:xfrm>
            <a:off x="6732720" y="1052640"/>
            <a:ext cx="93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LA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dditional Material for 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9640" y="1916280"/>
            <a:ext cx="8064720" cy="3272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be0e3"/>
                </a:solidFill>
                <a:latin typeface="Arial"/>
              </a:rPr>
              <a:t>HIGHER T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be0e3"/>
                </a:solidFill>
                <a:latin typeface="Arial"/>
              </a:rPr>
              <a:t>Chemical Reactions are controlled by enzymes. The cytoplasm contains special structures called Mitochondria, which is where most of the energy is released during respir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41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is question is taken from a past GCSE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Give the function of these parts of a plant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hloropl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ell w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acu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MCj02902490000[1]"/>
          <p:cNvPicPr/>
          <p:nvPr/>
        </p:nvPicPr>
        <p:blipFill>
          <a:blip r:embed="rId1"/>
          <a:stretch/>
        </p:blipFill>
        <p:spPr>
          <a:xfrm>
            <a:off x="6443640" y="4076640"/>
            <a:ext cx="2341440" cy="24465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ells, Tissues and Org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group of similar cells is called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group of afferent tissues form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group of organs working together form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 a  whole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39640" y="4724280"/>
            <a:ext cx="8064720" cy="1595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Key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issue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rg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rgan System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alisad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lisade Cells are designed for Phot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ll shape means a lot of surface area exposed down the side for absorbing C0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ood chance of light hitting the chloroplast before it reaches the bottom of the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pecialis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pecialist Cells have a particular functions that help them to carry out their job efficie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might be asked how a particular type of cell is adapted to the job it does.  You will therefore need to make notes on the following pieces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rm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) The sperm cell - designed to fertilise egg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sperm cell is very small and has a little tail which provides movement so it can swim and find an egg to fertilis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s head contains enzymes (in the vacuole) which allow it to digest its way through an egg membrane so the two nuclei can join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tains half the number of chromosomes in the nucleus - these carry genetic information from the father, which will be passed on to the offsp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ilia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) The cilia cell - designed to stop lung damage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ilia cells line all the air passages in your lung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have tiny hairs, which filter the air as it blows through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hairs sweep mucus (snot) with trapped dust and bacteria up to the back of the throat where it is swallow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gg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) The ovum (egg) cell - designed to be fertilised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 ovum is large and bulky because no active movement is needed - it just sits and waits for the sperm to find it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tains yolk (in the cytoplasm) which provides a large food store needed for the developing young organism once it's fertilised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tains half the number of chromosomes, which carry genetic information from the mother - this will be passed on to the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root hair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) The root hair cell - designed for absorbing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long hair cell increases the surface area of the root, which helps absorption of water and minerals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 has a really thin cell wall, which makes it easier for minerals to pass across into the root itsel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bout Your 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is the first lesson of your Year 10 GCSE Biology Course. Science is worth two GCSEs from A*A*-DD at Higher level and from CC-GG at Foundation Level. We will discuss your tier of entry after the Y11 Mock exa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iology contributes 26 2/3% towards your final GCSE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% of your final grade is an Coursework Investigati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d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oughnut shape to allow maximum O2 absorbed by the haemoglobin they contain. The function is similar the the Palisade Cells . They are doughnut shaped rather than tall to allow smooth passage through the capil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are so packed with Haemoglobin that they have no room for a Nucle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ite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e specialised because they help protect us  against disease. They do this in two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y engulfing the bacte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y producing Antibodies, which recognise a particular type of illness the first time you have it, so when it appears again, you will not become 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does not, however, work with vir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plain how the Red Blood Cell [or a cell of your choice] is adapted to the job it carries out. In order to gain full marks, you should express your ideas using the correct scientific works and use good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3 marks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odules you will study: [Y10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: Cel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2: Transport across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3 Cell Division (Year 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4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5 Cir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6 Brea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7 Respi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8 Nervous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9 Homeost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1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3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4 Plant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5 Transport and Water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odules you will study [Y11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6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7 Genetics and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8 Controlling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9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0 Adoption and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1 Human impact on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2 Energy and Nutrient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3 Nutrient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esson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recap the 7 Lif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be able to start 10.1: Plant and Anim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nderstand the differences between plant and animals in terms of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recall the functions of the different parts of plants and anim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be able to show this in a visual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T: To understand the term </a:t>
            </a:r>
            <a:r>
              <a:rPr b="1" i="1" lang="en-GB" sz="3200" spc="-1" strike="noStrike" u="sng">
                <a:solidFill>
                  <a:srgbClr val="996633"/>
                </a:solidFill>
                <a:uFillTx/>
                <a:latin typeface="Comic Sans MS"/>
              </a:rPr>
              <a:t>Mitochond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f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can be remembered using the Mnemonic ‘’MRS NERG’’ or ‘’MES GREN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vement- the ability to move from one place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piration – a chemical process that takes place in every living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sitivity – the ability to respond to your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trition – turning food into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cretion – getting rid of was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roduction – producing off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wth- becoming larger 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Features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3 main parts that are common to both plants and Animal Cells. Organise these into the headings: Plant and Animal Cells and plant cells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95280" y="371628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Nucle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788000" y="357336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ell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468360" y="443700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ell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788000" y="443700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ytopl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611280" y="2924280"/>
            <a:ext cx="784836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lant Cells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lant and Animal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4859280" y="5373720"/>
            <a:ext cx="39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Va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539640" y="537372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Cholloropl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395280" y="60213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-ARRANGE SO THEY ARE IN THE CORRECT COLO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are the functions of the Cell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ll Wall is made of cellulose – it strengthens and supports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loroplasts, which contain Chlorophyll, absorb light energy to make food through Photosyn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Vacuole is filled with cell sap [a sugar and water solution] and it provides rigid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1476360" y="5877000"/>
            <a:ext cx="61149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is is for PLANTS ONLY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hat are the functions of the c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ll Membrane controls what goes in and out of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ytoplasm is where all the reactions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Nucleus is like the ‘’brain’’ of the cell and controls the activity of the ce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39640" y="522936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APPLIES TO BOTH PLANT AND ANIMAL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324000" y="5516640"/>
            <a:ext cx="85438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is applies to BOTH types of Cell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16:49:11Z</dcterms:created>
  <dc:creator>Shaun</dc:creator>
  <dc:description/>
  <dc:language>en-US</dc:language>
  <cp:lastModifiedBy>LEGION2</cp:lastModifiedBy>
  <dcterms:modified xsi:type="dcterms:W3CDTF">2016-01-11T13:31:02Z</dcterms:modified>
  <cp:revision>10</cp:revision>
  <dc:subject/>
  <dc:title>Life Processes and Living things</dc:title>
</cp:coreProperties>
</file>