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2419-67D3-4ED3-97BD-8B6CE245E8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39B7-273C-4F8B-BEE2-360FAB67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50B-85CF-4991-B84D-986D884A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97F-37D6-4824-82BC-D4795845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687-7DAA-4CBB-AEF4-356037F3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CBA-F6B8-46AD-A5A8-9C63D8BE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F30-5993-4232-B62F-8A246A75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B2E-017C-4BF7-BC95-3595B3DE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199-0BEE-4A42-8740-524086EA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1E8-E433-4B97-91FC-1D26D647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8AA-A52B-4622-B2D3-33605A31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513-487F-4E80-B2B5-A59CDA6F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B81-50D3-4F67-A3BC-A2C00A7F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0199-4E30-485A-A421-74F4D21A65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ife Processes and Living things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QA GCSE Science Double Award SPECIFICATION B: Co-ord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liver"/>
          <p:cNvPicPr/>
          <p:nvPr/>
        </p:nvPicPr>
        <p:blipFill>
          <a:blip r:embed="rId1"/>
          <a:stretch/>
        </p:blipFill>
        <p:spPr>
          <a:xfrm>
            <a:off x="468360" y="2637000"/>
            <a:ext cx="446400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alisade"/>
          <p:cNvPicPr/>
          <p:nvPr/>
        </p:nvPicPr>
        <p:blipFill>
          <a:blip r:embed="rId2"/>
          <a:stretch/>
        </p:blipFill>
        <p:spPr>
          <a:xfrm>
            <a:off x="5005440" y="2228760"/>
            <a:ext cx="3887640" cy="3267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9"/>
          <p:cNvSpPr txBox="1"/>
          <p:nvPr/>
        </p:nvSpPr>
        <p:spPr>
          <a:xfrm>
            <a:off x="1547640" y="1844640"/>
            <a:ext cx="163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IAMAL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6732720" y="1052640"/>
            <a:ext cx="93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LA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dditional Material for 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9640" y="1916280"/>
            <a:ext cx="8064720" cy="327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HIGHER 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is question is taken from a past GCS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Give the function of these parts of a plant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ell w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j02902490000[1]"/>
          <p:cNvPicPr/>
          <p:nvPr/>
        </p:nvPicPr>
        <p:blipFill>
          <a:blip r:embed="rId1"/>
          <a:stretch/>
        </p:blipFill>
        <p:spPr>
          <a:xfrm>
            <a:off x="6443640" y="4076640"/>
            <a:ext cx="2341440" cy="2446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ells, Tissues and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similar cells is calle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afferent tissues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organs working together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 a  whol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9640" y="4724280"/>
            <a:ext cx="8064720" cy="159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e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issu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 System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lisad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lisade Cells are designed for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ll shape means a lot of surface area exposed down the side for absorbing C0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The sperm cell - designed to fertilise egg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ili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) The cilia cell - designed to stop lung damag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ia cells line all the air passages in your lung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 tiny hairs, which filter the air as it blows through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gg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The ovum (egg) cell - designed to be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root hair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) The root hair cell - designed for absorbing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out Your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logy contributes 26 2/3% towards your final GCSE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% of your final grade is an Coursework Investigat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so packed with Haemoglobin that they have no room for a 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engulfing the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oes not, however, work with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3 mark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: [Y10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: Cel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2: Transport across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3 Cell Division (Year 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4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5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6 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7 Re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8 Nervou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9 Homeos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1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3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4 Plant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5 Transport and Water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 [Y1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6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7 Genetics and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8 Controlling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9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0 Adoption and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1 Human impact o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2 Energy and Nutrien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3 Nutrient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p the 7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tart 10.1: Plant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nderstand the differences between plant and animals in terms of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ll the functions of the different parts of plants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how this in a visual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: To understand the term </a:t>
            </a:r>
            <a:r>
              <a:rPr b="1" i="1" lang="en-GB" sz="3200" spc="-1" strike="noStrike" u="sng">
                <a:solidFill>
                  <a:srgbClr val="996633"/>
                </a:solidFill>
                <a:uFillTx/>
                <a:latin typeface="Comic Sans MS"/>
              </a:rPr>
              <a:t>Mitochond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f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vement- the ability to move from one place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piration – a chemical process that takes place in every living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sitivity – the ability to respond to you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trition – turning food into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retion – getting rid of was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roduction – producing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wth- becoming larger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eatur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371628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788000" y="357336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6836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78800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11280" y="2924280"/>
            <a:ext cx="784836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and Anima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4859280" y="5373720"/>
            <a:ext cx="39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539640" y="537372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395280" y="6021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-ARRANGE SO THEY ARE IN THE CORRECT COLO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Wall is made of cellulose – it strengthens and supports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1476360" y="5877000"/>
            <a:ext cx="6114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is for PLANTS ONLY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Membrane controls what goes in and out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ytoplasm is where all the reactions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9640" y="5229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324000" y="5516640"/>
            <a:ext cx="8543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applies to BOTH types of Cell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6:49:11Z</dcterms:created>
  <dc:creator>Shaun</dc:creator>
  <dc:description/>
  <dc:language>en-US</dc:language>
  <cp:lastModifiedBy>LEGION2</cp:lastModifiedBy>
  <dcterms:modified xsi:type="dcterms:W3CDTF">2016-01-11T13:31:02Z</dcterms:modified>
  <cp:revision>10</cp:revision>
  <dc:subject/>
  <dc:title>Life Processes and Living things</dc:title>
</cp:coreProperties>
</file>