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EE33-C204-4FE4-8B21-47CC665BEA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Processes and Living th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QA GCSE Science Double Award SPECIFICATION B: Co-ord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Processes and Living th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QA GCSE Science Double Award SPECIFICATION B: Co-ord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y look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A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y look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A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Material for 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T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are controlled by enzymes. The cytoplasm contains special structures called Mitochondria, which is where most of the energy is released during respi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Material for 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T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are controlled by enzymes. The cytoplasm contains special structures called Mitochondria, which is where most of the energy is released during respi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question is taken from a past GCSE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the function of these parts of a plant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question is taken from a past GCSE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the function of these parts of a plant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, Tissues and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similar cells is called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afferent tissues for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organs working together for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  whole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Wor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Syst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, Tissues and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similar cells is called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afferent tissues for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organs working together for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  whole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Wor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Syst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isad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isade Cells are designed for Photosynthe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l shape means a lot of surface area exposed down the side for absorbing C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chance of light hitting the chloroplast before it reaches the bottom of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isad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isade Cells are designed for Photosynthe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l shape means a lot of surface area exposed down the side for absorbing C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chance of light hitting the chloroplast before it reaches the bottom of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t Cells have a particular functions that help them to carry out their job efficien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ight be asked how a particular type of cell is adapted to the job it does.  You will therefore need to make notes on the following pieces of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t Cells have a particular functions that help them to carry out their job efficien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ight be asked how a particular type of cell is adapted to the job it does.  You will therefore need to make notes on the following pieces of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The sperm cell - designed to fertilise egg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perm cell is very small and has a little tail which provides movement so it can swim and find an egg to fertilis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head contains enzymes (in the vacuole) which allow it to digest its way through an egg membrane so the two nuclei can jo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ntains half the number of chromosomes in the nucleus - these carry genetic information from the father, which will be passed on to the offsp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The sperm cell - designed to fertilise egg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perm cell is very small and has a little tail which provides movement so it can swim and find an egg to fertilis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head contains enzymes (in the vacuole) which allow it to digest its way through an egg membrane so the two nuclei can jo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ntains half the number of chromosomes in the nucleus - these carry genetic information from the father, which will be passed on to the offsp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li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The cilia cell - designed to stop lung dama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lia cells line all the air passages in your lung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tiny hairs, which filter the air as it blows throug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irs sweep mucus (snot) with trapped dust and bacteria up to the back of the throat where it is swallow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li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The cilia cell - designed to stop lung dama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lia cells line all the air passages in your lung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tiny hairs, which filter the air as it blows throug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irs sweep mucus (snot) with trapped dust and bacteria up to the back of the throat where it is swallow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The ovum (egg) cell - designed to be fertilis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vum is large and bulky because no active movement is needed - it just sits and waits for the sperm to find 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ntains yolk (in the cytoplasm) which provides a large food store needed for the developing young organism once it's fertilis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ntains half the number of chromosomes, which carry genetic information from the mother - this will be passed on to the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The ovum (egg) cell - designed to be fertilis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vum is large and bulky because no active movement is needed - it just sits and waits for the sperm to find 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ntains yolk (in the cytoplasm) which provides a large food store needed for the developing young organism once it's fertilis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ntains half the number of chromosomes, which carry genetic information from the mother - this will be passed on to the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ot hair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) The root hair cell - designed for absorb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 hair cell increases the surface area of the root, which helps absorption of water and miner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a really thin cell wall, which makes it easier for minerals to pass across into the root itsel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ot hair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) The root hair cell - designed for absorb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 hair cell increases the surface area of the root, which helps absorption of water and miner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a really thin cell wall, which makes it easier for minerals to pass across into the root itsel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Your Cou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first lesson of your Year 10 GCSE Biology Course. Science is worth two GCSEs from A*A*-DD at Higher level and from CC-GG at Foundation Level. We will discuss your tier of entry after the Y11 Mock ex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contributes 26 2/3% towards your final GCSE g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% of your final grade is an Coursework Investigati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Your Cou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first lesson of your Year 10 GCSE Biology Course. Science is worth two GCSEs from A*A*-DD at Higher level and from CC-GG at Foundation Level. We will discuss your tier of entry after the Y11 Mock ex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contributes 26 2/3% towards your final GCSE g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% of your final grade is an Coursework Investigati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ghnut shape to allow maximum O2 absorbed by the haemoglobin they contain. The function is similar the the Palisade Cells . They are doughnut shaped rather than tall to allow smooth passage through the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so packed with Haemoglobin that they have no room for a Nucle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ghnut shape to allow maximum O2 absorbed by the haemoglobin they contain. The function is similar the the Palisade Cells . They are doughnut shaped rather than tall to allow smooth passage through the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so packed with Haemoglobin that they have no room for a Nucle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specialised because they help protect us  against disease. They do this in two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engulfing the bacte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producing Antibodies, which recognise a particular type of illness the first time you have it, so when it appears again, you will not become 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does not, however, work with vir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specialised because they help protect us  against disease. They do this in two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engulfing the bacte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producing Antibodies, which recognise a particular type of illness the first time you have it, so when it appears again, you will not become 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does not, however, work with vir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how the Red Blood Cell [or a cell of your choice] is adapted to the job it carries out. In order to gain full marks, you should express your ideas using the correct scientific works and use good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 marks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how the Red Blood Cell [or a cell of your choice] is adapted to the job it carries out. In order to gain full marks, you should express your ideas using the correct scientific works and use good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 marks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you will study: [Y1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: Cell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: Transport across Bound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3 Cell Division (Year 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4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5 Cir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6 Brea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7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8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9 Homeost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1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3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4 Plant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5 Transport and Water Re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you will study: [Y1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: Cell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: Transport across Bound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3 Cell Division (Year 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4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5 Cir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6 Brea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7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8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9 Homeost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1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3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4 Plant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5 Transport and Water Re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you will study [Y11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6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7 Genetics and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8 Controlling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9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0 Adoption and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1 Human impact on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2 Energy and Nutrient trans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3 Nutrient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you will study [Y11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6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7 Genetics and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8 Controlling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9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0 Adoption and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1 Human impact on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2 Energy and Nutrient trans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3 Nutrient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cap the 7 Lif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ble to start 10.1: Plant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 the differences between plant and animals in terms of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call the functions of the different parts of plants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ble to show this in a visual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: To understand the term Mitochond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cap the 7 Lif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ble to start 10.1: Plant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 the differences between plant and animals in terms of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call the functions of the different parts of plants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ble to show this in a visual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: To understand the term Mitochond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an be remembered using the Mnemonic ‘’MRS NERG’’ or ‘’MES GREN’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- the ability to move from one place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ion – a chemical process that takes place in every livin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 – the ability to respond to you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tion – turning food into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ion – getting rid of wast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– producing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- becoming larger in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an be remembered using the Mnemonic ‘’MRS NERG’’ or ‘’MES GREN’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- the ability to move from one place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ion – a chemical process that takes place in every livin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 – the ability to respond to you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tion – turning food into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ion – getting rid of wast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– producing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- becoming larger in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main parts that are common to both plants and Animal Cells. Organise these into the headings: Plant and Animal Cells and plant cells on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Nucle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ell Membra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Cel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Va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Chol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ARRANGE SO THEY ARE IN THE CORRECT COLOM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main parts that are common to both plants and Animal Cells. Organise these into the headings: Plant and Animal Cells and plant cells on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Nucle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ell Membra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Cel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Va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Chol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ARRANGE SO THEY ARE IN THE CORRECT COLOM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functions of the Cell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 is made of cellulose – it strengthens and supports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, which contain Chlorophyll, absorb light energy to make food through Photosynth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cuole is filled with cell sap [a sugar and water solution] and it provides rigid sup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for PLANTS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functions of the Cell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 is made of cellulose – it strengthens and supports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, which contain Chlorophyll, absorb light energy to make food through Photosynth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cuole is filled with cell sap [a sugar and water solution] and it provides rigid sup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for PLANTS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functions of the ce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 controls what goes in and out of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plasm is where all the reactions tak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ucleus is like the ‘’brain’’ of the cell and controls the activity of the ce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PPLIES TO BOTH PLANT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pplies to BOTH types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functions of the ce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 controls what goes in and out of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plasm is where all the reactions tak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ucleus is like the ‘’brain’’ of the cell and controls the activity of the ce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PPLIES TO BOTH PLANT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pplies to BOTH types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BCB3-8B26-48C7-A07A-35F07D879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F549-7272-429A-880F-350A6AE0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5EA4-C23F-4F17-8FD4-FDC953340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9CC2-E08C-4F5F-829D-B053EF40D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E106-810D-47AE-BAD1-D6D87B39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5C75-56E1-4882-9142-891CC632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230E-3837-4E0F-AFD1-ED052663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63F5-63F8-46B1-AFDE-C2987F2F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530B-07B0-4D7E-B3E8-86D9F714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C456-C720-4FBA-98A4-A489B078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9EC4-88AC-4555-9AE6-7555A3CA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DA4D-A94A-4ED6-B178-88318858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5820-BD75-4119-93E7-9D415C0F929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Life Processes and Living things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QA GCSE Science Double Award SPECIFICATION B: Co-ordin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hat do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liver"/>
          <p:cNvPicPr/>
          <p:nvPr/>
        </p:nvPicPr>
        <p:blipFill>
          <a:blip r:embed="rId1"/>
          <a:stretch/>
        </p:blipFill>
        <p:spPr>
          <a:xfrm>
            <a:off x="468360" y="2637000"/>
            <a:ext cx="4464000" cy="2819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palisade"/>
          <p:cNvPicPr/>
          <p:nvPr/>
        </p:nvPicPr>
        <p:blipFill>
          <a:blip r:embed="rId2"/>
          <a:stretch/>
        </p:blipFill>
        <p:spPr>
          <a:xfrm>
            <a:off x="5005440" y="2228760"/>
            <a:ext cx="3887640" cy="3267000"/>
          </a:xfrm>
          <a:prstGeom prst="rect">
            <a:avLst/>
          </a:prstGeom>
          <a:ln w="0">
            <a:noFill/>
          </a:ln>
        </p:spPr>
      </p:pic>
      <p:sp>
        <p:nvSpPr>
          <p:cNvPr id="89" name="WordArt 9"/>
          <p:cNvSpPr txBox="1"/>
          <p:nvPr/>
        </p:nvSpPr>
        <p:spPr>
          <a:xfrm>
            <a:off x="1547640" y="1844640"/>
            <a:ext cx="1638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ANIAMAL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0" name="WordArt 10"/>
          <p:cNvSpPr txBox="1"/>
          <p:nvPr/>
        </p:nvSpPr>
        <p:spPr>
          <a:xfrm>
            <a:off x="6732720" y="1052640"/>
            <a:ext cx="936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PLA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dditional Material for 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39640" y="1916280"/>
            <a:ext cx="8064720" cy="3272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be0e3"/>
                </a:solidFill>
                <a:latin typeface="Arial"/>
              </a:rPr>
              <a:t>HIGHER T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be0e3"/>
                </a:solidFill>
                <a:latin typeface="Arial"/>
              </a:rPr>
              <a:t>Chemical Reactions are controlled by enzymes. The cytoplasm contains special structures called Mitochondria, which is where most of the energy is released during respir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41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is question is taken from a past GCSE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Give the function of these parts of a plant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hloropl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ell w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Vacu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MCj02902490000[1]"/>
          <p:cNvPicPr/>
          <p:nvPr/>
        </p:nvPicPr>
        <p:blipFill>
          <a:blip r:embed="rId1"/>
          <a:stretch/>
        </p:blipFill>
        <p:spPr>
          <a:xfrm>
            <a:off x="6443640" y="4076640"/>
            <a:ext cx="2341440" cy="244656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ells, Tissues and Org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group of similar cells is called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group of afferent tissues form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group of organs working together form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r a  whole org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39640" y="4724280"/>
            <a:ext cx="8064720" cy="1595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Key Wor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issues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rgan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rgan System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alisade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lisade Cells are designed for Photo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all shape means a lot of surface area exposed down the side for absorbing C0</a:t>
            </a:r>
            <a:r>
              <a:rPr b="0" lang="en-GB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Good chance of light hitting the chloroplast before it reaches the bottom of the c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pecialis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pecialist Cells have a particular functions that help them to carry out their job efficien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You might be asked how a particular type of cell is adapted to the job it does.  You will therefore need to make notes on the following pieces of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perm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) The sperm cell - designed to fertilise eggs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 sperm cell is very small and has a little tail which provides movement so it can swim and find an egg to fertilise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s head contains enzymes (in the vacuole) which allow it to digest its way through an egg membrane so the two nuclei can join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contains half the number of chromosomes in the nucleus - these carry genetic information from the father, which will be passed on to the offsp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ilia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4) The cilia cell - designed to stop lung damage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ilia cells line all the air passages in your lung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have tiny hairs, which filter the air as it blows through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hairs sweep mucus (snot) with trapped dust and bacteria up to the back of the throat where it is swallow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gg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) The ovum (egg) cell - designed to be fertilised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n ovum is large and bulky because no active movement is needed - it just sits and waits for the sperm to find it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contains yolk (in the cytoplasm) which provides a large food store needed for the developing young organism once it's fertilised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contains half the number of chromosomes, which carry genetic information from the mother - this will be passed on to the off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he root hair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) The root hair cell - designed for absorbing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long hair cell increases the surface area of the root, which helps absorption of water and minerals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t has a really thin cell wall, which makes it easier for minerals to pass across into the root itsel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bout Your Cou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is is the first lesson of your Year 10 GCSE Biology Course. Science is worth two GCSEs from A*A*-DD at Higher level and from CC-GG at Foundation Level. We will discuss your tier of entry after the Y11 Mock exa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iology contributes 26 2/3% towards your final GCSE 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0% of your final grade is an Coursework Investigati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ed Bloo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oughnut shape to allow maximum O2 absorbed by the haemoglobin they contain. The function is similar the the Palisade Cells . They are doughnut shaped rather than tall to allow smooth passage through the capill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are so packed with Haemoglobin that they have no room for a Nucle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ite Bloo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re specialised because they help protect us  against disease. They do this in two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y engulfing the bacte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y producing Antibodies, which recognise a particular type of illness the first time you have it, so when it appears again, you will not become 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does not, however, work with viru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plain how the Red Blood Cell [or a cell of your choice] is adapted to the job it carries out. In order to gain full marks, you should express your ideas using the correct scientific works and use good 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3 marks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odules you will study: [Y10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1: Cell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2: Transport across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3 Cell Division (Year 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4 Nutr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5 Cir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6 Brea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7 Respi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8 Nervous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9 Homeost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11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13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14 Plant Nutr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15 Transport and Water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odules you will study [Y11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16 Var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17 Genetics and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18 Controlling Inheri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19 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20 Adoption and Com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21 Human impact on th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22 Energy and Nutrient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23 Nutrient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Lesson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recap the 7 Life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be able to start 10.1: Plant and Animal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nderstand the differences between plant and animals in terms of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recall the functions of the different parts of plants and animal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be able to show this in a visual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T: To understand the term </a:t>
            </a:r>
            <a:r>
              <a:rPr b="1" i="1" lang="en-GB" sz="3200" spc="-1" strike="noStrike" u="sng">
                <a:solidFill>
                  <a:srgbClr val="996633"/>
                </a:solidFill>
                <a:uFillTx/>
                <a:latin typeface="Comic Sans MS"/>
              </a:rPr>
              <a:t>Mitochond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Life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se can be remembered using the Mnemonic ‘’MRS NERG’’ or ‘’MES GREN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vement- the ability to move from one place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spiration – a chemical process that takes place in every living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nsitivity – the ability to respond to your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utrition – turning food into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cretion – getting rid of wast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production – producing offsp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wth- becoming larger i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Features of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 are 3 main parts that are common to both plants and Animal Cells. Organise these into the headings: Plant and Animal Cells and plant cells on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95280" y="3716280"/>
            <a:ext cx="3816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a Nucle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4788000" y="3573360"/>
            <a:ext cx="3816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a Cell 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468360" y="4437000"/>
            <a:ext cx="3816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a Cell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4788000" y="4437000"/>
            <a:ext cx="3816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a Cytopl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611280" y="2924280"/>
            <a:ext cx="7848360" cy="3682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lant Cells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lant and Animal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6"/>
          <p:cNvSpPr/>
          <p:nvPr/>
        </p:nvSpPr>
        <p:spPr>
          <a:xfrm>
            <a:off x="4859280" y="5373720"/>
            <a:ext cx="3960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a Va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7"/>
          <p:cNvSpPr/>
          <p:nvPr/>
        </p:nvSpPr>
        <p:spPr>
          <a:xfrm>
            <a:off x="539640" y="5373720"/>
            <a:ext cx="3816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Cholloropla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8"/>
          <p:cNvSpPr/>
          <p:nvPr/>
        </p:nvSpPr>
        <p:spPr>
          <a:xfrm>
            <a:off x="395280" y="602136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-ARRANGE SO THEY ARE IN THE CORRECT COLO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are the functions of the Cell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ell Wall is made of cellulose – it strengthens and supports th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loroplasts, which contain Chlorophyll, absorb light energy to make food through Photosynth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Vacuole is filled with cell sap [a sugar and water solution] and it provides rigid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4"/>
          <p:cNvSpPr txBox="1"/>
          <p:nvPr/>
        </p:nvSpPr>
        <p:spPr>
          <a:xfrm>
            <a:off x="1476360" y="5877000"/>
            <a:ext cx="61149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is is for PLANTS ONLY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What are the functions of the c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ell Membrane controls what goes in and out of th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ytoplasm is where all the reactions tak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Nucleus is like the ‘’brain’’ of the cell and controls the activity of the ce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539640" y="522936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APPLIES TO BOTH PLANT AND ANIMAL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5"/>
          <p:cNvSpPr txBox="1"/>
          <p:nvPr/>
        </p:nvSpPr>
        <p:spPr>
          <a:xfrm>
            <a:off x="324000" y="5516640"/>
            <a:ext cx="854388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is applies to BOTH types of Cell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9T16:49:11Z</dcterms:created>
  <dc:creator>Shaun</dc:creator>
  <dc:description/>
  <dc:language>en-US</dc:language>
  <cp:lastModifiedBy>LEGION2</cp:lastModifiedBy>
  <dcterms:modified xsi:type="dcterms:W3CDTF">2016-01-11T13:31:02Z</dcterms:modified>
  <cp:revision>10</cp:revision>
  <dc:subject/>
  <dc:title>Life Processes and Living things</dc:title>
</cp:coreProperties>
</file>