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384C-7DB9-45E8-9A85-58510F1F12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2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2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stain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 on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also 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stain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 on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also 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ta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ta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 us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 the 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in the nucleus of cells which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o div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ic orc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 us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 the 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in the nucleus of cells which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o div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ic orc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can be seen more clearly u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_________________________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may have two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one ___________________________________________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can be seen more clearly u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_________________________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may have two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one ___________________________________________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ork out Total Magnification use the following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ork out Total Magnification use the following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icroscopes magnify cells we have a new unit of measur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ew units are cal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icroscopes magnify cells we have a new unit of measur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ew units are cal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ell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microscopes to estimate the size of cells we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ameter of the field of our field of view we can then estimate the size of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ell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microscopes to estimate the size of cells we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ameter of the field of our field of view we can then estimate the size of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1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onion cell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______________(µm)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 (10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io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1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onion cell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______________(µm)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 (10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io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0.5mm or 500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se cheek cell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 or ______________ µm in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mm (5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0.5mm or 500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se cheek cell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 or ______________ µm in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mm (5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nd plant cells can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 with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re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nd plant cells can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 with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re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A28E-9F29-4560-9BDB-9118C226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16BD-2A26-4004-A82B-2B3F0DD9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CAC-1FBD-41AA-A886-1CDEE714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ED2F-CFFF-4911-A9D4-6487DD9B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BBB-49A9-4808-A8B3-78C08928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4C53-9246-4960-ABF9-7194B1C2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D135-DE7D-4334-946F-078978A4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902B-9165-4B51-B857-47F212A5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F799-E9D2-4424-9531-64BF6D61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F80-5100-4928-9272-0DCC107D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461-09B3-4258-93DD-86431D4F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2331-4ECC-4C0E-846A-097A18C8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62A6-567E-4844-A996-BBDE459076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Introduction to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pic 2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vestigatin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0" y="1125360"/>
            <a:ext cx="9144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 stains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 of on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ells and also i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676520" y="52578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2193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981080" y="1295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468360" y="1197000"/>
            <a:ext cx="7920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_________________________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ed to sta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_________________________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___________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990720" y="1143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ethyl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981080" y="3962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981080" y="57913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uman cheek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50920" y="1197000"/>
            <a:ext cx="8893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 is us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in the _________________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esent in the nucleus of cells which 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bout to divi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828800" y="1143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etic orc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819520" y="2819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hrom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0"/>
            <a:ext cx="914400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Cells can be seen more clearly us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icroscopes _________________________ the 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icroscopes may have two o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three_______________________________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and one ___________________________________________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914400" y="15238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248520" y="1219320"/>
            <a:ext cx="2590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943600" y="1066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icrosc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514600" y="4343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971800" y="2209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gn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438280" y="5562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yepiec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-123840" y="-81000"/>
            <a:ext cx="93916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culating Magn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o work out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otal Magnification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use the following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809880" y="4114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gnification of eyepiec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400800" y="4114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gnification of objectiv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611280" y="476280"/>
            <a:ext cx="79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nce microscopes magnify cells we have a new unit of measur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se new units are cal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000 µ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1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 µ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97180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ic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 u="sng">
                <a:solidFill>
                  <a:srgbClr val="000000"/>
                </a:solidFill>
                <a:uFillTx/>
                <a:latin typeface="Arial"/>
              </a:rPr>
              <a:t>Measuring Cell Siz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 can use microscopes to estimate the size of cells we are looking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f we know the diameter of the field of our field of view we can then estimate the size of the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539640" y="549360"/>
            <a:ext cx="799308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f the field of view = 1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n onion cells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______________ 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r ______________(µm) in leng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5"/>
          <p:cNvGrpSpPr/>
          <p:nvPr/>
        </p:nvGrpSpPr>
        <p:grpSpPr>
          <a:xfrm>
            <a:off x="5219640" y="836640"/>
            <a:ext cx="3486240" cy="3240000"/>
            <a:chOff x="5219640" y="836640"/>
            <a:chExt cx="3486240" cy="3240000"/>
          </a:xfrm>
        </p:grpSpPr>
        <p:sp>
          <p:nvSpPr>
            <p:cNvPr id="70" name="AutoShape 6"/>
            <p:cNvSpPr/>
            <p:nvPr/>
          </p:nvSpPr>
          <p:spPr>
            <a:xfrm>
              <a:off x="5219640" y="1990080"/>
              <a:ext cx="1743120" cy="9255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7"/>
            <p:cNvSpPr/>
            <p:nvPr/>
          </p:nvSpPr>
          <p:spPr>
            <a:xfrm>
              <a:off x="6962760" y="1990080"/>
              <a:ext cx="1743120" cy="9255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8"/>
            <p:cNvSpPr/>
            <p:nvPr/>
          </p:nvSpPr>
          <p:spPr>
            <a:xfrm>
              <a:off x="5437440" y="2221200"/>
              <a:ext cx="1307160" cy="46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9"/>
            <p:cNvSpPr/>
            <p:nvPr/>
          </p:nvSpPr>
          <p:spPr>
            <a:xfrm>
              <a:off x="7180560" y="2221200"/>
              <a:ext cx="1307160" cy="46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0"/>
            <p:cNvSpPr/>
            <p:nvPr/>
          </p:nvSpPr>
          <p:spPr>
            <a:xfrm>
              <a:off x="5655240" y="2221200"/>
              <a:ext cx="217440" cy="231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1"/>
            <p:cNvSpPr/>
            <p:nvPr/>
          </p:nvSpPr>
          <p:spPr>
            <a:xfrm>
              <a:off x="7398720" y="2452680"/>
              <a:ext cx="217440" cy="231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2"/>
            <p:cNvSpPr/>
            <p:nvPr/>
          </p:nvSpPr>
          <p:spPr>
            <a:xfrm>
              <a:off x="5219640" y="836640"/>
              <a:ext cx="3486240" cy="32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3"/>
            <p:cNvSpPr/>
            <p:nvPr/>
          </p:nvSpPr>
          <p:spPr>
            <a:xfrm>
              <a:off x="5437440" y="3147120"/>
              <a:ext cx="305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14"/>
          <p:cNvSpPr/>
          <p:nvPr/>
        </p:nvSpPr>
        <p:spPr>
          <a:xfrm>
            <a:off x="5580000" y="3141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mm (1000 µ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3276720" y="1773360"/>
            <a:ext cx="20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763640" y="155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eld of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2411280" y="2421000"/>
            <a:ext cx="1336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3492360" y="256536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2050920" y="227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ion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3348000" y="249228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1447920" y="41148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0.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1905120" y="51055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500 mic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539640" y="476280"/>
            <a:ext cx="77058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f the field of view = 0.5mm or 500µ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n these cheek cells would b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m or ______________ µm in leng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5226120" y="3213000"/>
            <a:ext cx="3233520" cy="3127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521964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9"/>
          <p:cNvSpPr/>
          <p:nvPr/>
        </p:nvSpPr>
        <p:spPr>
          <a:xfrm>
            <a:off x="5508720" y="4508640"/>
            <a:ext cx="215640" cy="257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4"/>
          <p:cNvSpPr/>
          <p:nvPr/>
        </p:nvSpPr>
        <p:spPr>
          <a:xfrm>
            <a:off x="5867280" y="4292640"/>
            <a:ext cx="64800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5"/>
          <p:cNvSpPr/>
          <p:nvPr/>
        </p:nvSpPr>
        <p:spPr>
          <a:xfrm>
            <a:off x="651672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6"/>
          <p:cNvSpPr/>
          <p:nvPr/>
        </p:nvSpPr>
        <p:spPr>
          <a:xfrm>
            <a:off x="716436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7"/>
          <p:cNvSpPr/>
          <p:nvPr/>
        </p:nvSpPr>
        <p:spPr>
          <a:xfrm>
            <a:off x="781200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8"/>
          <p:cNvSpPr/>
          <p:nvPr/>
        </p:nvSpPr>
        <p:spPr>
          <a:xfrm>
            <a:off x="6156360" y="4581360"/>
            <a:ext cx="216000" cy="257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9"/>
          <p:cNvSpPr/>
          <p:nvPr/>
        </p:nvSpPr>
        <p:spPr>
          <a:xfrm>
            <a:off x="6804000" y="4508640"/>
            <a:ext cx="216000" cy="257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0"/>
          <p:cNvSpPr/>
          <p:nvPr/>
        </p:nvSpPr>
        <p:spPr>
          <a:xfrm>
            <a:off x="7380360" y="4437000"/>
            <a:ext cx="216000" cy="257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1"/>
          <p:cNvSpPr/>
          <p:nvPr/>
        </p:nvSpPr>
        <p:spPr>
          <a:xfrm>
            <a:off x="7956720" y="4581360"/>
            <a:ext cx="215640" cy="257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2"/>
          <p:cNvSpPr/>
          <p:nvPr/>
        </p:nvSpPr>
        <p:spPr>
          <a:xfrm>
            <a:off x="5292720" y="5084640"/>
            <a:ext cx="3095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5651640" y="5157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5 mm (500 µ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4"/>
          <p:cNvSpPr/>
          <p:nvPr/>
        </p:nvSpPr>
        <p:spPr>
          <a:xfrm flipV="1">
            <a:off x="3564000" y="4653000"/>
            <a:ext cx="1655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1979640" y="5373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cheek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6"/>
          <p:cNvSpPr/>
          <p:nvPr/>
        </p:nvSpPr>
        <p:spPr>
          <a:xfrm>
            <a:off x="685800" y="190512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500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4724280" y="2286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8"/>
          <p:cNvSpPr/>
          <p:nvPr/>
        </p:nvSpPr>
        <p:spPr>
          <a:xfrm>
            <a:off x="495288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620640"/>
          <a:ext cx="9144000" cy="5040360"/>
        </p:xfrm>
        <a:graphic>
          <a:graphicData uri="http://schemas.openxmlformats.org/drawingml/2006/table">
            <a:tbl>
              <a:tblPr/>
              <a:tblGrid>
                <a:gridCol w="3276720"/>
                <a:gridCol w="2817720"/>
                <a:gridCol w="30495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gnific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ield of Vie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icrons (µm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1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99"/>
          <p:cNvSpPr/>
          <p:nvPr/>
        </p:nvSpPr>
        <p:spPr>
          <a:xfrm>
            <a:off x="69343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0"/>
          <p:cNvSpPr/>
          <p:nvPr/>
        </p:nvSpPr>
        <p:spPr>
          <a:xfrm>
            <a:off x="70102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1"/>
          <p:cNvSpPr/>
          <p:nvPr/>
        </p:nvSpPr>
        <p:spPr>
          <a:xfrm>
            <a:off x="701028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0" y="0"/>
            <a:ext cx="9144000" cy="64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 u="sng">
                <a:solidFill>
                  <a:srgbClr val="000000"/>
                </a:solidFill>
                <a:uFillTx/>
                <a:latin typeface="Arial"/>
              </a:rPr>
              <a:t>Staining Cell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Animal and plant cells can b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_________________________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so that t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an be____________________________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82880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819520" y="4191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tructures within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124080" y="53341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een more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2:26:41Z</dcterms:created>
  <dc:creator>Education</dc:creator>
  <dc:description/>
  <dc:language>en-US</dc:language>
  <cp:lastModifiedBy>LEGION2</cp:lastModifiedBy>
  <dcterms:modified xsi:type="dcterms:W3CDTF">2016-01-11T13:25:15Z</dcterms:modified>
  <cp:revision>10</cp:revision>
  <dc:subject/>
  <dc:title>Introduction to Cells</dc:title>
</cp:coreProperties>
</file>