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8AFF-F78D-486A-9AFA-FC86EB9928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iology Core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or tissues are killed and chemically ‘fixed’ in a complicated and harsh treatment (in full detail in table 3.1 pg 52 Rowla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is differ to light microscop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eatment can result in alterations to the cell - known as arte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images produce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graph of epithelial cells from a rat small intest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le bar = 5 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canning EM microscopes the electrons bounce off the surface of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 images with a three-dimensional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 detailed study of su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watch the following clip explaining S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anning Electron Microscope (S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learn.co.uk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icroscopy-uk.org.uk/intro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ww.mwrn.com/feature/education.a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feic.com/support/tem/transmi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anka.livstek.lth.se:2080/microscopy/foodmic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&amp; complete the following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olving power of light &amp; electron micro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fference between the light &amp;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&amp; scanning electron microscop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s magnify &amp; resolve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y began in 1665 when Robert Hooke coined the word ‘cells’ to describe the structure of c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about 2 types of microscope - light &amp;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know how they work and the differences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 not how much they magnify that is key - but how well they resolve…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it of resolution of a microscope is the smallest distance between 2 points that can be seen using a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measure of the clarity of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icroscope with a high resolving power will allow 2 small objects which are close together to be seen as 2 distinct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ving power is inversely proportional to the wavelength of the radiation it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lenses through which ordinary white light can be foc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microscopes can not resolve 2 points closer together than about half (0.45) the wavelength of the light used (450-600n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lose is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tal magnification is the eyepiece magnification multiplied by the objective mag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um magnification of a light microscope is x15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n it not be used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(negatively charged, very small particles) can behave as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velength of electrons is about 0.005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ill this mean for the limit of re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are ‘fired’ from an electron gun at the specimen and onto a fluorescent screen or photographic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is this technique commonl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2 types of electron microscopy - transmission and sc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focus an electron beam onto the specimen using electro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ssion Electron Microscope (TE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ransmission EM the electrons pass through the speci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men needs to be extremely thin - 10nm to 100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can magnify objects up to 500 000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 has made it possible to see the details of and discover new organelles - see page 9 in Coll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AF9-A5F7-40C3-B2BF-9891D5BA7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712D-385F-4750-A249-4A4B8580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9652-619B-44B9-9A08-DAC2A0E7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71C7-036B-4EFE-9710-2D48B992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4388-D89D-4260-9BD3-71D7E55C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3913-8579-448E-BB7F-32C346DD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AB7A-30EB-4DAB-A5B5-2959F27B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D68D-2477-4948-AC8C-6EE3E41F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A5B9-D6B7-4D5C-AC17-F3D312DE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1727-AB4E-48B6-A67E-414225A7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2191-0F1A-4898-BE15-95D15BC2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C45-89DF-4334-B746-E907F958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6D95F-E4DE-4095-82AE-55D6780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431B-1B36-480A-8C8B-2426E22C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8663-4A5F-401F-B49D-BB52DE7F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58AC-524C-4F65-92BF-3EAF7BE2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D2F7-8426-47B1-92BC-ABC1F801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9B5E-354B-4DAF-B680-8D35A34AA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B7C-A54D-4724-9841-1940D169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9DF7-C593-470E-959E-6655D340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3B10-5908-4490-9AFA-7B2306F5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89F3-3CAE-4AFA-BD1F-7485C412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CB2A-423B-4450-BB9A-84E76CAD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DCE-8E43-4BF9-978B-DE12A239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4A73-C91A-4505-A2D9-34035CCF3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1c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6EC1-B56C-41B1-BCF9-8440B04D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833616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S Biology </a:t>
            </a:r>
            <a:r>
              <a:rPr b="1" lang="en-US" sz="4000" spc="-1" strike="noStrike">
                <a:solidFill>
                  <a:srgbClr val="003366"/>
                </a:solidFill>
                <a:latin typeface="Verdana"/>
              </a:rPr>
              <a:t>Core Principl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881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 presetSubtype="130116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0" presetSubtype="130122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53798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lls or tissues are killed and chemically ‘fixed’ in a complicated and harsh treatment (in full detail in table 3.1 pg 52 Rowlan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does this differ to light microscopy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treatment can result in alterations to the cell - known as artefa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images produced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rcRect l="0" t="0" r="0" b="7411"/>
          <a:stretch/>
        </p:blipFill>
        <p:spPr>
          <a:xfrm>
            <a:off x="3352680" y="2260440"/>
            <a:ext cx="2708280" cy="3581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6248520" y="4470480"/>
            <a:ext cx="2133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ansmission electron micrograph of epithelial cells from a rat small intestin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cale bar = 5 mm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Scanning EM microscopes the electrons bounce off the surface of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duce images with a three-dimensional appear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 detailed study of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rcRect l="0" t="8390" r="0" b="10688"/>
          <a:stretch/>
        </p:blipFill>
        <p:spPr>
          <a:xfrm>
            <a:off x="5562720" y="2666880"/>
            <a:ext cx="3382920" cy="23688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79" name="sem.mov" descr="sem"/>
          <p:cNvPicPr/>
          <p:nvPr/>
        </p:nvPicPr>
        <p:blipFill>
          <a:blip r:embed="rId1"/>
          <a:stretch/>
        </p:blipFill>
        <p:spPr>
          <a:xfrm>
            <a:off x="2971800" y="28195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1295280" y="19810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w watch the following clip explaining S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Scanning Electron Microscope (S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2819520" y="2590920"/>
            <a:ext cx="4495680" cy="30528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nk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learn.co.uk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icroscopy-uk.org.uk/intro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ww.mwrn.com/feature/education.a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www.feic.com/support/tem/transmis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anka.livstek.lth.se:2080/microscopy/foodmicr.ht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Light &amp; Electron Microscope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47920" y="2209680"/>
          <a:ext cx="7010280" cy="429732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  <a:gridCol w="23367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ght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n Microsc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ture of le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ses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age s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iation me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n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mit of resol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it can sh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Text Box 67"/>
          <p:cNvSpPr/>
          <p:nvPr/>
        </p:nvSpPr>
        <p:spPr>
          <a:xfrm>
            <a:off x="1371600" y="1523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py &amp; complete the following 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Aims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olving power of light &amp; electron microsco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ifference between the light &amp; electron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mission &amp; scanning electron microscop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97168" presetSubtype="202076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6" dur="1" fill="hold"/>
                                  <p:tgtEl>
                                    <p:spTgt spid="1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549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Introduction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es magnify &amp; resolve im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croscopy began in 1665 when Robert Hooke coined the word ‘cells’ to describe the structure of c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about 2 types of microscope - light &amp; elect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You need to know how they work and the differences between t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s not how much they magnify that is key - but how well they resolve…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mit of resolution of a microscope is the smallest distance between 2 points that can be seen using a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s a measure of the clarity of the im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icroscope with a high resolving power will allow 2 small objects which are close together to be seen as 2 distinct objec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Resolving Power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olving power is inversely proportional to the wavelength of the radiation it u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2819520" y="4191120"/>
            <a:ext cx="4019400" cy="167796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97168" presetSubtype="202246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2880" y="1600200"/>
            <a:ext cx="4694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ries of lenses through which ordinary white light can be foc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tical microscopes can not resolve 2 points closer together than about half (0.45) the wavelength of the light used (450-600n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close is thi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Light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4648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total magnification is the eyepiece magnification multiplied by the objective magn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aximum magnification of a light microscope is x1500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can it not be used for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925960" y="1752480"/>
            <a:ext cx="306576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he Electron Microscop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4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(negatively charged, very small particles) can behave as wa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avelength of electrons is about 0.005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will this mean for the limit of resolutio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ctrons are ‘fired’ from an electron gun at the specimen and onto a fluorescent screen or photographic pl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re is this technique commonly used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2 types of electron microscopy - transmission and sc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focus an electron beam onto the specimen using electromagn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Transmission Electron Microscope (TEM)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2880" y="1828800"/>
            <a:ext cx="5303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ransmission EM the electrons pass through the speci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men needs to be extremely thin - 10nm to 100n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can magnify objects up to 500 000 ti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 has made it possible to see the details of and discover new organelles - see page 9 in Coll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6694560" y="1676520"/>
            <a:ext cx="1839960" cy="4572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22:16:20Z</dcterms:created>
  <dc:creator>Fearghal Kelly</dc:creator>
  <dc:description/>
  <dc:language>en-US</dc:language>
  <cp:lastModifiedBy>LEGION2</cp:lastModifiedBy>
  <dcterms:modified xsi:type="dcterms:W3CDTF">2016-01-11T13:18:03Z</dcterms:modified>
  <cp:revision>33</cp:revision>
  <dc:subject/>
  <dc:title>AS Biology Core Principles</dc:title>
</cp:coreProperties>
</file>