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532C-AD45-47CF-96A8-DAD4496218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1FF-7562-4380-84E5-07C917F9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5B7-3A65-423A-831E-E8E7E7BB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AA9-C010-489C-AE70-609BF6AA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C02-EA03-4609-AF64-31B7511F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831A-1BFB-49C8-AC75-B0B84DE0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28DC-097B-4CDC-B9B3-13ABAB7E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4A1F-25FD-4EB0-9387-0EA1E52F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911E-2039-4380-931E-01ACF5BB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B602-BC8D-4A4F-8264-558A5C78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50BE-0980-44B0-BF6E-CEB41A4B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E72E-17C3-4616-B936-EEF9DDB9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DE9-9A21-4CD4-81CF-3DE82E22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F989-D009-4BCB-9351-172CA5CB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A0B8-9A73-4E55-BFD3-44FABB09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A848-E530-4CBC-9366-11886622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8E17-79CB-4FD4-89B6-B23EBB6D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AABA-B8BE-4D51-8D9A-C709C18E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A37-4968-469A-AD56-20625486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9F4-EFA0-4087-BA9A-C1853BA9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C8B-1EFC-463A-AA05-48A776BD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A52-21B7-4861-9605-70CE2799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129-A7A9-4169-A320-1707A99D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8E7-D490-445B-BAE7-044C9D74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B60-2E17-4C14-86C5-122D9A4F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4F5A-FB33-4902-9270-8250F01A0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A59E-3EEB-4B91-8B34-0D13184F1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361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S Biology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ore Princip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881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 presetSubtype="130116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0" presetSubtype="130122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5379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or tissues are killed and chemically ‘fixed’ in a complicated and harsh treatment (in full detail in table 3.1 pg 52 Rowla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this differ to light microscop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treatment can result in alterations to the cell - known as arte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images produce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rcRect l="0" t="0" r="0" b="7411"/>
          <a:stretch/>
        </p:blipFill>
        <p:spPr>
          <a:xfrm>
            <a:off x="3352680" y="2260440"/>
            <a:ext cx="2708280" cy="3581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248520" y="4470480"/>
            <a:ext cx="213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mission electron micrograph of epithelial cells from a rat small intestin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ale bar = 5 m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canning EM microscopes the electrons bounce off the surface of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 images with a three-dimensional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detailed study of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0" t="8390" r="0" b="10688"/>
          <a:stretch/>
        </p:blipFill>
        <p:spPr>
          <a:xfrm>
            <a:off x="5562720" y="2666880"/>
            <a:ext cx="3382920" cy="23688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9" name="sem.mov" descr="sem"/>
          <p:cNvPicPr/>
          <p:nvPr/>
        </p:nvPicPr>
        <p:blipFill>
          <a:blip r:embed="rId1"/>
          <a:stretch/>
        </p:blipFill>
        <p:spPr>
          <a:xfrm>
            <a:off x="2971800" y="28195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12952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atch the following clip explaining S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4495680" cy="3052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nk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learn.co.uk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icroscopy-uk.org.uk/intro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wrn.com/feature/education.a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feic.com/support/tem/transmis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anka.livstek.lth.se:2080/microscopy/foodmicr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ght &amp; Electron Microscop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47920" y="2209680"/>
          <a:ext cx="7010280" cy="429732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e of l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ses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 s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n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 of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t can 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67"/>
          <p:cNvSpPr/>
          <p:nvPr/>
        </p:nvSpPr>
        <p:spPr>
          <a:xfrm>
            <a:off x="1371600" y="1523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 &amp; complete the following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im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olving power of light &amp; electron microsco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fference between the light &amp;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ssion &amp; scanning electron microscop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es magnify &amp; resolve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y began in 1665 when Robert Hooke coined the word ‘cells’ to describe the structure of c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about 2 types of microscope - light &amp;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how they work and the differences betwee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not how much they magnify that is key - but how well they resolve…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mit of resolution of a microscope is the smallest distance between 2 points that can be seen using a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 measure of the clarity of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icroscope with a high resolving power will allow 2 small objects which are close together to be seen as 2 distinct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 is inversely proportional to the wavelength of the radiation it 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4019400" cy="1677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97168" presetSubtype="202246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2880" y="1600200"/>
            <a:ext cx="4694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es of lenses through which ordinary white light can be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cal microscopes can not resolve 2 points closer together than about half (0.45) the wavelength of the light used (450-600n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lose is thi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agnification is the eyepiece magnification multiplied by the objective magn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magnification of a light microscope is x150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no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Electron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4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(negatively charged, very small particles) can behave as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velength of electrons is about 0.005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limit of re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are ‘fired’ from an electron gun at the specimen and onto a fluorescent screen or photographic 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is this technique commonly us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2 types of electron microscopy - transmission and sc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focus an electron beam onto the specimen using electromagn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30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ransmission EM the electrons pass through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men needs to be extremely thin - 10nm to 100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can magnify objects up to 500 000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has made it possible to see the details of and discover new organelles - see page 9 in Coll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22:16:20Z</dcterms:created>
  <dc:creator>Fearghal Kelly</dc:creator>
  <dc:description/>
  <dc:language>en-US</dc:language>
  <cp:lastModifiedBy>LEGION2</cp:lastModifiedBy>
  <dcterms:modified xsi:type="dcterms:W3CDTF">2016-01-11T13:18:03Z</dcterms:modified>
  <cp:revision>33</cp:revision>
  <dc:subject/>
  <dc:title>AS Biology Core Principles</dc:title>
</cp:coreProperties>
</file>