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3388-875A-41AE-853E-E60F7CAFCB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532-4566-408E-83EB-F61A9897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2D9-F588-4409-BD9A-45F81B4C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6A2-A1F6-4457-A81D-C1D53CD9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5E8-AB5E-4FDD-8D8E-58AA51E3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3995-7F59-49EA-8563-36897E05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C9D4-B4FF-4CB1-ACBB-745DCABD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6B8F-3D03-4BDF-81D6-AE7213FD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369E-345D-4600-ACEA-BF3FC0C5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D792-FE7A-4E09-8720-B8FC6E85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712F-11B4-4C54-9A8C-A578E5F1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89AF-6831-49F3-8002-43628FF1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D77-9E1B-4128-9507-9E44BA9F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8691-E43B-4862-8C60-78091E9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79B6-8C1F-4C41-9500-74966CB6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508E-B12A-4992-8DEC-5607D706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AEAD-AD11-42FB-BFFA-815E9DC0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97BE-DB0E-48C5-A31C-2D4B01FD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318-00AC-4EF7-9FF0-5D09F297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AF9-D945-4091-A332-837BC7D6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1FB-F534-4DF9-8098-13C20910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31A-88B3-4A86-A0FE-817C786F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822-45B0-4F33-B29C-5975F073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68E-7717-4A75-B266-DE97D859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2C1-7887-49AA-802C-2FC32B53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549F-F4D7-4F85-8B5C-66107F996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97FB-8119-4C6E-8A69-8B1F9254C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361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 Biology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ore Princip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881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 presetSubtype="130116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0" presetSubtype="130122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5379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or tissues are killed and chemically ‘fixed’ in a complicated and harsh treatment (in full detail in table 3.1 pg 52 Rowla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differ to light microscop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treatment can result in alterations to the cell - known as arte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images produce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7411"/>
          <a:stretch/>
        </p:blipFill>
        <p:spPr>
          <a:xfrm>
            <a:off x="3352680" y="2260440"/>
            <a:ext cx="2708280" cy="3581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248520" y="447048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 electron micrograph of epithelial cells from a rat small intestin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ale bar = 5 m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canning EM microscopes the electrons bounce off the surface of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 images with a three-dimensional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detailed study of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8390" r="0" b="10688"/>
          <a:stretch/>
        </p:blipFill>
        <p:spPr>
          <a:xfrm>
            <a:off x="5562720" y="2666880"/>
            <a:ext cx="3382920" cy="23688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9" name="sem.mov" descr="sem"/>
          <p:cNvPicPr/>
          <p:nvPr/>
        </p:nvPicPr>
        <p:blipFill>
          <a:blip r:embed="rId1"/>
          <a:stretch/>
        </p:blipFill>
        <p:spPr>
          <a:xfrm>
            <a:off x="2971800" y="28195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2952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atch the following clip explaining S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nk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learn.co.uk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icroscopy-uk.org.uk/intro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wrn.com/feature/education.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feic.com/support/tem/transmis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anka.livstek.lth.se:2080/microscopy/foodmicr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ght &amp; Electron Microscop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47920" y="2209680"/>
          <a:ext cx="7010280" cy="429732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e of l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ses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 s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of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t can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67"/>
          <p:cNvSpPr/>
          <p:nvPr/>
        </p:nvSpPr>
        <p:spPr>
          <a:xfrm>
            <a:off x="137160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 &amp; complete the following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i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olving power of light &amp; electron 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erence between the light &amp;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&amp; scanning electron microscop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es magnify &amp; resolve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y began in 1665 when Robert Hooke coined the word ‘cells’ to describe the structure of c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about 2 types of microscope - light &amp;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how they work and the differences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not how much they magnify that is key - but how well they resolve…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resolution of a microscope is the smallest distance between 2 points that can be seen using a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 measure of the clarity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croscope with a high resolving power will allow 2 small objects which are close together to be seen as 2 distinct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 is inversely proportional to the wavelength of the radiation it 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4019400" cy="1677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97168" presetSubtype="202246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2880" y="1600200"/>
            <a:ext cx="469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es of lenses through which ordinary white light can be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cal microscopes can not resolve 2 points closer together than about half (0.45) the wavelength of the light used (450-600n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lose is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agnification is the eyepiece magnification multiplied by the objective magn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magnification of a light microscope is x150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no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Electron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4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(negatively charged, very small particles) can behave as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electrons is about 0.005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limit of re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are ‘fired’ from an electron gun at the specimen and onto a fluorescent screen or photographic 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this technique commonly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2 types of electron microscopy - transmission and sc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focus an electron beam onto the specimen using electromagn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30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ransmission EM the electrons pass through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men needs to be extremely thin - 10nm to 100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can magnify objects up to 500 000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has made it possible to see the details of and discover new organelles - see page 9 in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22:16:20Z</dcterms:created>
  <dc:creator>Fearghal Kelly</dc:creator>
  <dc:description/>
  <dc:language>en-US</dc:language>
  <cp:lastModifiedBy>LEGION2</cp:lastModifiedBy>
  <dcterms:modified xsi:type="dcterms:W3CDTF">2016-01-11T13:18:03Z</dcterms:modified>
  <cp:revision>33</cp:revision>
  <dc:subject/>
  <dc:title>AS Biology Core Principles</dc:title>
</cp:coreProperties>
</file>