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3.gif" ContentType="image/gif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1081-54D1-415F-8768-EA483166C2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ossing Membranes 1 – Passiv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ok Reference: p.22-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Membranes 1 – Passiv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particles tend to diffuse faster than larger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particles tend to diffuse faster than larger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takes place more quickly through thin membranes (e.g. exchange of gases through the alveolar wall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takes place more quickly through thin membranes (e.g. exchange of gases through the alveolar wall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r the surface area the higher the rate of diffusion (e.g. in gases diffusing into/out of leaves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r the surface area the higher the rate of diffusion (e.g. in gases diffusing into/out of leaves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the distance, the faster the rate of diffus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e in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the distance, the faster the rate of diffus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e in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ster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membrane protein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er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protein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facilitate the diffusion of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ions not diffuse freely across the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ach channel protein is specific to one type of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facilitate the diffusion of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ions not diffuse freely across the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ach channel protein is specific to one type of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can open or close their pores acting like gates depending upon the cell’s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can open or close their pores acting like gates depending upon the cell’s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 are more sophisticated in the way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the diffusion across the membrane of larger polar molecules, such as sugars an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 are more sophisticated in the way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the diffusion across the membrane of larger polar molecules, such as sugars an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 particular molecule attaches to the carrier protein at it binding site, the carrier protein changes its shape to ‘deliver’ the molecule through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 particular molecule attaches to the carrier protein at it binding site, the carrier protein changes its shape to ‘deliver’ the molecule through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ter Shave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ter Shave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usion i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usion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diffusion? (defin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s the movement of molecules (or ions) from a region of high concentration to a region of lower concentration until they are spread out eve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diffusion? (defin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s the movement of molecules (or ions) from a region of high concentration to a region of lower concentration until they are spread out eve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:Diffusion in the Alveoli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diffusing into the blood and CO2 diffusing ou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:Diffusion in the Alveoli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diffusing into the blood and CO2 diffusing ou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: Some digested food diffuses across the gut wall into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: Some digested food diffuses across the gut wall into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ion gradient: The greater the difference in the concentration of a substance in two areas, the faster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of diffusion is directly proportional to the concentration grad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ion gradient: The greater the difference in the concentration of a substance in two areas, the faster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of diffusion is directly proportional to the concentration grad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4EB8-37AA-4BF6-9372-11D971C87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6721-DE84-48A8-ABAC-3E185CCB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37F2-3232-4016-9721-B95FECA8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2DB2-2C7C-4CCB-8AC2-D58369E5A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3F7D-CEAB-49C8-944D-A141A372C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6340-3DA0-42EF-9598-562EE5AF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5B43-0E40-4E4A-85C2-062B2FE7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DFFD-9475-40F5-9D03-4B3BC14E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6A87-0A5E-4AF3-BBB6-8F1A2EFE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3C9A-ABFA-4337-A267-CA91F8B9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B920-4473-4E9E-AE8C-C2DAD9FB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F70E-E275-431E-9095-29802B99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63B1-B005-4025-B05B-93DA5305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11D7-FA9D-4A61-AAA7-F80EAB5F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71D6-B586-476B-8D8D-CC21FA5B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2C94-DA8D-42EA-AF6F-8A776BE79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02FA-E0A1-44E4-AF78-ACE225DA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A1F8-A531-4BDA-9BF5-5F5B76B6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DEDB-7028-4F8E-9189-7C760E7E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31F6-8272-45B2-848B-D6D7314D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ABDB-B67C-4513-BB84-BE731A8D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9260-A3F6-4054-9AF3-2FC595B8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C808-E9F1-481C-B037-201F42C4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E0BE-A2C2-407C-9F9A-58DC7DCE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7013-E008-466E-9A05-D7A5DBDC5B3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0078-05F5-426E-ACEC-1A5FF040C76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0066"/>
                </a:solidFill>
                <a:latin typeface="Arial"/>
              </a:rPr>
              <a:t>Crossing Membranes 1 – Passive Process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k Reference: p.22-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Small particles tend to diffuse faster than larger 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0" name="Picture 6" descr="MembranePoresandMolecules"/>
          <p:cNvPicPr/>
          <p:nvPr/>
        </p:nvPicPr>
        <p:blipFill>
          <a:blip r:embed="rId1"/>
          <a:stretch/>
        </p:blipFill>
        <p:spPr>
          <a:xfrm>
            <a:off x="971640" y="1773360"/>
            <a:ext cx="7416720" cy="460836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134100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Diffusion takes place more quickly through thin membranes (e.g. exchange of gases through the alveolar wall)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3" name="Picture 5" descr="3097_web"/>
          <p:cNvPicPr/>
          <p:nvPr/>
        </p:nvPicPr>
        <p:blipFill>
          <a:blip r:embed="rId1"/>
          <a:stretch/>
        </p:blipFill>
        <p:spPr>
          <a:xfrm>
            <a:off x="5003640" y="2133720"/>
            <a:ext cx="3810240" cy="4390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respmemb"/>
          <p:cNvPicPr/>
          <p:nvPr/>
        </p:nvPicPr>
        <p:blipFill>
          <a:blip r:embed="rId2"/>
          <a:stretch/>
        </p:blipFill>
        <p:spPr>
          <a:xfrm>
            <a:off x="611280" y="3357720"/>
            <a:ext cx="3419280" cy="20095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The larger the surface area the higher the rate of diffusion (e.g. in gases diffusing into/out of leaves)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7" name="Picture 5" descr="C3leaf"/>
          <p:cNvPicPr/>
          <p:nvPr/>
        </p:nvPicPr>
        <p:blipFill>
          <a:blip r:embed="rId1"/>
          <a:stretch/>
        </p:blipFill>
        <p:spPr>
          <a:xfrm>
            <a:off x="539640" y="2349360"/>
            <a:ext cx="8209080" cy="417528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The shorter the distance, the faster the rate of diffusion</a:t>
            </a:r>
            <a:br>
              <a:rPr sz="3500"/>
            </a:b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95640" y="3860640"/>
            <a:ext cx="627948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Arial"/>
              </a:rPr>
              <a:t>An increase in 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33cc"/>
                </a:solidFill>
                <a:latin typeface="Arial"/>
              </a:rPr>
              <a:t>increases the rate of diff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000" y="-647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acilitated Diffu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aster mo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ell membrane proteins u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facilitatedDiffusion"/>
          <p:cNvPicPr/>
          <p:nvPr/>
        </p:nvPicPr>
        <p:blipFill>
          <a:blip r:embed="rId1"/>
          <a:stretch/>
        </p:blipFill>
        <p:spPr>
          <a:xfrm>
            <a:off x="3564000" y="2708280"/>
            <a:ext cx="5162400" cy="386712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Channel Proteins facilitate the diffusion of 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332280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cc"/>
                </a:solidFill>
                <a:latin typeface="Arial"/>
              </a:rPr>
              <a:t>Why can ions not diffuse freely across the membran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facil_di"/>
          <p:cNvPicPr/>
          <p:nvPr/>
        </p:nvPicPr>
        <p:blipFill>
          <a:blip r:embed="rId1"/>
          <a:stretch/>
        </p:blipFill>
        <p:spPr>
          <a:xfrm>
            <a:off x="4211640" y="2349360"/>
            <a:ext cx="4105440" cy="3381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7"/>
          <p:cNvSpPr/>
          <p:nvPr/>
        </p:nvSpPr>
        <p:spPr>
          <a:xfrm>
            <a:off x="4500720" y="580536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80"/>
                </a:solidFill>
                <a:latin typeface="Arial"/>
              </a:rPr>
              <a:t>Usually each channel protein is specific to one type of 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Channel proteins can open or close their pores acting like gates depending upon the cell’s need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2" name="Picture 5" descr="facilitateddiffusion"/>
          <p:cNvPicPr/>
          <p:nvPr/>
        </p:nvPicPr>
        <p:blipFill>
          <a:blip r:embed="rId1"/>
          <a:stretch/>
        </p:blipFill>
        <p:spPr>
          <a:xfrm>
            <a:off x="684360" y="2595600"/>
            <a:ext cx="7920000" cy="320976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Carrier proteins are more sophisticated in the way they work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y allow the diffusion across the membrane of larger polar molecules, such as sugars and amino ac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9" descr="facildiffmodels"/>
          <p:cNvPicPr/>
          <p:nvPr/>
        </p:nvPicPr>
        <p:blipFill>
          <a:blip r:embed="rId1"/>
          <a:stretch/>
        </p:blipFill>
        <p:spPr>
          <a:xfrm>
            <a:off x="2124000" y="3552840"/>
            <a:ext cx="5058000" cy="330516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000" y="1557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Once a particular molecule attaches to the carrier protein at it binding site, the carrier protein changes its shape to ‘deliver’ the molecule through the membran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9" name="Picture 5" descr="image025"/>
          <p:cNvPicPr/>
          <p:nvPr/>
        </p:nvPicPr>
        <p:blipFill>
          <a:blip r:embed="rId1"/>
          <a:stretch/>
        </p:blipFill>
        <p:spPr>
          <a:xfrm>
            <a:off x="1476360" y="3284640"/>
            <a:ext cx="5572080" cy="291456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iffu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43520" cy="12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After Shave M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10275248"/>
          <p:cNvPicPr/>
          <p:nvPr/>
        </p:nvPicPr>
        <p:blipFill>
          <a:blip r:embed="rId1"/>
          <a:stretch/>
        </p:blipFill>
        <p:spPr>
          <a:xfrm>
            <a:off x="3924360" y="299736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-647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iffusion in Ai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Picture 5" descr="chimneys_"/>
          <p:cNvPicPr/>
          <p:nvPr/>
        </p:nvPicPr>
        <p:blipFill>
          <a:blip r:embed="rId1"/>
          <a:stretch/>
        </p:blipFill>
        <p:spPr>
          <a:xfrm>
            <a:off x="0" y="549360"/>
            <a:ext cx="6156360" cy="4616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diffusion-animated"/>
          <p:cNvPicPr/>
          <p:nvPr/>
        </p:nvPicPr>
        <p:blipFill>
          <a:blip r:embed="rId2"/>
          <a:stretch/>
        </p:blipFill>
        <p:spPr>
          <a:xfrm>
            <a:off x="6286680" y="400068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iffusion in wat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Picture 11" descr="GB1-os18"/>
          <p:cNvPicPr/>
          <p:nvPr/>
        </p:nvPicPr>
        <p:blipFill>
          <a:blip r:embed="rId1"/>
          <a:stretch/>
        </p:blipFill>
        <p:spPr>
          <a:xfrm>
            <a:off x="1692360" y="2276640"/>
            <a:ext cx="5162400" cy="386712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-458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0066"/>
                </a:solidFill>
                <a:latin typeface="Arial"/>
              </a:rPr>
              <a:t>What is diffusion? (definition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cc"/>
                </a:solidFill>
                <a:latin typeface="Comic Sans MS"/>
              </a:rPr>
              <a:t>Diffusion is the movement of molecules (or ions) from a region of high concentration to a region of lower concentration until they are spread out even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1304"/>
          <p:cNvPicPr/>
          <p:nvPr/>
        </p:nvPicPr>
        <p:blipFill>
          <a:blip r:embed="rId1"/>
          <a:stretch/>
        </p:blipFill>
        <p:spPr>
          <a:xfrm>
            <a:off x="395280" y="2997360"/>
            <a:ext cx="8334360" cy="38606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cc0066"/>
                </a:solidFill>
                <a:latin typeface="Arial"/>
              </a:rPr>
              <a:t>Example</a:t>
            </a:r>
            <a:r>
              <a:rPr b="1" lang="en-GB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5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1" lang="en-GB" sz="3500" spc="-1" strike="noStrike">
                <a:solidFill>
                  <a:srgbClr val="000000"/>
                </a:solidFill>
                <a:latin typeface="Arial"/>
              </a:rPr>
              <a:t>:Diffusion in the Alveoli:</a:t>
            </a: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500"/>
            </a:br>
            <a:r>
              <a:rPr b="1" lang="en-GB" sz="35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35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GB" sz="3500" spc="-1" strike="noStrike">
                <a:solidFill>
                  <a:srgbClr val="ff0000"/>
                </a:solidFill>
                <a:latin typeface="Arial"/>
              </a:rPr>
              <a:t> diffusing into the blood</a:t>
            </a: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GB" sz="35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GB" sz="3500" spc="-1" strike="noStrike">
                <a:solidFill>
                  <a:srgbClr val="0033cc"/>
                </a:solidFill>
                <a:latin typeface="Arial"/>
              </a:rPr>
              <a:t>CO</a:t>
            </a:r>
            <a:r>
              <a:rPr b="1" lang="en-GB" sz="35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1" lang="en-GB" sz="3500" spc="-1" strike="noStrike">
                <a:solidFill>
                  <a:srgbClr val="0033cc"/>
                </a:solidFill>
                <a:latin typeface="Arial"/>
              </a:rPr>
              <a:t> diffusing out of the bloo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Picture 5" descr="0013n046"/>
          <p:cNvPicPr/>
          <p:nvPr/>
        </p:nvPicPr>
        <p:blipFill>
          <a:blip r:embed="rId1"/>
          <a:stretch/>
        </p:blipFill>
        <p:spPr>
          <a:xfrm>
            <a:off x="395280" y="2516040"/>
            <a:ext cx="8137440" cy="434196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cc0066"/>
                </a:solidFill>
                <a:latin typeface="Arial"/>
              </a:rPr>
              <a:t>Example 2: </a:t>
            </a:r>
            <a:r>
              <a:rPr b="1" lang="en-GB" sz="3500" spc="-1" strike="noStrike">
                <a:solidFill>
                  <a:srgbClr val="0033cc"/>
                </a:solidFill>
                <a:latin typeface="Arial"/>
              </a:rPr>
              <a:t>Some digested food diffuses across the gut wall into the bloo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8" name="Picture 5" descr="fig2_xl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6893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What affects the rate of diffusio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147160" cy="16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centration gradient: The greater the difference in the concentration of a substance in two areas, the faster the rate of diffu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Concentration_Gradient_carbondioxide"/>
          <p:cNvPicPr/>
          <p:nvPr/>
        </p:nvPicPr>
        <p:blipFill>
          <a:blip r:embed="rId1"/>
          <a:stretch/>
        </p:blipFill>
        <p:spPr>
          <a:xfrm>
            <a:off x="179280" y="3141720"/>
            <a:ext cx="4248360" cy="3716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water"/>
          <p:cNvPicPr/>
          <p:nvPr/>
        </p:nvPicPr>
        <p:blipFill>
          <a:blip r:embed="rId2"/>
          <a:stretch/>
        </p:blipFill>
        <p:spPr>
          <a:xfrm>
            <a:off x="4572000" y="3860640"/>
            <a:ext cx="4276800" cy="2533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0"/>
          <p:cNvSpPr/>
          <p:nvPr/>
        </p:nvSpPr>
        <p:spPr>
          <a:xfrm>
            <a:off x="1835280" y="414972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33cc"/>
                </a:solidFill>
                <a:uFillTx/>
                <a:latin typeface="Arial"/>
              </a:rPr>
              <a:t>The rate of diffusion is directly proportional to the concentration 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What affects the rate of diffusio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7" name="Picture 7" descr="12_02_diffusion_rate"/>
          <p:cNvPicPr/>
          <p:nvPr/>
        </p:nvPicPr>
        <p:blipFill>
          <a:blip r:embed="rId1"/>
          <a:stretch/>
        </p:blipFill>
        <p:spPr>
          <a:xfrm>
            <a:off x="1258920" y="1771560"/>
            <a:ext cx="6838920" cy="508644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20:13:43Z</dcterms:created>
  <dc:creator>User</dc:creator>
  <dc:description/>
  <dc:language>en-US</dc:language>
  <cp:lastModifiedBy>LEGION2</cp:lastModifiedBy>
  <dcterms:modified xsi:type="dcterms:W3CDTF">2016-01-11T13:14:41Z</dcterms:modified>
  <cp:revision>11</cp:revision>
  <dc:subject/>
  <dc:title>Crossing Membranes 1 – Passive Processes</dc:title>
</cp:coreProperties>
</file>