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B1E4-3E91-426F-B9E1-13C542437A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863-D598-465C-8036-36DFCD6D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2C1-16CE-43CA-9E45-CDDADE89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3F7-6364-43AE-8199-5EC53A22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F65-353B-40F4-9263-426FDD87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EF12-6A29-46AD-B6B2-C23DC274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A024-0F65-461A-B901-530D2097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4FFF-BF28-4D11-888C-ED9769D3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C0B9-CEC3-42AB-B4DF-7734C405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FA7B-D6EF-4263-AF0D-A334A7F9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6659-88B6-4D24-91FE-CEBB539E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F9A9-83D8-4B01-9ACF-B1A321A6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8EA-D20E-4737-8508-33432663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5A0A-B01E-490C-B4F5-17D8A5CB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4D5A-C5A3-441A-B1FA-D53AD592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222B-7E67-4A2F-AFB4-41245D65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2D05-16A7-4950-9007-899CCAEC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4DA2-ECBF-4ACC-8505-CCDA1B2E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6AA-293E-41E4-BDF3-49A43A51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C2D-0613-45E9-BEB0-A24999E4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C86-D433-4C6F-B482-27A63452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596-7610-4C0F-B550-29C0569D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057-8CEF-4CC9-A15F-09922F17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357-24AB-45C5-9916-E5BC38C6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85B-62DB-49CF-AE7D-B73012EB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F617-0863-4F12-BD65-3117241226D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9BE6-5F97-4A71-8F85-04A8C04943C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Crossing Membranes 1 – Passive Proces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mall particles tend to diffuse faster than larger 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MembranePoresandMolecules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5" descr="3097_web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respmemb"/>
          <p:cNvPicPr/>
          <p:nvPr/>
        </p:nvPicPr>
        <p:blipFill>
          <a:blip r:embed="rId2"/>
          <a:stretch/>
        </p:blipFill>
        <p:spPr>
          <a:xfrm>
            <a:off x="611280" y="3357720"/>
            <a:ext cx="3419280" cy="20095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C3leaf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175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shorter the distance, the faster the rate of diffusion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640" y="3860640"/>
            <a:ext cx="62794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An increas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increases the rate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cilitated 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facilitatedDiffusion"/>
          <p:cNvPicPr/>
          <p:nvPr/>
        </p:nvPicPr>
        <p:blipFill>
          <a:blip r:embed="rId1"/>
          <a:stretch/>
        </p:blipFill>
        <p:spPr>
          <a:xfrm>
            <a:off x="3564000" y="270828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hannel Proteins facilitate the diffusion of 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322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Why can ions not diffuse freely across the membr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facil_di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50072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Usually each channel protein is specific to one type of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hannel proteins can open or close their pores acting like gates depending upon the cell’s nee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5" descr="facilitateddiffusion"/>
          <p:cNvPicPr/>
          <p:nvPr/>
        </p:nvPicPr>
        <p:blipFill>
          <a:blip r:embed="rId1"/>
          <a:stretch/>
        </p:blipFill>
        <p:spPr>
          <a:xfrm>
            <a:off x="684360" y="2595600"/>
            <a:ext cx="7920000" cy="32097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rrier proteins are more sophisticated in the way they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acildiffmodels"/>
          <p:cNvPicPr/>
          <p:nvPr/>
        </p:nvPicPr>
        <p:blipFill>
          <a:blip r:embed="rId1"/>
          <a:stretch/>
        </p:blipFill>
        <p:spPr>
          <a:xfrm>
            <a:off x="2124000" y="3552840"/>
            <a:ext cx="5058000" cy="330516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image025"/>
          <p:cNvPicPr/>
          <p:nvPr/>
        </p:nvPicPr>
        <p:blipFill>
          <a:blip r:embed="rId1"/>
          <a:stretch/>
        </p:blipFill>
        <p:spPr>
          <a:xfrm>
            <a:off x="1476360" y="3284640"/>
            <a:ext cx="5572080" cy="291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4352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0275248"/>
          <p:cNvPicPr/>
          <p:nvPr/>
        </p:nvPicPr>
        <p:blipFill>
          <a:blip r:embed="rId1"/>
          <a:stretch/>
        </p:blipFill>
        <p:spPr>
          <a:xfrm>
            <a:off x="3924360" y="29973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5" descr="chimneys_"/>
          <p:cNvPicPr/>
          <p:nvPr/>
        </p:nvPicPr>
        <p:blipFill>
          <a:blip r:embed="rId1"/>
          <a:stretch/>
        </p:blipFill>
        <p:spPr>
          <a:xfrm>
            <a:off x="0" y="549360"/>
            <a:ext cx="6156360" cy="46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ffusion-animated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wa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11" descr="GB1-os18"/>
          <p:cNvPicPr/>
          <p:nvPr/>
        </p:nvPicPr>
        <p:blipFill>
          <a:blip r:embed="rId1"/>
          <a:stretch/>
        </p:blipFill>
        <p:spPr>
          <a:xfrm>
            <a:off x="1692360" y="227664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66"/>
                </a:solidFill>
                <a:latin typeface="Arial"/>
              </a:rPr>
              <a:t>What is diffusion? (definitio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Comic Sans MS"/>
              </a:rPr>
              <a:t>Diffusion is the movement of molecules (or ions) from a region of high concentration to a region of lower concentration until they are spread out eve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04"/>
          <p:cNvPicPr/>
          <p:nvPr/>
        </p:nvPicPr>
        <p:blipFill>
          <a:blip r:embed="rId1"/>
          <a:stretch/>
        </p:blipFill>
        <p:spPr>
          <a:xfrm>
            <a:off x="395280" y="2997360"/>
            <a:ext cx="8334360" cy="3860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:Diffusion in the Alveoli: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35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 diffusing into the bloo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CO</a:t>
            </a:r>
            <a:r>
              <a:rPr b="1" lang="en-GB" sz="35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 diffusing out of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0013n046"/>
          <p:cNvPicPr/>
          <p:nvPr/>
        </p:nvPicPr>
        <p:blipFill>
          <a:blip r:embed="rId1"/>
          <a:stretch/>
        </p:blipFill>
        <p:spPr>
          <a:xfrm>
            <a:off x="395280" y="2516040"/>
            <a:ext cx="81374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 2: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Some digested food diffuses across the gut wall into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5" descr="fig2_xl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oncentration_Gradient_carbondioxide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water"/>
          <p:cNvPicPr/>
          <p:nvPr/>
        </p:nvPicPr>
        <p:blipFill>
          <a:blip r:embed="rId2"/>
          <a:stretch/>
        </p:blipFill>
        <p:spPr>
          <a:xfrm>
            <a:off x="4572000" y="3860640"/>
            <a:ext cx="427680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835280" y="414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The rate of diffusion is directly proportional to the concentr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7" descr="12_02_diffusion_rate"/>
          <p:cNvPicPr/>
          <p:nvPr/>
        </p:nvPicPr>
        <p:blipFill>
          <a:blip r:embed="rId1"/>
          <a:stretch/>
        </p:blipFill>
        <p:spPr>
          <a:xfrm>
            <a:off x="1258920" y="1771560"/>
            <a:ext cx="6838920" cy="5086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0:13:43Z</dcterms:created>
  <dc:creator>User</dc:creator>
  <dc:description/>
  <dc:language>en-US</dc:language>
  <cp:lastModifiedBy>LEGION2</cp:lastModifiedBy>
  <dcterms:modified xsi:type="dcterms:W3CDTF">2016-01-11T13:14:41Z</dcterms:modified>
  <cp:revision>11</cp:revision>
  <dc:subject/>
  <dc:title>Crossing Membranes 1 – Passive Processes</dc:title>
</cp:coreProperties>
</file>