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8821-EE65-4075-9405-4058F28F5F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Membranes 1 – Passiv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particles tend to diffuse faster than larg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distance, the faster the rate of diffus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facilitate the diffusion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ions not diffuse freely across the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ach channel protein is specific to one type of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proteins can open or close their pores acting like gates depending upon the cell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s are more sophisticated in the way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diffusion? (defi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is the movement of molecules (or ions) from a region of high concentration to a region of lower concentration until they are spread out eve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Diffusion in the Alveol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diffusing into the blood and CO2 diffusing ou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 Some digested food diffuses across the gut wall into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of diffusion is directly proportional to the concentration gra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ffects the rate of diffus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3E5-0288-4052-B8E5-50BE2BD4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90F-6C39-46CF-BE15-7CB668F7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B32E-1D02-44E1-A47D-7E43B81B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72F-B7F9-4063-B924-7ACA8B23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364A-26E8-4FB7-895B-0BEB1B44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AFD3-EBCA-404F-8967-7F7708D1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5132-C767-4F4D-B960-E34C6F99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5817-6C0F-4BC1-B2CB-79E760B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3F58-2BC7-45EC-B325-ACA1C0D3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A044-27C0-44FC-BC90-78408F2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DC2C-BA90-4202-B75C-0E02619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8C9-60E7-4D68-8F41-7C082DA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CF79-2820-433F-970C-7CFC2893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4DC-8A8A-4128-BCFA-D51A9403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119-E2FC-4E7F-84CB-C874C41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993B-8ED1-4CBA-B13F-56FBA9BC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CD8-B99B-46FE-90E5-753A2F96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35C-F2EF-400A-B93D-399C751C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10A-9397-420F-ABAE-214C752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4DE-DB7D-4B88-9932-FC80C05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DD0-32EF-4CA3-A0BE-2E32BBED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701-9B73-4E18-AC86-3F02D050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85E-3286-4E22-91AA-4E433826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DF1-903F-4021-915D-42140CC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F3C-CAEE-44AD-8C07-485442335CA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519-1E14-49FF-A212-BCE0E748AD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Crossing Membranes 1 – Passive Proces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2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mall particles tend to diffuse faster than larger 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6" descr="MembranePoresandMolecules"/>
          <p:cNvPicPr/>
          <p:nvPr/>
        </p:nvPicPr>
        <p:blipFill>
          <a:blip r:embed="rId1"/>
          <a:stretch/>
        </p:blipFill>
        <p:spPr>
          <a:xfrm>
            <a:off x="971640" y="1773360"/>
            <a:ext cx="7416720" cy="46083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iffusion takes place more quickly through thin membranes (e.g. exchange of gases through the alveolar wall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5" descr="3097_web"/>
          <p:cNvPicPr/>
          <p:nvPr/>
        </p:nvPicPr>
        <p:blipFill>
          <a:blip r:embed="rId1"/>
          <a:stretch/>
        </p:blipFill>
        <p:spPr>
          <a:xfrm>
            <a:off x="5003640" y="2133720"/>
            <a:ext cx="3810240" cy="43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respmemb"/>
          <p:cNvPicPr/>
          <p:nvPr/>
        </p:nvPicPr>
        <p:blipFill>
          <a:blip r:embed="rId2"/>
          <a:stretch/>
        </p:blipFill>
        <p:spPr>
          <a:xfrm>
            <a:off x="611280" y="3357720"/>
            <a:ext cx="3419280" cy="20095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larger the surface area the higher the rate of diffusion (e.g. in gases diffusing into/out of leaves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Picture 5" descr="C3leaf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4175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The shorter the distance, the faster the rate of diffusion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640" y="3860640"/>
            <a:ext cx="62794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An increase in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33cc"/>
                </a:solidFill>
                <a:latin typeface="Arial"/>
              </a:rPr>
              <a:t>increases the rate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cilitated 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ster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ell membrane proteins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nel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rrier prote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facilitatedDiffusion"/>
          <p:cNvPicPr/>
          <p:nvPr/>
        </p:nvPicPr>
        <p:blipFill>
          <a:blip r:embed="rId1"/>
          <a:stretch/>
        </p:blipFill>
        <p:spPr>
          <a:xfrm>
            <a:off x="3564000" y="270828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hannel Proteins facilitate the diffusion of 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33228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cc"/>
                </a:solidFill>
                <a:latin typeface="Arial"/>
              </a:rPr>
              <a:t>Why can ions not diffuse freely across the membra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facil_di"/>
          <p:cNvPicPr/>
          <p:nvPr/>
        </p:nvPicPr>
        <p:blipFill>
          <a:blip r:embed="rId1"/>
          <a:stretch/>
        </p:blipFill>
        <p:spPr>
          <a:xfrm>
            <a:off x="4211640" y="2349360"/>
            <a:ext cx="4105440" cy="3381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50072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Arial"/>
              </a:rPr>
              <a:t>Usually each channel protein is specific to one type of 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hannel proteins can open or close their pores acting like gates depending upon the cell’s nee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2" name="Picture 5" descr="facilitateddiffusion"/>
          <p:cNvPicPr/>
          <p:nvPr/>
        </p:nvPicPr>
        <p:blipFill>
          <a:blip r:embed="rId1"/>
          <a:stretch/>
        </p:blipFill>
        <p:spPr>
          <a:xfrm>
            <a:off x="684360" y="2595600"/>
            <a:ext cx="7920000" cy="32097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rrier proteins are more sophisticated in the way they wor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y allow the diffusion across the membrane of larger polar molecules, such as sugars and amino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acildiffmodels"/>
          <p:cNvPicPr/>
          <p:nvPr/>
        </p:nvPicPr>
        <p:blipFill>
          <a:blip r:embed="rId1"/>
          <a:stretch/>
        </p:blipFill>
        <p:spPr>
          <a:xfrm>
            <a:off x="2124000" y="3552840"/>
            <a:ext cx="5058000" cy="330516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Once a particular molecule attaches to the carrier protein at it binding site, the carrier protein changes its shape to ‘deliver’ the molecule through the membran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Picture 5" descr="image025"/>
          <p:cNvPicPr/>
          <p:nvPr/>
        </p:nvPicPr>
        <p:blipFill>
          <a:blip r:embed="rId1"/>
          <a:stretch/>
        </p:blipFill>
        <p:spPr>
          <a:xfrm>
            <a:off x="1476360" y="3284640"/>
            <a:ext cx="5572080" cy="291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4352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After Shave 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0275248"/>
          <p:cNvPicPr/>
          <p:nvPr/>
        </p:nvPicPr>
        <p:blipFill>
          <a:blip r:embed="rId1"/>
          <a:stretch/>
        </p:blipFill>
        <p:spPr>
          <a:xfrm>
            <a:off x="3924360" y="29973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5" descr="chimneys_"/>
          <p:cNvPicPr/>
          <p:nvPr/>
        </p:nvPicPr>
        <p:blipFill>
          <a:blip r:embed="rId1"/>
          <a:stretch/>
        </p:blipFill>
        <p:spPr>
          <a:xfrm>
            <a:off x="0" y="549360"/>
            <a:ext cx="6156360" cy="461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ffusion-animated"/>
          <p:cNvPicPr/>
          <p:nvPr/>
        </p:nvPicPr>
        <p:blipFill>
          <a:blip r:embed="rId2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iffusion in wa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11" descr="GB1-os18"/>
          <p:cNvPicPr/>
          <p:nvPr/>
        </p:nvPicPr>
        <p:blipFill>
          <a:blip r:embed="rId1"/>
          <a:stretch/>
        </p:blipFill>
        <p:spPr>
          <a:xfrm>
            <a:off x="1692360" y="2276640"/>
            <a:ext cx="5162400" cy="386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0066"/>
                </a:solidFill>
                <a:latin typeface="Arial"/>
              </a:rPr>
              <a:t>What is diffusion? (definition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cc"/>
                </a:solidFill>
                <a:latin typeface="Comic Sans MS"/>
              </a:rPr>
              <a:t>Diffusion is the movement of molecules (or ions) from a region of high concentration to a region of lower concentration until they are spread out even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304"/>
          <p:cNvPicPr/>
          <p:nvPr/>
        </p:nvPicPr>
        <p:blipFill>
          <a:blip r:embed="rId1"/>
          <a:stretch/>
        </p:blipFill>
        <p:spPr>
          <a:xfrm>
            <a:off x="395280" y="2997360"/>
            <a:ext cx="8334360" cy="3860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:Diffusion in the Alveoli: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35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ff0000"/>
                </a:solidFill>
                <a:latin typeface="Arial"/>
              </a:rPr>
              <a:t> diffusing into the bloo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CO</a:t>
            </a:r>
            <a:r>
              <a:rPr b="1" lang="en-GB" sz="35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 diffusing out of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5" descr="0013n046"/>
          <p:cNvPicPr/>
          <p:nvPr/>
        </p:nvPicPr>
        <p:blipFill>
          <a:blip r:embed="rId1"/>
          <a:stretch/>
        </p:blipFill>
        <p:spPr>
          <a:xfrm>
            <a:off x="395280" y="2516040"/>
            <a:ext cx="8137440" cy="43419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cc0066"/>
                </a:solidFill>
                <a:latin typeface="Arial"/>
              </a:rPr>
              <a:t>Example 2: </a:t>
            </a:r>
            <a:r>
              <a:rPr b="1" lang="en-GB" sz="3500" spc="-1" strike="noStrike">
                <a:solidFill>
                  <a:srgbClr val="0033cc"/>
                </a:solidFill>
                <a:latin typeface="Arial"/>
              </a:rPr>
              <a:t>Some digested food diffuses across the gut wall into the bloo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5" descr="fig2_xl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689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14716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ntration gradient: The greater the difference in the concentration of a substance in two areas, the faster the rate of diff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Concentration_Gradient_carbondioxide"/>
          <p:cNvPicPr/>
          <p:nvPr/>
        </p:nvPicPr>
        <p:blipFill>
          <a:blip r:embed="rId1"/>
          <a:stretch/>
        </p:blipFill>
        <p:spPr>
          <a:xfrm>
            <a:off x="179280" y="3141720"/>
            <a:ext cx="4248360" cy="3716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water"/>
          <p:cNvPicPr/>
          <p:nvPr/>
        </p:nvPicPr>
        <p:blipFill>
          <a:blip r:embed="rId2"/>
          <a:stretch/>
        </p:blipFill>
        <p:spPr>
          <a:xfrm>
            <a:off x="4572000" y="3860640"/>
            <a:ext cx="4276800" cy="2533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835280" y="4149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The rate of diffusion is directly proportional to the concentr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affects the rate of diffusio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7" descr="12_02_diffusion_rate"/>
          <p:cNvPicPr/>
          <p:nvPr/>
        </p:nvPicPr>
        <p:blipFill>
          <a:blip r:embed="rId1"/>
          <a:stretch/>
        </p:blipFill>
        <p:spPr>
          <a:xfrm>
            <a:off x="1258920" y="1771560"/>
            <a:ext cx="6838920" cy="5086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0:13:43Z</dcterms:created>
  <dc:creator>User</dc:creator>
  <dc:description/>
  <dc:language>en-US</dc:language>
  <cp:lastModifiedBy>LEGION2</cp:lastModifiedBy>
  <dcterms:modified xsi:type="dcterms:W3CDTF">2016-01-11T13:14:41Z</dcterms:modified>
  <cp:revision>11</cp:revision>
  <dc:subject/>
  <dc:title>Crossing Membranes 1 – Passive Processes</dc:title>
</cp:coreProperties>
</file>