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EB2A-3072-4A72-A3C9-D53F59C3A6C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-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ptors for everything (!!!) that fits into the sha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ck and Key mod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e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cell surface receptors, the amoeba will not find where the food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 living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mone Receptors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ulin Receptor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4DC-20FF-4D9D-B679-4475FE87B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FFEB-5DC2-4321-B23D-320533CC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E28-563B-4380-A046-5F07ACA9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C715-7A4A-4E6E-A38E-AA51B8EB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2929-4F48-4E12-8F29-7D8415BFB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76C5-B02D-4CF5-9BE9-B649C42E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D115-4BD1-44E7-8663-BA35D0E4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8713-C5ED-4BD2-865A-FBDC0AF4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3CBB-A7A1-4298-969F-DFFA0E09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0636-431B-4CAB-A525-BBB13D67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7AB9-736E-4047-92FB-0835B976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9FEE-3413-4124-ACA5-8D2F6B68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A268F-199B-4D2D-ABA3-8877EA6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1C44-DA05-4DCE-8F9D-92875559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3B8D-22CC-446D-A0C4-9E064F29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EA40-180B-4349-BB09-D3694AD8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E453-7906-40D9-AD08-0ADFCF70A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414-39F4-4CD0-AB94-017CC561C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C1E-A9BD-431E-8C79-1E3E17B7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7642-ADA0-40C1-BDAD-C0A09F0A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B900-13B3-43F7-B2DB-DC6DF1A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51E-39EE-4F4C-95C9-32955DBF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AD1-A51E-4853-88E0-1BDA6DCF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E53C-8CE7-4147-9BD2-9E237E20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6F6F-A0A8-4138-9AA9-777D7A0F8F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5045-E28D-4AFD-83F7-48D1BF947BC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Communication and Cell Signalling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 Reference: p.20-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7" name="Picture 5" descr="HIV_attachment"/>
          <p:cNvPicPr/>
          <p:nvPr/>
        </p:nvPicPr>
        <p:blipFill>
          <a:blip r:embed="rId1"/>
          <a:stretch/>
        </p:blipFill>
        <p:spPr>
          <a:xfrm>
            <a:off x="2411280" y="1773360"/>
            <a:ext cx="6732720" cy="508464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0" name="Picture 5" descr="nature06364-f1"/>
          <p:cNvPicPr/>
          <p:nvPr/>
        </p:nvPicPr>
        <p:blipFill>
          <a:blip r:embed="rId1"/>
          <a:stretch/>
        </p:blipFill>
        <p:spPr>
          <a:xfrm>
            <a:off x="2340000" y="1773360"/>
            <a:ext cx="6804000" cy="50846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 - Structur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3" name="Picture 5" descr="hiv1"/>
          <p:cNvPicPr/>
          <p:nvPr/>
        </p:nvPicPr>
        <p:blipFill>
          <a:blip r:embed="rId1"/>
          <a:stretch/>
        </p:blipFill>
        <p:spPr>
          <a:xfrm>
            <a:off x="2484360" y="1557360"/>
            <a:ext cx="6335640" cy="49672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Receptors for everything (!!!) that fits into the shape </a:t>
            </a:r>
            <a:br>
              <a:rPr sz="3200"/>
            </a:br>
            <a:r>
              <a:rPr b="0" lang="en-GB" sz="3200" spc="-1" strike="noStrike">
                <a:solidFill>
                  <a:srgbClr val="8c0039"/>
                </a:solidFill>
                <a:latin typeface="Arial"/>
              </a:rPr>
              <a:t>(lock and Key model)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36" name="Picture 5" descr="cell-binding-to-toxins"/>
          <p:cNvPicPr/>
          <p:nvPr/>
        </p:nvPicPr>
        <p:blipFill>
          <a:blip r:embed="rId1"/>
          <a:stretch/>
        </p:blipFill>
        <p:spPr>
          <a:xfrm>
            <a:off x="2627280" y="1700280"/>
            <a:ext cx="6192720" cy="47530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Amoeb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97" name="Picture 5" descr="amoeba"/>
          <p:cNvPicPr/>
          <p:nvPr/>
        </p:nvPicPr>
        <p:blipFill>
          <a:blip r:embed="rId1"/>
          <a:stretch/>
        </p:blipFill>
        <p:spPr>
          <a:xfrm>
            <a:off x="4705200" y="3213000"/>
            <a:ext cx="4438800" cy="347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amoeba"/>
          <p:cNvPicPr/>
          <p:nvPr/>
        </p:nvPicPr>
        <p:blipFill>
          <a:blip r:embed="rId2"/>
          <a:stretch/>
        </p:blipFill>
        <p:spPr>
          <a:xfrm>
            <a:off x="2124000" y="0"/>
            <a:ext cx="5343480" cy="28004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7596360" y="260280"/>
            <a:ext cx="1547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c0039"/>
                </a:solidFill>
                <a:latin typeface="Arial"/>
              </a:rPr>
              <a:t>Without the cell surface receptors, the amoeba will not find where the food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411280" y="3789360"/>
            <a:ext cx="20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58bf9"/>
                </a:solidFill>
                <a:latin typeface="Arial"/>
              </a:rPr>
              <a:t>Unicellular organism living in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3" name="Picture 5" descr="c11x10hormone-receptors2"/>
          <p:cNvPicPr/>
          <p:nvPr/>
        </p:nvPicPr>
        <p:blipFill>
          <a:blip r:embed="rId1"/>
          <a:stretch/>
        </p:blipFill>
        <p:spPr>
          <a:xfrm>
            <a:off x="2340000" y="1268280"/>
            <a:ext cx="6553080" cy="532944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2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Picture 5" descr="lockandkey"/>
          <p:cNvPicPr/>
          <p:nvPr/>
        </p:nvPicPr>
        <p:blipFill>
          <a:blip r:embed="rId1"/>
          <a:stretch/>
        </p:blipFill>
        <p:spPr>
          <a:xfrm>
            <a:off x="2340000" y="1700280"/>
            <a:ext cx="6553080" cy="4824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ormone Receptors-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9" name="Picture 5" descr="molecules_receptors"/>
          <p:cNvPicPr/>
          <p:nvPr/>
        </p:nvPicPr>
        <p:blipFill>
          <a:blip r:embed="rId1"/>
          <a:stretch/>
        </p:blipFill>
        <p:spPr>
          <a:xfrm>
            <a:off x="2411280" y="1125360"/>
            <a:ext cx="6408720" cy="54262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2" name="Picture 5" descr="Slide2"/>
          <p:cNvPicPr/>
          <p:nvPr/>
        </p:nvPicPr>
        <p:blipFill>
          <a:blip r:embed="rId1"/>
          <a:stretch/>
        </p:blipFill>
        <p:spPr>
          <a:xfrm>
            <a:off x="2390760" y="1790640"/>
            <a:ext cx="6753240" cy="50673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The Insulin Receptor-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5" name="Picture 5" descr="displayImage"/>
          <p:cNvPicPr/>
          <p:nvPr/>
        </p:nvPicPr>
        <p:blipFill>
          <a:blip r:embed="rId1"/>
          <a:stretch/>
        </p:blipFill>
        <p:spPr>
          <a:xfrm>
            <a:off x="2411280" y="1628640"/>
            <a:ext cx="6732720" cy="49690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31417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Beta blocke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18" name="Picture 5" descr="bb"/>
          <p:cNvPicPr/>
          <p:nvPr/>
        </p:nvPicPr>
        <p:blipFill>
          <a:blip r:embed="rId1"/>
          <a:stretch/>
        </p:blipFill>
        <p:spPr>
          <a:xfrm>
            <a:off x="2411280" y="1700280"/>
            <a:ext cx="2619360" cy="2733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Heart-Failure"/>
          <p:cNvPicPr/>
          <p:nvPr/>
        </p:nvPicPr>
        <p:blipFill>
          <a:blip r:embed="rId2"/>
          <a:stretch/>
        </p:blipFill>
        <p:spPr>
          <a:xfrm>
            <a:off x="5148360" y="3619440"/>
            <a:ext cx="3995640" cy="3238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8"/>
          <p:cNvSpPr/>
          <p:nvPr/>
        </p:nvSpPr>
        <p:spPr>
          <a:xfrm>
            <a:off x="5796000" y="189000"/>
            <a:ext cx="367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drug has the same shape as the shape of neurotransmitter combining with the receptor molecu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2124000" y="4437000"/>
            <a:ext cx="280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outcompetes the natural neurotransmi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c0039"/>
                </a:solidFill>
                <a:latin typeface="Arial"/>
              </a:rPr>
              <a:t>HIV-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24" name="Picture 5" descr="HIV1%20copy"/>
          <p:cNvPicPr/>
          <p:nvPr/>
        </p:nvPicPr>
        <p:blipFill>
          <a:blip r:embed="rId1"/>
          <a:stretch/>
        </p:blipFill>
        <p:spPr>
          <a:xfrm>
            <a:off x="2484360" y="1268280"/>
            <a:ext cx="6659640" cy="51850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9:37:02Z</dcterms:created>
  <dc:creator>User</dc:creator>
  <dc:description/>
  <dc:language>en-US</dc:language>
  <cp:lastModifiedBy>LEGION2</cp:lastModifiedBy>
  <dcterms:modified xsi:type="dcterms:W3CDTF">2016-01-11T13:11:56Z</dcterms:modified>
  <cp:revision>6</cp:revision>
  <dc:subject/>
  <dc:title>Communication and Cell Signalling</dc:title>
</cp:coreProperties>
</file>