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EB2C-3FBE-4442-8E74-6D44B0AA60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D97-D50B-496B-8DE7-D01C3BA6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87C-D4B7-443E-9E5D-DF30392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66A-413A-4B50-B8A9-E1A9F329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18A-F4C3-43B8-9B67-A92AB055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4149-9253-4999-B077-2491E6FA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2E2A-91FA-455F-9E1C-EF615BF0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4246-A89B-4297-A2AC-28094333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3642-E3B7-4FAB-8AD4-DC92664D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0453-6BF3-4DA1-A762-A608A1A5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224F-AF12-42DC-9AD7-97DF86DA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3FC1-A5D7-4B81-9F2D-C1F4DCD2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B4D-84D2-4372-AD9D-592AAEF8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5BFB-5F2B-4D70-A3C7-6DFF666C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0886-3F5A-4848-862B-3B986BE4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712D-C1A2-4209-99FC-263BFC8E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D91C-80B0-450E-A1ED-18B9975B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E30B-64DC-4E56-8F7D-9571BCED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A61-DF5D-49AB-BFA9-2EF46D45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3F4-8C7D-474F-8F91-33F7EC83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5CA-7574-45F5-BDB6-FB627FB6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C74-76AB-42D9-9DE7-32518F45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0FC-CEEA-4FD0-986D-9EDAC864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82F-E902-44CB-90B2-A6476DCF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81B-261D-4CCA-9609-4949ABA9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8187-CB84-4AD5-833F-CCD8B723B2B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1522-E61A-48B2-BB0B-428C559379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Picture 5" descr="HIV_attachment"/>
          <p:cNvPicPr/>
          <p:nvPr/>
        </p:nvPicPr>
        <p:blipFill>
          <a:blip r:embed="rId1"/>
          <a:stretch/>
        </p:blipFill>
        <p:spPr>
          <a:xfrm>
            <a:off x="2411280" y="1773360"/>
            <a:ext cx="6732720" cy="5084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0" name="Picture 5" descr="nature06364-f1"/>
          <p:cNvPicPr/>
          <p:nvPr/>
        </p:nvPicPr>
        <p:blipFill>
          <a:blip r:embed="rId1"/>
          <a:stretch/>
        </p:blipFill>
        <p:spPr>
          <a:xfrm>
            <a:off x="2340000" y="1773360"/>
            <a:ext cx="6804000" cy="508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 - Structu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5" descr="hiv1"/>
          <p:cNvPicPr/>
          <p:nvPr/>
        </p:nvPicPr>
        <p:blipFill>
          <a:blip r:embed="rId1"/>
          <a:stretch/>
        </p:blipFill>
        <p:spPr>
          <a:xfrm>
            <a:off x="2484360" y="1557360"/>
            <a:ext cx="6335640" cy="4967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Receptors for everything (!!!) that fits into the shape </a:t>
            </a:r>
            <a:br>
              <a:rPr sz="3200"/>
            </a:b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(lock and Key model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6" name="Picture 5" descr="cell-binding-to-toxins"/>
          <p:cNvPicPr/>
          <p:nvPr/>
        </p:nvPicPr>
        <p:blipFill>
          <a:blip r:embed="rId1"/>
          <a:stretch/>
        </p:blipFill>
        <p:spPr>
          <a:xfrm>
            <a:off x="2627280" y="1700280"/>
            <a:ext cx="6192720" cy="4753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Amoeb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5" descr="amoeba"/>
          <p:cNvPicPr/>
          <p:nvPr/>
        </p:nvPicPr>
        <p:blipFill>
          <a:blip r:embed="rId1"/>
          <a:stretch/>
        </p:blipFill>
        <p:spPr>
          <a:xfrm>
            <a:off x="4705200" y="3213000"/>
            <a:ext cx="4438800" cy="347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moeba"/>
          <p:cNvPicPr/>
          <p:nvPr/>
        </p:nvPicPr>
        <p:blipFill>
          <a:blip r:embed="rId2"/>
          <a:stretch/>
        </p:blipFill>
        <p:spPr>
          <a:xfrm>
            <a:off x="2124000" y="0"/>
            <a:ext cx="534348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7596360" y="260280"/>
            <a:ext cx="154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c0039"/>
                </a:solidFill>
                <a:latin typeface="Arial"/>
              </a:rPr>
              <a:t>Without the cell surface receptors, the amoeba will not find where the foo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411280" y="378936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58bf9"/>
                </a:solidFill>
                <a:latin typeface="Arial"/>
              </a:rPr>
              <a:t>Unicellular organism living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5" descr="c11x10hormone-receptors2"/>
          <p:cNvPicPr/>
          <p:nvPr/>
        </p:nvPicPr>
        <p:blipFill>
          <a:blip r:embed="rId1"/>
          <a:stretch/>
        </p:blipFill>
        <p:spPr>
          <a:xfrm>
            <a:off x="2340000" y="1268280"/>
            <a:ext cx="6553080" cy="5329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2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5" descr="lockandkey"/>
          <p:cNvPicPr/>
          <p:nvPr/>
        </p:nvPicPr>
        <p:blipFill>
          <a:blip r:embed="rId1"/>
          <a:stretch/>
        </p:blipFill>
        <p:spPr>
          <a:xfrm>
            <a:off x="2340000" y="1700280"/>
            <a:ext cx="655308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5" descr="molecules_receptors"/>
          <p:cNvPicPr/>
          <p:nvPr/>
        </p:nvPicPr>
        <p:blipFill>
          <a:blip r:embed="rId1"/>
          <a:stretch/>
        </p:blipFill>
        <p:spPr>
          <a:xfrm>
            <a:off x="2411280" y="1125360"/>
            <a:ext cx="6408720" cy="5426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2" name="Picture 5" descr="Slide2"/>
          <p:cNvPicPr/>
          <p:nvPr/>
        </p:nvPicPr>
        <p:blipFill>
          <a:blip r:embed="rId1"/>
          <a:stretch/>
        </p:blipFill>
        <p:spPr>
          <a:xfrm>
            <a:off x="2390760" y="1790640"/>
            <a:ext cx="6753240" cy="50673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Picture 5" descr="displayImage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969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3141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Beta bloc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8" name="Picture 5" descr="bb"/>
          <p:cNvPicPr/>
          <p:nvPr/>
        </p:nvPicPr>
        <p:blipFill>
          <a:blip r:embed="rId1"/>
          <a:stretch/>
        </p:blipFill>
        <p:spPr>
          <a:xfrm>
            <a:off x="2411280" y="1700280"/>
            <a:ext cx="2619360" cy="273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eart-Failure"/>
          <p:cNvPicPr/>
          <p:nvPr/>
        </p:nvPicPr>
        <p:blipFill>
          <a:blip r:embed="rId2"/>
          <a:stretch/>
        </p:blipFill>
        <p:spPr>
          <a:xfrm>
            <a:off x="5148360" y="3619440"/>
            <a:ext cx="399564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6000" y="189000"/>
            <a:ext cx="367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124000" y="443700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4" name="Picture 5" descr="HIV1%20copy"/>
          <p:cNvPicPr/>
          <p:nvPr/>
        </p:nvPicPr>
        <p:blipFill>
          <a:blip r:embed="rId1"/>
          <a:stretch/>
        </p:blipFill>
        <p:spPr>
          <a:xfrm>
            <a:off x="2484360" y="1268280"/>
            <a:ext cx="6659640" cy="5185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37:02Z</dcterms:created>
  <dc:creator>User</dc:creator>
  <dc:description/>
  <dc:language>en-US</dc:language>
  <cp:lastModifiedBy>LEGION2</cp:lastModifiedBy>
  <dcterms:modified xsi:type="dcterms:W3CDTF">2016-01-11T13:11:56Z</dcterms:modified>
  <cp:revision>6</cp:revision>
  <dc:subject/>
  <dc:title>Communication and Cell Signalling</dc:title>
</cp:coreProperties>
</file>