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B9D4-BECB-4CDA-8F4C-9B3D77F385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F76-51E5-4233-B466-4C171336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BC0-D4FC-43AD-AA19-6980B581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7C8-ED2C-48F9-A024-A4F4330E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37C-FEC2-417F-9F50-ABDCE938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11A3-199A-4328-B101-274D8C85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EE51-34C5-4CDD-AEC8-F8A3D9C2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536D-8DCB-4A69-BC36-B97B8166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D708-9AC8-4818-A41D-41A62061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E505-C484-47CC-A958-8624D5BB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B6FA-A9E2-4879-99EA-97BFC7CD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57D3-DE05-41AC-AF44-B3BAED4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387-EED8-41C4-932D-17828542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B23C-DC52-4420-9392-B2DE0604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22FA-E720-480E-9467-742F102C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BF5C-4C96-49DB-AECE-8894BD14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FC1D-0BA1-478C-8DA5-E8381756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9971-0C2D-479C-8921-CD933136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C8B-82DE-465D-BDAD-FB1E2E9D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CDC-929F-4739-A580-DA6621F5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20C-B5D4-4339-ADB7-12DB6046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49A-F6D3-400E-9C22-27531B7C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8D0-12A7-4B77-88AB-2C7A1BD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BEA-93B5-4716-B9D2-7A3D08B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002-8B5F-4772-9667-E9FE07E1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81E5-1908-4997-A819-85B9659DB9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786C-BCD7-4869-82FE-633146CAFF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Picture 5" descr="HIV_attachment"/>
          <p:cNvPicPr/>
          <p:nvPr/>
        </p:nvPicPr>
        <p:blipFill>
          <a:blip r:embed="rId1"/>
          <a:stretch/>
        </p:blipFill>
        <p:spPr>
          <a:xfrm>
            <a:off x="2411280" y="1773360"/>
            <a:ext cx="6732720" cy="5084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0" name="Picture 5" descr="nature06364-f1"/>
          <p:cNvPicPr/>
          <p:nvPr/>
        </p:nvPicPr>
        <p:blipFill>
          <a:blip r:embed="rId1"/>
          <a:stretch/>
        </p:blipFill>
        <p:spPr>
          <a:xfrm>
            <a:off x="2340000" y="1773360"/>
            <a:ext cx="6804000" cy="508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 - Structu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5" descr="hiv1"/>
          <p:cNvPicPr/>
          <p:nvPr/>
        </p:nvPicPr>
        <p:blipFill>
          <a:blip r:embed="rId1"/>
          <a:stretch/>
        </p:blipFill>
        <p:spPr>
          <a:xfrm>
            <a:off x="2484360" y="1557360"/>
            <a:ext cx="6335640" cy="4967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Receptors for everything (!!!) that fits into the shape </a:t>
            </a:r>
            <a:br>
              <a:rPr sz="3200"/>
            </a:b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(lock and Key model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6" name="Picture 5" descr="cell-binding-to-toxins"/>
          <p:cNvPicPr/>
          <p:nvPr/>
        </p:nvPicPr>
        <p:blipFill>
          <a:blip r:embed="rId1"/>
          <a:stretch/>
        </p:blipFill>
        <p:spPr>
          <a:xfrm>
            <a:off x="2627280" y="1700280"/>
            <a:ext cx="6192720" cy="4753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Amoeb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5" descr="amoeba"/>
          <p:cNvPicPr/>
          <p:nvPr/>
        </p:nvPicPr>
        <p:blipFill>
          <a:blip r:embed="rId1"/>
          <a:stretch/>
        </p:blipFill>
        <p:spPr>
          <a:xfrm>
            <a:off x="4705200" y="3213000"/>
            <a:ext cx="4438800" cy="347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moeba"/>
          <p:cNvPicPr/>
          <p:nvPr/>
        </p:nvPicPr>
        <p:blipFill>
          <a:blip r:embed="rId2"/>
          <a:stretch/>
        </p:blipFill>
        <p:spPr>
          <a:xfrm>
            <a:off x="2124000" y="0"/>
            <a:ext cx="534348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7596360" y="260280"/>
            <a:ext cx="154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c0039"/>
                </a:solidFill>
                <a:latin typeface="Arial"/>
              </a:rPr>
              <a:t>Without the cell surface receptors, the amoeba will not find where the foo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411280" y="378936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58bf9"/>
                </a:solidFill>
                <a:latin typeface="Arial"/>
              </a:rPr>
              <a:t>Unicellular organism living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5" descr="c11x10hormone-receptors2"/>
          <p:cNvPicPr/>
          <p:nvPr/>
        </p:nvPicPr>
        <p:blipFill>
          <a:blip r:embed="rId1"/>
          <a:stretch/>
        </p:blipFill>
        <p:spPr>
          <a:xfrm>
            <a:off x="2340000" y="1268280"/>
            <a:ext cx="6553080" cy="5329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2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5" descr="lockandkey"/>
          <p:cNvPicPr/>
          <p:nvPr/>
        </p:nvPicPr>
        <p:blipFill>
          <a:blip r:embed="rId1"/>
          <a:stretch/>
        </p:blipFill>
        <p:spPr>
          <a:xfrm>
            <a:off x="2340000" y="1700280"/>
            <a:ext cx="655308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5" descr="molecules_receptors"/>
          <p:cNvPicPr/>
          <p:nvPr/>
        </p:nvPicPr>
        <p:blipFill>
          <a:blip r:embed="rId1"/>
          <a:stretch/>
        </p:blipFill>
        <p:spPr>
          <a:xfrm>
            <a:off x="2411280" y="1125360"/>
            <a:ext cx="6408720" cy="5426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2" name="Picture 5" descr="Slide2"/>
          <p:cNvPicPr/>
          <p:nvPr/>
        </p:nvPicPr>
        <p:blipFill>
          <a:blip r:embed="rId1"/>
          <a:stretch/>
        </p:blipFill>
        <p:spPr>
          <a:xfrm>
            <a:off x="2390760" y="1790640"/>
            <a:ext cx="6753240" cy="50673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Picture 5" descr="displayImage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969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3141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Beta bloc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8" name="Picture 5" descr="bb"/>
          <p:cNvPicPr/>
          <p:nvPr/>
        </p:nvPicPr>
        <p:blipFill>
          <a:blip r:embed="rId1"/>
          <a:stretch/>
        </p:blipFill>
        <p:spPr>
          <a:xfrm>
            <a:off x="2411280" y="1700280"/>
            <a:ext cx="2619360" cy="273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eart-Failure"/>
          <p:cNvPicPr/>
          <p:nvPr/>
        </p:nvPicPr>
        <p:blipFill>
          <a:blip r:embed="rId2"/>
          <a:stretch/>
        </p:blipFill>
        <p:spPr>
          <a:xfrm>
            <a:off x="5148360" y="3619440"/>
            <a:ext cx="399564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6000" y="189000"/>
            <a:ext cx="367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124000" y="443700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4" name="Picture 5" descr="HIV1%20copy"/>
          <p:cNvPicPr/>
          <p:nvPr/>
        </p:nvPicPr>
        <p:blipFill>
          <a:blip r:embed="rId1"/>
          <a:stretch/>
        </p:blipFill>
        <p:spPr>
          <a:xfrm>
            <a:off x="2484360" y="1268280"/>
            <a:ext cx="6659640" cy="5185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37:02Z</dcterms:created>
  <dc:creator>User</dc:creator>
  <dc:description/>
  <dc:language>en-US</dc:language>
  <cp:lastModifiedBy>LEGION2</cp:lastModifiedBy>
  <dcterms:modified xsi:type="dcterms:W3CDTF">2016-01-11T13:11:56Z</dcterms:modified>
  <cp:revision>6</cp:revision>
  <dc:subject/>
  <dc:title>Communication and Cell Signalling</dc:title>
</cp:coreProperties>
</file>