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EC95-ED10-4947-8DF1-87612BF738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6CB-5D46-432C-A6FE-0629AC10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812-8336-4441-94FD-389BD0A6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061-ABE6-4BDE-B831-1D76EE45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2ED-638E-4432-AAB9-AF08A881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8E93-7555-49AF-9285-449679E3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4824-7EA8-4580-8D4E-F553C067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0363-6222-4092-ACAB-1CFB55FB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BA94-A17D-456B-9BFE-B1D0CB08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CCDE-4637-4BCE-8DC9-F725A6FB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7A29-F2C1-4C28-B445-A5DE2621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8652-B82D-4E60-828C-07F37F31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27B-E050-4514-8298-59A056FB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176A-5FF8-43B8-A779-D64F366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852E-0859-4FB9-B0B2-18E6C52B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A5FF-27BD-42BA-96EB-0B316CF6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A7FB-8839-4226-9160-C67537B1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17CD-E8B9-494C-96DE-3D3AA53E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718-8526-4D1E-995E-E619A92A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3B0-5D2B-408A-996A-FB0FB54F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FDF-363D-40AB-B2AC-3F1B5E5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B92-18DD-4481-9B7E-0780A93E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8D5-F1B6-433F-8AA3-07F1867A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57D-205E-4833-BD6C-8F1C3132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0F8-138A-4AD5-8347-C230000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8925-FEAD-4072-B200-2ABFDAAD45B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6F64-9EDF-4A14-8932-E0828A7AC25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Picture 5" descr="HIV_attachment"/>
          <p:cNvPicPr/>
          <p:nvPr/>
        </p:nvPicPr>
        <p:blipFill>
          <a:blip r:embed="rId1"/>
          <a:stretch/>
        </p:blipFill>
        <p:spPr>
          <a:xfrm>
            <a:off x="2411280" y="1773360"/>
            <a:ext cx="6732720" cy="5084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0" name="Picture 5" descr="nature06364-f1"/>
          <p:cNvPicPr/>
          <p:nvPr/>
        </p:nvPicPr>
        <p:blipFill>
          <a:blip r:embed="rId1"/>
          <a:stretch/>
        </p:blipFill>
        <p:spPr>
          <a:xfrm>
            <a:off x="2340000" y="1773360"/>
            <a:ext cx="6804000" cy="508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 - Structu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5" descr="hiv1"/>
          <p:cNvPicPr/>
          <p:nvPr/>
        </p:nvPicPr>
        <p:blipFill>
          <a:blip r:embed="rId1"/>
          <a:stretch/>
        </p:blipFill>
        <p:spPr>
          <a:xfrm>
            <a:off x="2484360" y="1557360"/>
            <a:ext cx="6335640" cy="4967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Receptors for everything (!!!) that fits into the shape </a:t>
            </a:r>
            <a:br>
              <a:rPr sz="3200"/>
            </a:b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(lock and Key model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6" name="Picture 5" descr="cell-binding-to-toxins"/>
          <p:cNvPicPr/>
          <p:nvPr/>
        </p:nvPicPr>
        <p:blipFill>
          <a:blip r:embed="rId1"/>
          <a:stretch/>
        </p:blipFill>
        <p:spPr>
          <a:xfrm>
            <a:off x="2627280" y="1700280"/>
            <a:ext cx="6192720" cy="4753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Amoeb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5" descr="amoeba"/>
          <p:cNvPicPr/>
          <p:nvPr/>
        </p:nvPicPr>
        <p:blipFill>
          <a:blip r:embed="rId1"/>
          <a:stretch/>
        </p:blipFill>
        <p:spPr>
          <a:xfrm>
            <a:off x="4705200" y="3213000"/>
            <a:ext cx="4438800" cy="347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moeba"/>
          <p:cNvPicPr/>
          <p:nvPr/>
        </p:nvPicPr>
        <p:blipFill>
          <a:blip r:embed="rId2"/>
          <a:stretch/>
        </p:blipFill>
        <p:spPr>
          <a:xfrm>
            <a:off x="2124000" y="0"/>
            <a:ext cx="534348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7596360" y="260280"/>
            <a:ext cx="154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c0039"/>
                </a:solidFill>
                <a:latin typeface="Arial"/>
              </a:rPr>
              <a:t>Without the cell surface receptors, the amoeba will not find where the foo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411280" y="378936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58bf9"/>
                </a:solidFill>
                <a:latin typeface="Arial"/>
              </a:rPr>
              <a:t>Unicellular organism living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5" descr="c11x10hormone-receptors2"/>
          <p:cNvPicPr/>
          <p:nvPr/>
        </p:nvPicPr>
        <p:blipFill>
          <a:blip r:embed="rId1"/>
          <a:stretch/>
        </p:blipFill>
        <p:spPr>
          <a:xfrm>
            <a:off x="2340000" y="1268280"/>
            <a:ext cx="6553080" cy="5329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2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5" descr="lockandkey"/>
          <p:cNvPicPr/>
          <p:nvPr/>
        </p:nvPicPr>
        <p:blipFill>
          <a:blip r:embed="rId1"/>
          <a:stretch/>
        </p:blipFill>
        <p:spPr>
          <a:xfrm>
            <a:off x="2340000" y="1700280"/>
            <a:ext cx="655308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5" descr="molecules_receptors"/>
          <p:cNvPicPr/>
          <p:nvPr/>
        </p:nvPicPr>
        <p:blipFill>
          <a:blip r:embed="rId1"/>
          <a:stretch/>
        </p:blipFill>
        <p:spPr>
          <a:xfrm>
            <a:off x="2411280" y="1125360"/>
            <a:ext cx="6408720" cy="5426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2" name="Picture 5" descr="Slide2"/>
          <p:cNvPicPr/>
          <p:nvPr/>
        </p:nvPicPr>
        <p:blipFill>
          <a:blip r:embed="rId1"/>
          <a:stretch/>
        </p:blipFill>
        <p:spPr>
          <a:xfrm>
            <a:off x="2390760" y="1790640"/>
            <a:ext cx="6753240" cy="50673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Picture 5" descr="displayImage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969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3141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Beta bloc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8" name="Picture 5" descr="bb"/>
          <p:cNvPicPr/>
          <p:nvPr/>
        </p:nvPicPr>
        <p:blipFill>
          <a:blip r:embed="rId1"/>
          <a:stretch/>
        </p:blipFill>
        <p:spPr>
          <a:xfrm>
            <a:off x="2411280" y="1700280"/>
            <a:ext cx="2619360" cy="273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eart-Failure"/>
          <p:cNvPicPr/>
          <p:nvPr/>
        </p:nvPicPr>
        <p:blipFill>
          <a:blip r:embed="rId2"/>
          <a:stretch/>
        </p:blipFill>
        <p:spPr>
          <a:xfrm>
            <a:off x="5148360" y="3619440"/>
            <a:ext cx="399564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6000" y="189000"/>
            <a:ext cx="367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124000" y="443700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4" name="Picture 5" descr="HIV1%20copy"/>
          <p:cNvPicPr/>
          <p:nvPr/>
        </p:nvPicPr>
        <p:blipFill>
          <a:blip r:embed="rId1"/>
          <a:stretch/>
        </p:blipFill>
        <p:spPr>
          <a:xfrm>
            <a:off x="2484360" y="1268280"/>
            <a:ext cx="6659640" cy="5185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37:02Z</dcterms:created>
  <dc:creator>User</dc:creator>
  <dc:description/>
  <dc:language>en-US</dc:language>
  <cp:lastModifiedBy>LEGION2</cp:lastModifiedBy>
  <dcterms:modified xsi:type="dcterms:W3CDTF">2016-01-11T13:11:56Z</dcterms:modified>
  <cp:revision>6</cp:revision>
  <dc:subject/>
  <dc:title>Communication and Cell Signalling</dc:title>
</cp:coreProperties>
</file>