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A8D4-459E-461B-9E48-83D32082C7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, 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, 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3 through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3 through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in Group 13 are all metals except boron, which is a brittle, black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kware made with boron can be moved directly from the refrigerator into the oven without crac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in Group 13 are all metals except boron, which is a brittle, black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kware made with boron can be moved directly from the refrigerator into the oven without crac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 is used to make soft-drink cans, cookware, siding for homes, and baseball ba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lium is a solid metal, but its melting point is so low that it will melt in your h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make computer chi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 is used to make soft-drink cans, cookware, siding for homes, and baseball ba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lium is a solid metal, but its melting point is so low that it will melt in your h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make computer chi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F4A-D6DB-4242-B42D-17CA80B1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AB0-1EF1-435E-A302-D4E3F229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722E-504A-4CAB-98C3-855E2FA6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062-27B6-453E-81BD-610A6749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AD3-5388-42B7-A2C9-201C96BF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DD0-6E80-442B-BFA6-7AFDF464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246-98A2-4977-B08E-F048D6A9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A0E-B6D3-4DD7-A1B0-ED797B89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B53-D17C-4162-B38A-FEF28227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99ED-1F37-468B-B84C-38C4FBE0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AE3-5363-431C-B842-3C440E6E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572-B605-4CBA-92CB-76593F7B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9528-E81C-4345-840D-0E1D09F45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3, the Boron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4487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s 13 through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im23"/>
          <p:cNvPicPr/>
          <p:nvPr/>
        </p:nvPicPr>
        <p:blipFill>
          <a:blip r:embed="rId1"/>
          <a:stretch/>
        </p:blipFill>
        <p:spPr>
          <a:xfrm>
            <a:off x="4606920" y="2193840"/>
            <a:ext cx="3774960" cy="37656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6"/>
          <p:cNvGrpSpPr/>
          <p:nvPr/>
        </p:nvGrpSpPr>
        <p:grpSpPr>
          <a:xfrm>
            <a:off x="533520" y="1219320"/>
            <a:ext cx="8305560" cy="4345560"/>
            <a:chOff x="533520" y="1219320"/>
            <a:chExt cx="8305560" cy="4345560"/>
          </a:xfrm>
        </p:grpSpPr>
        <p:sp>
          <p:nvSpPr>
            <p:cNvPr id="53" name="Text Box 7"/>
            <p:cNvSpPr/>
            <p:nvPr/>
          </p:nvSpPr>
          <p:spPr>
            <a:xfrm>
              <a:off x="533520" y="1219320"/>
              <a:ext cx="83055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elements in Groups 13-18 are not all solid metals like the elements of Groups 1 and 2.  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8"/>
            <p:cNvSpPr/>
            <p:nvPr/>
          </p:nvSpPr>
          <p:spPr>
            <a:xfrm>
              <a:off x="863640" y="2058840"/>
              <a:ext cx="37846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act, a single group can contain metals, nonmetals, and metalloids and have members that are solids, liquids, and gase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571040" y="685800"/>
            <a:ext cx="608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3—The Boro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3520" y="1295280"/>
            <a:ext cx="4724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in Group 13 are all metals except boron, which is a brittle, black metallo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3276720"/>
            <a:ext cx="4495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kware made with boron can be moved directly from the refrigerator into the oven without crackin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24 aluminum beams"/>
          <p:cNvPicPr/>
          <p:nvPr/>
        </p:nvPicPr>
        <p:blipFill>
          <a:blip r:embed="rId1"/>
          <a:stretch/>
        </p:blipFill>
        <p:spPr>
          <a:xfrm>
            <a:off x="5562720" y="1346040"/>
            <a:ext cx="28954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571040" y="685800"/>
            <a:ext cx="608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3—The Boro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33520" y="1295280"/>
            <a:ext cx="4952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minum is used to make soft-drink cans, cookware, siding for homes, and baseball bat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33520" y="3124080"/>
            <a:ext cx="4952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llium is a solid metal, but its melting point is so low that it will melt in your h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33520" y="4952880"/>
            <a:ext cx="4876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used to make computer chip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im24 aluminum beams"/>
          <p:cNvPicPr/>
          <p:nvPr/>
        </p:nvPicPr>
        <p:blipFill>
          <a:blip r:embed="rId1"/>
          <a:stretch/>
        </p:blipFill>
        <p:spPr>
          <a:xfrm>
            <a:off x="5562720" y="1346040"/>
            <a:ext cx="28954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5:40Z</dcterms:created>
  <dc:creator>CIC1</dc:creator>
  <dc:description/>
  <dc:language>en-US</dc:language>
  <cp:lastModifiedBy>RomaK</cp:lastModifiedBy>
  <dcterms:modified xsi:type="dcterms:W3CDTF">2015-09-01T16:26:31Z</dcterms:modified>
  <cp:revision>6</cp:revision>
  <dc:subject/>
  <dc:title>Group 13, the Boron Family</dc:title>
</cp:coreProperties>
</file>