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653E-71B0-4EF6-A8D6-0FBA65F7CD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3, the Boro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3, the Boro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3 through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3 through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3—The Boro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s in Group 13 are all metals except boron, which is a brittle, black metallo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kware made with boron can be moved directly from the refrigerator into the oven without crack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3—The Boro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s in Group 13 are all metals except boron, which is a brittle, black metallo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kware made with boron can be moved directly from the refrigerator into the oven without crack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3—The Boro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um is used to make soft-drink cans, cookware, siding for homes, and baseball ba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lium is a solid metal, but its melting point is so low that it will melt in your h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to make computer chip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3—The Boro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um is used to make soft-drink cans, cookware, siding for homes, and baseball ba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lium is a solid metal, but its melting point is so low that it will melt in your h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to make computer chip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96C4-DA8A-4657-8F6B-AC876E8CA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0959-9CE5-42E6-9A8F-28BE6016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77B6-23BE-49BF-A32F-031A40B45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A8F4-2208-48C0-B17C-D8B36378D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CE49-3EEA-4040-8941-50470233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1E2C-3B7A-437A-8C5B-D5EC19A2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7DDB-F08A-442F-BD16-DC9E103B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CF1A-462B-4A58-9112-3A345581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6A64-2B35-42D6-9C91-775377A8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1321-CE45-4CA5-AF86-C4A8C65F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DAD8-7458-4275-91CA-C53D9B03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7F61-E2FD-412D-8589-693ECB76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588A-2392-47DA-AEC5-247891526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 13, the Boron Fam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69600" y="685800"/>
            <a:ext cx="44874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s 13 through 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im23"/>
          <p:cNvPicPr/>
          <p:nvPr/>
        </p:nvPicPr>
        <p:blipFill>
          <a:blip r:embed="rId1"/>
          <a:stretch/>
        </p:blipFill>
        <p:spPr>
          <a:xfrm>
            <a:off x="4606920" y="2193840"/>
            <a:ext cx="3774960" cy="376560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6"/>
          <p:cNvGrpSpPr/>
          <p:nvPr/>
        </p:nvGrpSpPr>
        <p:grpSpPr>
          <a:xfrm>
            <a:off x="533520" y="1219320"/>
            <a:ext cx="8305560" cy="4345560"/>
            <a:chOff x="533520" y="1219320"/>
            <a:chExt cx="8305560" cy="4345560"/>
          </a:xfrm>
        </p:grpSpPr>
        <p:sp>
          <p:nvSpPr>
            <p:cNvPr id="53" name="Text Box 7"/>
            <p:cNvSpPr/>
            <p:nvPr/>
          </p:nvSpPr>
          <p:spPr>
            <a:xfrm>
              <a:off x="533520" y="1219320"/>
              <a:ext cx="830556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he elements in Groups 13-18 are not all solid metals like the elements of Groups 1 and 2.  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8"/>
            <p:cNvSpPr/>
            <p:nvPr/>
          </p:nvSpPr>
          <p:spPr>
            <a:xfrm>
              <a:off x="863640" y="2058840"/>
              <a:ext cx="378468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fact, a single group can contain metals, nonmetals, and metalloids and have members that are solids, liquids, and gase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571040" y="685800"/>
            <a:ext cx="608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3—The Boro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533520" y="1295280"/>
            <a:ext cx="47242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lements in Group 13 are all metals except boron, which is a brittle, black metalloi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533520" y="3276720"/>
            <a:ext cx="44956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okware made with boron can be moved directly from the refrigerator into the oven without cracking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im24 aluminum beams"/>
          <p:cNvPicPr/>
          <p:nvPr/>
        </p:nvPicPr>
        <p:blipFill>
          <a:blip r:embed="rId1"/>
          <a:stretch/>
        </p:blipFill>
        <p:spPr>
          <a:xfrm>
            <a:off x="5562720" y="1346040"/>
            <a:ext cx="2895480" cy="44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571040" y="685800"/>
            <a:ext cx="608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3—The Boro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533520" y="1295280"/>
            <a:ext cx="49528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uminum is used to make soft-drink cans, cookware, siding for homes, and baseball bat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533520" y="3124080"/>
            <a:ext cx="49528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llium is a solid metal, but its melting point is so low that it will melt in your h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533520" y="4952880"/>
            <a:ext cx="4876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used to make computer chip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im24 aluminum beams"/>
          <p:cNvPicPr/>
          <p:nvPr/>
        </p:nvPicPr>
        <p:blipFill>
          <a:blip r:embed="rId1"/>
          <a:stretch/>
        </p:blipFill>
        <p:spPr>
          <a:xfrm>
            <a:off x="5562720" y="1346040"/>
            <a:ext cx="2895480" cy="44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21:15:40Z</dcterms:created>
  <dc:creator>CIC1</dc:creator>
  <dc:description/>
  <dc:language>en-US</dc:language>
  <cp:lastModifiedBy>RomaK</cp:lastModifiedBy>
  <dcterms:modified xsi:type="dcterms:W3CDTF">2015-09-01T16:26:31Z</dcterms:modified>
  <cp:revision>6</cp:revision>
  <dc:subject/>
  <dc:title>Group 13, the Boron Family</dc:title>
</cp:coreProperties>
</file>