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FB1A-5E31-4129-AA2E-AEB1699FC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128-0D8F-40C0-89C1-AC7A0C62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7F0-3C1A-4975-AEC4-0F4A6125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BAC-DD75-45C6-8975-48D2F7FF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0E6-2D41-4AEE-9C12-7837C89C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639-DBCF-41EA-A439-B90E622E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B29-B4B3-4555-A530-2565B85A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47F-4C40-4D07-B723-F0A67D1D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EE3-081D-42C6-B3E9-9DB6B6A0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A87-142B-4C8F-8300-4059A6A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F4A-3150-4FFC-AC94-0352ED5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968-5E2C-4D1E-BC7F-4F08414B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39A-7487-4D6A-8D1C-28BD3E70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828C-7441-49C9-B252-02E6EC7BB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3, the Boro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448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s 13 through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23"/>
          <p:cNvPicPr/>
          <p:nvPr/>
        </p:nvPicPr>
        <p:blipFill>
          <a:blip r:embed="rId1"/>
          <a:stretch/>
        </p:blipFill>
        <p:spPr>
          <a:xfrm>
            <a:off x="4606920" y="2193840"/>
            <a:ext cx="3774960" cy="3765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533520" y="1219320"/>
            <a:ext cx="8305560" cy="4345560"/>
            <a:chOff x="533520" y="1219320"/>
            <a:chExt cx="8305560" cy="4345560"/>
          </a:xfrm>
        </p:grpSpPr>
        <p:sp>
          <p:nvSpPr>
            <p:cNvPr id="53" name="Text Box 7"/>
            <p:cNvSpPr/>
            <p:nvPr/>
          </p:nvSpPr>
          <p:spPr>
            <a:xfrm>
              <a:off x="533520" y="1219320"/>
              <a:ext cx="83055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elements in Groups 13-18 are not all solid metals like the elements of Groups 1 and 2.  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3640" y="2058840"/>
              <a:ext cx="37846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act, a single group can contain metals, nonmetals, and metalloids and have members that are solids, liquids, and gas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29528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in Group 13 are all metals except boron, which is a brittle, black meta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3276720"/>
            <a:ext cx="4495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ware made with boron can be moved directly from the refrigerator into the oven without crack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2952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is used to make soft-drink cans, cookware, siding for homes, and baseball bat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31240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ium is a solid metal, but its melting point is so low that it will melt in you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3520" y="4952880"/>
            <a:ext cx="487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to make computer chip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5:40Z</dcterms:created>
  <dc:creator>CIC1</dc:creator>
  <dc:description/>
  <dc:language>en-US</dc:language>
  <cp:lastModifiedBy>RomaK</cp:lastModifiedBy>
  <dcterms:modified xsi:type="dcterms:W3CDTF">2015-09-01T16:26:31Z</dcterms:modified>
  <cp:revision>6</cp:revision>
  <dc:subject/>
  <dc:title>Group 13, the Boron Family</dc:title>
</cp:coreProperties>
</file>