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02335-5D80-447C-9A04-1D2A7262F8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3, the Boro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3, the Boro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3 through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3 through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3—The Boro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ments in Group 13 are all metals except boron, which is a brittle, black metallo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kware made with boron can be moved directly from the refrigerator into the oven without crack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3—The Boro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ments in Group 13 are all metals except boron, which is a brittle, black metallo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kware made with boron can be moved directly from the refrigerator into the oven without crack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3—The Boro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um is used to make soft-drink cans, cookware, siding for homes, and baseball ba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lium is a solid metal, but its melting point is so low that it will melt in your h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used to make computer chip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3—The Boro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um is used to make soft-drink cans, cookware, siding for homes, and baseball ba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lium is a solid metal, but its melting point is so low that it will melt in your h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used to make computer chip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40E6-0640-46F5-A84E-7A17B2219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DB23-7642-44D4-B441-48BD115FD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F918-7D77-4129-9C8F-5C632219A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B576-050E-485D-B533-D217EA1D6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231E-11F7-4BF9-92C6-D4DC8FE6A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1DE6-5A1C-460C-B6F7-A13D3BF67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D76C-FA2A-418D-9C88-3399F8F76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A504-9007-4839-9AA3-224677EB8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391A-703A-4257-985F-02ABC2E6A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F9F4-91B1-43C2-A6B4-0E444441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0575-FB14-4A51-872B-1F5CDEEE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A0C2-3191-42DB-86E4-25D7B2B1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4AEBA-F366-4339-838C-89FD4ABCB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oup 13, the Boron Fami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569600" y="685800"/>
            <a:ext cx="44874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s 13 through 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im23"/>
          <p:cNvPicPr/>
          <p:nvPr/>
        </p:nvPicPr>
        <p:blipFill>
          <a:blip r:embed="rId1"/>
          <a:stretch/>
        </p:blipFill>
        <p:spPr>
          <a:xfrm>
            <a:off x="4606920" y="2193840"/>
            <a:ext cx="3774960" cy="3765600"/>
          </a:xfrm>
          <a:prstGeom prst="rect">
            <a:avLst/>
          </a:prstGeom>
          <a:ln w="0">
            <a:noFill/>
          </a:ln>
        </p:spPr>
      </p:pic>
      <p:grpSp>
        <p:nvGrpSpPr>
          <p:cNvPr id="52" name="Group 6"/>
          <p:cNvGrpSpPr/>
          <p:nvPr/>
        </p:nvGrpSpPr>
        <p:grpSpPr>
          <a:xfrm>
            <a:off x="533520" y="1219320"/>
            <a:ext cx="8305560" cy="4345560"/>
            <a:chOff x="533520" y="1219320"/>
            <a:chExt cx="8305560" cy="4345560"/>
          </a:xfrm>
        </p:grpSpPr>
        <p:sp>
          <p:nvSpPr>
            <p:cNvPr id="53" name="Text Box 7"/>
            <p:cNvSpPr/>
            <p:nvPr/>
          </p:nvSpPr>
          <p:spPr>
            <a:xfrm>
              <a:off x="533520" y="1219320"/>
              <a:ext cx="830556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buClr>
                  <a:srgbClr val="000000"/>
                </a:buClr>
                <a:buFont typeface="Times New Roman"/>
                <a:buChar char="•"/>
                <a:tabLst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he elements in Groups 13-18 are not all solid metals like the elements of Groups 1 and 2.  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8"/>
            <p:cNvSpPr/>
            <p:nvPr/>
          </p:nvSpPr>
          <p:spPr>
            <a:xfrm>
              <a:off x="863640" y="2058840"/>
              <a:ext cx="378468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fact, a single group can contain metals, nonmetals, and metalloids and have members that are solids, liquids, and gases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1571040" y="685800"/>
            <a:ext cx="6084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3—The Boron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533520" y="1295280"/>
            <a:ext cx="47242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lements in Group 13 are all metals except boron, which is a brittle, black metalloi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533520" y="3276720"/>
            <a:ext cx="44956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okware made with boron can be moved directly from the refrigerator into the oven without cracking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im24 aluminum beams"/>
          <p:cNvPicPr/>
          <p:nvPr/>
        </p:nvPicPr>
        <p:blipFill>
          <a:blip r:embed="rId1"/>
          <a:stretch/>
        </p:blipFill>
        <p:spPr>
          <a:xfrm>
            <a:off x="5562720" y="1346040"/>
            <a:ext cx="2895480" cy="44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571040" y="685800"/>
            <a:ext cx="6084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3—The Boron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533520" y="1295280"/>
            <a:ext cx="49528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uminum is used to make soft-drink cans, cookware, siding for homes, and baseball bat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533520" y="3124080"/>
            <a:ext cx="49528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llium is a solid metal, but its melting point is so low that it will melt in your ha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533520" y="4952880"/>
            <a:ext cx="48765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used to make computer chip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im24 aluminum beams"/>
          <p:cNvPicPr/>
          <p:nvPr/>
        </p:nvPicPr>
        <p:blipFill>
          <a:blip r:embed="rId1"/>
          <a:stretch/>
        </p:blipFill>
        <p:spPr>
          <a:xfrm>
            <a:off x="5562720" y="1346040"/>
            <a:ext cx="2895480" cy="44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1T21:15:40Z</dcterms:created>
  <dc:creator>CIC1</dc:creator>
  <dc:description/>
  <dc:language>en-US</dc:language>
  <cp:lastModifiedBy>RomaK</cp:lastModifiedBy>
  <dcterms:modified xsi:type="dcterms:W3CDTF">2015-09-01T16:26:31Z</dcterms:modified>
  <cp:revision>6</cp:revision>
  <dc:subject/>
  <dc:title>Group 13, the Boron Family</dc:title>
</cp:coreProperties>
</file>