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wmf" ContentType="image/x-wmf"/>
  <Override PartName="/ppt/media/image13.wmf" ContentType="image/x-wmf"/>
  <Override PartName="/ppt/media/image8.wmf" ContentType="image/x-wmf"/>
  <Override PartName="/ppt/media/image12.gif" ContentType="image/gif"/>
  <Override PartName="/ppt/media/image7.gif" ContentType="image/gif"/>
  <Override PartName="/ppt/media/image5.jpeg" ContentType="image/jpeg"/>
  <Override PartName="/ppt/media/image20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EF83-7445-42DE-9DF1-B5D7C2C9E8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B19C-BD55-41C5-80B5-AFFD692F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A0A1-C30E-402E-BFB6-8275055A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0A47-F1E1-4BEF-A18F-31466DDA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21E5-8D15-4631-8DCA-4E473977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D0E9-D6B0-49F9-8FC2-13BCB538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2DD5-06D0-42C1-B630-A907C0E8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9D0D-2307-4B11-982C-BC951A1D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3D6E-152D-4315-9529-8B66CA89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2402-C82D-4AA5-B932-2990CA5B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5568-CFA9-42C8-88F0-837CFE34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38E9-DDE7-4F15-9C27-6E7A127F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9C06-3593-49BF-8A64-0365E926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2256-EB9A-41CD-AA42-5EB199FD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0B54-77DD-4C8F-9EE4-C721BE4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25BD-BB29-4A08-9350-EA1A232A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DF9D-05E2-4746-8723-944282D2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8267-9ACB-493C-8249-419BA52D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B7CA-DC54-4A14-A393-6BEA8D53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E1FA-3B90-4EFA-B844-A372CF48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C6D8-CF0D-4F41-A59E-F030E17C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3DB1-1040-406D-8234-DE163828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736B-3706-423C-A3E1-C9064280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6C00-2482-4967-96B5-1917B51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0B9F-40DF-4389-B93C-35C780A7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589A-74EE-419B-B99A-5D021639BA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57FD-DCB7-44D3-ACA7-61CE2DE808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5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tro to Cell Vocabula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ncy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romoso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 are inside the nucleus and are made of genes (D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s decide the cells traits and activities (heart cell, eye cell (color)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bd20088_"/>
          <p:cNvPicPr/>
          <p:nvPr/>
        </p:nvPicPr>
        <p:blipFill>
          <a:blip r:embed="rId1"/>
          <a:stretch/>
        </p:blipFill>
        <p:spPr>
          <a:xfrm>
            <a:off x="1447920" y="39625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2666880" y="472428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6" descr="j0280748"/>
          <p:cNvPicPr/>
          <p:nvPr/>
        </p:nvPicPr>
        <p:blipFill>
          <a:blip r:embed="rId2"/>
          <a:stretch/>
        </p:blipFill>
        <p:spPr>
          <a:xfrm>
            <a:off x="4267080" y="4267080"/>
            <a:ext cx="1460520" cy="1373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5715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j0403997"/>
          <p:cNvPicPr/>
          <p:nvPr/>
        </p:nvPicPr>
        <p:blipFill>
          <a:blip r:embed="rId3"/>
          <a:stretch/>
        </p:blipFill>
        <p:spPr>
          <a:xfrm>
            <a:off x="6858000" y="434340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ar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ar membrane allows substances to pass in and out of the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urrounds the nucleus (the brain) like the turtle’s skull…protects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20088_"/>
          <p:cNvPicPr/>
          <p:nvPr/>
        </p:nvPicPr>
        <p:blipFill>
          <a:blip r:embed="rId1"/>
          <a:stretch/>
        </p:blipFill>
        <p:spPr>
          <a:xfrm>
            <a:off x="990720" y="403848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220968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j0133451"/>
          <p:cNvPicPr/>
          <p:nvPr/>
        </p:nvPicPr>
        <p:blipFill>
          <a:blip r:embed="rId2"/>
          <a:stretch/>
        </p:blipFill>
        <p:spPr>
          <a:xfrm>
            <a:off x="6400800" y="3581280"/>
            <a:ext cx="1700280" cy="30099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acuol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uoles are spaces in the cytoplasm (gel) where food and chemicals are st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like “fat” on a tur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PH03447I"/>
          <p:cNvPicPr/>
          <p:nvPr/>
        </p:nvPicPr>
        <p:blipFill>
          <a:blip r:embed="rId1"/>
          <a:stretch/>
        </p:blipFill>
        <p:spPr>
          <a:xfrm>
            <a:off x="1676520" y="3657600"/>
            <a:ext cx="3657600" cy="24620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6"/>
          <p:cNvSpPr/>
          <p:nvPr/>
        </p:nvSpPr>
        <p:spPr>
          <a:xfrm>
            <a:off x="5562720" y="2971800"/>
            <a:ext cx="2438280" cy="2438280"/>
          </a:xfrm>
          <a:prstGeom prst="cloudCallout">
            <a:avLst>
              <a:gd name="adj1" fmla="val -133527"/>
              <a:gd name="adj2" fmla="val 3248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715000" y="3581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NOT fat…I’m just a little plump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8" descr="bd20088_"/>
          <p:cNvPicPr/>
          <p:nvPr/>
        </p:nvPicPr>
        <p:blipFill>
          <a:blip r:embed="rId2"/>
          <a:stretch/>
        </p:blipFill>
        <p:spPr>
          <a:xfrm>
            <a:off x="7620120" y="228600"/>
            <a:ext cx="1214280" cy="1295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6934320" y="533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W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ke the cell strong and rig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like a turtle’s shell (but only plants have them…that’s why grass stands straight up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j0111472"/>
          <p:cNvPicPr/>
          <p:nvPr/>
        </p:nvPicPr>
        <p:blipFill>
          <a:blip r:embed="rId1"/>
          <a:stretch/>
        </p:blipFill>
        <p:spPr>
          <a:xfrm>
            <a:off x="3352680" y="4495680"/>
            <a:ext cx="1989360" cy="152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bd20088_"/>
          <p:cNvPicPr/>
          <p:nvPr/>
        </p:nvPicPr>
        <p:blipFill>
          <a:blip r:embed="rId2"/>
          <a:stretch/>
        </p:blipFill>
        <p:spPr>
          <a:xfrm>
            <a:off x="7684920" y="228600"/>
            <a:ext cx="1459080" cy="15573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6781680" y="762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loroplast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last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chlorophyll, which helps make energy/food from sun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hyll is green in color…so any plant that is green has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j0140649"/>
          <p:cNvPicPr/>
          <p:nvPr/>
        </p:nvPicPr>
        <p:blipFill>
          <a:blip r:embed="rId1"/>
          <a:stretch/>
        </p:blipFill>
        <p:spPr>
          <a:xfrm>
            <a:off x="4419720" y="4648320"/>
            <a:ext cx="3076560" cy="15192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609480" y="4648320"/>
            <a:ext cx="2667240" cy="2209680"/>
          </a:xfrm>
          <a:prstGeom prst="cloudCallout">
            <a:avLst>
              <a:gd name="adj1" fmla="val 93273"/>
              <a:gd name="adj2" fmla="val -3412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62120" y="50292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green…do I have chloroplas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bd20088_"/>
          <p:cNvPicPr/>
          <p:nvPr/>
        </p:nvPicPr>
        <p:blipFill>
          <a:blip r:embed="rId2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8"/>
          <p:cNvSpPr/>
          <p:nvPr/>
        </p:nvSpPr>
        <p:spPr>
          <a:xfrm>
            <a:off x="662940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Differenc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what are two things that Plant cells have that animal cells don’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j0149627"/>
          <p:cNvPicPr/>
          <p:nvPr/>
        </p:nvPicPr>
        <p:blipFill>
          <a:blip r:embed="rId1"/>
          <a:stretch/>
        </p:blipFill>
        <p:spPr>
          <a:xfrm>
            <a:off x="5486400" y="312408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81904"/>
          <p:cNvPicPr/>
          <p:nvPr/>
        </p:nvPicPr>
        <p:blipFill>
          <a:blip r:embed="rId2"/>
          <a:stretch/>
        </p:blipFill>
        <p:spPr>
          <a:xfrm>
            <a:off x="1219320" y="3200400"/>
            <a:ext cx="1825560" cy="1725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4280400" y="380988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43000" y="5334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oroplasts &amp; Cell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would happen if animals had Chloroplasts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j0149627"/>
          <p:cNvPicPr/>
          <p:nvPr/>
        </p:nvPicPr>
        <p:blipFill>
          <a:blip r:embed="rId1"/>
          <a:stretch/>
        </p:blipFill>
        <p:spPr>
          <a:xfrm>
            <a:off x="3305160" y="2529000"/>
            <a:ext cx="2533680" cy="1800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w, let’s review…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Membra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Vacu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/Anim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bd20088_"/>
          <p:cNvPicPr/>
          <p:nvPr/>
        </p:nvPicPr>
        <p:blipFill>
          <a:blip r:embed="rId1"/>
          <a:stretch/>
        </p:blipFill>
        <p:spPr>
          <a:xfrm>
            <a:off x="1295280" y="434340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bd07865_"/>
          <p:cNvPicPr/>
          <p:nvPr/>
        </p:nvPicPr>
        <p:blipFill>
          <a:blip r:embed="rId2"/>
          <a:stretch/>
        </p:blipFill>
        <p:spPr>
          <a:xfrm>
            <a:off x="563868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gratulati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now know all the vocabulary for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j0136827"/>
          <p:cNvPicPr/>
          <p:nvPr/>
        </p:nvPicPr>
        <p:blipFill>
          <a:blip r:embed="rId1"/>
          <a:stretch/>
        </p:blipFill>
        <p:spPr>
          <a:xfrm>
            <a:off x="3657600" y="2209680"/>
            <a:ext cx="2568600" cy="4267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the basic unit of all living things…if it is alive it has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j0390229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390218"/>
          <p:cNvPicPr/>
          <p:nvPr/>
        </p:nvPicPr>
        <p:blipFill>
          <a:blip r:embed="rId2"/>
          <a:stretch/>
        </p:blipFill>
        <p:spPr>
          <a:xfrm>
            <a:off x="4495680" y="3276720"/>
            <a:ext cx="3657600" cy="2609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wo “Classes” of 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2 classes of cells.  There are only two differences between Plant &amp; Animal cells…try to spot them by the end of the 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72400" y="380988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647320" y="38862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j0281904"/>
          <p:cNvPicPr/>
          <p:nvPr/>
        </p:nvPicPr>
        <p:blipFill>
          <a:blip r:embed="rId1"/>
          <a:stretch/>
        </p:blipFill>
        <p:spPr>
          <a:xfrm>
            <a:off x="1447920" y="46483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j0149627"/>
          <p:cNvPicPr/>
          <p:nvPr/>
        </p:nvPicPr>
        <p:blipFill>
          <a:blip r:embed="rId2"/>
          <a:stretch/>
        </p:blipFill>
        <p:spPr>
          <a:xfrm>
            <a:off x="5715000" y="457200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Differenti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j0390229"/>
          <p:cNvPicPr/>
          <p:nvPr/>
        </p:nvPicPr>
        <p:blipFill>
          <a:blip r:embed="rId1"/>
          <a:stretch/>
        </p:blipFill>
        <p:spPr>
          <a:xfrm>
            <a:off x="533520" y="5029200"/>
            <a:ext cx="21333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j0390235"/>
          <p:cNvPicPr/>
          <p:nvPr/>
        </p:nvPicPr>
        <p:blipFill>
          <a:blip r:embed="rId2"/>
          <a:stretch/>
        </p:blipFill>
        <p:spPr>
          <a:xfrm>
            <a:off x="3962520" y="5029200"/>
            <a:ext cx="198108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j0287178"/>
          <p:cNvPicPr/>
          <p:nvPr/>
        </p:nvPicPr>
        <p:blipFill>
          <a:blip r:embed="rId3"/>
          <a:stretch/>
        </p:blipFill>
        <p:spPr>
          <a:xfrm>
            <a:off x="6781680" y="5181480"/>
            <a:ext cx="1676520" cy="1365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533520" y="3352680"/>
            <a:ext cx="1828800" cy="1067040"/>
          </a:xfrm>
          <a:prstGeom prst="wedgeRectCallout">
            <a:avLst>
              <a:gd name="adj1" fmla="val 11458"/>
              <a:gd name="adj2" fmla="val 12574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heart cel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886200" y="3505320"/>
            <a:ext cx="1752480" cy="1523880"/>
          </a:xfrm>
          <a:prstGeom prst="wedgeRoundRectCallout">
            <a:avLst>
              <a:gd name="adj1" fmla="val 5976"/>
              <a:gd name="adj2" fmla="val 772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skin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629400" y="3429000"/>
            <a:ext cx="1600200" cy="1676520"/>
          </a:xfrm>
          <a:prstGeom prst="wedgeEllipseCallout">
            <a:avLst>
              <a:gd name="adj1" fmla="val 15277"/>
              <a:gd name="adj2" fmla="val 8674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a Prison Cell!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en you hear the new vocabulary…just think of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505320" y="4114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urtl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j0354431"/>
          <p:cNvPicPr/>
          <p:nvPr/>
        </p:nvPicPr>
        <p:blipFill>
          <a:blip r:embed="rId1"/>
          <a:stretch/>
        </p:blipFill>
        <p:spPr>
          <a:xfrm>
            <a:off x="5943600" y="4191120"/>
            <a:ext cx="2286000" cy="1071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holds the cell together and allows nutrients in the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just like a turtle’s sk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is on the edge of a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bd07865_"/>
          <p:cNvPicPr/>
          <p:nvPr/>
        </p:nvPicPr>
        <p:blipFill>
          <a:blip r:embed="rId1"/>
          <a:stretch/>
        </p:blipFill>
        <p:spPr>
          <a:xfrm>
            <a:off x="762120" y="3962520"/>
            <a:ext cx="1812960" cy="1485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bd20088_"/>
          <p:cNvPicPr/>
          <p:nvPr/>
        </p:nvPicPr>
        <p:blipFill>
          <a:blip r:embed="rId2"/>
          <a:stretch/>
        </p:blipFill>
        <p:spPr>
          <a:xfrm>
            <a:off x="36576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7"/>
          <p:cNvSpPr/>
          <p:nvPr/>
        </p:nvSpPr>
        <p:spPr>
          <a:xfrm rot="19557600">
            <a:off x="5105520" y="3581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11073 C 0.00416 0.11165 0.00677 0.11165 0.00868 0.11373 C 0.01666 0.12228 0.01006 0.12552 0.01527 0.13731 C 0.01788 0.14355 0.02691 0.14471 0.0309 0.14632 C 0.03836 0.14933 0.04548 0.15257 0.05312 0.15511 C 0.06024 0.16158 0.06597 0.16944 0.07309 0.17591 C 0.07465 0.17984 0.07586 0.184 0.0776 0.1877 C 0.08038 0.19371 0.08645 0.2055 0.08645 0.2055 C 0.10954 0.20435 0.15243 0.20989 0.1776 0.19371 C 0.19652 0.15904 0.17187 0.20781 0.18645 0.16412 C 0.18958 0.15441 0.19965 0.14933 0.20642 0.14632 C 0.22586 0.15002 0.22864 0.1484 0.23975 0.1699 C 0.24045 0.17476 0.2401 0.1803 0.24201 0.1847 C 0.25017 0.20435 0.27274 0.20342 0.28645 0.2055 C 0.29704 0.21475 0.30312 0.22792 0.31302 0.23809 C 0.32083 0.26352 0.3368 0.28433 0.35746 0.29126 C 0.39774 0.27924 0.36163 0.29288 0.38871 0.27647 C 0.40277 0.26791 0.41267 0.26514 0.42204 0.24688 C 0.43125 0.20943 0.42621 0.23532 0.42864 0.1669 C 0.43125 0.18054 0.43576 0.19232 0.43975 0.2055 C 0.44114 0.2374 0.4401 0.26514 0.44861 0.29427 C 0.47309 0.27785 0.45034 0.29034 0.4842 0.28248 C 0.48958 0.28132 0.49444 0.27762 0.49982 0.27647 C 0.50781 0.27462 0.51597 0.27439 0.52413 0.27346 C 0.5375 0.26745 0.52413 0.273 0.54427 0.26768 C 0.55885 0.26398 0.57135 0.25821 0.58645 0.25566 C 0.59531 0.25196 0.60121 0.24549 0.60868 0.23809 C 0.61527 0.22492 0.62118 0.21336 0.62638 0.19949 C 0.62725 0.19371 0.63038 0.1706 0.63316 0.1669 C 0.63923 0.15881 0.64566 0.14933 0.65086 0.14031 C 0.66805 0.11049 0.65191 0.13245 0.66649 0.11373 C 0.6684 0.09986 0.66961 0.09246 0.67534 0.08114 C 0.67604 0.07235 0.6776 0.06357 0.6776 0.05455 C 0.6776 0.05155 0.67534 0.06334 0.67534 0.06334 L 0.68194 0.03976 E">
                                      <p:cBhvr>
                                        <p:cTn id="18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ytopla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the watery gel (Jello!) inside a cell….it’s goop! It holds the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like the turtles blood and other liqu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bd20088_"/>
          <p:cNvPicPr/>
          <p:nvPr/>
        </p:nvPicPr>
        <p:blipFill>
          <a:blip r:embed="rId1"/>
          <a:stretch/>
        </p:blipFill>
        <p:spPr>
          <a:xfrm>
            <a:off x="838080" y="403848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j0111474"/>
          <p:cNvPicPr/>
          <p:nvPr/>
        </p:nvPicPr>
        <p:blipFill>
          <a:blip r:embed="rId2"/>
          <a:stretch/>
        </p:blipFill>
        <p:spPr>
          <a:xfrm>
            <a:off x="6858000" y="4267080"/>
            <a:ext cx="115884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1676520" y="4267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8437 C -0.07518 0.07836 -0.12274 0.05779 -0.17222 0.05178 C -0.23004 0.03606 -0.27483 0.04161 -0.34115 0.03999 C -0.37084 0.03421 -0.4 0.02843 -0.43004 0.02519 C -0.45972 0.02219 -0.4717 0.02219 -0.45886 0.02219 L -0.4434 0.02519 E">
                                      <p:cBhvr>
                                        <p:cTn id="24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tochondr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an ORGANelle that releases energy from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like a turtle’s stom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j0382565"/>
          <p:cNvPicPr/>
          <p:nvPr/>
        </p:nvPicPr>
        <p:blipFill>
          <a:blip r:embed="rId1"/>
          <a:stretch/>
        </p:blipFill>
        <p:spPr>
          <a:xfrm>
            <a:off x="6324480" y="4876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AG00441_"/>
          <p:cNvPicPr/>
          <p:nvPr/>
        </p:nvPicPr>
        <p:blipFill>
          <a:blip r:embed="rId2"/>
          <a:stretch/>
        </p:blipFill>
        <p:spPr>
          <a:xfrm>
            <a:off x="3581280" y="5208480"/>
            <a:ext cx="3276720" cy="1649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d20088_"/>
          <p:cNvPicPr/>
          <p:nvPr/>
        </p:nvPicPr>
        <p:blipFill>
          <a:blip r:embed="rId3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8077320" y="16765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controls the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is like the turtle’s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j0133537"/>
          <p:cNvPicPr/>
          <p:nvPr/>
        </p:nvPicPr>
        <p:blipFill>
          <a:blip r:embed="rId1"/>
          <a:stretch/>
        </p:blipFill>
        <p:spPr>
          <a:xfrm rot="1524000">
            <a:off x="304920" y="3886200"/>
            <a:ext cx="2412720" cy="2166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395712"/>
          <p:cNvPicPr/>
          <p:nvPr/>
        </p:nvPicPr>
        <p:blipFill>
          <a:blip r:embed="rId2"/>
          <a:stretch/>
        </p:blipFill>
        <p:spPr>
          <a:xfrm rot="251400">
            <a:off x="2819160" y="441936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j0390235"/>
          <p:cNvPicPr/>
          <p:nvPr/>
        </p:nvPicPr>
        <p:blipFill>
          <a:blip r:embed="rId3"/>
          <a:stretch/>
        </p:blipFill>
        <p:spPr>
          <a:xfrm>
            <a:off x="6324480" y="380880"/>
            <a:ext cx="2362320" cy="16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20088_"/>
          <p:cNvPicPr/>
          <p:nvPr/>
        </p:nvPicPr>
        <p:blipFill>
          <a:blip r:embed="rId4"/>
          <a:stretch/>
        </p:blipFill>
        <p:spPr>
          <a:xfrm>
            <a:off x="61722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8"/>
          <p:cNvSpPr/>
          <p:nvPr/>
        </p:nvSpPr>
        <p:spPr>
          <a:xfrm rot="929400">
            <a:off x="6095520" y="4343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22:02:06Z</dcterms:created>
  <dc:creator>Mr. Ryan</dc:creator>
  <dc:description/>
  <dc:language>en-US</dc:language>
  <cp:lastModifiedBy>LEGION2</cp:lastModifiedBy>
  <dcterms:modified xsi:type="dcterms:W3CDTF">2016-01-11T13:01:50Z</dcterms:modified>
  <cp:revision>19</cp:revision>
  <dc:subject/>
  <dc:title>Intro to Cell Vocabulary</dc:title>
</cp:coreProperties>
</file>