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gif" ContentType="image/gif"/>
  <Override PartName="/ppt/media/image9.gif" ContentType="image/gif"/>
  <Override PartName="/ppt/media/image6.jpeg" ContentType="image/jpeg"/>
  <Override PartName="/ppt/media/image11.gif" ContentType="image/gif"/>
  <Override PartName="/ppt/media/image5.jpeg" ContentType="image/jpeg"/>
  <Override PartName="/ppt/media/image26.jpeg" ContentType="image/jpeg"/>
  <Override PartName="/ppt/media/image13.gif" ContentType="image/gif"/>
  <Override PartName="/ppt/media/image16.png" ContentType="image/png"/>
  <Override PartName="/ppt/media/image8.gif" ContentType="image/gif"/>
  <Override PartName="/ppt/media/image4.jpeg" ContentType="image/jpeg"/>
  <Override PartName="/ppt/media/image25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4.gif" ContentType="image/gif"/>
  <Override PartName="/ppt/media/image24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2.gif" ContentType="image/gif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CA7C-23CD-4CE3-8314-46896240A5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ular Transport N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. 7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Transport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: random movement of particles from an area of high concentration to an area of low concent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High to Low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continues until all molecules are evenly spaced (equilibrium is reached)-Note: molecules will still move around but stay spread ou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 Diffusion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: random movement of particles from an area of high concentration to an area of low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 to L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continues until all molecules are evenly spaced (equilibrium is reached)-Note: molecules will still move around but stay sprea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Diffus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Facilitated diffusion: diffusion of specific particles through transport proteins found in the membran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 Proteins are specific – they “select” only certain molecules  to cross th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s larger or charged 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ilitated diffusion (Channel Protei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(Lipid Bilay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r 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Facilitated diffusion: diffusion of specific particles through transport proteins found in the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Proteins are specific – they “select” only certain molecules  to 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s larger or charged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d diffusion (Channel Prote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(Lipid Bilay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igh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w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ssive Transport:  2. 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sport 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rough a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ular Transport From a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nel Proteins anim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w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ssive Transport:  2. 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port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 a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Transport From a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 Proteins 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Osmosis:  diffusion of water through a selectively permeabl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moves from high to low concent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moves freely through po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e (green) to large to move acro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Osm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Osmosis:  diffusion of water through a selectively permeabl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ves from high to low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ves freely through p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 (green) to large to move acro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sm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uses ener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ely moves molecules to where they are nee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  from an area of low concentration to an area of high concent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ow  Hig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uses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moves molecules to where they are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  from an area of low concentration to an area of high concent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  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Protein Pumps -transport proteins that require energy to do 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: Sodium / Potassium Pumps are important in nerve respon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odium Potassium Pumps (Active Transport using protein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 changes shape to move molecules:  this requires energy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Protein Pumps -transport proteins that require energy to do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: Sodium / Potassium Pumps are important in nerve respo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Potassium Pumps (Active Transport using protei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 changes shape to move molecules:  this requires energ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Endocytosis:  taking bulky material into a cel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membrane in-folds around food parti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eating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s food vacuole &amp; digests f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how white blood cells eat bacteria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ndocytosis:  taking bulky material into a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in-folds around food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eat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food vacuole &amp; digest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hite blood cells eat bacteri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Exocytosis: Forces material out of cell in bu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brane surrounding the material fuses with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changes shape – requires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Hormones or wastes released from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cytosis &amp; Exocytosis anim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Exocytosis: Forces material out of cell in bu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surrounding the material fuses with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changes shape – requires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Hormones or wastes released fro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ytosis &amp; Exocytosis 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ects of Osmosis on Lif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- diffusion of water through a selectively permeabl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Osmosis on Lif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- diffusion of water through a selectively permeabl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:  The solution has a lower concentration of solutes and a higher concentration of water than inside the cell. (Low solute; High wa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Water moves from the solution to inside the cell): Cell Swells and bursts open (cytolysis)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:  The solution has a lower concentration of solutes and a higher concentration of water than inside the cell. (Low solute; High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Water moves from the solution to inside the cell): Cell Swells and bursts open (cytolysi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Cell Membr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cells have a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ction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s what enters and exits the cell to maintain an internal balance called homeost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es protection and support for th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M picture of a real cell membr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Cell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have a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s what enters and exits the cell to maintain an internal balance called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rotection and support for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 picture of a real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:  The solution has a higher concentration of solutes and a lower concentration of water than inside the cell. (High solute; Low wa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Water moves from inside the cell  into the solution:   Cell shrinks (Plasmolysis)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rin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:  The solution has a higher concentration of solutes and a lower concentration of water than inside the cell. (High solute; Low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Water moves from inside the cell  into the solution:   Cell shrinks (Plasmolysi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:  The concentration of solutes in the solution is equal to the concentration of solutes inside the ce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 Water moves equally in both directions and the cell remains same size! (Dynamic Equilibriu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:  The concentration of solutes in the solution is equal to the concentration of solutes inside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 Water moves equally in both directions and the cell remains same size! (Dynamic Equilibr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ype of solution are these cells 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solution are these cells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rganisms Deal with Osmotic Press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cium (protist) removing excess water 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teria and plants have cell walls that prevent them from over-expanding. In plants the pressure exerted on the cell wall is called tugor press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rotist like paramecium has contractile vacuoles that collect water flowing in and pump it out to prevent them from over-expand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t water fish pump salt out of their specialized gills so they do not dehydr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cells are bathed in blood. Kidneys keep the blood isotonic by remove excess salt and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Organisms Deal with Osmotic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cium (protist) removing excess water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and plants have cell walls that prevent them from over-expanding. In plants the pressure exerted on the cell wall is called tugor press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otist like paramecium has contractile vacuoles that collect water flowing in and pump it out to prevent them from over-expa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 water fish pump salt out of their specialized gills so they do not dehy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cells are bathed in blood. Kidneys keep the blood isotonic by remove excess salt and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ructure of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pid Bilayer -2 layers of phospholip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osphate head is polar (water lov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tty acid tails non-polar (water fear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s embedded in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ospholip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 of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id Bilayer -2 layers of 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 head is polar (water lov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tty acid tails non-polar (water fea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 embedded in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mbrane movement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olar heads love water &amp; dissol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on-polar tails hide from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hydrate cell mark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luid Mosaic Model of the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mbrane movement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ar heads love water &amp; dis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-polar tails hide from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hydrate cell 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id Mosaic Model of th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Cell membranes have pores (holes) in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ectively permeable:  Allows some molecules in and keeps other molecules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tructure helps it be selectiv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Cell membranes have pores (holes) i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:  Allows some molecules in and keeps other molecules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helps it be selec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side of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ide of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ytoplas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p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spholip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e of the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membrane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sid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ytoplas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embran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Cellular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ssive Transpor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doesn’t us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does us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 Pum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docyt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ocyt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imations of Active Transport &amp; 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Cellular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ssive Trans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oesn’t us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oes us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 Pu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tions of Active Transport &amp; 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uses no ener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lecules move random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lecules spread out from an area of high concentration to an area of low concent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HighLow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uses no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move random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spread out from an area of high concentration to an area of low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L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Types of 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ilitative Diffusion – diffusion with the help of transport protei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– diffusion of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Types of 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ive Diffusion – diffusion with the help of transport 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– diffusion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E5C3-3D81-43D1-99B0-AB3049B9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0643-5FC9-4E4A-92A4-31190A11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AEF3-BC54-41EC-9E5A-C2163CAF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8B06-984F-430F-9045-8CE59C45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3185-4CE3-4771-B86A-F14E3E3A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0A94-BC73-4C26-8FCA-D1B9A73E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3968-96F4-44B8-9108-B5C7C2A0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8F6D-0939-4AA3-AC76-CCDE9F14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1F04-476C-416C-96A4-6E09D104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7B09-341D-4F78-872C-A89FB4FF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0D53-907A-4C32-854F-1F67372C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54BC-EF4B-4BA9-934C-2172F12E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0A60-8C3E-4E41-AD24-B066783588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hyperlink" Target="http://www.stolaf.edu/people/giannini/flashanimat/transport/diffusion.swf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stolaf.edu/people/giannini/flashanimat/transport/channel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hyperlink" Target="http://www.stolaf.edu/people/giannini/flashanimat/transport/osmosis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tolaf.edu/people/giannini/flashanimat/transport/secondary%20active%20transport.swf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stolaf.edu/people/giannini/flashanimat/cellstructures/phagocitosis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hyperlink" Target="http://www.stolaf.edu/people/giannini/flashanimat/lipids/membrane%20fluidity.sw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wisc-online.com/objects/index_tj.asp?objid=AP1101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rograms.northlandcollege.edu/biology/Biology1111/animations/transport1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Cellular Transport Not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h. 7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6" descr="membr1"/>
          <p:cNvPicPr/>
          <p:nvPr/>
        </p:nvPicPr>
        <p:blipFill>
          <a:blip r:embed="rId1"/>
          <a:stretch/>
        </p:blipFill>
        <p:spPr>
          <a:xfrm>
            <a:off x="380880" y="2895480"/>
            <a:ext cx="8458200" cy="3481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exocytosis 2"/>
          <p:cNvPicPr/>
          <p:nvPr/>
        </p:nvPicPr>
        <p:blipFill>
          <a:blip r:embed="rId2"/>
          <a:stretch/>
        </p:blipFill>
        <p:spPr>
          <a:xfrm>
            <a:off x="6553080" y="3049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67276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: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1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Diffus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613080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vement of particles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high concentration to an area of low 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fd03"/>
                </a:solidFill>
                <a:latin typeface="Arial"/>
              </a:rPr>
              <a:t>(</a:t>
            </a:r>
            <a:r>
              <a:rPr b="1" i="1" lang="en-US" sz="3600" spc="-1" strike="noStrike">
                <a:solidFill>
                  <a:srgbClr val="fdfd03"/>
                </a:solidFill>
                <a:latin typeface="Arial"/>
              </a:rPr>
              <a:t>High to Low</a:t>
            </a:r>
            <a:r>
              <a:rPr b="1" lang="en-US" sz="3600" spc="-1" strike="noStrike">
                <a:solidFill>
                  <a:srgbClr val="fdfd0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 continues until all molecules are evenly spaced (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quilibr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reached)-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t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cules will still move around but stay spread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diffusion-animated"/>
          <p:cNvPicPr/>
          <p:nvPr/>
        </p:nvPicPr>
        <p:blipFill>
          <a:blip r:embed="rId1"/>
          <a:stretch/>
        </p:blipFill>
        <p:spPr>
          <a:xfrm>
            <a:off x="6705720" y="1066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diffan"/>
          <p:cNvPicPr/>
          <p:nvPr/>
        </p:nvPicPr>
        <p:blipFill>
          <a:blip r:embed="rId2"/>
          <a:stretch/>
        </p:blipFill>
        <p:spPr>
          <a:xfrm>
            <a:off x="6858000" y="3505320"/>
            <a:ext cx="1908000" cy="31147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6400800" y="6523200"/>
            <a:ext cx="27432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6324480" y="152280"/>
            <a:ext cx="2590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Simple Diffusion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4952880" cy="4665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Facilitated diffu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iffusion of specific particles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through transport protei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und in the membra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Proteins are </a:t>
            </a: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specif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they “select” only certain molecules  to cross the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s larger or charged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diffuse"/>
          <p:cNvPicPr/>
          <p:nvPr/>
        </p:nvPicPr>
        <p:blipFill>
          <a:blip r:embed="rId1"/>
          <a:stretch/>
        </p:blipFill>
        <p:spPr>
          <a:xfrm>
            <a:off x="5181480" y="1371600"/>
            <a:ext cx="3962520" cy="1981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5181480" y="3352680"/>
            <a:ext cx="1981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Channel Prote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7634160" y="3429000"/>
            <a:ext cx="15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usion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Lipid Bilay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2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Facilitated Diffu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11" descr="facil-diffusion"/>
          <p:cNvPicPr/>
          <p:nvPr/>
        </p:nvPicPr>
        <p:blipFill>
          <a:blip r:embed="rId2"/>
          <a:stretch/>
        </p:blipFill>
        <p:spPr>
          <a:xfrm>
            <a:off x="5257800" y="4952880"/>
            <a:ext cx="1924200" cy="15624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2"/>
          <p:cNvSpPr/>
          <p:nvPr/>
        </p:nvSpPr>
        <p:spPr>
          <a:xfrm>
            <a:off x="5181480" y="64771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Carrier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943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8229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2438280" y="6705720"/>
            <a:ext cx="2438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16"/>
          <p:cNvGrpSpPr/>
          <p:nvPr/>
        </p:nvGrpSpPr>
        <p:grpSpPr>
          <a:xfrm>
            <a:off x="3784680" y="1670040"/>
            <a:ext cx="2816280" cy="3747960"/>
            <a:chOff x="3784680" y="1670040"/>
            <a:chExt cx="2816280" cy="3747960"/>
          </a:xfrm>
        </p:grpSpPr>
        <p:pic>
          <p:nvPicPr>
            <p:cNvPr id="176" name="Picture 2" descr=""/>
            <p:cNvPicPr/>
            <p:nvPr/>
          </p:nvPicPr>
          <p:blipFill>
            <a:blip r:embed="rId1"/>
            <a:stretch/>
          </p:blipFill>
          <p:spPr>
            <a:xfrm>
              <a:off x="3784680" y="1670040"/>
              <a:ext cx="2816280" cy="37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15"/>
            <p:cNvSpPr/>
            <p:nvPr/>
          </p:nvSpPr>
          <p:spPr>
            <a:xfrm>
              <a:off x="5486400" y="3581280"/>
              <a:ext cx="838080" cy="1295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Text Box 3"/>
          <p:cNvSpPr/>
          <p:nvPr/>
        </p:nvSpPr>
        <p:spPr>
          <a:xfrm>
            <a:off x="993600" y="198108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90720" y="457200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Lo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994320" y="32767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486400" y="10288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5889240" y="4554360"/>
            <a:ext cx="805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0" y="2286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assive Transport:  </a:t>
            </a:r>
            <a:r>
              <a:rPr b="0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2. Facilitated Dif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2819520" y="54864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ransport 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 flipV="1">
            <a:off x="3962520" y="3885840"/>
            <a:ext cx="1066680" cy="1676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1676520" y="2590920"/>
            <a:ext cx="0" cy="1981080"/>
          </a:xfrm>
          <a:prstGeom prst="line">
            <a:avLst/>
          </a:prstGeom>
          <a:ln w="38160">
            <a:solidFill>
              <a:srgbClr val="ffe7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1143000" y="5791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ough a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0" y="152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Cellular Transport From 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38098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5638680" y="4648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6629400" y="23623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Channel Protei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487692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diffusion of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wa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moves from high to low concen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osmosis"/>
          <p:cNvPicPr/>
          <p:nvPr/>
        </p:nvPicPr>
        <p:blipFill>
          <a:blip r:embed="rId1"/>
          <a:stretch/>
        </p:blipFill>
        <p:spPr>
          <a:xfrm>
            <a:off x="5181480" y="1371600"/>
            <a:ext cx="3775320" cy="28083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5410080" y="4495680"/>
            <a:ext cx="3368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moves freely through p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e (green) to large to move acro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6705720" y="380880"/>
            <a:ext cx="213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Osm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assive Transport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3. </a:t>
            </a: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Osm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0" y="1460520"/>
            <a:ext cx="914400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ly moves molecules to where they are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 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low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Low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Hig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ree Typ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228600" y="1676520"/>
            <a:ext cx="4114800" cy="3867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Protein Pum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transport proteins that require energy to do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dium / Potassium Pumps are important in nerve respo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7086600" y="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Sodium Potassium Pump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ctive Transport using prote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8" descr="antiport"/>
          <p:cNvPicPr/>
          <p:nvPr/>
        </p:nvPicPr>
        <p:blipFill>
          <a:blip r:embed="rId2"/>
          <a:stretch/>
        </p:blipFill>
        <p:spPr>
          <a:xfrm>
            <a:off x="4724280" y="1676520"/>
            <a:ext cx="4267440" cy="28987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9"/>
          <p:cNvSpPr/>
          <p:nvPr/>
        </p:nvSpPr>
        <p:spPr>
          <a:xfrm>
            <a:off x="5257800" y="47242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 changes shape to move molecules:  this requires energ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0" y="114300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624852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5068800" cy="513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ndocyto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aking bulky material into a ce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membrane in-folds around food par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ell ea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s food vacuole &amp; digests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how white blood cells eat bacteri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endocytosis"/>
          <p:cNvPicPr/>
          <p:nvPr/>
        </p:nvPicPr>
        <p:blipFill>
          <a:blip r:embed="rId1"/>
          <a:stretch/>
        </p:blipFill>
        <p:spPr>
          <a:xfrm>
            <a:off x="5257800" y="2819520"/>
            <a:ext cx="3738600" cy="1218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~AUT0028"/>
          <p:cNvPicPr/>
          <p:nvPr/>
        </p:nvPicPr>
        <p:blipFill>
          <a:blip r:embed="rId2"/>
          <a:stretch/>
        </p:blipFill>
        <p:spPr>
          <a:xfrm>
            <a:off x="6095880" y="152280"/>
            <a:ext cx="2176560" cy="25480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8"/>
          <p:cNvGrpSpPr/>
          <p:nvPr/>
        </p:nvGrpSpPr>
        <p:grpSpPr>
          <a:xfrm>
            <a:off x="5181480" y="4191120"/>
            <a:ext cx="3733560" cy="2361960"/>
            <a:chOff x="5181480" y="4191120"/>
            <a:chExt cx="3733560" cy="2361960"/>
          </a:xfrm>
        </p:grpSpPr>
        <p:pic>
          <p:nvPicPr>
            <p:cNvPr id="216" name="Picture 9" descr="phago"/>
            <p:cNvPicPr/>
            <p:nvPr/>
          </p:nvPicPr>
          <p:blipFill>
            <a:blip r:embed="rId3"/>
            <a:srcRect l="16278" t="1837" r="0" b="20204"/>
            <a:stretch/>
          </p:blipFill>
          <p:spPr>
            <a:xfrm>
              <a:off x="5195880" y="4191120"/>
              <a:ext cx="371916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10"/>
            <p:cNvSpPr/>
            <p:nvPr/>
          </p:nvSpPr>
          <p:spPr>
            <a:xfrm>
              <a:off x="5181480" y="5518800"/>
              <a:ext cx="514800" cy="19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0102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280" y="1509840"/>
            <a:ext cx="5486400" cy="534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Exocytosi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ces material out of ce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bu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rane surrounding the material fuses with cell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changes shape – requires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Hormones or wastes released from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exocytosis 2"/>
          <p:cNvPicPr/>
          <p:nvPr/>
        </p:nvPicPr>
        <p:blipFill>
          <a:blip r:embed="rId1"/>
          <a:stretch/>
        </p:blipFill>
        <p:spPr>
          <a:xfrm>
            <a:off x="6095880" y="2819520"/>
            <a:ext cx="2476800" cy="24764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6400800" y="1523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Endocytosis &amp; Exocytos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ffects of Osmosis on Life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iffusion of water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28" name="Picture 4" descr="hypotonic"/>
          <p:cNvPicPr/>
          <p:nvPr/>
        </p:nvPicPr>
        <p:blipFill>
          <a:blip r:embed="rId1"/>
          <a:stretch/>
        </p:blipFill>
        <p:spPr>
          <a:xfrm>
            <a:off x="255600" y="2635200"/>
            <a:ext cx="2743200" cy="23209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oton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The solution has a lower concentration of solutes and a higher concentration of water than inside the cell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Low solute; High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the solution to inside the cell): Cell Swells and bursts ope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yt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7" descr="rbc"/>
          <p:cNvPicPr/>
          <p:nvPr/>
        </p:nvPicPr>
        <p:blipFill>
          <a:blip r:embed="rId2"/>
          <a:stretch/>
        </p:blipFill>
        <p:spPr>
          <a:xfrm>
            <a:off x="3176640" y="28144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RBC in hypotonic"/>
          <p:cNvPicPr/>
          <p:nvPr/>
        </p:nvPicPr>
        <p:blipFill>
          <a:blip r:embed="rId3"/>
          <a:stretch/>
        </p:blipFill>
        <p:spPr>
          <a:xfrm>
            <a:off x="6170760" y="2840040"/>
            <a:ext cx="2660400" cy="17733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9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8580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About Cell Membran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41008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ells have a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s what enters and exits the cell to maintain an internal balance called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omeos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protection and support for the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real cell membrane"/>
          <p:cNvPicPr/>
          <p:nvPr/>
        </p:nvPicPr>
        <p:blipFill>
          <a:blip r:embed="rId1"/>
          <a:stretch/>
        </p:blipFill>
        <p:spPr>
          <a:xfrm>
            <a:off x="5770440" y="1905120"/>
            <a:ext cx="3373560" cy="2857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6054840" y="522936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 picture of a real cell membra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er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er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solution has a higher concentration of solutes and a lower concentration of water than inside the cell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High solute; Low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inside the cell  into the solution:   Cell shrink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Plasm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6" descr="hypertonic"/>
          <p:cNvPicPr/>
          <p:nvPr/>
        </p:nvPicPr>
        <p:blipFill>
          <a:blip r:embed="rId1"/>
          <a:stretch/>
        </p:blipFill>
        <p:spPr>
          <a:xfrm>
            <a:off x="0" y="2514600"/>
            <a:ext cx="3429000" cy="29005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RBC in hypertonic"/>
          <p:cNvPicPr/>
          <p:nvPr/>
        </p:nvPicPr>
        <p:blipFill>
          <a:blip r:embed="rId2"/>
          <a:srcRect l="31200" t="19800" r="0" b="0"/>
          <a:stretch/>
        </p:blipFill>
        <p:spPr>
          <a:xfrm>
            <a:off x="7300800" y="3124080"/>
            <a:ext cx="1843200" cy="14302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 flipH="1" flipV="1">
            <a:off x="7924320" y="4190760"/>
            <a:ext cx="304920" cy="533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10" descr="turgor"/>
          <p:cNvPicPr/>
          <p:nvPr/>
        </p:nvPicPr>
        <p:blipFill>
          <a:blip r:embed="rId3"/>
          <a:stretch/>
        </p:blipFill>
        <p:spPr>
          <a:xfrm>
            <a:off x="3505320" y="2514600"/>
            <a:ext cx="3733560" cy="2911320"/>
          </a:xfrm>
          <a:prstGeom prst="rect">
            <a:avLst/>
          </a:prstGeom>
          <a:ln w="0">
            <a:noFill/>
          </a:ln>
        </p:spPr>
      </p:pic>
      <p:sp>
        <p:nvSpPr>
          <p:cNvPr id="243" name="Line 11"/>
          <p:cNvSpPr/>
          <p:nvPr/>
        </p:nvSpPr>
        <p:spPr>
          <a:xfrm flipH="1" flipV="1">
            <a:off x="6705720" y="4572000"/>
            <a:ext cx="91440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7772400" y="4800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ri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4876920" y="3505320"/>
            <a:ext cx="99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51181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s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66680" y="992160"/>
            <a:ext cx="87663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Iso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oncentration of solutes in the solution is equal to the concentration of solutes inside the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89000" y="527544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Water moves equally in both directions and the cell remains same size!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Dynamic Equilibri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6" descr="isotonic"/>
          <p:cNvPicPr/>
          <p:nvPr/>
        </p:nvPicPr>
        <p:blipFill>
          <a:blip r:embed="rId1"/>
          <a:stretch/>
        </p:blipFill>
        <p:spPr>
          <a:xfrm>
            <a:off x="511200" y="2401920"/>
            <a:ext cx="2857320" cy="2320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red blood cell iin isotonic solution"/>
          <p:cNvPicPr/>
          <p:nvPr/>
        </p:nvPicPr>
        <p:blipFill>
          <a:blip r:embed="rId2"/>
          <a:stretch/>
        </p:blipFill>
        <p:spPr>
          <a:xfrm>
            <a:off x="6510240" y="2320920"/>
            <a:ext cx="1974960" cy="244152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5"/>
          <p:cNvPicPr/>
          <p:nvPr/>
        </p:nvPicPr>
        <p:blipFill>
          <a:blip r:embed="rId1"/>
          <a:srcRect l="9600" t="12600" r="9600" b="3600"/>
          <a:stretch/>
        </p:blipFill>
        <p:spPr>
          <a:xfrm>
            <a:off x="762120" y="762120"/>
            <a:ext cx="7086600" cy="49021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6"/>
          <p:cNvSpPr/>
          <p:nvPr/>
        </p:nvSpPr>
        <p:spPr>
          <a:xfrm>
            <a:off x="685800" y="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ype of solution are these cells 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2895480" y="28195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6629400" y="2743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47242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22860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441972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61722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ow Organisms Deal with Osmotic Pressur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81320" y="152280"/>
            <a:ext cx="22100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mecium (protist) removing excess water vid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828800" y="297180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0" y="1295280"/>
            <a:ext cx="914400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acteria and pl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ve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ell wa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prevent them from over-expanding. In plants the pressure exerted on the cell wall is called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ugor pressure.</a:t>
            </a:r>
            <a:r>
              <a:rPr b="0" lang="en-US" sz="1800" spc="-1" strike="noStrike">
                <a:solidFill>
                  <a:srgbClr val="fff59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proti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ke paramecium ha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ontractile vacuo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collect water flowing in and pump it out to prevent them from over-expan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alt water fis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ump salt out of their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pecialized gi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 they do not dehyd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Animal ce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bathed i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lood. Kidney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eep the blood isotonic by remove excess salt and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556272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298800" indent="-298800"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of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597"/>
                </a:solidFill>
                <a:latin typeface="Arial"/>
              </a:rPr>
              <a:t>Lipid Bilay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-2 layers of phospholip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ate head i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po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water lov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ty acid tail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non-polar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ter fear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ins embedded in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Picture 5" descr="phospholipid"/>
          <p:cNvPicPr/>
          <p:nvPr/>
        </p:nvPicPr>
        <p:blipFill>
          <a:blip r:embed="rId1"/>
          <a:stretch/>
        </p:blipFill>
        <p:spPr>
          <a:xfrm>
            <a:off x="6248520" y="838080"/>
            <a:ext cx="172224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3227400" cy="1484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609588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o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095880" y="5562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pid 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10" descr="3"/>
          <p:cNvPicPr/>
          <p:nvPr/>
        </p:nvPicPr>
        <p:blipFill>
          <a:blip r:embed="rId3"/>
          <a:srcRect l="19200" t="0" r="60004" b="0"/>
          <a:stretch/>
        </p:blipFill>
        <p:spPr>
          <a:xfrm>
            <a:off x="8153280" y="685800"/>
            <a:ext cx="736560" cy="23623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1219320" y="3738600"/>
            <a:ext cx="6781680" cy="2967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1447920" y="6019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152280" y="304920"/>
            <a:ext cx="5867280" cy="3308400"/>
            <a:chOff x="152280" y="304920"/>
            <a:chExt cx="5867280" cy="3308400"/>
          </a:xfrm>
        </p:grpSpPr>
        <p:pic>
          <p:nvPicPr>
            <p:cNvPr id="69" name="Picture 5" descr="3"/>
            <p:cNvPicPr/>
            <p:nvPr/>
          </p:nvPicPr>
          <p:blipFill>
            <a:blip r:embed="rId2"/>
            <a:srcRect l="1200" t="21600" r="51604" b="21600"/>
            <a:stretch/>
          </p:blipFill>
          <p:spPr>
            <a:xfrm>
              <a:off x="152280" y="304920"/>
              <a:ext cx="3825000" cy="330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9" descr="3"/>
            <p:cNvPicPr/>
            <p:nvPr/>
          </p:nvPicPr>
          <p:blipFill>
            <a:blip r:embed="rId3"/>
            <a:srcRect l="72004" t="21600" r="0" b="21600"/>
            <a:stretch/>
          </p:blipFill>
          <p:spPr>
            <a:xfrm>
              <a:off x="3750840" y="304920"/>
              <a:ext cx="2268720" cy="33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Rectangle 11"/>
          <p:cNvSpPr/>
          <p:nvPr/>
        </p:nvSpPr>
        <p:spPr>
          <a:xfrm>
            <a:off x="6477120" y="2209680"/>
            <a:ext cx="2133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Membrane movement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H="1">
            <a:off x="3276360" y="914400"/>
            <a:ext cx="609480" cy="5335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886200" y="30492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ar head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love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&amp; dissol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H="1" flipV="1">
            <a:off x="3428640" y="2209320"/>
            <a:ext cx="609480" cy="3812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4038480" y="2286000"/>
            <a:ext cx="221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-polar tail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hide from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 flipV="1">
            <a:off x="1676520" y="5562720"/>
            <a:ext cx="75960" cy="4572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8"/>
          <p:cNvSpPr/>
          <p:nvPr/>
        </p:nvSpPr>
        <p:spPr>
          <a:xfrm flipV="1">
            <a:off x="2895480" y="5562360"/>
            <a:ext cx="304920" cy="6858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9"/>
          <p:cNvSpPr/>
          <p:nvPr/>
        </p:nvSpPr>
        <p:spPr>
          <a:xfrm flipH="1">
            <a:off x="2590920" y="4114800"/>
            <a:ext cx="914400" cy="763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3505320" y="38098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rbohydrate cell ma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5943600" y="22860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luid Mosaic Mode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f the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360" y="1119240"/>
            <a:ext cx="8991720" cy="22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Cell membranes have pores (holes) in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59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Selectively permeable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Allows some molecules in and keeps other molecules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ucture helps it be selec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80520" y="328680"/>
            <a:ext cx="815364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5720040" cy="3009960"/>
          </a:xfrm>
          <a:prstGeom prst="rect">
            <a:avLst/>
          </a:prstGeom>
          <a:ln w="0">
            <a:noFill/>
          </a:ln>
        </p:spPr>
      </p:pic>
      <p:sp>
        <p:nvSpPr>
          <p:cNvPr id="85" name="Line 6"/>
          <p:cNvSpPr/>
          <p:nvPr/>
        </p:nvSpPr>
        <p:spPr>
          <a:xfrm flipH="1">
            <a:off x="2798280" y="5419800"/>
            <a:ext cx="623880" cy="36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397240" y="603252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2441520" y="5151600"/>
            <a:ext cx="368280" cy="669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919920" cy="3182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3581280" y="1371600"/>
            <a:ext cx="4191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ut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114440" y="5181480"/>
            <a:ext cx="2640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In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(cytoplasm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30040" y="2819520"/>
            <a:ext cx="1648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574520" y="2590920"/>
            <a:ext cx="1297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288160" y="4343400"/>
            <a:ext cx="1803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rans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327000" y="4572000"/>
            <a:ext cx="2398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hospholip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785280" y="2209680"/>
            <a:ext cx="202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rbohyd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83808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Structure of the Cell Membra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4"/>
          <p:cNvSpPr/>
          <p:nvPr/>
        </p:nvSpPr>
        <p:spPr>
          <a:xfrm>
            <a:off x="304920" y="10666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0" y="54864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Anim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membrane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Cellular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Passive Transpo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n’t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m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Active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Pu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81"/>
          <p:cNvGrpSpPr/>
          <p:nvPr/>
        </p:nvGrpSpPr>
        <p:grpSpPr>
          <a:xfrm>
            <a:off x="4952880" y="4205160"/>
            <a:ext cx="3963960" cy="2654280"/>
            <a:chOff x="4952880" y="4205160"/>
            <a:chExt cx="3963960" cy="2654280"/>
          </a:xfrm>
        </p:grpSpPr>
        <p:grpSp>
          <p:nvGrpSpPr>
            <p:cNvPr id="105" name="Group 25"/>
            <p:cNvGrpSpPr/>
            <p:nvPr/>
          </p:nvGrpSpPr>
          <p:grpSpPr>
            <a:xfrm>
              <a:off x="4952880" y="4205160"/>
              <a:ext cx="3963960" cy="2654280"/>
              <a:chOff x="4952880" y="4205160"/>
              <a:chExt cx="3963960" cy="2654280"/>
            </a:xfrm>
          </p:grpSpPr>
          <p:sp>
            <p:nvSpPr>
              <p:cNvPr id="106" name="Oval 26"/>
              <p:cNvSpPr/>
              <p:nvPr/>
            </p:nvSpPr>
            <p:spPr>
              <a:xfrm>
                <a:off x="7467480" y="6262560"/>
                <a:ext cx="76320" cy="76320"/>
              </a:xfrm>
              <a:prstGeom prst="ellipse">
                <a:avLst/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" name="Group 27"/>
              <p:cNvGrpSpPr/>
              <p:nvPr/>
            </p:nvGrpSpPr>
            <p:grpSpPr>
              <a:xfrm>
                <a:off x="4952880" y="4205160"/>
                <a:ext cx="3963960" cy="2654280"/>
                <a:chOff x="4952880" y="4205160"/>
                <a:chExt cx="3963960" cy="2654280"/>
              </a:xfrm>
            </p:grpSpPr>
            <p:sp>
              <p:nvSpPr>
                <p:cNvPr id="108" name="Freeform 28"/>
                <p:cNvSpPr/>
                <p:nvPr/>
              </p:nvSpPr>
              <p:spPr>
                <a:xfrm>
                  <a:off x="4952880" y="5051520"/>
                  <a:ext cx="2979720" cy="1312920"/>
                </a:xfrm>
                <a:custGeom>
                  <a:avLst/>
                  <a:gdLst/>
                  <a:ahLst/>
                  <a:rect l="l" t="t" r="r" b="b"/>
                  <a:pathLst>
                    <a:path w="1877" h="827">
                      <a:moveTo>
                        <a:pt x="0" y="814"/>
                      </a:moveTo>
                      <a:cubicBezTo>
                        <a:pt x="29" y="805"/>
                        <a:pt x="62" y="798"/>
                        <a:pt x="88" y="781"/>
                      </a:cubicBezTo>
                      <a:cubicBezTo>
                        <a:pt x="138" y="750"/>
                        <a:pt x="94" y="768"/>
                        <a:pt x="135" y="753"/>
                      </a:cubicBezTo>
                      <a:cubicBezTo>
                        <a:pt x="157" y="732"/>
                        <a:pt x="160" y="711"/>
                        <a:pt x="183" y="692"/>
                      </a:cubicBezTo>
                      <a:cubicBezTo>
                        <a:pt x="219" y="662"/>
                        <a:pt x="262" y="647"/>
                        <a:pt x="291" y="604"/>
                      </a:cubicBezTo>
                      <a:cubicBezTo>
                        <a:pt x="321" y="560"/>
                        <a:pt x="350" y="520"/>
                        <a:pt x="386" y="482"/>
                      </a:cubicBezTo>
                      <a:cubicBezTo>
                        <a:pt x="398" y="447"/>
                        <a:pt x="390" y="466"/>
                        <a:pt x="420" y="421"/>
                      </a:cubicBezTo>
                      <a:cubicBezTo>
                        <a:pt x="425" y="414"/>
                        <a:pt x="434" y="401"/>
                        <a:pt x="434" y="401"/>
                      </a:cubicBezTo>
                      <a:cubicBezTo>
                        <a:pt x="449" y="353"/>
                        <a:pt x="442" y="374"/>
                        <a:pt x="454" y="340"/>
                      </a:cubicBezTo>
                      <a:cubicBezTo>
                        <a:pt x="459" y="325"/>
                        <a:pt x="472" y="313"/>
                        <a:pt x="481" y="299"/>
                      </a:cubicBezTo>
                      <a:cubicBezTo>
                        <a:pt x="486" y="292"/>
                        <a:pt x="495" y="279"/>
                        <a:pt x="495" y="279"/>
                      </a:cubicBezTo>
                      <a:cubicBezTo>
                        <a:pt x="509" y="235"/>
                        <a:pt x="537" y="165"/>
                        <a:pt x="583" y="150"/>
                      </a:cubicBezTo>
                      <a:cubicBezTo>
                        <a:pt x="605" y="117"/>
                        <a:pt x="647" y="95"/>
                        <a:pt x="678" y="69"/>
                      </a:cubicBezTo>
                      <a:cubicBezTo>
                        <a:pt x="694" y="56"/>
                        <a:pt x="699" y="43"/>
                        <a:pt x="718" y="35"/>
                      </a:cubicBezTo>
                      <a:cubicBezTo>
                        <a:pt x="731" y="29"/>
                        <a:pt x="745" y="26"/>
                        <a:pt x="759" y="22"/>
                      </a:cubicBezTo>
                      <a:cubicBezTo>
                        <a:pt x="772" y="18"/>
                        <a:pt x="799" y="8"/>
                        <a:pt x="799" y="8"/>
                      </a:cubicBezTo>
                      <a:cubicBezTo>
                        <a:pt x="954" y="16"/>
                        <a:pt x="914" y="0"/>
                        <a:pt x="1003" y="55"/>
                      </a:cubicBezTo>
                      <a:cubicBezTo>
                        <a:pt x="1042" y="111"/>
                        <a:pt x="1023" y="89"/>
                        <a:pt x="1057" y="123"/>
                      </a:cubicBezTo>
                      <a:cubicBezTo>
                        <a:pt x="1064" y="145"/>
                        <a:pt x="1091" y="184"/>
                        <a:pt x="1091" y="184"/>
                      </a:cubicBezTo>
                      <a:cubicBezTo>
                        <a:pt x="1100" y="212"/>
                        <a:pt x="1111" y="225"/>
                        <a:pt x="1132" y="245"/>
                      </a:cubicBezTo>
                      <a:cubicBezTo>
                        <a:pt x="1147" y="294"/>
                        <a:pt x="1137" y="274"/>
                        <a:pt x="1159" y="306"/>
                      </a:cubicBezTo>
                      <a:cubicBezTo>
                        <a:pt x="1168" y="335"/>
                        <a:pt x="1181" y="356"/>
                        <a:pt x="1199" y="381"/>
                      </a:cubicBezTo>
                      <a:cubicBezTo>
                        <a:pt x="1207" y="403"/>
                        <a:pt x="1214" y="440"/>
                        <a:pt x="1226" y="462"/>
                      </a:cubicBezTo>
                      <a:cubicBezTo>
                        <a:pt x="1234" y="476"/>
                        <a:pt x="1254" y="503"/>
                        <a:pt x="1254" y="503"/>
                      </a:cubicBezTo>
                      <a:cubicBezTo>
                        <a:pt x="1269" y="553"/>
                        <a:pt x="1291" y="596"/>
                        <a:pt x="1308" y="645"/>
                      </a:cubicBezTo>
                      <a:cubicBezTo>
                        <a:pt x="1316" y="669"/>
                        <a:pt x="1355" y="706"/>
                        <a:pt x="1355" y="706"/>
                      </a:cubicBezTo>
                      <a:cubicBezTo>
                        <a:pt x="1358" y="715"/>
                        <a:pt x="1366" y="742"/>
                        <a:pt x="1375" y="747"/>
                      </a:cubicBezTo>
                      <a:cubicBezTo>
                        <a:pt x="1458" y="795"/>
                        <a:pt x="1354" y="700"/>
                        <a:pt x="1450" y="767"/>
                      </a:cubicBezTo>
                      <a:cubicBezTo>
                        <a:pt x="1502" y="803"/>
                        <a:pt x="1557" y="803"/>
                        <a:pt x="1619" y="808"/>
                      </a:cubicBezTo>
                      <a:cubicBezTo>
                        <a:pt x="1727" y="827"/>
                        <a:pt x="1641" y="814"/>
                        <a:pt x="1877" y="814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Oval 29"/>
                <p:cNvSpPr/>
                <p:nvPr/>
              </p:nvSpPr>
              <p:spPr>
                <a:xfrm>
                  <a:off x="7240680" y="6186600"/>
                  <a:ext cx="75960" cy="75960"/>
                </a:xfrm>
                <a:prstGeom prst="ellipse">
                  <a:avLst/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Oval 30"/>
                <p:cNvSpPr/>
                <p:nvPr/>
              </p:nvSpPr>
              <p:spPr>
                <a:xfrm>
                  <a:off x="7392960" y="5576760"/>
                  <a:ext cx="152280" cy="228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Line 31"/>
                <p:cNvSpPr/>
                <p:nvPr/>
              </p:nvSpPr>
              <p:spPr>
                <a:xfrm flipH="1" flipV="1">
                  <a:off x="7164000" y="580536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32"/>
                <p:cNvSpPr/>
                <p:nvPr/>
              </p:nvSpPr>
              <p:spPr>
                <a:xfrm>
                  <a:off x="7469280" y="5805360"/>
                  <a:ext cx="0" cy="304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33"/>
                <p:cNvSpPr/>
                <p:nvPr/>
              </p:nvSpPr>
              <p:spPr>
                <a:xfrm flipH="1">
                  <a:off x="7316640" y="611028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34"/>
                <p:cNvSpPr/>
                <p:nvPr/>
              </p:nvSpPr>
              <p:spPr>
                <a:xfrm>
                  <a:off x="7469280" y="611028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35"/>
                <p:cNvSpPr/>
                <p:nvPr/>
              </p:nvSpPr>
              <p:spPr>
                <a:xfrm flipV="1">
                  <a:off x="7469280" y="58053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36"/>
                <p:cNvSpPr/>
                <p:nvPr/>
              </p:nvSpPr>
              <p:spPr>
                <a:xfrm flipH="1" flipV="1">
                  <a:off x="6630840" y="4966920"/>
                  <a:ext cx="533520" cy="1066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Line 37"/>
                <p:cNvSpPr/>
                <p:nvPr/>
              </p:nvSpPr>
              <p:spPr>
                <a:xfrm flipH="1">
                  <a:off x="6325920" y="4967280"/>
                  <a:ext cx="228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38"/>
                <p:cNvSpPr/>
                <p:nvPr/>
              </p:nvSpPr>
              <p:spPr>
                <a:xfrm flipH="1" flipV="1">
                  <a:off x="6554520" y="5653080"/>
                  <a:ext cx="533160" cy="838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Text Box 39"/>
                <p:cNvSpPr/>
                <p:nvPr/>
              </p:nvSpPr>
              <p:spPr>
                <a:xfrm>
                  <a:off x="5945040" y="5348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high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Text Box 40"/>
                <p:cNvSpPr/>
                <p:nvPr/>
              </p:nvSpPr>
              <p:spPr>
                <a:xfrm>
                  <a:off x="7240680" y="6491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low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AutoShape 41"/>
                <p:cNvSpPr/>
                <p:nvPr/>
              </p:nvSpPr>
              <p:spPr>
                <a:xfrm>
                  <a:off x="7392960" y="4205160"/>
                  <a:ext cx="1523880" cy="1295640"/>
                </a:xfrm>
                <a:prstGeom prst="wedgeEllipseCallout">
                  <a:avLst>
                    <a:gd name="adj1" fmla="val -34375"/>
                    <a:gd name="adj2" fmla="val 65319"/>
                  </a:avLst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his is gonna be hard work!!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" name="Oval 78"/>
            <p:cNvSpPr/>
            <p:nvPr/>
          </p:nvSpPr>
          <p:spPr>
            <a:xfrm>
              <a:off x="75438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79"/>
            <p:cNvSpPr/>
            <p:nvPr/>
          </p:nvSpPr>
          <p:spPr>
            <a:xfrm>
              <a:off x="73152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Group 82"/>
          <p:cNvGrpSpPr/>
          <p:nvPr/>
        </p:nvGrpSpPr>
        <p:grpSpPr>
          <a:xfrm>
            <a:off x="4876920" y="914400"/>
            <a:ext cx="3276000" cy="2806560"/>
            <a:chOff x="4876920" y="914400"/>
            <a:chExt cx="3276000" cy="2806560"/>
          </a:xfrm>
        </p:grpSpPr>
        <p:grpSp>
          <p:nvGrpSpPr>
            <p:cNvPr id="125" name="Group 5"/>
            <p:cNvGrpSpPr/>
            <p:nvPr/>
          </p:nvGrpSpPr>
          <p:grpSpPr>
            <a:xfrm>
              <a:off x="4876920" y="914400"/>
              <a:ext cx="3276000" cy="2806560"/>
              <a:chOff x="4876920" y="914400"/>
              <a:chExt cx="3276000" cy="2806560"/>
            </a:xfrm>
          </p:grpSpPr>
          <p:sp>
            <p:nvSpPr>
              <p:cNvPr id="126" name="Line 6"/>
              <p:cNvSpPr/>
              <p:nvPr/>
            </p:nvSpPr>
            <p:spPr>
              <a:xfrm>
                <a:off x="6629400" y="1981080"/>
                <a:ext cx="533520" cy="99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" name="Group 7"/>
              <p:cNvGrpSpPr/>
              <p:nvPr/>
            </p:nvGrpSpPr>
            <p:grpSpPr>
              <a:xfrm>
                <a:off x="4876920" y="914400"/>
                <a:ext cx="3276000" cy="2806560"/>
                <a:chOff x="4876920" y="914400"/>
                <a:chExt cx="3276000" cy="2806560"/>
              </a:xfrm>
            </p:grpSpPr>
            <p:sp>
              <p:nvSpPr>
                <p:cNvPr id="128" name="Line 8"/>
                <p:cNvSpPr/>
                <p:nvPr/>
              </p:nvSpPr>
              <p:spPr>
                <a:xfrm>
                  <a:off x="6248160" y="182880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9"/>
                <p:cNvGrpSpPr/>
                <p:nvPr/>
              </p:nvGrpSpPr>
              <p:grpSpPr>
                <a:xfrm>
                  <a:off x="4876920" y="914400"/>
                  <a:ext cx="3276000" cy="2806560"/>
                  <a:chOff x="4876920" y="914400"/>
                  <a:chExt cx="3276000" cy="2806560"/>
                </a:xfrm>
              </p:grpSpPr>
              <p:sp>
                <p:nvSpPr>
                  <p:cNvPr id="130" name="Line 10"/>
                  <p:cNvSpPr/>
                  <p:nvPr/>
                </p:nvSpPr>
                <p:spPr>
                  <a:xfrm flipH="1">
                    <a:off x="6095880" y="1828800"/>
                    <a:ext cx="1519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Oval 11"/>
                  <p:cNvSpPr/>
                  <p:nvPr/>
                </p:nvSpPr>
                <p:spPr>
                  <a:xfrm>
                    <a:off x="624816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Oval 12"/>
                  <p:cNvSpPr/>
                  <p:nvPr/>
                </p:nvSpPr>
                <p:spPr>
                  <a:xfrm>
                    <a:off x="632448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3" name="Group 13"/>
                  <p:cNvGrpSpPr/>
                  <p:nvPr/>
                </p:nvGrpSpPr>
                <p:grpSpPr>
                  <a:xfrm>
                    <a:off x="4876920" y="914400"/>
                    <a:ext cx="3276000" cy="2806560"/>
                    <a:chOff x="4876920" y="914400"/>
                    <a:chExt cx="3276000" cy="2806560"/>
                  </a:xfrm>
                </p:grpSpPr>
                <p:sp>
                  <p:nvSpPr>
                    <p:cNvPr id="134" name="Freeform 14"/>
                    <p:cNvSpPr/>
                    <p:nvPr/>
                  </p:nvSpPr>
                  <p:spPr>
                    <a:xfrm>
                      <a:off x="4876920" y="2057400"/>
                      <a:ext cx="2979360" cy="13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7" h="827">
                          <a:moveTo>
                            <a:pt x="0" y="814"/>
                          </a:moveTo>
                          <a:cubicBezTo>
                            <a:pt x="29" y="805"/>
                            <a:pt x="62" y="798"/>
                            <a:pt x="88" y="781"/>
                          </a:cubicBezTo>
                          <a:cubicBezTo>
                            <a:pt x="138" y="750"/>
                            <a:pt x="94" y="768"/>
                            <a:pt x="135" y="753"/>
                          </a:cubicBezTo>
                          <a:cubicBezTo>
                            <a:pt x="157" y="732"/>
                            <a:pt x="160" y="711"/>
                            <a:pt x="183" y="692"/>
                          </a:cubicBezTo>
                          <a:cubicBezTo>
                            <a:pt x="219" y="662"/>
                            <a:pt x="262" y="647"/>
                            <a:pt x="291" y="604"/>
                          </a:cubicBezTo>
                          <a:cubicBezTo>
                            <a:pt x="321" y="560"/>
                            <a:pt x="350" y="520"/>
                            <a:pt x="386" y="482"/>
                          </a:cubicBezTo>
                          <a:cubicBezTo>
                            <a:pt x="398" y="447"/>
                            <a:pt x="390" y="466"/>
                            <a:pt x="420" y="421"/>
                          </a:cubicBezTo>
                          <a:cubicBezTo>
                            <a:pt x="425" y="414"/>
                            <a:pt x="434" y="401"/>
                            <a:pt x="434" y="401"/>
                          </a:cubicBezTo>
                          <a:cubicBezTo>
                            <a:pt x="449" y="353"/>
                            <a:pt x="442" y="374"/>
                            <a:pt x="454" y="340"/>
                          </a:cubicBezTo>
                          <a:cubicBezTo>
                            <a:pt x="459" y="325"/>
                            <a:pt x="472" y="313"/>
                            <a:pt x="481" y="299"/>
                          </a:cubicBezTo>
                          <a:cubicBezTo>
                            <a:pt x="486" y="292"/>
                            <a:pt x="495" y="279"/>
                            <a:pt x="495" y="279"/>
                          </a:cubicBezTo>
                          <a:cubicBezTo>
                            <a:pt x="509" y="235"/>
                            <a:pt x="537" y="165"/>
                            <a:pt x="583" y="150"/>
                          </a:cubicBezTo>
                          <a:cubicBezTo>
                            <a:pt x="605" y="117"/>
                            <a:pt x="647" y="95"/>
                            <a:pt x="678" y="69"/>
                          </a:cubicBezTo>
                          <a:cubicBezTo>
                            <a:pt x="694" y="56"/>
                            <a:pt x="699" y="43"/>
                            <a:pt x="718" y="35"/>
                          </a:cubicBezTo>
                          <a:cubicBezTo>
                            <a:pt x="731" y="29"/>
                            <a:pt x="745" y="26"/>
                            <a:pt x="759" y="22"/>
                          </a:cubicBezTo>
                          <a:cubicBezTo>
                            <a:pt x="772" y="18"/>
                            <a:pt x="799" y="8"/>
                            <a:pt x="799" y="8"/>
                          </a:cubicBezTo>
                          <a:cubicBezTo>
                            <a:pt x="954" y="16"/>
                            <a:pt x="914" y="0"/>
                            <a:pt x="1003" y="55"/>
                          </a:cubicBezTo>
                          <a:cubicBezTo>
                            <a:pt x="1042" y="111"/>
                            <a:pt x="1023" y="89"/>
                            <a:pt x="1057" y="123"/>
                          </a:cubicBezTo>
                          <a:cubicBezTo>
                            <a:pt x="1064" y="145"/>
                            <a:pt x="1091" y="184"/>
                            <a:pt x="1091" y="184"/>
                          </a:cubicBezTo>
                          <a:cubicBezTo>
                            <a:pt x="1100" y="212"/>
                            <a:pt x="1111" y="225"/>
                            <a:pt x="1132" y="245"/>
                          </a:cubicBezTo>
                          <a:cubicBezTo>
                            <a:pt x="1147" y="294"/>
                            <a:pt x="1137" y="274"/>
                            <a:pt x="1159" y="306"/>
                          </a:cubicBezTo>
                          <a:cubicBezTo>
                            <a:pt x="1168" y="335"/>
                            <a:pt x="1181" y="356"/>
                            <a:pt x="1199" y="381"/>
                          </a:cubicBezTo>
                          <a:cubicBezTo>
                            <a:pt x="1207" y="403"/>
                            <a:pt x="1214" y="440"/>
                            <a:pt x="1226" y="462"/>
                          </a:cubicBezTo>
                          <a:cubicBezTo>
                            <a:pt x="1234" y="476"/>
                            <a:pt x="1254" y="503"/>
                            <a:pt x="1254" y="503"/>
                          </a:cubicBezTo>
                          <a:cubicBezTo>
                            <a:pt x="1269" y="553"/>
                            <a:pt x="1291" y="596"/>
                            <a:pt x="1308" y="645"/>
                          </a:cubicBezTo>
                          <a:cubicBezTo>
                            <a:pt x="1316" y="669"/>
                            <a:pt x="1355" y="706"/>
                            <a:pt x="1355" y="706"/>
                          </a:cubicBezTo>
                          <a:cubicBezTo>
                            <a:pt x="1358" y="715"/>
                            <a:pt x="1366" y="742"/>
                            <a:pt x="1375" y="747"/>
                          </a:cubicBezTo>
                          <a:cubicBezTo>
                            <a:pt x="1458" y="795"/>
                            <a:pt x="1354" y="700"/>
                            <a:pt x="1450" y="767"/>
                          </a:cubicBezTo>
                          <a:cubicBezTo>
                            <a:pt x="1502" y="803"/>
                            <a:pt x="1557" y="803"/>
                            <a:pt x="1619" y="808"/>
                          </a:cubicBezTo>
                          <a:cubicBezTo>
                            <a:pt x="1727" y="827"/>
                            <a:pt x="1641" y="814"/>
                            <a:pt x="1877" y="814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Oval 15"/>
                    <p:cNvSpPr/>
                    <p:nvPr/>
                  </p:nvSpPr>
                  <p:spPr>
                    <a:xfrm>
                      <a:off x="6172200" y="1295280"/>
                      <a:ext cx="151920" cy="22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Line 16"/>
                    <p:cNvSpPr/>
                    <p:nvPr/>
                  </p:nvSpPr>
                  <p:spPr>
                    <a:xfrm>
                      <a:off x="6248160" y="1523880"/>
                      <a:ext cx="0" cy="304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Oval 17"/>
                    <p:cNvSpPr/>
                    <p:nvPr/>
                  </p:nvSpPr>
                  <p:spPr>
                    <a:xfrm>
                      <a:off x="6095880" y="1981080"/>
                      <a:ext cx="75960" cy="76320"/>
                    </a:xfrm>
                    <a:prstGeom prst="ellipse">
                      <a:avLst/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18"/>
                    <p:cNvSpPr/>
                    <p:nvPr/>
                  </p:nvSpPr>
                  <p:spPr>
                    <a:xfrm flipH="1" flipV="1">
                      <a:off x="5943240" y="1600200"/>
                      <a:ext cx="30420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19"/>
                    <p:cNvSpPr/>
                    <p:nvPr/>
                  </p:nvSpPr>
                  <p:spPr>
                    <a:xfrm flipV="1">
                      <a:off x="6248160" y="1600200"/>
                      <a:ext cx="22824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Line 20"/>
                    <p:cNvSpPr/>
                    <p:nvPr/>
                  </p:nvSpPr>
                  <p:spPr>
                    <a:xfrm>
                      <a:off x="7238880" y="3048120"/>
                      <a:ext cx="7617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Text Box 21"/>
                    <p:cNvSpPr/>
                    <p:nvPr/>
                  </p:nvSpPr>
                  <p:spPr>
                    <a:xfrm>
                      <a:off x="5867280" y="2438280"/>
                      <a:ext cx="6854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Text Box 22"/>
                    <p:cNvSpPr/>
                    <p:nvPr/>
                  </p:nvSpPr>
                  <p:spPr>
                    <a:xfrm>
                      <a:off x="7238880" y="3352680"/>
                      <a:ext cx="9140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AutoShape 23"/>
                    <p:cNvSpPr/>
                    <p:nvPr/>
                  </p:nvSpPr>
                  <p:spPr>
                    <a:xfrm>
                      <a:off x="6476760" y="914400"/>
                      <a:ext cx="1523880" cy="533520"/>
                    </a:xfrm>
                    <a:prstGeom prst="wedgeEllipseCallout">
                      <a:avLst>
                        <a:gd name="adj1" fmla="val -43750"/>
                        <a:gd name="adj2" fmla="val 70000"/>
                      </a:avLst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 fontScale="89000"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eee!!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24"/>
                    <p:cNvSpPr/>
                    <p:nvPr/>
                  </p:nvSpPr>
                  <p:spPr>
                    <a:xfrm>
                      <a:off x="6324480" y="2819520"/>
                      <a:ext cx="837720" cy="761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45" name="Oval 80"/>
            <p:cNvSpPr/>
            <p:nvPr/>
          </p:nvSpPr>
          <p:spPr>
            <a:xfrm>
              <a:off x="6019920" y="198108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Text Box 83"/>
          <p:cNvSpPr/>
          <p:nvPr/>
        </p:nvSpPr>
        <p:spPr>
          <a:xfrm>
            <a:off x="6705720" y="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Animation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Active Transport &amp; Passive 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84"/>
          <p:cNvSpPr/>
          <p:nvPr/>
        </p:nvSpPr>
        <p:spPr>
          <a:xfrm>
            <a:off x="0" y="838080"/>
            <a:ext cx="6324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no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mov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spread out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l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ow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High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ow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Three typ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533520" y="9144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3 Types of Pass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acilitative 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with the help of transport prote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of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533520" y="11430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1T12:57:4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