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9720-88B2-4F1B-9A5F-08420F5706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. 7.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N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: random movement of particles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 to 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continues until all molecules are evenly spaced (equilibrium is reached)-Note: molecules will still move around but stay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Diffusion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: diffusion of specific particles through transport proteins found in the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Proteins are specific – they “select” only certain molecules  to cross th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s larger or charged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ed diffusion (Channel Prote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(Lipid Bilay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bio.winona.edu/berg/Fre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:  2. 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port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rough a 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ular Transport From 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nnel Protein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Osmosis: 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om high to low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moves freely through p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 (green) to large to move acr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ly moves molecules to where they are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ment  from an area of low concentration to an area of high concent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ow  Hig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Protein Pumps -transport proteins that require energy to do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ample: Sodium / Potassium Pumps are important in nerve respo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dium Potassium Pumps (Active Transport using prote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changes shape to move molecules:  this requires energ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ndocytosis:  taking bulky material into a ce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in-folds around food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eatin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s food vacuole &amp; diges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hite blood cells eat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Exocytosis: Forces material out of cell in bu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surrounding the material fuses with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changes shape – requires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Hormones or wastes released fro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cytosis &amp; Exocytosis ani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Osmosis on Lif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- diffusion of water through a selectively permeable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:  The solution has a lower concentration of solutes and a higher concentration of water than inside the cell. (Low solute; High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the solution to inside the cell): Cell Swells and bursts open (cyt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have a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what enters and exits the cell to maintain an internal balance called 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rotection and support for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 picture of a real cell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:  The solution has a higher concentration of solutes and a lower concentration of water than inside the cell. (High solute; Low wa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Water moves from inside the cell  into the solution:   Cell shrinks (Plasmolysi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:  The concentration of solutes in the solution is equal to the concentration of solutes inside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:  Water moves equally in both directions and the cell remains same size! (Dynamic Equilibr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Animations for isotonic, hypertonic, and hypotonic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solution are these cells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er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o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Organisms Deal with Osmotic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 (protist) removing excess water vid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nd plants have cell walls that prevent them from over-expanding. In plants the pressure exerted on the cell wall is called tugor press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rotist like paramecium has contractile vacuoles that collect water flowing in and pump it out to prevent them from over-exp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 water fish pump salt out of their specialized gills so they do not dehy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cells are bathed in blood. Kidneys keep the blood isotonic by remove excess salt and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ucture of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 -2 layers of 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ate head is polar (water lo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tty acid tails non-polar (water fea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 embedded in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pho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id 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mbrane movement 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ar heads love water &amp; dissol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-polar tails hide from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hydrate cell ma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uid Mosaic Model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ell membranes have pores (holes) i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ly permeable:  Allows some molecules in and keeps other molecules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helps it be selecti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Cell Membrane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ytopl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li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Sec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embran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Cellular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ssive Transpo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n’t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cilitated Diffu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oes us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 Pu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tions of Active Transport &amp;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uses no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move random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s spread out from an area of high concentration to an area of low concent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ighL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typ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Types of Passive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us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ive Diffusion – diffusion with the help of transport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mosis – diffusion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3585-D521-49A9-8C45-FA41BC62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A1C-6DC1-40CA-AEA7-5EE5635D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3EAB-7E73-46B9-9271-3A12F6690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C486-1B2A-49B3-8A09-28E4FB3C1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844-8451-4B77-B679-8466FCC4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ED3-6CCB-496B-AB13-04036E2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2D-4BF9-4D88-88CF-B0B6246E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2D48-12C7-4603-A486-8E59852E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D103-7395-472F-A114-FEBEBB2D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B523-DD71-40D8-B066-63BE48EF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2D36-A2F8-4BCE-AB62-E0ECBFD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D7ED-2733-496F-8A94-64682038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C916-E307-4CE1-85D8-C199F784E8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stolaf.edu/people/giannini/flashanimat/cellstructures/phagocit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ot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h. 7.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76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16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6"/>
          <p:cNvSpPr/>
          <p:nvPr/>
        </p:nvSpPr>
        <p:spPr>
          <a:xfrm>
            <a:off x="6400800" y="1523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Endocytosis &amp; Exocytosi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28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43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9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4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5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105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6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7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8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/>
                  <a:ahLst/>
                  <a:rect l="l" t="t" r="r" b="b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25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6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8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9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30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34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rmAutofit fontScale="89000"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45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1T12:57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