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7923-AAFD-4D82-B5D5-34459BB70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476-96B2-4BF7-8A24-97408DC9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3C6-C665-45A5-863A-E8BF5FD7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625-48EC-49CC-80B1-163A5690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88B-F466-490B-8BEA-5AD2DDC0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81F3-3AF4-4DEF-BFAA-E95069D0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4F32-6C5E-4273-A3F8-A1EF12D9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2206-C0A3-49D9-8580-DEC58EB1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19B8-6E35-41E3-A549-E83128FE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F065-0FA2-413B-8667-4B8CBB86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CA05-EAF5-468A-9695-ABB4A86F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2095-4413-412C-A327-A3595DD4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CDE-AFEE-48F5-ABE3-F31E9D3E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D216-500F-4E97-AB2F-8514A454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9FDD-D143-4446-A328-A4354AC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5988-6963-4DC1-9FC4-C2D4886B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1688-0097-4BA1-ABED-F55779C7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B764-AA26-449F-970E-3D1B2D16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DB2-0F80-4081-8E2A-63C06132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E50-8925-467D-95DC-B9A8FE48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A9D-708E-48BC-9D63-182A00F3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DC0-FC48-4A6B-8496-441D71B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D2F-8257-4765-83CE-A99D2B9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931-1E70-49C6-8A20-5F11C0B7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15D-1A72-452D-8742-54B7CEA3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803B-2900-4F90-B535-46D1F6ACD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E187-8588-4A63-ACE1-34E19F6B3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wpclipart.com/office/supplies/magnifying_glass_01.pn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362320" y="38088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 Black"/>
              </a:rPr>
              <a:t>LESSON 3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610480" cy="1912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. 2 “Cells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: “Viewing Cells”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some can magnify up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,000,000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gne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eld in a vacuum to bend beam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 must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grap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produ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F20504"/>
          <p:cNvPicPr/>
          <p:nvPr/>
        </p:nvPicPr>
        <p:blipFill>
          <a:blip r:embed="rId1"/>
          <a:stretch/>
        </p:blipFill>
        <p:spPr>
          <a:xfrm>
            <a:off x="5238720" y="1857240"/>
            <a:ext cx="3524400" cy="46958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S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320" y="1219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sp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electron-microscope-spider"/>
          <p:cNvPicPr/>
          <p:nvPr/>
        </p:nvPicPr>
        <p:blipFill>
          <a:blip r:embed="rId1"/>
          <a:stretch/>
        </p:blipFill>
        <p:spPr>
          <a:xfrm>
            <a:off x="5562720" y="1143000"/>
            <a:ext cx="3392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438_web"/>
          <p:cNvPicPr/>
          <p:nvPr/>
        </p:nvPicPr>
        <p:blipFill>
          <a:blip r:embed="rId2"/>
          <a:stretch/>
        </p:blipFill>
        <p:spPr>
          <a:xfrm>
            <a:off x="5437080" y="3809880"/>
            <a:ext cx="370692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0" y="2971800"/>
            <a:ext cx="502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real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D im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pecimen can be obser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6171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fly f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TEM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D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i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liced speci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ll par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ly inside a cell)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age002"/>
          <p:cNvPicPr/>
          <p:nvPr/>
        </p:nvPicPr>
        <p:blipFill>
          <a:blip r:embed="rId1"/>
          <a:stretch/>
        </p:blipFill>
        <p:spPr>
          <a:xfrm>
            <a:off x="5105520" y="1143000"/>
            <a:ext cx="3524040" cy="541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 montage of transmission electron micrographs"/>
          <p:cNvPicPr/>
          <p:nvPr/>
        </p:nvPicPr>
        <p:blipFill>
          <a:blip r:embed="rId2"/>
          <a:stretch/>
        </p:blipFill>
        <p:spPr>
          <a:xfrm>
            <a:off x="533520" y="426708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nneling 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croscope (STM)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how arrang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afm"/>
          <p:cNvPicPr/>
          <p:nvPr/>
        </p:nvPicPr>
        <p:blipFill>
          <a:blip r:embed="rId1"/>
          <a:stretch/>
        </p:blipFill>
        <p:spPr>
          <a:xfrm>
            <a:off x="4648320" y="1752480"/>
            <a:ext cx="4419360" cy="46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TM-med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ory resulting from many scientist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39960" y="-7456320"/>
          <a:ext cx="2455920" cy="51512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399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w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lei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rc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5" descr="cell%20%201"/>
          <p:cNvPicPr/>
          <p:nvPr/>
        </p:nvPicPr>
        <p:blipFill>
          <a:blip r:embed="rId1"/>
          <a:stretch/>
        </p:blipFill>
        <p:spPr>
          <a:xfrm>
            <a:off x="3730680" y="-704520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ell%20%202"/>
          <p:cNvPicPr/>
          <p:nvPr/>
        </p:nvPicPr>
        <p:blipFill>
          <a:blip r:embed="rId2"/>
          <a:stretch/>
        </p:blipFill>
        <p:spPr>
          <a:xfrm>
            <a:off x="3913200" y="-618804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ell%20%203"/>
          <p:cNvPicPr/>
          <p:nvPr/>
        </p:nvPicPr>
        <p:blipFill>
          <a:blip r:embed="rId3"/>
          <a:stretch/>
        </p:blipFill>
        <p:spPr>
          <a:xfrm>
            <a:off x="4095720" y="-5487840"/>
            <a:ext cx="140976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8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0" descr="cell%20%201"/>
          <p:cNvPicPr/>
          <p:nvPr/>
        </p:nvPicPr>
        <p:blipFill>
          <a:blip r:embed="rId4"/>
          <a:stretch/>
        </p:blipFill>
        <p:spPr>
          <a:xfrm>
            <a:off x="685800" y="373392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cell%20%202"/>
          <p:cNvPicPr/>
          <p:nvPr/>
        </p:nvPicPr>
        <p:blipFill>
          <a:blip r:embed="rId5"/>
          <a:stretch/>
        </p:blipFill>
        <p:spPr>
          <a:xfrm>
            <a:off x="3581280" y="297180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cell%20%203"/>
          <p:cNvPicPr/>
          <p:nvPr/>
        </p:nvPicPr>
        <p:blipFill>
          <a:blip r:embed="rId6"/>
          <a:stretch/>
        </p:blipFill>
        <p:spPr>
          <a:xfrm>
            <a:off x="6324480" y="3581280"/>
            <a:ext cx="1409760" cy="1752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basic unit of life 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o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65, an English scientist nam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e an improved microscope and viewed thin slic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k viewing plant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 named what he s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cells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cork_cells"/>
          <p:cNvPicPr/>
          <p:nvPr/>
        </p:nvPicPr>
        <p:blipFill>
          <a:blip r:embed="rId1"/>
          <a:stretch/>
        </p:blipFill>
        <p:spPr>
          <a:xfrm>
            <a:off x="5867280" y="17524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723_gottfried_leibniz"/>
          <p:cNvPicPr/>
          <p:nvPr/>
        </p:nvPicPr>
        <p:blipFill>
          <a:blip r:embed="rId2"/>
          <a:stretch/>
        </p:blipFill>
        <p:spPr>
          <a:xfrm>
            <a:off x="3352680" y="438480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ooke's compound microscope, 1665-1675."/>
          <p:cNvPicPr/>
          <p:nvPr/>
        </p:nvPicPr>
        <p:blipFill>
          <a:blip r:embed="rId3"/>
          <a:stretch/>
        </p:blipFill>
        <p:spPr>
          <a:xfrm>
            <a:off x="6400800" y="3200400"/>
            <a:ext cx="241632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 living things are made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or more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i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otanist studying pl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ologist studying anima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living things were made of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Smatthi"/>
          <p:cNvPicPr/>
          <p:nvPr/>
        </p:nvPicPr>
        <p:blipFill>
          <a:blip r:embed="rId1"/>
          <a:stretch/>
        </p:blipFill>
        <p:spPr>
          <a:xfrm>
            <a:off x="228600" y="4381560"/>
            <a:ext cx="2171880" cy="2324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439000" y="609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ei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schwann"/>
          <p:cNvPicPr/>
          <p:nvPr/>
        </p:nvPicPr>
        <p:blipFill>
          <a:blip r:embed="rId2"/>
          <a:stretch/>
        </p:blipFill>
        <p:spPr>
          <a:xfrm>
            <a:off x="6400800" y="3809880"/>
            <a:ext cx="207180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032440" y="5638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 cell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vid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&amp; come from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Vircho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virchow"/>
          <p:cNvPicPr/>
          <p:nvPr/>
        </p:nvPicPr>
        <p:blipFill>
          <a:blip r:embed="rId1"/>
          <a:stretch/>
        </p:blipFill>
        <p:spPr>
          <a:xfrm>
            <a:off x="914400" y="1752480"/>
            <a:ext cx="20667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3125880" y="35042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ARLY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Zacharias Janss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made 1st compound microsco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utch maker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ading glas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500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zacharias_janssen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619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euwenho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cope (m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600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7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icroscope lenses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ages 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 image was no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euwenhoek"/>
          <p:cNvPicPr/>
          <p:nvPr/>
        </p:nvPicPr>
        <p:blipFill>
          <a:blip r:embed="rId1"/>
          <a:stretch/>
        </p:blipFill>
        <p:spPr>
          <a:xfrm>
            <a:off x="304920" y="1143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oddington1301"/>
          <p:cNvPicPr/>
          <p:nvPr/>
        </p:nvPicPr>
        <p:blipFill>
          <a:blip r:embed="rId2"/>
          <a:stretch/>
        </p:blipFill>
        <p:spPr>
          <a:xfrm>
            <a:off x="4800600" y="53352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euwenhoek's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screw for adjusting the height of the object being exa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metal plate serving as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skewer to impale the object and rotat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he lens itself, which was sphe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icro1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R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ing on how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ns mak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larged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s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wards you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microscope 2"/>
          <p:cNvPicPr/>
          <p:nvPr/>
        </p:nvPicPr>
        <p:blipFill>
          <a:blip r:embed="rId1"/>
          <a:stretch/>
        </p:blipFill>
        <p:spPr>
          <a:xfrm>
            <a:off x="380880" y="1066680"/>
            <a:ext cx="3124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icroscope2"/>
          <p:cNvPicPr/>
          <p:nvPr/>
        </p:nvPicPr>
        <p:blipFill>
          <a:blip r:embed="rId2"/>
          <a:stretch/>
        </p:blipFill>
        <p:spPr>
          <a:xfrm>
            <a:off x="5334120" y="1066680"/>
            <a:ext cx="346716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upport"/>
          <p:cNvPicPr/>
          <p:nvPr/>
        </p:nvPicPr>
        <p:blipFill>
          <a:blip r:embed="rId1"/>
          <a:stretch/>
        </p:blipFill>
        <p:spPr>
          <a:xfrm>
            <a:off x="228600" y="3124080"/>
            <a:ext cx="21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upport"/>
          <p:cNvPicPr/>
          <p:nvPr/>
        </p:nvPicPr>
        <p:blipFill>
          <a:blip r:embed="rId2"/>
          <a:stretch/>
        </p:blipFill>
        <p:spPr>
          <a:xfrm>
            <a:off x="228600" y="30492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agnifying_glass_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371600"/>
            <a:ext cx="1276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ying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ap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by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ICROSCOPE"/>
          <p:cNvPicPr/>
          <p:nvPr/>
        </p:nvPicPr>
        <p:blipFill>
          <a:blip r:embed="rId1"/>
          <a:stretch/>
        </p:blipFill>
        <p:spPr>
          <a:xfrm>
            <a:off x="5257800" y="1447920"/>
            <a:ext cx="3886200" cy="487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5178E97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622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REO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D 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 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AGNIF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6159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ultipl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otal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nification"/>
          <p:cNvPicPr/>
          <p:nvPr/>
        </p:nvPicPr>
        <p:blipFill>
          <a:blip r:embed="rId1"/>
          <a:stretch/>
        </p:blipFill>
        <p:spPr>
          <a:xfrm>
            <a:off x="0" y="1522440"/>
            <a:ext cx="5927760" cy="53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elod32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lod400"/>
          <p:cNvPicPr/>
          <p:nvPr/>
        </p:nvPicPr>
        <p:blipFill>
          <a:blip r:embed="rId3"/>
          <a:stretch/>
        </p:blipFill>
        <p:spPr>
          <a:xfrm>
            <a:off x="6095880" y="5181480"/>
            <a:ext cx="3048120" cy="166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elod100"/>
          <p:cNvPicPr/>
          <p:nvPr/>
        </p:nvPicPr>
        <p:blipFill>
          <a:blip r:embed="rId4"/>
          <a:stretch/>
        </p:blipFill>
        <p:spPr>
          <a:xfrm>
            <a:off x="6095880" y="3352680"/>
            <a:ext cx="304812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3:56:17Z</dcterms:created>
  <dc:creator>Becky</dc:creator>
  <dc:description/>
  <dc:language>en-US</dc:language>
  <cp:lastModifiedBy>LEGION2</cp:lastModifiedBy>
  <dcterms:modified xsi:type="dcterms:W3CDTF">2016-01-11T12:54:21Z</dcterms:modified>
  <cp:revision>17</cp:revision>
  <dc:subject/>
  <dc:title>Ch. 2 “Cells” Section 2: “Viewing Cells”  Pages 47 - 5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