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27.png" ContentType="image/png"/>
  <Override PartName="/ppt/media/image33.jpeg" ContentType="image/jpeg"/>
  <Override PartName="/ppt/media/image21.jpeg" ContentType="image/jpeg"/>
  <Override PartName="/ppt/media/image6.png" ContentType="image/pn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74B7-36F1-4118-897A-9B7AB3820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. 2 “Cells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2: “Viewing Cells”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. 2 “Cells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2: “Viewing Cells”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owerful; some can magnify up to 1,000,000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magnetic field in a vacuum to bend beams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 must be photographed or produced electron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owerful; some can magnify up to 1,000,000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magnetic field in a vacuum to bend beams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 must be photographed or produced electron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 image of a spid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realistic 3D im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the surface of specimen can be ob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 image of a fly foo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 image of a spid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realistic 3D im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the surface of specimen can be ob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 image of a fly foo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2D image of thinly sliced speci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ed cell parts (only inside a cell) can be ob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2D image of thinly sliced speci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ed cell parts (only inside a cell) can be ob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 Microscope (ST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le to show arrangement of ato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 Microscope (ST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le to show arrangement of ato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eory resulting from many scientists’ observations &amp; 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eory resulting from many scientists’ observations &amp; 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he basic unit of life is the cell. (Hook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665, an English scientist named Robert Hooke made an improved microscope and viewed thin slices of cork viewing plant cell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oke named what he saw "cells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he basic unit of life is the cell. (Hook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665, an English scientist named Robert Hooke made an improved microscope and viewed thin slices of cork viewing plant cell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oke named what he saw "cells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ll living things are made of 1 or more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ias Schleiden (botanist studying plant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dore Schwann (zoologist studying animals) stated that all living things were made of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leid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w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ll living things are made of 1 or more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ias Schleiden (botanist studying plant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dore Schwann (zoologist studying animals) stated that all living things were made of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leid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w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. All cells divide &amp; come from old cells. (Virch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ch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. All cells divide &amp; come from old cells. (Virch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ch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charias Janssen - made 1st compound microsc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utch maker of reading glasses (late 1500’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charias Janssen - made 1st compound microsc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utch maker of reading glasses (late 1500’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euwenhoe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a simple microscope (mid 1600’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ed 270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icroscope lenses made images larger but the image was not cle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euwenhoe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a simple microscope (mid 1600’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ed 270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icroscope lenses made images larger but the image was not cle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euwenhoek's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 screw for adjusting the height of the object being examin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a metal plate serving as the bod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skewer to impale the object and rotate 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the lens itself, which was spher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euwenhoek's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 screw for adjusting the height of the object being examin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a metal plate serving as the bod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skewer to impale the object and rotate 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the lens itself, which was spher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croscope is simple or compound depending on how many lenses it co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ns makes an enlarged image &amp; directs light towards you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croscope is simple or compound depending on how many lenses it co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ns makes an enlarged image &amp; directs light towards you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imple microscope has on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to a magnifying 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is the change in apparent size produced by a microsc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imple microscope has on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to a magnifying 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is the change in apparent size produced by a microsc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pound microscope has multiple len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yepiece &amp; objective lens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pound microscope has multiple len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yepiece &amp; objective lens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EO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 a 3D im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EO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 a 3D im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eyepiece (10X) multiplied by objective lenses determine total magn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eyepiece (10X) multiplied by objective lenses determine total magn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684C-A41E-48F5-BE1E-C83674D2F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D481-0C61-4BE1-B771-45DF51D2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6DB6-FEF5-48F8-8C14-95F90F19B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B6C0-2096-4857-B99F-0AFD844C1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32B7-0D8C-4151-87E6-48F2BD58F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94BD-6AA3-4897-AE11-58174770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10A4-EF7D-4F65-B4FB-E398BE95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63A5-D8E9-4265-8358-E78B3722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4E81-B7E2-4623-ABA1-EDFD3BAC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CE0D-6B24-41DF-AFE9-99ADB458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550D-1F10-4836-BA7A-D21B816D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4B99-47B0-48AF-98AE-6B4F7D1F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8BAA-BCD3-44A6-BB19-23DE364C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DA00-EFDD-410C-A4E3-94BB39F0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31BA-90F2-4D85-BEAB-C1BB15DF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1740-0D6B-4631-B927-817CF6307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F97C-7667-4686-8A56-312FB516E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7338-AFA6-4EC5-A0DE-EFD4AF01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78C6-0BC8-4CE4-A736-91A56195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22BD-1A8B-4805-85A1-954E8BA7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9805-BFC2-4535-961F-4B950423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41E3-7715-4A95-888F-EF37A651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79FA-93C6-435A-A3D8-502ABA33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4814-CB6E-4A72-868A-0C8AABAB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38B0-4640-42DA-88C3-C6BD49820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10A5-622D-4DC0-9ABA-27B92A0DE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http://www.wpclipart.com/office/supplies/magnifying_glass_01.pn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2362320" y="380880"/>
            <a:ext cx="5333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7632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latin typeface="Arial Black"/>
              </a:rPr>
              <a:t>LESSON 3</a:t>
            </a:r>
            <a:endParaRPr b="0" lang="en-US" sz="2400" spc="1" strike="noStrike">
              <a:ln w="7632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047760"/>
            <a:ext cx="8610480" cy="19126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. 2 “Cells”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ion 2: “Viewing Cells” 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LECTRON MICROSCOPE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owerfu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some can magnify up to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1,000,000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magneti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ield in a vacuum to bend beams of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lectr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ages must b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hotograph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produce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lectronic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TF20504"/>
          <p:cNvPicPr/>
          <p:nvPr/>
        </p:nvPicPr>
        <p:blipFill>
          <a:blip r:embed="rId1"/>
          <a:stretch/>
        </p:blipFill>
        <p:spPr>
          <a:xfrm>
            <a:off x="5238720" y="1857240"/>
            <a:ext cx="3524400" cy="46958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8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Scanning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lectron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croscope (SEM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76320" y="1219320"/>
            <a:ext cx="5486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microscope image of a spi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6" descr="electron-microscope-spider"/>
          <p:cNvPicPr/>
          <p:nvPr/>
        </p:nvPicPr>
        <p:blipFill>
          <a:blip r:embed="rId1"/>
          <a:stretch/>
        </p:blipFill>
        <p:spPr>
          <a:xfrm>
            <a:off x="5562720" y="1143000"/>
            <a:ext cx="3392280" cy="2438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7" descr="438_web"/>
          <p:cNvPicPr/>
          <p:nvPr/>
        </p:nvPicPr>
        <p:blipFill>
          <a:blip r:embed="rId2"/>
          <a:stretch/>
        </p:blipFill>
        <p:spPr>
          <a:xfrm>
            <a:off x="5437080" y="3809880"/>
            <a:ext cx="3706920" cy="2438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3"/>
          <p:cNvSpPr/>
          <p:nvPr/>
        </p:nvSpPr>
        <p:spPr>
          <a:xfrm>
            <a:off x="0" y="2971800"/>
            <a:ext cx="5029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realistic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D ima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rf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specimen can be observ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57240" y="617184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microscope image of a fly f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5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Transmission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lectron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croscope (TEM)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800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es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2D ima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hin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liced speci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ailed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ell par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only inside a cell) can be observ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image002"/>
          <p:cNvPicPr/>
          <p:nvPr/>
        </p:nvPicPr>
        <p:blipFill>
          <a:blip r:embed="rId1"/>
          <a:stretch/>
        </p:blipFill>
        <p:spPr>
          <a:xfrm>
            <a:off x="5105520" y="1143000"/>
            <a:ext cx="3524040" cy="5410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A montage of transmission electron micrographs"/>
          <p:cNvPicPr/>
          <p:nvPr/>
        </p:nvPicPr>
        <p:blipFill>
          <a:blip r:embed="rId2"/>
          <a:stretch/>
        </p:blipFill>
        <p:spPr>
          <a:xfrm>
            <a:off x="533520" y="4267080"/>
            <a:ext cx="4190760" cy="236232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8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Scanning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unneling  </a:t>
            </a:r>
            <a:r>
              <a:rPr b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icroscope (STM) 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35053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le to show arrangement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to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afm"/>
          <p:cNvPicPr/>
          <p:nvPr/>
        </p:nvPicPr>
        <p:blipFill>
          <a:blip r:embed="rId1"/>
          <a:stretch/>
        </p:blipFill>
        <p:spPr>
          <a:xfrm>
            <a:off x="4648320" y="1752480"/>
            <a:ext cx="4419360" cy="4695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STM-med"/>
          <p:cNvPicPr/>
          <p:nvPr/>
        </p:nvPicPr>
        <p:blipFill>
          <a:blip r:embed="rId2"/>
          <a:stretch/>
        </p:blipFill>
        <p:spPr>
          <a:xfrm>
            <a:off x="304920" y="3429000"/>
            <a:ext cx="4114800" cy="32004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9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L THEOR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heory resulting from many scientists’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bserv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639960" y="-7456320"/>
          <a:ext cx="2455920" cy="5151240"/>
        </p:xfrm>
        <a:graphic>
          <a:graphicData uri="http://schemas.openxmlformats.org/drawingml/2006/table">
            <a:tbl>
              <a:tblPr/>
              <a:tblGrid>
                <a:gridCol w="819360"/>
                <a:gridCol w="817560"/>
                <a:gridCol w="819000"/>
              </a:tblGrid>
              <a:tr h="3997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9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0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40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Schwan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Schleid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Virch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5" name="Picture 5" descr="cell%20%201"/>
          <p:cNvPicPr/>
          <p:nvPr/>
        </p:nvPicPr>
        <p:blipFill>
          <a:blip r:embed="rId1"/>
          <a:stretch/>
        </p:blipFill>
        <p:spPr>
          <a:xfrm>
            <a:off x="3730680" y="-7045200"/>
            <a:ext cx="1714320" cy="1571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cell%20%202"/>
          <p:cNvPicPr/>
          <p:nvPr/>
        </p:nvPicPr>
        <p:blipFill>
          <a:blip r:embed="rId2"/>
          <a:stretch/>
        </p:blipFill>
        <p:spPr>
          <a:xfrm>
            <a:off x="3913200" y="-6188040"/>
            <a:ext cx="1590840" cy="1685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cell%20%203"/>
          <p:cNvPicPr/>
          <p:nvPr/>
        </p:nvPicPr>
        <p:blipFill>
          <a:blip r:embed="rId3"/>
          <a:stretch/>
        </p:blipFill>
        <p:spPr>
          <a:xfrm>
            <a:off x="4095720" y="-5487840"/>
            <a:ext cx="1409760" cy="17524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28"/>
          <p:cNvSpPr/>
          <p:nvPr/>
        </p:nvSpPr>
        <p:spPr>
          <a:xfrm>
            <a:off x="609480" y="32767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30" descr="cell%20%201"/>
          <p:cNvPicPr/>
          <p:nvPr/>
        </p:nvPicPr>
        <p:blipFill>
          <a:blip r:embed="rId4"/>
          <a:stretch/>
        </p:blipFill>
        <p:spPr>
          <a:xfrm>
            <a:off x="685800" y="3733920"/>
            <a:ext cx="1714680" cy="1571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2" descr="cell%20%202"/>
          <p:cNvPicPr/>
          <p:nvPr/>
        </p:nvPicPr>
        <p:blipFill>
          <a:blip r:embed="rId5"/>
          <a:stretch/>
        </p:blipFill>
        <p:spPr>
          <a:xfrm>
            <a:off x="3581280" y="2971800"/>
            <a:ext cx="1590840" cy="1685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4" descr="cell%20%203"/>
          <p:cNvPicPr/>
          <p:nvPr/>
        </p:nvPicPr>
        <p:blipFill>
          <a:blip r:embed="rId6"/>
          <a:stretch/>
        </p:blipFill>
        <p:spPr>
          <a:xfrm>
            <a:off x="6324480" y="3581280"/>
            <a:ext cx="1409760" cy="17528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9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ELL THEOR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he basic unit of life is th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el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ok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54100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665, an English scientist nam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ert Hook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de an improved microscope and viewed thin slices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k viewing plant cell w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ke named what he saw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"cells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cork_cells"/>
          <p:cNvPicPr/>
          <p:nvPr/>
        </p:nvPicPr>
        <p:blipFill>
          <a:blip r:embed="rId1"/>
          <a:stretch/>
        </p:blipFill>
        <p:spPr>
          <a:xfrm>
            <a:off x="5867280" y="1752480"/>
            <a:ext cx="2057400" cy="1219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7723_gottfried_leibniz"/>
          <p:cNvPicPr/>
          <p:nvPr/>
        </p:nvPicPr>
        <p:blipFill>
          <a:blip r:embed="rId2"/>
          <a:stretch/>
        </p:blipFill>
        <p:spPr>
          <a:xfrm>
            <a:off x="3352680" y="4384800"/>
            <a:ext cx="2400480" cy="2361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Hooke's compound microscope, 1665-1675."/>
          <p:cNvPicPr/>
          <p:nvPr/>
        </p:nvPicPr>
        <p:blipFill>
          <a:blip r:embed="rId3"/>
          <a:stretch/>
        </p:blipFill>
        <p:spPr>
          <a:xfrm>
            <a:off x="6400800" y="3200400"/>
            <a:ext cx="2416320" cy="33526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5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ELL THEOR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ll living things are made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 or more cell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thia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leid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otanist studying plant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do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wan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zoologist studying animal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d tha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living things were made of ce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HSmatthi"/>
          <p:cNvPicPr/>
          <p:nvPr/>
        </p:nvPicPr>
        <p:blipFill>
          <a:blip r:embed="rId1"/>
          <a:stretch/>
        </p:blipFill>
        <p:spPr>
          <a:xfrm>
            <a:off x="228600" y="4381560"/>
            <a:ext cx="2171880" cy="23241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6"/>
          <p:cNvSpPr/>
          <p:nvPr/>
        </p:nvSpPr>
        <p:spPr>
          <a:xfrm>
            <a:off x="2439000" y="60948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leid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7" descr="schwann"/>
          <p:cNvPicPr/>
          <p:nvPr/>
        </p:nvPicPr>
        <p:blipFill>
          <a:blip r:embed="rId2"/>
          <a:stretch/>
        </p:blipFill>
        <p:spPr>
          <a:xfrm>
            <a:off x="6400800" y="3809880"/>
            <a:ext cx="2071800" cy="23241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8"/>
          <p:cNvSpPr/>
          <p:nvPr/>
        </p:nvSpPr>
        <p:spPr>
          <a:xfrm>
            <a:off x="5032440" y="563868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w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ELL THEOR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ll cells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vide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&amp; come from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old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cells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Virchow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9" descr="virchow"/>
          <p:cNvPicPr/>
          <p:nvPr/>
        </p:nvPicPr>
        <p:blipFill>
          <a:blip r:embed="rId1"/>
          <a:stretch/>
        </p:blipFill>
        <p:spPr>
          <a:xfrm>
            <a:off x="914400" y="1752480"/>
            <a:ext cx="2066760" cy="22860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4"/>
          <p:cNvSpPr/>
          <p:nvPr/>
        </p:nvSpPr>
        <p:spPr>
          <a:xfrm>
            <a:off x="3125880" y="3504240"/>
            <a:ext cx="137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rch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ARLY MICROSCOPE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Zacharias Janss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made 1st compound microscop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Dutch maker of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reading glass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lat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1500’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zacharias_janssen"/>
          <p:cNvPicPr/>
          <p:nvPr/>
        </p:nvPicPr>
        <p:blipFill>
          <a:blip r:embed="rId1"/>
          <a:stretch/>
        </p:blipFill>
        <p:spPr>
          <a:xfrm>
            <a:off x="6934320" y="228600"/>
            <a:ext cx="1904760" cy="261936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8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eeuwenhoek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croscope (mi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600’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ifi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70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microscope lenses ma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mages lar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t the image was no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e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Leeuwenhoek"/>
          <p:cNvPicPr/>
          <p:nvPr/>
        </p:nvPicPr>
        <p:blipFill>
          <a:blip r:embed="rId1"/>
          <a:stretch/>
        </p:blipFill>
        <p:spPr>
          <a:xfrm>
            <a:off x="304920" y="1143000"/>
            <a:ext cx="3809880" cy="3429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coddington1301"/>
          <p:cNvPicPr/>
          <p:nvPr/>
        </p:nvPicPr>
        <p:blipFill>
          <a:blip r:embed="rId2"/>
          <a:stretch/>
        </p:blipFill>
        <p:spPr>
          <a:xfrm>
            <a:off x="4800600" y="533520"/>
            <a:ext cx="4114800" cy="251460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euwenhoek's microscop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5181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a screw for adjusting the height of the object being examin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a metal plate serving as the bo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a skewer to impale the object and rotate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 the lens itself, which was spheri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micro1"/>
          <p:cNvPicPr/>
          <p:nvPr/>
        </p:nvPicPr>
        <p:blipFill>
          <a:blip r:embed="rId1"/>
          <a:stretch/>
        </p:blipFill>
        <p:spPr>
          <a:xfrm>
            <a:off x="5562720" y="2057400"/>
            <a:ext cx="2819160" cy="152388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DERN MICROSCOPE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41907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icroscope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pou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pending on how man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n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 cont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ens makes 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larged im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rects lig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wards you 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microscope 2"/>
          <p:cNvPicPr/>
          <p:nvPr/>
        </p:nvPicPr>
        <p:blipFill>
          <a:blip r:embed="rId1"/>
          <a:stretch/>
        </p:blipFill>
        <p:spPr>
          <a:xfrm>
            <a:off x="380880" y="1066680"/>
            <a:ext cx="3124440" cy="2951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microscope2"/>
          <p:cNvPicPr/>
          <p:nvPr/>
        </p:nvPicPr>
        <p:blipFill>
          <a:blip r:embed="rId2"/>
          <a:stretch/>
        </p:blipFill>
        <p:spPr>
          <a:xfrm>
            <a:off x="5334120" y="1066680"/>
            <a:ext cx="3467160" cy="31244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support"/>
          <p:cNvPicPr/>
          <p:nvPr/>
        </p:nvPicPr>
        <p:blipFill>
          <a:blip r:embed="rId1"/>
          <a:stretch/>
        </p:blipFill>
        <p:spPr>
          <a:xfrm>
            <a:off x="228600" y="3124080"/>
            <a:ext cx="2143080" cy="350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support"/>
          <p:cNvPicPr/>
          <p:nvPr/>
        </p:nvPicPr>
        <p:blipFill>
          <a:blip r:embed="rId2"/>
          <a:stretch/>
        </p:blipFill>
        <p:spPr>
          <a:xfrm>
            <a:off x="228600" y="304920"/>
            <a:ext cx="2143080" cy="2124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magnifying_glass_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43800" y="1371600"/>
            <a:ext cx="1276200" cy="16765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0" y="533160"/>
            <a:ext cx="6477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mple microsco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gnifying g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gnificatio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change in appar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z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duced by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icrosco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OUND MICROSCOP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5410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ound microsco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ultiple len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yepie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ns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MICROSCOPE"/>
          <p:cNvPicPr/>
          <p:nvPr/>
        </p:nvPicPr>
        <p:blipFill>
          <a:blip r:embed="rId1"/>
          <a:stretch/>
        </p:blipFill>
        <p:spPr>
          <a:xfrm>
            <a:off x="5257800" y="1447920"/>
            <a:ext cx="3886200" cy="4876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P5178E97"/>
          <p:cNvPicPr/>
          <p:nvPr/>
        </p:nvPicPr>
        <p:blipFill>
          <a:blip r:embed="rId2"/>
          <a:stretch/>
        </p:blipFill>
        <p:spPr>
          <a:xfrm>
            <a:off x="304920" y="3276720"/>
            <a:ext cx="2381040" cy="31622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EREOMICROSCOP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267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s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D im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 "/>
          <p:cNvPicPr/>
          <p:nvPr/>
        </p:nvPicPr>
        <p:blipFill>
          <a:blip r:embed="rId1"/>
          <a:stretch/>
        </p:blipFill>
        <p:spPr>
          <a:xfrm>
            <a:off x="5638680" y="1676520"/>
            <a:ext cx="2590920" cy="38098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88920"/>
            <a:ext cx="868680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TAL MAGNIFIC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61596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s of th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yepie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0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multiplied b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bjective len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termine total magn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Magnification"/>
          <p:cNvPicPr/>
          <p:nvPr/>
        </p:nvPicPr>
        <p:blipFill>
          <a:blip r:embed="rId1"/>
          <a:stretch/>
        </p:blipFill>
        <p:spPr>
          <a:xfrm>
            <a:off x="0" y="1522440"/>
            <a:ext cx="5927760" cy="5335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elod32"/>
          <p:cNvPicPr/>
          <p:nvPr/>
        </p:nvPicPr>
        <p:blipFill>
          <a:blip r:embed="rId2"/>
          <a:stretch/>
        </p:blipFill>
        <p:spPr>
          <a:xfrm>
            <a:off x="6095880" y="1676520"/>
            <a:ext cx="3048120" cy="1371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elod400"/>
          <p:cNvPicPr/>
          <p:nvPr/>
        </p:nvPicPr>
        <p:blipFill>
          <a:blip r:embed="rId3"/>
          <a:stretch/>
        </p:blipFill>
        <p:spPr>
          <a:xfrm>
            <a:off x="6095880" y="5181480"/>
            <a:ext cx="3048120" cy="1660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elod100"/>
          <p:cNvPicPr/>
          <p:nvPr/>
        </p:nvPicPr>
        <p:blipFill>
          <a:blip r:embed="rId4"/>
          <a:stretch/>
        </p:blipFill>
        <p:spPr>
          <a:xfrm>
            <a:off x="6095880" y="3352680"/>
            <a:ext cx="3048120" cy="152424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23:56:17Z</dcterms:created>
  <dc:creator>Becky</dc:creator>
  <dc:description/>
  <dc:language>en-US</dc:language>
  <cp:lastModifiedBy>LEGION2</cp:lastModifiedBy>
  <dcterms:modified xsi:type="dcterms:W3CDTF">2016-01-11T12:54:21Z</dcterms:modified>
  <cp:revision>17</cp:revision>
  <dc:subject/>
  <dc:title>Ch. 2 “Cells” Section 2: “Viewing Cells”  Pages 47 - 5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01033</vt:lpwstr>
  </property>
</Properties>
</file>