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A0DE-F6AA-4B46-B0A5-1E17572AF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s 41 – 4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ll Structure”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ELL TO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cell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ssue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iving thing made of 1 or mor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organs working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THE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.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Chlorop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 Golgi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-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- Mit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- Rib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- 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- Vacu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- ER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-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organelles that make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only in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OPHY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een pigment that gives leaves &amp; stems their col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s sunlight energy that is used to produce food called 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type of sug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elles that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nergy is released by breaking down food into 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the powerhouse b/c they release energy from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uscle cells have 20,000 mitochond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 freely or attached to the endoplasmic reticulum (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somes are made in the nucl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PLASMIC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ries of folded membranes that move materials (proteins) around in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a conveyor b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ER – ribosomes not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 ER – ribosomes attached to 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GI BODIES (GAWL je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cked flattened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rt and package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UO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orary storage sp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food, water, w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OSOMES (LI suh sohmz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"lysosome" is Latin for "kill body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lysosome is to digest things. They might be used to digest food or break down the cell when it 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down food molecules, cell wastes &amp; worn out cell p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811-13D0-4F84-8C6F-BE9BD802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8AA-D288-486A-9C13-4979B0FC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D17D-1DC2-4578-8FE3-53DC5660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9223-3EB2-4235-AC90-1F2BE1BC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ADAE-E4E1-44AA-997C-CEDA4D98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CE41-F65D-40FD-98F8-25FA9DAA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992E-A049-4AB4-9E7F-5AC52564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93B1-C682-47EF-9E4F-8C6E349F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25C7-C8CD-405F-AAB2-AE4F71F5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DCA8-9C11-4B45-8DCF-8BABBB5E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AD1B-ECB5-4187-8BC5-B05C40E4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7EEF-79C4-4E0C-B87C-6628FAE7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C1FC-CB5A-446A-B44E-868FDD6D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02AC-E998-4F54-B21F-BF218944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D777-0D38-4D68-A65C-C72A8A39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1568-E133-4D33-9D35-E370E171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CB80-D9D3-4A99-95FB-D48F57CE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7CC-BDD0-4E3C-9B85-6B778FE1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317-9114-4408-8415-753787E4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1BA-3044-4B2B-8362-B23315FD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C275-C328-49EF-A4BB-DC4477E9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490-39A9-425E-BBB1-0CE2026D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096-C0A5-427D-B3B1-8A988751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8E1-D800-45FA-A28F-5B5CFFC5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8B69-216D-43CA-8070-4E080C77A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6F5D-BD46-477A-91CD-D504A0694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1600200" y="685800"/>
            <a:ext cx="5457960" cy="11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0732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tructure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ages 41 – 4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7" descr="organells"/>
          <p:cNvPicPr/>
          <p:nvPr/>
        </p:nvPicPr>
        <p:blipFill>
          <a:blip r:embed="rId1"/>
          <a:stretch/>
        </p:blipFill>
        <p:spPr>
          <a:xfrm>
            <a:off x="2514600" y="3962520"/>
            <a:ext cx="4267080" cy="213336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OM CELL TO ORGAN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" name="Organization Chart 26"/>
          <p:cNvGrpSpPr/>
          <p:nvPr/>
        </p:nvGrpSpPr>
        <p:grpSpPr>
          <a:xfrm>
            <a:off x="228600" y="1523880"/>
            <a:ext cx="8381880" cy="5029200"/>
            <a:chOff x="228600" y="1523880"/>
            <a:chExt cx="8381880" cy="5029200"/>
          </a:xfrm>
        </p:grpSpPr>
        <p:cxnSp>
          <p:nvCxnSpPr>
            <p:cNvPr id="133" name="_s1028"/>
            <p:cNvCxnSpPr>
              <a:stCxn id="134" idx="0"/>
              <a:endCxn id="135" idx="3"/>
            </p:cNvCxnSpPr>
            <p:nvPr/>
          </p:nvCxnSpPr>
          <p:spPr>
            <a:xfrm rot="10800000">
              <a:off x="2742480" y="2242440"/>
              <a:ext cx="838800" cy="287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6" name="_s1029"/>
            <p:cNvCxnSpPr>
              <a:stCxn id="137" idx="0"/>
              <a:endCxn id="135" idx="2"/>
            </p:cNvCxnSpPr>
            <p:nvPr/>
          </p:nvCxnSpPr>
          <p:spPr>
            <a:xfrm rot="10800000">
              <a:off x="2742480" y="2242440"/>
              <a:ext cx="838800" cy="1796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_s1030"/>
            <p:cNvCxnSpPr>
              <a:stCxn id="139" idx="0"/>
              <a:endCxn id="135" idx="1"/>
            </p:cNvCxnSpPr>
            <p:nvPr/>
          </p:nvCxnSpPr>
          <p:spPr>
            <a:xfrm rot="10800000">
              <a:off x="2742480" y="2243160"/>
              <a:ext cx="838800" cy="395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_s1031"/>
            <p:cNvCxnSpPr>
              <a:stCxn id="141" idx="0"/>
              <a:endCxn id="135" idx="0"/>
            </p:cNvCxnSpPr>
            <p:nvPr/>
          </p:nvCxnSpPr>
          <p:spPr>
            <a:xfrm rot="10800000">
              <a:off x="2742480" y="2242440"/>
              <a:ext cx="83880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5" name="_s1032"/>
            <p:cNvSpPr/>
            <p:nvPr/>
          </p:nvSpPr>
          <p:spPr>
            <a:xfrm>
              <a:off x="228600" y="1523880"/>
              <a:ext cx="502920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basic unit of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3"/>
            <p:cNvSpPr/>
            <p:nvPr/>
          </p:nvSpPr>
          <p:spPr>
            <a:xfrm>
              <a:off x="3581280" y="260208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4"/>
            <p:cNvSpPr/>
            <p:nvPr/>
          </p:nvSpPr>
          <p:spPr>
            <a:xfrm>
              <a:off x="3581280" y="5834160"/>
              <a:ext cx="502920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_s1035"/>
            <p:cNvSpPr/>
            <p:nvPr/>
          </p:nvSpPr>
          <p:spPr>
            <a:xfrm>
              <a:off x="3581280" y="367992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_s1036"/>
            <p:cNvSpPr/>
            <p:nvPr/>
          </p:nvSpPr>
          <p:spPr>
            <a:xfrm>
              <a:off x="3581280" y="475776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2" name="Rectangle 57"/>
          <p:cNvSpPr/>
          <p:nvPr/>
        </p:nvSpPr>
        <p:spPr>
          <a:xfrm>
            <a:off x="3886200" y="2590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304920" y="3581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5"/>
          <p:cNvSpPr/>
          <p:nvPr/>
        </p:nvSpPr>
        <p:spPr>
          <a:xfrm>
            <a:off x="37339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ss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60"/>
          <p:cNvSpPr/>
          <p:nvPr/>
        </p:nvSpPr>
        <p:spPr>
          <a:xfrm>
            <a:off x="3352680" y="5807160"/>
            <a:ext cx="541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rganis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liv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ade of 1 or mor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64"/>
          <p:cNvSpPr/>
          <p:nvPr/>
        </p:nvSpPr>
        <p:spPr>
          <a:xfrm>
            <a:off x="3657600" y="47242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AME THE ORGANEL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organells"/>
          <p:cNvPicPr/>
          <p:nvPr/>
        </p:nvPicPr>
        <p:blipFill>
          <a:blip r:embed="rId1"/>
          <a:stretch/>
        </p:blipFill>
        <p:spPr>
          <a:xfrm>
            <a:off x="2971800" y="1981080"/>
            <a:ext cx="2990880" cy="38102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5943600" y="449568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. Mitochond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440388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. Chloropla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72200" y="2133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. Golgi bod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33520" y="213372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. Nucle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306AAA8E"/>
          <p:cNvPicPr/>
          <p:nvPr/>
        </p:nvPicPr>
        <p:blipFill>
          <a:blip r:embed="rId1"/>
          <a:stretch/>
        </p:blipFill>
        <p:spPr>
          <a:xfrm>
            <a:off x="152280" y="-228600"/>
            <a:ext cx="8839440" cy="61722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- Nucle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5241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- Chrom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860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Mitochond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295280" y="6232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Riboso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5812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Chloropla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4114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- Vacuo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72388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- 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781680" y="6095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- Cell Membra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LA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ganell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ke f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nd only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l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7" descr="chloroplast"/>
          <p:cNvPicPr/>
          <p:nvPr/>
        </p:nvPicPr>
        <p:blipFill>
          <a:blip r:embed="rId1"/>
          <a:stretch/>
        </p:blipFill>
        <p:spPr>
          <a:xfrm>
            <a:off x="1905120" y="3429000"/>
            <a:ext cx="2762280" cy="2381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plant_photosynth1"/>
          <p:cNvPicPr/>
          <p:nvPr/>
        </p:nvPicPr>
        <p:blipFill>
          <a:blip r:embed="rId2"/>
          <a:stretch/>
        </p:blipFill>
        <p:spPr>
          <a:xfrm>
            <a:off x="5867280" y="533520"/>
            <a:ext cx="269568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r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ig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gives leaves &amp; stems thei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tu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nligh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nergy that is used to pro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luc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lucose is a typ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g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7" descr="chlorophyll"/>
          <p:cNvPicPr/>
          <p:nvPr/>
        </p:nvPicPr>
        <p:blipFill>
          <a:blip r:embed="rId1"/>
          <a:stretch/>
        </p:blipFill>
        <p:spPr>
          <a:xfrm>
            <a:off x="6705720" y="1295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chloro"/>
          <p:cNvPicPr/>
          <p:nvPr/>
        </p:nvPicPr>
        <p:blipFill>
          <a:blip r:embed="rId2"/>
          <a:stretch/>
        </p:blipFill>
        <p:spPr>
          <a:xfrm>
            <a:off x="5257800" y="3124080"/>
            <a:ext cx="2448000" cy="28958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9"/>
          <p:cNvSpPr/>
          <p:nvPr/>
        </p:nvSpPr>
        <p:spPr>
          <a:xfrm>
            <a:off x="7467480" y="304920"/>
            <a:ext cx="1114560" cy="927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MITOCHONDR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elles that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energy is released by breaking down food in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rbon diox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owerho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/c they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c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 have 20,000 mitochondr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mitochrondria"/>
          <p:cNvPicPr/>
          <p:nvPr/>
        </p:nvPicPr>
        <p:blipFill>
          <a:blip r:embed="rId1"/>
          <a:stretch/>
        </p:blipFill>
        <p:spPr>
          <a:xfrm>
            <a:off x="4800600" y="1981080"/>
            <a:ext cx="3962520" cy="266724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RIB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oat fre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attached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 (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 are mad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3" descr="er"/>
          <p:cNvPicPr/>
          <p:nvPr/>
        </p:nvPicPr>
        <p:blipFill>
          <a:blip r:embed="rId1"/>
          <a:stretch/>
        </p:blipFill>
        <p:spPr>
          <a:xfrm>
            <a:off x="914400" y="1905120"/>
            <a:ext cx="3048120" cy="37335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ries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lded membra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ov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(protein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ound in a c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veyor bel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moot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not atta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g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attach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Rough Endoplasmic Reticulum"/>
          <p:cNvPicPr/>
          <p:nvPr/>
        </p:nvPicPr>
        <p:blipFill>
          <a:blip r:embed="rId1"/>
          <a:stretch/>
        </p:blipFill>
        <p:spPr>
          <a:xfrm>
            <a:off x="990720" y="1905120"/>
            <a:ext cx="2057400" cy="1724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Smooth Endoplasmic Reticulum"/>
          <p:cNvPicPr/>
          <p:nvPr/>
        </p:nvPicPr>
        <p:blipFill>
          <a:blip r:embed="rId2"/>
          <a:stretch/>
        </p:blipFill>
        <p:spPr>
          <a:xfrm>
            <a:off x="1295280" y="3809880"/>
            <a:ext cx="2286000" cy="22100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GOLGI BODI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GAWL jee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ck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latten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bra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r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ei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4" descr="GB"/>
          <p:cNvPicPr/>
          <p:nvPr/>
        </p:nvPicPr>
        <p:blipFill>
          <a:blip r:embed="rId1"/>
          <a:stretch/>
        </p:blipFill>
        <p:spPr>
          <a:xfrm>
            <a:off x="4876920" y="1752480"/>
            <a:ext cx="34290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VACUO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orag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8" descr="Central Vacuole"/>
          <p:cNvPicPr/>
          <p:nvPr/>
        </p:nvPicPr>
        <p:blipFill>
          <a:blip r:embed="rId1"/>
          <a:stretch/>
        </p:blipFill>
        <p:spPr>
          <a:xfrm>
            <a:off x="685800" y="190512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LYS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LI suh sohmz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5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d "lysosome" is Latin for "kill body.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urpose of the lysosome is t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ge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ngs. They might be used to dige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break down the cell when it d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ak dow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lecul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ell was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orn o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ell pa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57:54Z</dcterms:created>
  <dc:creator>Becky Gentry</dc:creator>
  <dc:description/>
  <dc:language>en-US</dc:language>
  <cp:lastModifiedBy>LEGION2</cp:lastModifiedBy>
  <dcterms:modified xsi:type="dcterms:W3CDTF">2016-01-11T12:50:25Z</dcterms:modified>
  <cp:revision>12</cp:revision>
  <dc:subject/>
  <dc:title>“Cell Structure”  Pages 41 – 45</dc:title>
</cp:coreProperties>
</file>