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5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media/image10.jpeg" ContentType="image/jpe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6E43D-25DE-40C0-A934-9E05E30289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ESSON 2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ell Structure” 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ages 41 – 45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ESSON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ell Structure”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CELL TO ORGANIS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ssu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of cells working togethe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of tissues working togethe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living thing made of 1 or more cell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 Syste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of organs working togethe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CELL TO ORG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ss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of cells working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of tissues working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living thing made of 1 or more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of organs working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 THE ORGANEL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. Mitochondri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Chloroplas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Golgi body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Nucleu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AME THE ORGANEL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. Mitochond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. Chloropl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. Golgi bod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.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- Nucleu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 Chromosom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- Mitochondri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- Ribosom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- Chloroplas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 Vacuol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- ER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 Cell Membran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-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- Chromos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- Mitochond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- Ribos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5- Chloropla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6- Vacuo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7- ER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8- Cell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OPLAS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n organelles that make foo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 only in plant cell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OPLA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n organelles that make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 only in plant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OPHYLL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green pigment that gives leaves &amp; stems their color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tures sunlight energy that is used to produce food called glucos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 is a type of sugar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OPHYL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green pigment that gives leaves &amp; stems their col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tures sunlight energy that is used to produce food called gluc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 is a type of suga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TOCHONDRIA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elles that release energy from food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energy is released by breaking down food into carbon dioxide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KA the powerhouse b/c they release energy from food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muscle cells have 20,000 mitochondria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TOCHONDRI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elles that release energy from foo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energy is released by breaking down food into carbon dioxi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KA the powerhouse b/c they release energy from foo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muscle cells have 20,000 mitochondri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BOSOMES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protei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at freely or attached to the endoplasmic reticulum (ER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bosomes are made in the nucleolu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BOSOMES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prot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at freely or attached to the endoplasmic reticulum (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bosomes are made in the nucleol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OPLASMIC RETICULU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eries of folded membranes that move materials (proteins) around in a cel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ke a conveyor bel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ooth ER – ribosomes not attached to E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gh ER – ribosomes attached to E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OPLASMIC RETICUL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eries of folded membranes that move materials (proteins) around in a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ke a conveyor be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ooth ER – ribosomes not attached to 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gh ER – ribosomes attached to 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LGI BODIES (GAWL jee)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cked flattened membran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rt and package proteins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LGI BODIES (GAWL jee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cked flattened membra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rt and package protei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CUOLES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orary storage spaces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re food, water, wast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CUO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orary storage spac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re food, water, was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SOSOMES (LI suh sohmz)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ord "lysosome" is Latin for "kill body."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urpose of the lysosome is to digest things. They might be used to digest food or break down the cell when it di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k down food molecules, cell wastes &amp; worn out cell parts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SOSOMES (LI suh sohmz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ord "lysosome" is Latin for "kill body."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urpose of the lysosome is to digest things. They might be used to digest food or break down the cell when it d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k down food molecules, cell wastes &amp; worn out cell par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EF9B-2861-470D-9768-B761BD3F6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753E-1C64-4FBD-B10E-AAE4B1E08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B03D-BEE0-45BF-B127-C271CC0FF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BB41-5ED8-42CA-A155-B0420DFD5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6A6AD-C3EB-420E-B6D9-2E8C71E10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EFB8C-FFED-44E7-8207-347362AE8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27D21-253B-4C8D-8F85-365D1B6C3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6F4C2-5928-465B-AF63-98DD1077F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A37E4-EAA1-437D-B0C4-D6FD24307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8257D-E96F-4C93-BA79-53B911F00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73E0C-BA9E-4057-B3D6-6B3664B8B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9F69-822D-4225-A32F-91BFF1AA0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FB49C-201C-46FA-8B5A-05B2852E7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F733A-762E-469B-B13A-F3CA08561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ED343-99B0-4DFA-9532-5C7E15795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32359-50DB-4AF6-AE05-1A745F10B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33899-E59C-48AA-A009-50D8367C2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76A1-A91F-4C85-8B08-372B32E4F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8EB6-245A-4E45-AFA0-D68ED7EDC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492E-739D-41C6-93D5-7E772E7B4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2568-1CAF-4AF6-9E1F-F4CDDE852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D1EA-65DB-4F39-A0B7-7194EEA92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56E5-9FCE-4B33-B22E-EA793FCFC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7E60-A551-4FDB-A7B8-974A2A702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2663A-0374-4936-A30C-F823EA90CB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0376F-DEDC-49A8-B48B-4BB0211173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WordArt 3"/>
          <p:cNvSpPr txBox="1"/>
          <p:nvPr/>
        </p:nvSpPr>
        <p:spPr>
          <a:xfrm>
            <a:off x="1600200" y="685800"/>
            <a:ext cx="5457960" cy="113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LESSON 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20732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ell Structure”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ages 41 – 45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" name="Picture 7" descr="organells"/>
          <p:cNvPicPr/>
          <p:nvPr/>
        </p:nvPicPr>
        <p:blipFill>
          <a:blip r:embed="rId1"/>
          <a:stretch/>
        </p:blipFill>
        <p:spPr>
          <a:xfrm>
            <a:off x="2514600" y="3962520"/>
            <a:ext cx="4267080" cy="2133360"/>
          </a:xfrm>
          <a:prstGeom prst="rect">
            <a:avLst/>
          </a:prstGeom>
          <a:ln w="0">
            <a:noFill/>
          </a:ln>
        </p:spPr>
      </p:pic>
      <p:sp>
        <p:nvSpPr>
          <p:cNvPr id="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FROM CELL TO ORGANISM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2" name="Organization Chart 26"/>
          <p:cNvGrpSpPr/>
          <p:nvPr/>
        </p:nvGrpSpPr>
        <p:grpSpPr>
          <a:xfrm>
            <a:off x="228600" y="1523880"/>
            <a:ext cx="8381880" cy="5029200"/>
            <a:chOff x="228600" y="1523880"/>
            <a:chExt cx="8381880" cy="5029200"/>
          </a:xfrm>
        </p:grpSpPr>
        <p:cxnSp>
          <p:nvCxnSpPr>
            <p:cNvPr id="133" name="_s1028"/>
            <p:cNvCxnSpPr>
              <a:stCxn id="134" idx="0"/>
              <a:endCxn id="135" idx="3"/>
            </p:cNvCxnSpPr>
            <p:nvPr/>
          </p:nvCxnSpPr>
          <p:spPr>
            <a:xfrm rot="10800000">
              <a:off x="2742480" y="2242440"/>
              <a:ext cx="838800" cy="28742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6" name="_s1029"/>
            <p:cNvCxnSpPr>
              <a:stCxn id="137" idx="0"/>
              <a:endCxn id="135" idx="2"/>
            </p:cNvCxnSpPr>
            <p:nvPr/>
          </p:nvCxnSpPr>
          <p:spPr>
            <a:xfrm rot="10800000">
              <a:off x="2742480" y="2242440"/>
              <a:ext cx="838800" cy="1796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8" name="_s1030"/>
            <p:cNvCxnSpPr>
              <a:stCxn id="139" idx="0"/>
              <a:endCxn id="135" idx="1"/>
            </p:cNvCxnSpPr>
            <p:nvPr/>
          </p:nvCxnSpPr>
          <p:spPr>
            <a:xfrm rot="10800000">
              <a:off x="2742480" y="2243160"/>
              <a:ext cx="838800" cy="39517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0" name="_s1031"/>
            <p:cNvCxnSpPr>
              <a:stCxn id="141" idx="0"/>
              <a:endCxn id="135" idx="0"/>
            </p:cNvCxnSpPr>
            <p:nvPr/>
          </p:nvCxnSpPr>
          <p:spPr>
            <a:xfrm rot="10800000">
              <a:off x="2742480" y="2242440"/>
              <a:ext cx="838800" cy="7178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35" name="_s1032"/>
            <p:cNvSpPr/>
            <p:nvPr/>
          </p:nvSpPr>
          <p:spPr>
            <a:xfrm>
              <a:off x="228600" y="1523880"/>
              <a:ext cx="5029200" cy="7192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a3b2c1"/>
                </a:gs>
                <a:gs pos="50000">
                  <a:srgbClr val="ffffff"/>
                </a:gs>
                <a:gs pos="100000">
                  <a:srgbClr val="a3b2c1"/>
                </a:gs>
              </a:gsLst>
              <a:lin ang="8100000"/>
            </a:gradFill>
            <a:ln w="3240">
              <a:solidFill>
                <a:srgbClr val="a3b2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Verdana"/>
                </a:rPr>
                <a:t>Cell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The basic unit of </a:t>
              </a: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Verdana"/>
                </a:rPr>
                <a:t>life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_s1033"/>
            <p:cNvSpPr/>
            <p:nvPr/>
          </p:nvSpPr>
          <p:spPr>
            <a:xfrm>
              <a:off x="3581280" y="2602080"/>
              <a:ext cx="5029200" cy="7174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cc0000"/>
                </a:gs>
                <a:gs pos="50000">
                  <a:srgbClr val="ffffff"/>
                </a:gs>
                <a:gs pos="100000">
                  <a:srgbClr val="cc0000"/>
                </a:gs>
              </a:gsLst>
              <a:lin ang="8100000"/>
            </a:gradFill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Verdana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_s1034"/>
            <p:cNvSpPr/>
            <p:nvPr/>
          </p:nvSpPr>
          <p:spPr>
            <a:xfrm>
              <a:off x="3581280" y="5834160"/>
              <a:ext cx="5029200" cy="71892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cc0000"/>
                </a:gs>
                <a:gs pos="50000">
                  <a:srgbClr val="ffffff"/>
                </a:gs>
                <a:gs pos="100000">
                  <a:srgbClr val="cc0000"/>
                </a:gs>
              </a:gsLst>
              <a:lin ang="8100000"/>
            </a:gradFill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_s1035"/>
            <p:cNvSpPr/>
            <p:nvPr/>
          </p:nvSpPr>
          <p:spPr>
            <a:xfrm>
              <a:off x="3581280" y="3679920"/>
              <a:ext cx="5029200" cy="7174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cc0000"/>
                </a:gs>
                <a:gs pos="50000">
                  <a:srgbClr val="ffffff"/>
                </a:gs>
                <a:gs pos="100000">
                  <a:srgbClr val="cc0000"/>
                </a:gs>
              </a:gsLst>
              <a:lin ang="8100000"/>
            </a:gradFill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Verdana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" name="_s1036"/>
            <p:cNvSpPr/>
            <p:nvPr/>
          </p:nvSpPr>
          <p:spPr>
            <a:xfrm>
              <a:off x="3581280" y="4757760"/>
              <a:ext cx="5029200" cy="7174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cc0000"/>
                </a:gs>
                <a:gs pos="50000">
                  <a:srgbClr val="ffffff"/>
                </a:gs>
                <a:gs pos="100000">
                  <a:srgbClr val="cc0000"/>
                </a:gs>
              </a:gsLst>
              <a:lin ang="8100000"/>
            </a:gradFill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42" name="Rectangle 57"/>
          <p:cNvSpPr/>
          <p:nvPr/>
        </p:nvSpPr>
        <p:spPr>
          <a:xfrm>
            <a:off x="3886200" y="25909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Tissu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roup of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cell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working toget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Text Box 62"/>
          <p:cNvSpPr/>
          <p:nvPr/>
        </p:nvSpPr>
        <p:spPr>
          <a:xfrm>
            <a:off x="304920" y="3581280"/>
            <a:ext cx="3047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Rectangle 65"/>
          <p:cNvSpPr/>
          <p:nvPr/>
        </p:nvSpPr>
        <p:spPr>
          <a:xfrm>
            <a:off x="3733920" y="36576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Orga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roup of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tissue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working togeth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Rectangle 60"/>
          <p:cNvSpPr/>
          <p:nvPr/>
        </p:nvSpPr>
        <p:spPr>
          <a:xfrm>
            <a:off x="3352680" y="5807160"/>
            <a:ext cx="541044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000000"/>
                </a:solidFill>
                <a:uFillTx/>
                <a:latin typeface="Verdana"/>
              </a:rPr>
              <a:t>Organism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Any </a:t>
            </a:r>
            <a:r>
              <a:rPr b="0" lang="en-US" sz="1900" spc="-1" strike="noStrike" u="sng">
                <a:solidFill>
                  <a:srgbClr val="000000"/>
                </a:solidFill>
                <a:uFillTx/>
                <a:latin typeface="Verdana"/>
              </a:rPr>
              <a:t>living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900" spc="-1" strike="noStrike" u="sng">
                <a:solidFill>
                  <a:srgbClr val="000000"/>
                </a:solidFill>
                <a:uFillTx/>
                <a:latin typeface="Verdana"/>
              </a:rPr>
              <a:t>thing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made of 1 or more </a:t>
            </a:r>
            <a:r>
              <a:rPr b="0" lang="en-US" sz="1900" spc="-1" strike="noStrike" u="sng">
                <a:solidFill>
                  <a:srgbClr val="000000"/>
                </a:solidFill>
                <a:uFillTx/>
                <a:latin typeface="Verdana"/>
              </a:rPr>
              <a:t>cell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Text Box 64"/>
          <p:cNvSpPr/>
          <p:nvPr/>
        </p:nvSpPr>
        <p:spPr>
          <a:xfrm>
            <a:off x="3657600" y="4724280"/>
            <a:ext cx="495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Organ Syste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roup of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organ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working toget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9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NAME THE ORGANELL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9" name="Picture 4" descr="organells"/>
          <p:cNvPicPr/>
          <p:nvPr/>
        </p:nvPicPr>
        <p:blipFill>
          <a:blip r:embed="rId1"/>
          <a:stretch/>
        </p:blipFill>
        <p:spPr>
          <a:xfrm>
            <a:off x="2971800" y="1981080"/>
            <a:ext cx="2990880" cy="381024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5"/>
          <p:cNvSpPr/>
          <p:nvPr/>
        </p:nvSpPr>
        <p:spPr>
          <a:xfrm>
            <a:off x="5943600" y="4495680"/>
            <a:ext cx="29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d. Mitochondri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Text Box 6"/>
          <p:cNvSpPr/>
          <p:nvPr/>
        </p:nvSpPr>
        <p:spPr>
          <a:xfrm>
            <a:off x="228600" y="4403880"/>
            <a:ext cx="27432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b. Chloroplas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6172200" y="2133720"/>
            <a:ext cx="2590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c. Golgi body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Text Box 8"/>
          <p:cNvSpPr/>
          <p:nvPr/>
        </p:nvSpPr>
        <p:spPr>
          <a:xfrm>
            <a:off x="533520" y="2133720"/>
            <a:ext cx="22096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a. Nucleu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5" descr="306AAA8E"/>
          <p:cNvPicPr/>
          <p:nvPr/>
        </p:nvPicPr>
        <p:blipFill>
          <a:blip r:embed="rId1"/>
          <a:stretch/>
        </p:blipFill>
        <p:spPr>
          <a:xfrm>
            <a:off x="152280" y="-228600"/>
            <a:ext cx="8839440" cy="617220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6"/>
          <p:cNvSpPr/>
          <p:nvPr/>
        </p:nvSpPr>
        <p:spPr>
          <a:xfrm>
            <a:off x="228600" y="464832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1- Nucleu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609480" y="524196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2- Chromoso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28600" y="579132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3- Mitochondr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Text Box 9"/>
          <p:cNvSpPr/>
          <p:nvPr/>
        </p:nvSpPr>
        <p:spPr>
          <a:xfrm>
            <a:off x="1295280" y="62326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4- Riboso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581280" y="5791320"/>
            <a:ext cx="266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5- Chloroplas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Text Box 11"/>
          <p:cNvSpPr/>
          <p:nvPr/>
        </p:nvSpPr>
        <p:spPr>
          <a:xfrm>
            <a:off x="4114800" y="624852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6- Vacuol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Text Box 12"/>
          <p:cNvSpPr/>
          <p:nvPr/>
        </p:nvSpPr>
        <p:spPr>
          <a:xfrm>
            <a:off x="7238880" y="563868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7- ER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Text Box 13"/>
          <p:cNvSpPr/>
          <p:nvPr/>
        </p:nvSpPr>
        <p:spPr>
          <a:xfrm>
            <a:off x="6781680" y="609588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8- Cell Membra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000000"/>
                </a:solidFill>
                <a:uFillTx/>
                <a:latin typeface="Verdana"/>
              </a:rPr>
              <a:t>CHLOROPLAST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Gree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organelles that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make foo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und only in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plan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cell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Picture 7" descr="chloroplast"/>
          <p:cNvPicPr/>
          <p:nvPr/>
        </p:nvPicPr>
        <p:blipFill>
          <a:blip r:embed="rId1"/>
          <a:stretch/>
        </p:blipFill>
        <p:spPr>
          <a:xfrm>
            <a:off x="1905120" y="3429000"/>
            <a:ext cx="2762280" cy="23814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8" descr="plant_photosynth1"/>
          <p:cNvPicPr/>
          <p:nvPr/>
        </p:nvPicPr>
        <p:blipFill>
          <a:blip r:embed="rId2"/>
          <a:stretch/>
        </p:blipFill>
        <p:spPr>
          <a:xfrm>
            <a:off x="5867280" y="533520"/>
            <a:ext cx="2695680" cy="5333760"/>
          </a:xfrm>
          <a:prstGeom prst="rect">
            <a:avLst/>
          </a:prstGeom>
          <a:ln w="0">
            <a:noFill/>
          </a:ln>
        </p:spPr>
      </p:pic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000000"/>
                </a:solidFill>
                <a:uFillTx/>
                <a:latin typeface="Verdana"/>
              </a:rPr>
              <a:t>CHLOROPHYLL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 green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pigmen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that gives leaves &amp; stems their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colo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aptures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sunligh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energy that is used to produc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food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called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glucos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lucose is a typ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suga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Picture 7" descr="chlorophyll"/>
          <p:cNvPicPr/>
          <p:nvPr/>
        </p:nvPicPr>
        <p:blipFill>
          <a:blip r:embed="rId1"/>
          <a:stretch/>
        </p:blipFill>
        <p:spPr>
          <a:xfrm>
            <a:off x="6705720" y="1295280"/>
            <a:ext cx="1904760" cy="17528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chloro"/>
          <p:cNvPicPr/>
          <p:nvPr/>
        </p:nvPicPr>
        <p:blipFill>
          <a:blip r:embed="rId2"/>
          <a:stretch/>
        </p:blipFill>
        <p:spPr>
          <a:xfrm>
            <a:off x="5257800" y="3124080"/>
            <a:ext cx="2448000" cy="2895840"/>
          </a:xfrm>
          <a:prstGeom prst="rect">
            <a:avLst/>
          </a:prstGeom>
          <a:ln w="0">
            <a:noFill/>
          </a:ln>
        </p:spPr>
      </p:pic>
      <p:sp>
        <p:nvSpPr>
          <p:cNvPr id="105" name="AutoShape 9"/>
          <p:cNvSpPr/>
          <p:nvPr/>
        </p:nvSpPr>
        <p:spPr>
          <a:xfrm>
            <a:off x="7467480" y="304920"/>
            <a:ext cx="1114560" cy="927000"/>
          </a:xfrm>
          <a:prstGeom prst="sun">
            <a:avLst>
              <a:gd name="adj" fmla="val 25000"/>
            </a:avLst>
          </a:prstGeom>
          <a:solidFill>
            <a:srgbClr val="ff6600"/>
          </a:solidFill>
          <a:ln w="316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4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4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8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8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8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8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8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000000"/>
                </a:solidFill>
                <a:uFillTx/>
                <a:latin typeface="Verdana"/>
              </a:rPr>
              <a:t>MITOCHONDRIA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392436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rganelles that releas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energy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from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food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s energy is released by breaking down food into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carbon dioxid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KA th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powerhous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b/c they releas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energy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from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food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om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muscl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cells have 20,000 mitochondria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9" name="Picture 5" descr="mitochrondria"/>
          <p:cNvPicPr/>
          <p:nvPr/>
        </p:nvPicPr>
        <p:blipFill>
          <a:blip r:embed="rId1"/>
          <a:stretch/>
        </p:blipFill>
        <p:spPr>
          <a:xfrm>
            <a:off x="4800600" y="1981080"/>
            <a:ext cx="3962520" cy="2667240"/>
          </a:xfrm>
          <a:prstGeom prst="rect">
            <a:avLst/>
          </a:prstGeom>
          <a:ln w="0">
            <a:noFill/>
          </a:ln>
        </p:spPr>
      </p:pic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8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8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8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8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9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000000"/>
                </a:solidFill>
                <a:uFillTx/>
                <a:latin typeface="Verdana"/>
              </a:rPr>
              <a:t>RIBOSOMES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267080" y="1904760"/>
            <a:ext cx="43005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k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protei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Float freel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r attached to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endoplasmic reticulum (ER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ibosomes are made in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nucleolu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Picture 13" descr="er"/>
          <p:cNvPicPr/>
          <p:nvPr/>
        </p:nvPicPr>
        <p:blipFill>
          <a:blip r:embed="rId1"/>
          <a:stretch/>
        </p:blipFill>
        <p:spPr>
          <a:xfrm>
            <a:off x="914400" y="1905120"/>
            <a:ext cx="3048120" cy="3733560"/>
          </a:xfrm>
          <a:prstGeom prst="rect">
            <a:avLst/>
          </a:prstGeom>
          <a:ln w="0">
            <a:noFill/>
          </a:ln>
        </p:spPr>
      </p:pic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5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9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000000"/>
                </a:solidFill>
                <a:uFillTx/>
                <a:latin typeface="Verdana"/>
              </a:rPr>
              <a:t>ENDOPLASMIC RETICULUM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267080" y="1904760"/>
            <a:ext cx="43005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 series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folded membrane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that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move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terials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(proteins)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round in a cel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ike a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conveyor bel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Smooth E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ribosomes not attached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o 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Rough E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ribosomes attached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to 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" name="Picture 6" descr="Rough Endoplasmic Reticulum"/>
          <p:cNvPicPr/>
          <p:nvPr/>
        </p:nvPicPr>
        <p:blipFill>
          <a:blip r:embed="rId1"/>
          <a:stretch/>
        </p:blipFill>
        <p:spPr>
          <a:xfrm>
            <a:off x="990720" y="1905120"/>
            <a:ext cx="2057400" cy="17240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8" descr="Smooth Endoplasmic Reticulum"/>
          <p:cNvPicPr/>
          <p:nvPr/>
        </p:nvPicPr>
        <p:blipFill>
          <a:blip r:embed="rId2"/>
          <a:stretch/>
        </p:blipFill>
        <p:spPr>
          <a:xfrm>
            <a:off x="1295280" y="3809880"/>
            <a:ext cx="2286000" cy="221004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0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000000"/>
                </a:solidFill>
                <a:uFillTx/>
                <a:latin typeface="Verdana"/>
              </a:rPr>
              <a:t>GOLGI BODIES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(GAWL jee)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tacked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flattened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membran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Sort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packag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proteins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2" name="Picture 14" descr="GB"/>
          <p:cNvPicPr/>
          <p:nvPr/>
        </p:nvPicPr>
        <p:blipFill>
          <a:blip r:embed="rId1"/>
          <a:stretch/>
        </p:blipFill>
        <p:spPr>
          <a:xfrm>
            <a:off x="4876920" y="1752480"/>
            <a:ext cx="3429000" cy="411480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8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8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8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8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0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9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000000"/>
                </a:solidFill>
                <a:uFillTx/>
                <a:latin typeface="Verdana"/>
              </a:rPr>
              <a:t>VACUOLES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4292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emporary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storage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paces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tore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food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water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was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6" name="Picture 8" descr="Central Vacuole"/>
          <p:cNvPicPr/>
          <p:nvPr/>
        </p:nvPicPr>
        <p:blipFill>
          <a:blip r:embed="rId1"/>
          <a:stretch/>
        </p:blipFill>
        <p:spPr>
          <a:xfrm>
            <a:off x="685800" y="1905120"/>
            <a:ext cx="3429000" cy="365760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000000"/>
                </a:solidFill>
                <a:uFillTx/>
                <a:latin typeface="Verdana"/>
              </a:rPr>
              <a:t>LYSOSOMES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(LI suh sohmz)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040" y="2209680"/>
            <a:ext cx="76532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word "lysosome" is Latin for "kill body."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purpose of the lysosome is to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digest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things. They might be used to digest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food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or break down the cell when it di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reak down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food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molecules,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cell wastes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&amp;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worn out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cell parts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9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5T15:57:54Z</dcterms:created>
  <dc:creator>Becky Gentry</dc:creator>
  <dc:description/>
  <dc:language>en-US</dc:language>
  <cp:lastModifiedBy>LEGION2</cp:lastModifiedBy>
  <dcterms:modified xsi:type="dcterms:W3CDTF">2016-01-11T12:50:25Z</dcterms:modified>
  <cp:revision>12</cp:revision>
  <dc:subject/>
  <dc:title>“Cell Structure”  Pages 41 – 45</dc:title>
</cp:coreProperties>
</file>