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705C-23FC-4BAA-AEF9-52AAF5972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s 41 – 4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3E9-D2C2-422A-AB3D-A5EAF8DE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EC4-F32B-45BE-8A77-52D28052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F6F6-F1BE-4A4A-B758-3C6340C3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B37-4120-471D-9973-3A3C2498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01FB-CF9B-4CBA-8DB9-5A9749FC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AF5D-F631-4CA6-915C-7E780A71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C975-D1D3-4E42-98C7-A206D9C1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90D9-59DD-4725-A119-20F9E032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5610-F66F-4B13-8255-50C92ACC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6F2C-73A5-479E-B0C5-02A7705E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71EF-579C-49B5-986A-18794753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DBA-0730-4B7D-AB97-742459F2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B4AA-E606-4EDA-BDF1-C51E319F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28C3-2FBF-4099-A850-F3D7ABA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01C1-311A-4A34-AFA5-D61350BB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9483-B62F-442E-BBFA-11C1BA68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6AF6-B253-4493-86F8-92DA93ED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C28-5617-4BAD-819C-830080D5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6AA-90EA-4A2D-89A9-50DAB89C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E7A-0403-4D4F-BBFC-F75698D3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A3B-655B-4F09-9644-8BCEA830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48F-92DB-4BBB-8F14-E8711C8C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B58-6CE0-44CA-95ED-DE8C985E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B11-BA58-41EE-8EC4-1F83D32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BC08-DEED-4C9E-B13F-36565F2BA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CC10-27B8-4ADF-8967-2E6EF3D65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1600200" y="685800"/>
            <a:ext cx="54579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ges 41 –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organells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26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33" name="_s1028"/>
            <p:cNvCxnSpPr>
              <a:stCxn id="134" idx="0"/>
              <a:endCxn id="135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1"/>
            <p:cNvCxnSpPr>
              <a:stCxn id="141" idx="0"/>
              <a:endCxn id="135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Rectangle 57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organells"/>
          <p:cNvPicPr/>
          <p:nvPr/>
        </p:nvPicPr>
        <p:blipFill>
          <a:blip r:embed="rId1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06AAA8E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loroplast"/>
          <p:cNvPicPr/>
          <p:nvPr/>
        </p:nvPicPr>
        <p:blipFill>
          <a:blip r:embed="rId1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lant_photosynth1"/>
          <p:cNvPicPr/>
          <p:nvPr/>
        </p:nvPicPr>
        <p:blipFill>
          <a:blip r:embed="rId2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hlorophyll"/>
          <p:cNvPicPr/>
          <p:nvPr/>
        </p:nvPicPr>
        <p:blipFill>
          <a:blip r:embed="rId1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hloro"/>
          <p:cNvPicPr/>
          <p:nvPr/>
        </p:nvPicPr>
        <p:blipFill>
          <a:blip r:embed="rId2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mitochrondria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er"/>
          <p:cNvPicPr/>
          <p:nvPr/>
        </p:nvPicPr>
        <p:blipFill>
          <a:blip r:embed="rId1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Rough Endoplasmic Reticulum"/>
          <p:cNvPicPr/>
          <p:nvPr/>
        </p:nvPicPr>
        <p:blipFill>
          <a:blip r:embed="rId1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mooth Endoplasmic Reticulum"/>
          <p:cNvPicPr/>
          <p:nvPr/>
        </p:nvPicPr>
        <p:blipFill>
          <a:blip r:embed="rId2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GB"/>
          <p:cNvPicPr/>
          <p:nvPr/>
        </p:nvPicPr>
        <p:blipFill>
          <a:blip r:embed="rId1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Central Vacuole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LEGION2</cp:lastModifiedBy>
  <dcterms:modified xsi:type="dcterms:W3CDTF">2016-01-11T12:50:25Z</dcterms:modified>
  <cp:revision>12</cp:revision>
  <dc:subject/>
  <dc:title>“Cell Structure”  Pages 41 – 45</dc:title>
</cp:coreProperties>
</file>