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77E2-6439-459C-8427-10339315CD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66"/>
                </a:solidFill>
                <a:latin typeface="Arial"/>
              </a:rPr>
              <a:t>Chapter 2 “Cells”</a:t>
            </a:r>
            <a:br>
              <a:rPr sz="1200"/>
            </a:br>
            <a:r>
              <a:rPr b="0" lang="fr-FR" sz="1200" spc="-1" strike="noStrike">
                <a:solidFill>
                  <a:srgbClr val="003366"/>
                </a:solidFill>
                <a:latin typeface="Arial"/>
              </a:rPr>
              <a:t>Section 1: “Cell Structure Pages 38 – 40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66"/>
                </a:solidFill>
                <a:latin typeface="Arial"/>
              </a:rPr>
              <a:t>LESSON 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hapter 2 “Cells”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ction 1: “Cell Structure Pages 38 –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CLEU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irects all cell activities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tains instructions for everything the cell do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se instructions are found on a hereditary material called DNA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sually the largest organell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s all cell activitie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instructions for everything the cell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instructions are found on a hereditary material called D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the largest organ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CLEAR MEMBRAN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eparates nucleus from cytoplasm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trols movement of materials in &amp; out of nucleu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MBRA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s nucleus from cytopla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s movement of materials in &amp; out of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CLEOLU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ka “little nucleus”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ound in the nucleu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OL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“little nucleus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in the 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HROMATIN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tains genetic code that controls cel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ade of DNA &amp; protein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AT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genetic code that controls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of DNA &amp; prote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MMON CELL TRAIT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 cell is the smallest unit that is capable of performing life functions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CELL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ell is the smallest unit that is capable of performing life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MPARING CELL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size &amp; shape of a cell relates to its function. (job it does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NG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ze &amp; shape of a cell relates to its function. (job it do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Prokaryotic Cells</a:t>
            </a:r>
            <a:br>
              <a:rPr sz="1200"/>
            </a:b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(proh KAYR ee yah tihk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cells without membrane-bound structur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EX:  bacteria 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pond scu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karyotic Cell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proh KAYR ee yah tih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s without membrane-bound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:  bacteria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nd s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Eukaryotic Cells</a:t>
            </a:r>
            <a:br>
              <a:rPr sz="1200"/>
            </a:b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(yew KAYR ee yah tihk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cells with membrane-bound structur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EX: animals, plants, fungi and protist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karyotic Cell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yew KAYR ee yah tihk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s with membrane-bound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: animals, plants, fungi and pro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rotects the cel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gives shap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is made of cellulo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 cell wall is found in plants, algae, fungi, &amp; most bacteria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made of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ell wall is found in plants, algae, fungi, &amp; most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ELL MEMBRAN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Outer covering,  protective layer around ALL cell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or cells with cell walls,the cell membrane is inside the cell wal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llows food, oxygen, &amp; water into the cell &amp; waste products out of the cell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covering,  protective layer around AL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cells with cell walls,the cell membrane is inside the 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food, oxygen, &amp; water into the cell &amp; waste products out of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YTOPLASM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gelatin-like inside cell membran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stantly flow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ka protoplasm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latin-like inside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ly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protopla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YTOSKELETON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caffolding-like structure in cytoplas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elps the cell maintain or change its shap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ade of protei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SKELET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ffolding-like structure in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the cell maintain or change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of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00A3-5F71-411C-8FCE-2A10E325D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944D-3B0B-45B9-A75F-31C66A28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2F97-6ED0-4199-9CD8-3739E661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9C2B-E44C-4F64-B393-DE86183DF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5A57-A931-43F8-85D5-E9BE1035D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D869-C1B8-4293-AF6D-4A310BB6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A0DC-7853-4D2E-B3BC-C48ABDC8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0A45-9291-43F6-B70B-1DFC8CEC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0E63-72A5-4D0E-A2F4-28E335C7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B39D-42FC-4707-AABE-F9E75BA0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0F5D-98E0-4A62-900E-F0E2EADD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7A47-61E5-4471-88F1-F1414E84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00E5-8993-44A3-A64E-DBE36780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EF30-AE4F-4DD8-9B9D-E4A3C4DB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B39C-BD6E-4E7F-B70D-6873D3F4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D52F-2907-4C64-AC58-1FA5BF8D4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8902-68D9-48DE-A20F-ECAF2A1A1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E0D2-4E5A-4D60-B5FE-7EC2559C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7964-AD80-4D41-AE44-5C81A6C2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51F9-34E1-45B9-AEAB-C339C04D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9C3C-43A0-4808-9678-2EB1C10A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6F6A-8049-4D32-9725-855F2E99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EAF6-5023-4BCB-AC7B-492FB72D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ECC8-54FE-45BC-9FE1-B8F3974D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BBC0-0345-4D64-BB22-8E93BAF4C22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41E5-32DC-49C7-83FC-04B5256118F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hapter 2 “Cells”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ection 1: “Cell Structure Pages 38 – 4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WordArt 5"/>
          <p:cNvSpPr txBox="1"/>
          <p:nvPr/>
        </p:nvSpPr>
        <p:spPr>
          <a:xfrm>
            <a:off x="1371600" y="3124080"/>
            <a:ext cx="64008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ESSON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4528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NUCLEU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rects all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cell activitie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ain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instruction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for everything the cell do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se instructions are found on a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hereditar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material called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DN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ually the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larges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rganel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6" descr="nucleus"/>
          <p:cNvPicPr/>
          <p:nvPr/>
        </p:nvPicPr>
        <p:blipFill>
          <a:blip r:embed="rId1"/>
          <a:stretch/>
        </p:blipFill>
        <p:spPr>
          <a:xfrm>
            <a:off x="762120" y="2362320"/>
            <a:ext cx="3657600" cy="3886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8" descr="nucleus#2"/>
          <p:cNvPicPr/>
          <p:nvPr/>
        </p:nvPicPr>
        <p:blipFill>
          <a:blip r:embed="rId2"/>
          <a:stretch/>
        </p:blipFill>
        <p:spPr>
          <a:xfrm>
            <a:off x="5638680" y="380880"/>
            <a:ext cx="19051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NUCLEAR MEMBRANE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5" name="Picture 8" descr="aEukaryoticCell"/>
          <p:cNvPicPr/>
          <p:nvPr/>
        </p:nvPicPr>
        <p:blipFill>
          <a:blip r:embed="rId1"/>
          <a:stretch/>
        </p:blipFill>
        <p:spPr>
          <a:xfrm>
            <a:off x="4800600" y="251460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0608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parate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nucle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from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cytoplasm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rols movement of material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in &amp; ou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f nucle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NUCLEOLU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8102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ka “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little nucle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”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und in the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nucle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Picture 5" descr="nucleolusfigure1"/>
          <p:cNvPicPr/>
          <p:nvPr/>
        </p:nvPicPr>
        <p:blipFill>
          <a:blip r:embed="rId1"/>
          <a:stretch/>
        </p:blipFill>
        <p:spPr>
          <a:xfrm>
            <a:off x="4495680" y="2590920"/>
            <a:ext cx="3962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HROMATIN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ain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genetic cod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at controls cel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de of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DN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&amp;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protein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Picture 5" descr="chromosome"/>
          <p:cNvPicPr/>
          <p:nvPr/>
        </p:nvPicPr>
        <p:blipFill>
          <a:blip r:embed="rId1"/>
          <a:stretch/>
        </p:blipFill>
        <p:spPr>
          <a:xfrm>
            <a:off x="5715000" y="2971800"/>
            <a:ext cx="25527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MON CELL TRAI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ce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the smallest unit that is capable of performing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ife functio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Picture 5" descr="eucell"/>
          <p:cNvPicPr/>
          <p:nvPr/>
        </p:nvPicPr>
        <p:blipFill>
          <a:blip r:embed="rId1"/>
          <a:stretch/>
        </p:blipFill>
        <p:spPr>
          <a:xfrm>
            <a:off x="3581280" y="3276720"/>
            <a:ext cx="3962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2" descr="difftypesofcells3"/>
          <p:cNvPicPr/>
          <p:nvPr/>
        </p:nvPicPr>
        <p:blipFill>
          <a:blip r:embed="rId1"/>
          <a:stretch/>
        </p:blipFill>
        <p:spPr>
          <a:xfrm>
            <a:off x="5334120" y="762120"/>
            <a:ext cx="3533760" cy="5790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OMPARING CEL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1148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iz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&amp;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hap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f a cell relates to its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(job it do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5" descr="support"/>
          <p:cNvPicPr/>
          <p:nvPr/>
        </p:nvPicPr>
        <p:blipFill>
          <a:blip r:embed="rId2"/>
          <a:stretch/>
        </p:blipFill>
        <p:spPr>
          <a:xfrm>
            <a:off x="1219320" y="4724280"/>
            <a:ext cx="214308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Prokaryotic Cells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(proh KAYR ee yah tihk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724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ells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withou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mbrane-bound structu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bacteri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ond scu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5" descr="DSCN0576"/>
          <p:cNvPicPr/>
          <p:nvPr/>
        </p:nvPicPr>
        <p:blipFill>
          <a:blip r:embed="rId1"/>
          <a:stretch/>
        </p:blipFill>
        <p:spPr>
          <a:xfrm>
            <a:off x="5486400" y="2362320"/>
            <a:ext cx="3159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Eukaryotic Cells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(yew KAYR ee yah tihk)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ells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with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membrane-bound structure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EX: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animals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plants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fungi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protist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Picture 9" descr="EukaryoticCell"/>
          <p:cNvPicPr/>
          <p:nvPr/>
        </p:nvPicPr>
        <p:blipFill>
          <a:blip r:embed="rId1"/>
          <a:stretch/>
        </p:blipFill>
        <p:spPr>
          <a:xfrm>
            <a:off x="1066680" y="2590920"/>
            <a:ext cx="37339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09480" y="29714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rotec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 ce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ives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hap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 made of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cellulo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cell wall is found in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lan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alga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fung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&amp; most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bacteri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Arial"/>
              </a:rPr>
              <a:t>CELL WA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Picture 7" descr="cell wall#2"/>
          <p:cNvPicPr/>
          <p:nvPr/>
        </p:nvPicPr>
        <p:blipFill>
          <a:blip r:embed="rId1"/>
          <a:stretch/>
        </p:blipFill>
        <p:spPr>
          <a:xfrm>
            <a:off x="5562720" y="457200"/>
            <a:ext cx="296208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ELL MEMBRANE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440" y="23623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uter covering, 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protective lay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round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ALL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el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 cells with cell walls,the cell membrane i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inside the cell wal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ow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foo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oxyge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&amp;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wat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nto the cell &amp;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wast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products out of the cel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Picture 10" descr="cytoplasm"/>
          <p:cNvPicPr/>
          <p:nvPr/>
        </p:nvPicPr>
        <p:blipFill>
          <a:blip r:embed="rId1"/>
          <a:stretch/>
        </p:blipFill>
        <p:spPr>
          <a:xfrm>
            <a:off x="5791320" y="2514600"/>
            <a:ext cx="2971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YTOPLASM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3048120"/>
            <a:ext cx="7693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gelatin-lik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side cell membra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tantly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flow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ka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rotoplas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Picture 4" descr="CYTOPLASM #2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2895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cytoplasm"/>
          <p:cNvPicPr/>
          <p:nvPr/>
        </p:nvPicPr>
        <p:blipFill>
          <a:blip r:embed="rId2"/>
          <a:stretch/>
        </p:blipFill>
        <p:spPr>
          <a:xfrm>
            <a:off x="5105520" y="373392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YTOSKELETON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038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scaffolding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-like structure in cytoplasm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helps the cell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maintain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change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its shap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made of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protei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Picture 5" descr="ch1_cytoskeleton"/>
          <p:cNvPicPr/>
          <p:nvPr/>
        </p:nvPicPr>
        <p:blipFill>
          <a:blip r:embed="rId1"/>
          <a:stretch/>
        </p:blipFill>
        <p:spPr>
          <a:xfrm>
            <a:off x="5257800" y="2514600"/>
            <a:ext cx="3333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21:40:52Z</dcterms:created>
  <dc:creator>Becky</dc:creator>
  <dc:description/>
  <dc:language>en-US</dc:language>
  <cp:lastModifiedBy>RomaK</cp:lastModifiedBy>
  <dcterms:modified xsi:type="dcterms:W3CDTF">2015-09-04T10:55:38Z</dcterms:modified>
  <cp:revision>13</cp:revision>
  <dc:subject/>
  <dc:title>Chapter 2 “Cells” Section 1: “Cell Structure Pages 38 – 40</dc:title>
</cp:coreProperties>
</file>