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00AF-636D-4C9D-AC15-0CF6605C03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862-7F1A-41EC-AC86-EDAC78F5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737-BC9B-4E9C-A15D-47526076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ABA-6ADA-4D7A-94D1-8002CF6F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AC5-AE24-4431-9D01-78D41CB4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DB3D-AF1C-4833-BB51-17BCC0CA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1D92-BFCB-4971-B950-3AED76B1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A912-D2CB-4948-B69B-DE64CC8A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3D65-A388-4596-86AC-51903E73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E052-2A62-4ABE-A9E3-F3B6248F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A25F-C1E1-49A0-BD09-4C26AAF7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083D-04B8-4327-9A44-4676500D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C7A-FE96-4F6F-A340-763CF3BE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B62B-B25F-422E-B75C-A44BA06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7118-BE6A-4E2C-AE87-D0B38855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89D1-6893-44B5-BCFB-4A7D6927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8CD9-1F39-4AC4-8EED-FB97E913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DF82-E6B9-4E6C-BDE6-3466C3E5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670-348F-4334-B1EE-369F32E5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F81-9075-4F8D-B297-C2BA492A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FB1-0D43-4A46-AE5E-6E20261D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0C4-FEE7-4800-B3B5-5D2649AD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21A-913E-40BD-9CEA-D1A902A7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A9A-7428-485E-A7B0-01E414E6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371-0BD5-4B9B-A242-B7F6EB57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82E1-AD00-4BC5-979D-2936C9F6FB0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5224-C96F-4D77-B44F-1418F63248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371600" y="31240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nucleus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8" descr="nucleus#2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8" descr="aEukaryoticCell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nucleolusfigure1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chromosome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eucell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fftypesofcells3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support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DSCN0576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9" descr="EukaryoticCell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cell wall#2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10" descr="cytoplasm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YTOPLASM #2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ytoplasm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h1_cytoskeleton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RomaK</cp:lastModifiedBy>
  <dcterms:modified xsi:type="dcterms:W3CDTF">2015-09-04T10:55:38Z</dcterms:modified>
  <cp:revision>13</cp:revision>
  <dc:subject/>
  <dc:title>Chapter 2 “Cells” Section 1: “Cell Structure Pages 38 – 40</dc:title>
</cp:coreProperties>
</file>