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5705-D02B-4A45-9644-7656C31073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184-3D08-49AF-ABE7-F703007B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E29-22A4-4B15-AB6E-1F64BECC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ECC-98D4-4B7F-8D31-15861991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618-29DD-458E-8E22-ED2149AC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ADEB-A085-47DC-A6A7-71A4B240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85B7-DCE3-4952-9A2D-AA68CB03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107C-9C1B-4AEC-B276-5C36ED2A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D981-46B4-4F3F-BEFB-C1C8AB29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6C60-C56F-4920-987D-C4595B44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D3A9-9F4A-4395-AC8E-D9D9F9D0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4EA3-7CEC-4D58-B3A9-AC9A4FE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C08-05AF-4B3E-B8BD-A19632C5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34CD-899D-4A4F-A1DC-994A4590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CFB0-B285-4A3A-8B67-90C1DF4E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A7F4-73C5-45EF-8840-252B42DB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8891-FBE4-490C-BF1C-018A22BF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9FA6-F189-49D8-A921-BE9D143C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25F-CC33-4A69-9995-E89B8B15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2BF-891C-48E8-A669-1027C989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18F-9E74-4E09-8FF1-511E5A89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59D-FE40-436B-903E-01ED0153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9DD-1D17-4D15-9002-B5014011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A18-556B-4B5E-B285-C6A73048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CA2-B9DE-4D26-8FD9-701516B6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05C2-6CFE-45A9-8D4D-50CB57C203B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18E1-731F-47D7-B1E7-D421E7F59BC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371600" y="3124080"/>
            <a:ext cx="6400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s all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ell activi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everything the cell do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instructions are found on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edita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erial ca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arg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gan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nucleus"/>
          <p:cNvPicPr/>
          <p:nvPr/>
        </p:nvPicPr>
        <p:blipFill>
          <a:blip r:embed="rId1"/>
          <a:stretch/>
        </p:blipFill>
        <p:spPr>
          <a:xfrm>
            <a:off x="762120" y="236232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8" descr="nucleus#2"/>
          <p:cNvPicPr/>
          <p:nvPr/>
        </p:nvPicPr>
        <p:blipFill>
          <a:blip r:embed="rId2"/>
          <a:stretch/>
        </p:blipFill>
        <p:spPr>
          <a:xfrm>
            <a:off x="5638680" y="38088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AR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8" descr="aEukaryoticCell"/>
          <p:cNvPicPr/>
          <p:nvPr/>
        </p:nvPicPr>
        <p:blipFill>
          <a:blip r:embed="rId1"/>
          <a:stretch/>
        </p:blipFill>
        <p:spPr>
          <a:xfrm>
            <a:off x="4800600" y="25146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60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ytopla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s movement of material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 &amp;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nucle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OL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ka “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ittle 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nd i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nucleolusfigure1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HROMATI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etic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controls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chromosome"/>
          <p:cNvPicPr/>
          <p:nvPr/>
        </p:nvPicPr>
        <p:blipFill>
          <a:blip r:embed="rId1"/>
          <a:stretch/>
        </p:blipFill>
        <p:spPr>
          <a:xfrm>
            <a:off x="5715000" y="2971800"/>
            <a:ext cx="2552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ELL 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mallest unit that is capable of perform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fe fun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eucell"/>
          <p:cNvPicPr/>
          <p:nvPr/>
        </p:nvPicPr>
        <p:blipFill>
          <a:blip r:embed="rId1"/>
          <a:stretch/>
        </p:blipFill>
        <p:spPr>
          <a:xfrm>
            <a:off x="3581280" y="327672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difftypesofcells3"/>
          <p:cNvPicPr/>
          <p:nvPr/>
        </p:nvPicPr>
        <p:blipFill>
          <a:blip r:embed="rId1"/>
          <a:stretch/>
        </p:blipFill>
        <p:spPr>
          <a:xfrm>
            <a:off x="5334120" y="762120"/>
            <a:ext cx="353376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OMPARING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cell relates to it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(job it do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support"/>
          <p:cNvPicPr/>
          <p:nvPr/>
        </p:nvPicPr>
        <p:blipFill>
          <a:blip r:embed="rId2"/>
          <a:stretch/>
        </p:blipFill>
        <p:spPr>
          <a:xfrm>
            <a:off x="1219320" y="4724280"/>
            <a:ext cx="2143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ro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proh KAYR ee yah tihk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2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ond sc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DSCN0576"/>
          <p:cNvPicPr/>
          <p:nvPr/>
        </p:nvPicPr>
        <p:blipFill>
          <a:blip r:embed="rId1"/>
          <a:stretch/>
        </p:blipFill>
        <p:spPr>
          <a:xfrm>
            <a:off x="5486400" y="23623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Eu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yew KAYR ee yah tihk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with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animal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is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9" descr="EukaryoticCell"/>
          <p:cNvPicPr/>
          <p:nvPr/>
        </p:nvPicPr>
        <p:blipFill>
          <a:blip r:embed="rId1"/>
          <a:stretch/>
        </p:blipFill>
        <p:spPr>
          <a:xfrm>
            <a:off x="1066680" y="25909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made of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ul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ell wall is found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g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&amp; mos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CELL 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7" descr="cell wall#2"/>
          <p:cNvPicPr/>
          <p:nvPr/>
        </p:nvPicPr>
        <p:blipFill>
          <a:blip r:embed="rId1"/>
          <a:stretch/>
        </p:blipFill>
        <p:spPr>
          <a:xfrm>
            <a:off x="5562720" y="457200"/>
            <a:ext cx="2962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ELL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er covering,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ctive 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oun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cells with cell walls,the cell membran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ide the cell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to the cell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oducts out of the ce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10" descr="cytoplasm"/>
          <p:cNvPicPr/>
          <p:nvPr/>
        </p:nvPicPr>
        <p:blipFill>
          <a:blip r:embed="rId1"/>
          <a:stretch/>
        </p:blipFill>
        <p:spPr>
          <a:xfrm>
            <a:off x="5791320" y="25146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PLA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latin-li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ide cel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ant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l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opla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YTOPLASM #2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ytoplasm"/>
          <p:cNvPicPr/>
          <p:nvPr/>
        </p:nvPicPr>
        <p:blipFill>
          <a:blip r:embed="rId2"/>
          <a:stretch/>
        </p:blipFill>
        <p:spPr>
          <a:xfrm>
            <a:off x="5105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SKELETO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38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scaffold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-like structure in cytoplas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lps the cell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maintai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ts shap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e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h1_cytoskeleton"/>
          <p:cNvPicPr/>
          <p:nvPr/>
        </p:nvPicPr>
        <p:blipFill>
          <a:blip r:embed="rId1"/>
          <a:stretch/>
        </p:blipFill>
        <p:spPr>
          <a:xfrm>
            <a:off x="5257800" y="2514600"/>
            <a:ext cx="333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40:52Z</dcterms:created>
  <dc:creator>Becky</dc:creator>
  <dc:description/>
  <dc:language>en-US</dc:language>
  <cp:lastModifiedBy>RomaK</cp:lastModifiedBy>
  <dcterms:modified xsi:type="dcterms:W3CDTF">2015-09-04T10:55:38Z</dcterms:modified>
  <cp:revision>13</cp:revision>
  <dc:subject/>
  <dc:title>Chapter 2 “Cells” Section 1: “Cell Structure Pages 38 – 40</dc:title>
</cp:coreProperties>
</file>