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A132-63E2-43A7-95F0-2EB60B5BA5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Chapter 2 “Cells”</a:t>
            </a:r>
            <a:br>
              <a:rPr sz="1200"/>
            </a:b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Section 1: “Cell Structure Pages 38 – 4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hapter 2 “Cells”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ction 1: “Cell Structure Pages 38 –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rects all cell activities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ains instructions for everything the cell do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se instructions are found on a hereditary material called DNA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ually the largest organell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s all cell activiti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nstructions for everything the cell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structions are found on a hereditary material called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the largest orga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AR MEMBRAN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eparates nucleus from cy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rols movement of materials in &amp; out of nucleu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s nucleus from cy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movement of materials in &amp; out of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OL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ka “little nucleus”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und in the nucle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L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“little nucleus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in the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ROMATI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ains genetic code that controls ce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de of DNA &amp; protein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genetic code that control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DNA &amp;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MON CELL TRAI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cell is the smallest unit that is capable of performing life function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ELL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ell is the smallest unit that is capable of performing life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ARING CEL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ize &amp; shape of a cell relates to its function. (job it does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&amp; shape of a cell relates to its function. (job it do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Prokaryotic Cells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(proh KAYR ee yah tihk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cells without membrane-bound structu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:  bacteria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pond sc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karyotic Cel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roh KAYR ee yah tih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without membrane-bound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 bacteri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nd s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ukaryotic Cells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(yew KAYR ee yah tihk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cells with membrane-bound structu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: animals, plants, fungi and protis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karyotic Cel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yew KAYR ee yah tih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with membrane-bound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nimals, plants, fungi and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tects the ce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ives sha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s made of cellulo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cell wall is found in plants, algae, fungi, &amp; most bacteri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made of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ell wall is found in plants, algae, fungi, &amp; mos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ELL MEMBRAN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uter covering,  protective layer around ALL cel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r cells with cell walls,the cell membrane is inside the cell wa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llows food, oxygen, &amp; water into the cell &amp; waste products out of the cell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covering,  protective layer around AL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ells with cell walls,the cell membrane is inside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food, oxygen, &amp; water into the cell &amp; waste products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Y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elatin-like inside cell membran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antly flow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ka pro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atin-like insid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ly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pro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YTOSKELETO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caffolding-like structure in cytoplas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elps the cell maintain or change its sha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de of prote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KELE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ffolding-like structure in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cell maintain or chang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F20-7CD8-4CBB-AB7C-E7860A87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4EDB-E849-4659-A09E-D1E4C568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FC38-DD74-4D90-A399-D1AE11D6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BFBB-4158-41A1-B421-26B32E84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1C9A-1AB6-4C6D-AA1F-78F80FF0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37AD-592B-45C7-A1C3-0E206371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5EF4-A686-43C7-8A64-A6DAA387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DB47-4650-412C-BDB8-9F7C080A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5CFF-7D65-4C48-B02E-EC5E9819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AD81-55AD-42B2-93D7-CC53AB72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0BC4-53DC-4145-A2B1-5FBFE94D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A0E6-2CB5-4A82-82FF-E07C3601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A2C7-6DDB-4A17-BBCD-1DD642F4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49A8-4503-4F84-ADF1-A3B5C323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B632-D3A7-4EA5-9FA0-428FE54A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B24E-2196-491C-8B35-7EA1E003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39A7-4AF7-4789-A1D2-E74BA9E1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DF7-A026-4302-9227-B94DBD5D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1DF-F4AC-4048-B33C-ED8B0081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D96F-B046-4607-A38E-5D82F153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0BBB-032F-43ED-8304-9DD99849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71F6-0A25-4A0B-A044-95F8B9D6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2D83-E42D-4DA0-AE94-C86970AD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703-EA84-41B3-A162-32F93945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A484-AB0C-44B3-B31D-8ADF300E6A3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DF0A-7CCA-4E28-B2BA-83777D8DE8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hapter 2 “Cells”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ction 1: “Cell Structure Pages 38 – 4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1371600" y="3124080"/>
            <a:ext cx="6400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452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rects all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ell activiti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tructi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everything the cell do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instructions are found on a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ereditar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aterial calle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arge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gan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nucleus"/>
          <p:cNvPicPr/>
          <p:nvPr/>
        </p:nvPicPr>
        <p:blipFill>
          <a:blip r:embed="rId1"/>
          <a:stretch/>
        </p:blipFill>
        <p:spPr>
          <a:xfrm>
            <a:off x="762120" y="2362320"/>
            <a:ext cx="3657600" cy="3886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8" descr="nucleus#2"/>
          <p:cNvPicPr/>
          <p:nvPr/>
        </p:nvPicPr>
        <p:blipFill>
          <a:blip r:embed="rId2"/>
          <a:stretch/>
        </p:blipFill>
        <p:spPr>
          <a:xfrm>
            <a:off x="5638680" y="38088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AR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Picture 8" descr="aEukaryoticCell"/>
          <p:cNvPicPr/>
          <p:nvPr/>
        </p:nvPicPr>
        <p:blipFill>
          <a:blip r:embed="rId1"/>
          <a:stretch/>
        </p:blipFill>
        <p:spPr>
          <a:xfrm>
            <a:off x="4800600" y="251460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60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rom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ytoplas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s movement of material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 &amp; ou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nucle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OL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ka “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ittle 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nd in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5" descr="nucleolusfigure1"/>
          <p:cNvPicPr/>
          <p:nvPr/>
        </p:nvPicPr>
        <p:blipFill>
          <a:blip r:embed="rId1"/>
          <a:stretch/>
        </p:blipFill>
        <p:spPr>
          <a:xfrm>
            <a:off x="4495680" y="25909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HROMATI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genetic co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at controls ce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i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5" descr="chromosome"/>
          <p:cNvPicPr/>
          <p:nvPr/>
        </p:nvPicPr>
        <p:blipFill>
          <a:blip r:embed="rId1"/>
          <a:stretch/>
        </p:blipFill>
        <p:spPr>
          <a:xfrm>
            <a:off x="5715000" y="2971800"/>
            <a:ext cx="25527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CELL TRA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smallest unit that is capable of performing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fe func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5" descr="eucell"/>
          <p:cNvPicPr/>
          <p:nvPr/>
        </p:nvPicPr>
        <p:blipFill>
          <a:blip r:embed="rId1"/>
          <a:stretch/>
        </p:blipFill>
        <p:spPr>
          <a:xfrm>
            <a:off x="3581280" y="327672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" descr="difftypesofcells3"/>
          <p:cNvPicPr/>
          <p:nvPr/>
        </p:nvPicPr>
        <p:blipFill>
          <a:blip r:embed="rId1"/>
          <a:stretch/>
        </p:blipFill>
        <p:spPr>
          <a:xfrm>
            <a:off x="5334120" y="762120"/>
            <a:ext cx="3533760" cy="5790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OMPARING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114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a cell relates to it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(job it do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5" descr="support"/>
          <p:cNvPicPr/>
          <p:nvPr/>
        </p:nvPicPr>
        <p:blipFill>
          <a:blip r:embed="rId2"/>
          <a:stretch/>
        </p:blipFill>
        <p:spPr>
          <a:xfrm>
            <a:off x="1219320" y="4724280"/>
            <a:ext cx="21430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Pro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proh KAYR ee yah tihk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2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with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ond sc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5" descr="DSCN0576"/>
          <p:cNvPicPr/>
          <p:nvPr/>
        </p:nvPicPr>
        <p:blipFill>
          <a:blip r:embed="rId1"/>
          <a:stretch/>
        </p:blipFill>
        <p:spPr>
          <a:xfrm>
            <a:off x="5486400" y="2362320"/>
            <a:ext cx="3159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Eu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yew KAYR ee yah tihk)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with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animal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ist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9" descr="EukaryoticCell"/>
          <p:cNvPicPr/>
          <p:nvPr/>
        </p:nvPicPr>
        <p:blipFill>
          <a:blip r:embed="rId1"/>
          <a:stretch/>
        </p:blipFill>
        <p:spPr>
          <a:xfrm>
            <a:off x="1066680" y="2590920"/>
            <a:ext cx="3733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48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ec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c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made of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ul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ell wall is found in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lga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&amp; mos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CELL W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7" descr="cell wall#2"/>
          <p:cNvPicPr/>
          <p:nvPr/>
        </p:nvPicPr>
        <p:blipFill>
          <a:blip r:embed="rId1"/>
          <a:stretch/>
        </p:blipFill>
        <p:spPr>
          <a:xfrm>
            <a:off x="5562720" y="457200"/>
            <a:ext cx="29620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ELL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440" y="23623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er covering, 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ctive lay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ound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e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cells with cell walls,the cell membrane i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ide the cell w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foo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xyg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t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to the cell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s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oducts out of the cel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10" descr="cytoplasm"/>
          <p:cNvPicPr/>
          <p:nvPr/>
        </p:nvPicPr>
        <p:blipFill>
          <a:blip r:embed="rId1"/>
          <a:stretch/>
        </p:blipFill>
        <p:spPr>
          <a:xfrm>
            <a:off x="5791320" y="251460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PLAS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3048120"/>
            <a:ext cx="7693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gelatin-lik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side cell membr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antly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lo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oplas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CYTOPLASM #2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ytoplasm"/>
          <p:cNvPicPr/>
          <p:nvPr/>
        </p:nvPicPr>
        <p:blipFill>
          <a:blip r:embed="rId2"/>
          <a:stretch/>
        </p:blipFill>
        <p:spPr>
          <a:xfrm>
            <a:off x="5105520" y="37339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SKELETO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38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scaffold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-like structure in cytoplasm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lps the cell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maintai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chang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its shap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ei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5" descr="ch1_cytoskeleton"/>
          <p:cNvPicPr/>
          <p:nvPr/>
        </p:nvPicPr>
        <p:blipFill>
          <a:blip r:embed="rId1"/>
          <a:stretch/>
        </p:blipFill>
        <p:spPr>
          <a:xfrm>
            <a:off x="5257800" y="2514600"/>
            <a:ext cx="3333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21:40:52Z</dcterms:created>
  <dc:creator>Becky</dc:creator>
  <dc:description/>
  <dc:language>en-US</dc:language>
  <cp:lastModifiedBy>RomaK</cp:lastModifiedBy>
  <dcterms:modified xsi:type="dcterms:W3CDTF">2015-09-04T10:55:38Z</dcterms:modified>
  <cp:revision>13</cp:revision>
  <dc:subject/>
  <dc:title>Chapter 2 “Cells” Section 1: “Cell Structure Pages 38 – 40</dc:title>
</cp:coreProperties>
</file>