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C686-FC48-470F-A9AD-9F08CA6B22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DEE-6602-4C30-916F-FD8A4C1B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65C2-9DAD-40FF-9A3F-F3AE0B19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AC8-DC85-4724-9916-87A1C06F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ED6-2B9F-4C73-BCD4-3D2583BC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CAF3-864C-49BC-8007-FB2F8AFB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0920-4A89-4263-A408-F075575F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0EB9-63D4-4945-86E8-94D3D049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7F6B-A130-4EAE-B8E6-40985FCB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5660-F10A-44EB-93D8-71DBF90B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34EC-962D-40E4-8B05-FF186265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B424-2FD2-4FC7-BE45-A1108ED2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3B7-DD0F-4A4C-8D2F-1B18C3F2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211D-E56E-43A2-B00B-405D2EFB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E0A7-BEB4-4BFD-BB17-CAA4F48C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61D0-829F-499E-A7CF-24AAB77F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8BCB-911C-4B97-986B-8D8E3FC5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7027-16AC-47EE-9264-9A206BF9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840-27CD-4B95-B791-FD9C870B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0F9-FF3A-4AC9-875B-8B254B66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D7F-09AF-4E33-93FD-CA3F0D6B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90C-105A-4B83-AF33-997185A9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207-1D40-432D-80CA-D357CB52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86D-A847-454B-B43D-99CD0CA7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3816-34EE-4AB9-9775-1B4C0BD9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16ED-B963-4282-A0F2-5D7EB79AB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9AD0-FBD9-4D3D-9EF5-67F6BBDBB3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ELL STRUCTURE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O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XANNE FERGU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ES COUNTY HIGH SCHO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OLGI BOD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CK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RE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2  The Golgi apparatu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78760" cy="5578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YSOSO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ENZY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ICIDE S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3  Lys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7240" y="1600200"/>
            <a:ext cx="9010440" cy="3751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ASMA MEMBRA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PID BILAY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TEIN PO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6  The plasma membrane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5072" t="0" r="0" b="0"/>
          <a:stretch/>
        </p:blipFill>
        <p:spPr>
          <a:xfrm>
            <a:off x="291960" y="838080"/>
            <a:ext cx="8560080" cy="540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UCLE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AR ENVELO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O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ROMOSO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9  The nucleus and its envelope 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14512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IBOSO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TACH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0  Rib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8920" y="1676520"/>
            <a:ext cx="8978760" cy="370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DOPLASMIC RETICU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U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1  Endoplasmic reticulum (ER)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716200" y="380880"/>
            <a:ext cx="3710160" cy="6324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4:13:54Z</dcterms:created>
  <dc:creator>jrjferguson</dc:creator>
  <dc:description/>
  <dc:language>en-US</dc:language>
  <cp:lastModifiedBy>RomaK</cp:lastModifiedBy>
  <dcterms:modified xsi:type="dcterms:W3CDTF">2015-09-04T10:55:55Z</dcterms:modified>
  <cp:revision>8</cp:revision>
  <dc:subject/>
  <dc:title>CELL STRUCTURES</dc:title>
</cp:coreProperties>
</file>