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C8E8-CCC2-4D5F-B4C7-ABABECFB23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ELL STRUCTURES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ART O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ROXANNE FERGUS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BIO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GRAVES COUNTY HIGH SCHOO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STRUCTUR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XANNE FERGU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ES COUNTY HIGH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GOLGI BOD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PACK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ECRE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LGI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RE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Figure 7.12  The Golgi apparat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7.12  The Golgi appa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LYSOSO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SUICIDE SA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YS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ICIDE S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Figure 7.13  Lysoso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7.13  Lys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PLASMA MEMBRA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LIPID BILAY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PROTEIN POR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SMA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ID BI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 P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Figure 7.6  The plasma membra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7.6  The plasma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UCLEAR ENVELOP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UCLEOL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ENVE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Figure 7.9  The nucleus and its envelope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7.9  The nucleus and its envelope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RIBOSO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FRE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ATTACH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B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Figure 7.10  Riboso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7.10  Rib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ENDOPLASMIC RETICUL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ROUG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MOO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PLASMIC 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O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Figure 7.11  Endoplasmic reticulum (ER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7.11  Endoplasmic reticulum (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0BC9-DB8B-49CE-A51F-70F2C5CE9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76B3-9CFF-41C8-973E-B1C77BEB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A13C-F7A1-41FD-9479-6F2BDF29B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D60F-1F8E-4DB5-B785-D33EDE1A3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0036-769E-478D-8A74-A3FC6FB28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D9AB-058F-4029-BF64-88273ABA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8FA1-AE4F-493E-9C3F-4C056674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8977-8223-4A60-827A-C7AAEB94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2543-CB28-41B4-B3C2-3A147299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FD3B-C3E6-4653-A19A-7A0E15D8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E52E-94F2-4DF2-A822-FA94E0B4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258F-9C27-4356-9311-969F2338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A238-1594-4542-B88E-34F7B3D4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B96B-D5A3-4B63-B783-9BB4AAE7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F907-9406-4F9A-9F5B-26C37811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FB56-13EC-43A6-9515-4B58017FF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C1FD-7C0D-4489-9F8A-ED44F0A54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4066-8079-4639-A753-E436EF23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8989-5A1F-4C92-BA06-CCC4781D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0A84-E4FB-4BFF-83E2-4239CB25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78AA-ACE0-45D8-BD9D-621EAEF9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DB93-40E3-4C7F-A807-33441CE2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10CC-6679-4444-BCAB-98588FD5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6BAE-E4D4-4E9E-BB64-4AEAD947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27DE-8F83-4E6F-A5D6-A5AED3074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7847-0819-4BD9-A741-9202DE99BCF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ELL STRUCTURES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ART ON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XANNE FERGUS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IOLOG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AVES COUNTY HIGH SCHO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GOLGI BOD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CKA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RE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12  The Golgi apparatus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76320" y="762120"/>
            <a:ext cx="8978760" cy="5578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YSOSOM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GESTIVE ENZYM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ICIDE SA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13  Lysosomes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57240" y="1600200"/>
            <a:ext cx="9010440" cy="3751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LASMA MEMBRAN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PID BILAY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TEIN PO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6  The plasma membrane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rcRect l="5072" t="0" r="0" b="0"/>
          <a:stretch/>
        </p:blipFill>
        <p:spPr>
          <a:xfrm>
            <a:off x="291960" y="838080"/>
            <a:ext cx="8560080" cy="54054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UCLEU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UCLEAR ENVELOP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UCLE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UCLEOL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ROMOSOM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9  The nucleus and its envelope 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981080" y="457200"/>
            <a:ext cx="5145120" cy="63244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IBOSOM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RE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TACH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10  Ribosomes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88920" y="1676520"/>
            <a:ext cx="8978760" cy="3703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NDOPLASMIC RETICULU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UG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MOO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Figure 7.11  Endoplasmic reticulum (ER)</a:t>
            </a:r>
            <a:endParaRPr b="0" i="1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716200" y="380880"/>
            <a:ext cx="3710160" cy="63248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2T14:13:54Z</dcterms:created>
  <dc:creator>jrjferguson</dc:creator>
  <dc:description/>
  <dc:language>en-US</dc:language>
  <cp:lastModifiedBy>RomaK</cp:lastModifiedBy>
  <dcterms:modified xsi:type="dcterms:W3CDTF">2015-09-04T10:55:55Z</dcterms:modified>
  <cp:revision>8</cp:revision>
  <dc:subject/>
  <dc:title>CELL STRUCTURES</dc:title>
</cp:coreProperties>
</file>