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2C57-CD2C-4E42-A32E-5238514024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ELL STRUCTURE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ART O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OXANNE FERGUS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RAVES COUNTY HIGH SCHO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TRUCTUR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XANNE FERGU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ES COUNTY HIGH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GOLGI BOD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ACK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ECRE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LGI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igure 7.12  The Golgi apparat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12  The 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LYSOSO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SUICIDE SA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ICIDE 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3  Lys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3  Lys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LASMA MEMBRA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ROTEIN POR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6  The plasma membra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6  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OL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igure 7.9  The nucleus and its envelope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9  The nucleus and its envelop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IB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R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ATTACH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0  Rib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0 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OUG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MOO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1  Endoplasmic reticulum (ER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1  Endoplasmic reticulum (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0911-BF53-42EA-AA1A-19B89600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834-8712-497B-B411-63BDD9CE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D63-800B-4AD2-BD4F-A80654AC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E10-66D6-49AE-ADD0-A0E473D2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30D9-EEA3-4012-B5CB-C1A4A2F3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A43C-B9A0-47C6-953A-D4FC7BD5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6A12-6BC9-499C-AEDE-44E0E566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5A46-05DC-4DEB-816D-6AD1E0E9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4A9B-6D72-43FB-80D9-57EE712E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4134-E61B-4390-81C0-DD60CA29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9E5A-5B82-4DE4-9059-FC9D3F96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982-CFA2-4A25-AB17-49068437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6257-F290-4565-BED0-A0DB5679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0DF6-12C7-4EC4-95E9-6220A6BC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F1A0-3884-4E61-897C-161E6D27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6D65-40F5-42E2-9C6F-62A53D28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BAE1-4446-4B28-BA8E-02E0ADAC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E7D-D935-4805-B1AC-5BCEBDBA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44AF-69DE-41A8-8B9D-C5D614C1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41E-829E-4329-9B71-468C75F4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5D44-407C-4956-B4E1-C885E63D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958-6426-405D-8F51-7AECAAFF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3DA9-770D-4314-8412-3E3683D5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945E-1960-40F3-AA2A-8CAE1F47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E483-A528-4FE5-971C-BF0E57D7C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7F99-A4BD-4165-B55B-E0520D7543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ELL STRUCTURE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RT O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XANNE FERGU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I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AVES COUNTY HIGH SCHO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OLGI BOD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CK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RE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2  The Golgi apparatu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8978760" cy="5578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YSOSO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ESTIVE ENZY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ICIDE SA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3  Lysosome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57240" y="1600200"/>
            <a:ext cx="9010440" cy="3751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ASMA MEMBRA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PID BILAY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TEIN PO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6  The plasma membrane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5072" t="0" r="0" b="0"/>
          <a:stretch/>
        </p:blipFill>
        <p:spPr>
          <a:xfrm>
            <a:off x="291960" y="838080"/>
            <a:ext cx="8560080" cy="5405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UCLE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AR ENVELOP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O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ROMOSO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9  The nucleus and its envelope 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514512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IBOSOM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TACH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0  Ribosome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8920" y="1676520"/>
            <a:ext cx="8978760" cy="370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NDOPLASMIC RETICU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UG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1  Endoplasmic reticulum (ER)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716200" y="380880"/>
            <a:ext cx="3710160" cy="6324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14:13:54Z</dcterms:created>
  <dc:creator>jrjferguson</dc:creator>
  <dc:description/>
  <dc:language>en-US</dc:language>
  <cp:lastModifiedBy>RomaK</cp:lastModifiedBy>
  <dcterms:modified xsi:type="dcterms:W3CDTF">2015-09-04T10:55:55Z</dcterms:modified>
  <cp:revision>8</cp:revision>
  <dc:subject/>
  <dc:title>CELL STRUCTURES</dc:title>
</cp:coreProperties>
</file>