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E041-F747-4146-951E-2683D69A7349}"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87DF2-A1D3-4A5E-8582-0F617D7DE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DE12F-2A10-42D8-B479-FDB564F6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B499E-51C4-43DC-B40F-3050F2C45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7ED69-B5F8-4C08-AD26-CC9E3C0C2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F67AF-E44D-4BBA-844C-16F67BCE5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FF1C0-A090-49E5-BEBB-B2FF706FF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3EC98-B433-4B69-948B-E4A808697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BC3E6-E2C5-438A-ABE1-B4E6AC831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3743E-8392-4B76-865A-5773E7B85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7C397-EAFB-4F95-B29F-B39BDD3A6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A0D63-A6C2-4D0A-9D87-F3C059ADF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12929-E083-4F63-B10C-0EB98D37A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0D58D-7DDD-474C-BFF2-118D39898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5C269-C490-4385-95DB-9FF398879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A09EC-7117-4DBD-9917-13A3B1194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8FA20-CC9E-4E07-B449-6FDC060D9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F11A9-3F29-4609-82F2-F651C9E75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E0FC7-2613-45B4-A90B-FAEE75328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9D2A-CE76-40D4-B6CB-CE55EFF60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0ECF-3F3E-4543-A219-E1A49E868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C59EC-A499-4C6E-8E6E-55EEB0D51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55EFD-A9CA-428D-B2A6-129D95296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849A-D08A-4BA8-8EE8-53CC0ED9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BEFFC-2184-41A2-B8D8-ABBCD2605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492A-FC94-4169-ADBA-DB45702ACCFE}" type="datetime">
              <a:rPr b="0" lang="en-GB"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0D0E-8166-4320-9B9E-9F495F6FC530}"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2FDC-D3E5-43D4-8472-6AD87CF35253}" type="datetime">
              <a:rPr b="0" lang="en-GB" sz="1400" spc="-1" strike="noStrike">
                <a:solidFill>
                  <a:srgbClr val="ffffff"/>
                </a:solidFill>
                <a:latin typeface="Comic Sans MS"/>
              </a:rPr>
              <a:t>30/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FEB2-1FBB-4B7A-B4D8-CDDB60CF89CC}"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