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6CE6-049E-4CC8-BF71-925826435EFC}"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04352-734C-4FB2-A37E-12A78A52A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5AAE-DB01-493B-88D8-925F9D6C6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8D9CC-6194-4B3E-B175-F415A3175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005F5-2280-4CCC-B891-F97D85A46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17FE5-C939-40C4-894A-DE1F70431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29DDA-C4E6-411D-8592-08B1F2F3E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9B5CE-AAD1-4BB9-9258-AA94D56B5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08001-11F1-431E-A0D3-72014ABE8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2374C-9258-4FD5-AF08-BCE5B7953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3979F-658A-4DE9-BFF2-7427255D4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DED3E-04F3-4AFE-9456-2CC1E89F2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A4D18-9D4C-469A-B82E-7FC38A3CC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1DD19-7DB9-4DCD-9BE5-C43645621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D4BCB-33F5-4C39-A058-CA4A8052B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CE6DF-CEAA-4EE6-A3FD-B9E4A60E6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DF12B-A695-4A65-92B3-986A81B44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6CA65-47AD-4494-9DD9-756B5FAC8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BF086-80E9-42F7-9FBF-F75B0AE6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E2F22-5740-40E0-B755-E544A170C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24F14-C2E9-4CF5-8485-82E0888D6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74783-293E-4156-A77E-3D203D801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D2C8-E090-4DE1-8C5C-4EF7843C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B60F8-6B9F-4DC5-9E20-556F2A04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614B1-AADE-42AD-BA45-4B69DDD1D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C6CD-7900-402F-BAFF-CE44C2216964}" type="datetime">
              <a:rPr b="0" lang="en-GB" sz="1400" spc="-1" strike="noStrike">
                <a:solidFill>
                  <a:srgbClr val="000000"/>
                </a:solidFill>
                <a:latin typeface="Comic Sans MS"/>
              </a:rPr>
              <a:t>28/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947A-C408-4276-9514-04286B670BDB}"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F575-F544-40A2-8158-436C3B0E027B}" type="datetime">
              <a:rPr b="0" lang="en-GB" sz="1400" spc="-1" strike="noStrike">
                <a:solidFill>
                  <a:srgbClr val="ffffff"/>
                </a:solidFill>
                <a:latin typeface="Comic Sans MS"/>
              </a:rPr>
              <a:t>28/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D0A1-5AAE-4B24-A899-00AE4B5ADD45}"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