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9611-A069-43EA-9FDF-0ACFC54B0A56}"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6C87B-A108-424F-8F1C-EFCEEA179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FE69C-9F4F-4F40-B8FC-5B1DEFA2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0225D-DDDE-4A12-A9B8-FCBAE5AE6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B878F-608E-4AC0-B059-300B98577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290E8-D103-4EBC-8B1F-7EACB3A35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E8F29-928D-4AE5-9BAA-AFA917C5F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C016A-9BC0-4D0E-A46A-EC564B221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B729A-C45C-425A-B6E1-CA1B03E4D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DA4D9-9487-49A3-BE92-F6A4D84C0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D5BF7-DD29-4278-AC34-3ECE32D1B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754AF-1A6E-4345-94A6-5F43E95EF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91C01-8EEE-4142-AE71-E11B423EA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AA5FC-2C3C-4104-9FB6-5DA954B1B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DD690-8ED7-4337-B5E0-10054072F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38652-6148-46F8-B9DA-054C652C1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FEDE4-19C2-461F-AFAF-84AFAD80C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93B83-B994-4970-9A30-EB8219A6D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D172F-D314-4D56-9C71-708B7BB7B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3B526-703C-4D66-8EF7-206739C0C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03001-DCF0-4AF0-9734-30ADAB7BE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FF74F-55B1-41E9-8E4C-53F8F77CF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1587-6560-4ECC-911B-AB27375BF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F274-0020-47AF-87B1-D4608ADB6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5DE2-C13B-4AA7-92CA-A2219DD2D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1193-EC31-4B3E-9E43-5974C0363E85}" type="datetime">
              <a:rPr b="0" lang="en-GB"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180C-15E8-4BF6-A129-1F0D4B4DDE28}"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570F-8641-44A0-AF78-71BE498D9416}" type="datetime">
              <a:rPr b="0" lang="en-GB" sz="1400" spc="-1" strike="noStrike">
                <a:solidFill>
                  <a:srgbClr val="ffffff"/>
                </a:solidFill>
                <a:latin typeface="Comic Sans MS"/>
              </a:rPr>
              <a:t>30/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B7F8-DF43-43EB-BAA0-A67A8EF5F3E2}"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