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92F9-A4DC-4D5F-AFA3-56749810F8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082-70B1-4D51-86F4-EE65532C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3B3-E68A-4720-9F90-60F0962D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9B82-5BBA-4AE1-AF95-94AA5968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DD4-221C-434B-A097-7D3F1AAF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3FE-6DC2-440F-A418-D049E764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8C71-BDBB-431C-9264-B0BB2D7B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D823-F92A-4A17-865D-6F627E28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0B22-6BF0-4099-AD0E-63B0F1AE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764-E558-4566-8426-9F88A781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D408-344D-44FB-A494-90BFBC91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AA0-349B-472F-B1B7-5BBDDE08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2699-B0EE-4FDA-847D-22EEC166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B304-3E41-4803-A513-D094F2A080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ventually cover entire surface of substratum (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fluenc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ed b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eolytic enzy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ryps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mortalis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el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 lines 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o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50920" y="189000"/>
          <a:ext cx="8893080" cy="6480000"/>
        </p:xfrm>
        <a:graphic>
          <a:graphicData uri="http://schemas.openxmlformats.org/drawingml/2006/table">
            <a:tbl>
              <a:tblPr/>
              <a:tblGrid>
                <a:gridCol w="1368360"/>
                <a:gridCol w="1512720"/>
                <a:gridCol w="1727280"/>
                <a:gridCol w="2089080"/>
                <a:gridCol w="219564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morph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wth in susp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K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r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v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cino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46178891_150"/>
          <p:cNvPicPr/>
          <p:nvPr/>
        </p:nvPicPr>
        <p:blipFill>
          <a:blip r:embed="rId1"/>
          <a:stretch/>
        </p:blipFill>
        <p:spPr>
          <a:xfrm>
            <a:off x="6300720" y="177336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ferment"/>
          <p:cNvPicPr/>
          <p:nvPr/>
        </p:nvPicPr>
        <p:blipFill>
          <a:blip r:embed="rId2"/>
          <a:stretch/>
        </p:blipFill>
        <p:spPr>
          <a:xfrm>
            <a:off x="6012000" y="4686480"/>
            <a:ext cx="2901960" cy="2171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7.5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8:41:38Z</dcterms:created>
  <dc:creator>CEC</dc:creator>
  <dc:description/>
  <dc:language>en-US</dc:language>
  <cp:lastModifiedBy>LEGION2</cp:lastModifiedBy>
  <dcterms:modified xsi:type="dcterms:W3CDTF">2016-01-11T12:23:16Z</dcterms:modified>
  <cp:revision>8</cp:revision>
  <dc:subject/>
  <dc:title>Cell And Tissue Culture</dc:title>
</cp:coreProperties>
</file>