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C73A-7C5A-4EA7-8A9C-E11B43B075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And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ia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ced Highe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And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ia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ced Highe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 for Measuring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ing cell numbers in culture (haemocytome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 optical density in spectrophot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 for Measuring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ing cell numbers in culture (haemocytome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 optical density in spectrophot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bio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either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- in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either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- in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in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ssociated with body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n in susp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eventually need subcul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in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ssociated with body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n in susp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eventually need subcul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nimal deriv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re to bottom of a flask and form a mono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 cover entire surface of substratum (conflu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then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ubculture cells at this point (remove to fresh med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can begin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nimal deriv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re to bottom of a flask and form a mono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 cover entire surface of substratum (conflu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then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ubculture cells at this point (remove to fresh med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can begin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ain categories of animal cell cultur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ain categories of animal cell cultur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from fresh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life span in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ed by proteolytic enzyme (Tryps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into singl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pitheli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brob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from fresh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life span in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ed by proteolytic enzyme (Tryps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into singl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pitheli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brob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ed from hum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n trans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se sensitivity to factors associated with growth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mortalised cel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lines are neopla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lose their anchorage-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ssociated with an altered xsome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easily cult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ed from hum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n trans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se sensitivity to factors associated with growth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mortalised cel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lines are neopla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lose their anchorage-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ssociated with an altered xsome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easily cult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ular cells can be isolated and cl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solation of mut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vestigate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e hybrid cells that have applications in 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portant pharmaceuti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ac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ular cells can be isolated and cl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solation of mut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vestigate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e hybrid cells that have applications in 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portant pharmaceuti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ac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usefu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mani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ing mammalian cells for cancer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ing new plants through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usefu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mani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ing mammalian cells for cancer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ing new plants through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of cell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reshly pre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ock of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acterial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of cell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reshly pre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ock of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acterial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itable contai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fl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histicated fermenter with computer-controlled monito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itable contai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fl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histicated fermenter with computer-controlled monito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for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for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etal Bovine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for animal cell prolif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% - 10% of growth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etal Bovine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for animal cell prolif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% - 10% of growth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products causes change in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indicator like phenol 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from red to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products causes change in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indicator like phenol 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from red to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of Temperature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.5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7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of Temperature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.5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7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AA16-003F-454C-8B9B-BDAD38DD3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5934-BA53-4575-8AC1-C034E45F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93E4-1A44-461A-B154-7ABB94208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5069-E163-4F43-9E35-43D2688A7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AB62-EB4E-4721-BF25-514E3FE7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0C75-9DA9-47D0-9147-DD0C1412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7D20-783F-43A2-AF84-DC8D01B0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246B-7DBC-4104-8B58-6FBBDCCF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1CFF-E010-4E19-8C46-AF2653FB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474D-69EB-4429-8647-1D2A5DF7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C1AA-E689-49FD-A00E-B612F1B2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DDBC-7EAA-4B7B-B663-7CAC2A90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7913-363B-49C3-9A3D-881C79BD5E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ell And Tissue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mmalian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vanced Higher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thod for Measuring Cell Grow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nting cell numbers in culture (haemocytome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asure optical density in spectrophoto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tibio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ells are either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chorage – depend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chorage - independ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chorage – independan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ells associated with body fl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bloo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wn in susp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eventually need subcult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chorage – dependan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ost animal derived cel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Adhere to bottom of a flask and form a monolay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ventually cover entire surface of substratum (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confluenc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roliferation then sto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Need to subculture cells at this point (remove to fresh medium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roliferation can begin aga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 main categories of animal cell cultures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mary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imary Cul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ken from fresh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mited life span in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ated by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teolytic enzym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Tryps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parate into single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epithelial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fibrobl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 from hum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e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ns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lose sensitivity to factors associated with growth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duc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mortalis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ell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ll lines ar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op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ten lose their anchorage-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associated with an altered xsome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easily cult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250920" y="189000"/>
          <a:ext cx="8893080" cy="6480000"/>
        </p:xfrm>
        <a:graphic>
          <a:graphicData uri="http://schemas.openxmlformats.org/drawingml/2006/table">
            <a:tbl>
              <a:tblPr/>
              <a:tblGrid>
                <a:gridCol w="1368360"/>
                <a:gridCol w="1512720"/>
                <a:gridCol w="1727280"/>
                <a:gridCol w="2089080"/>
                <a:gridCol w="219564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es of orig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 of orig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morpholo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wth in suspension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T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robl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e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m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hel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HK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ri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m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n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robl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v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cino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hel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do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ular cells can be isolated and clo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isolation of mutan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investigate cell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produce hybrid cells that have applications in bio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duce important pharmaceutic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vacc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is it usef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 mani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lturing mammalian cells for cancer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ing new plants through tissue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 you need to do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urce of cell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freshly prep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stock of cell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bacterial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itable con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e fl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phisticated fermenter with computer-controlled monito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46178891_150"/>
          <p:cNvPicPr/>
          <p:nvPr/>
        </p:nvPicPr>
        <p:blipFill>
          <a:blip r:embed="rId1"/>
          <a:stretch/>
        </p:blipFill>
        <p:spPr>
          <a:xfrm>
            <a:off x="6300720" y="1773360"/>
            <a:ext cx="1860480" cy="1860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ferment"/>
          <p:cNvPicPr/>
          <p:nvPr/>
        </p:nvPicPr>
        <p:blipFill>
          <a:blip r:embed="rId2"/>
          <a:stretch/>
        </p:blipFill>
        <p:spPr>
          <a:xfrm>
            <a:off x="6012000" y="4686480"/>
            <a:ext cx="2901960" cy="21715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owth med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portunity for Gas Ex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imal se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etal Bovine Se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sential for animal cell prolif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% - 10% of growth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ic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ste products causes change in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indicator like phenol 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ges from red to ye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rol of Temperature and 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7.5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H 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4T08:41:38Z</dcterms:created>
  <dc:creator>CEC</dc:creator>
  <dc:description/>
  <dc:language>en-US</dc:language>
  <cp:lastModifiedBy>LEGION2</cp:lastModifiedBy>
  <dcterms:modified xsi:type="dcterms:W3CDTF">2016-01-11T12:23:16Z</dcterms:modified>
  <cp:revision>8</cp:revision>
  <dc:subject/>
  <dc:title>Cell And Tissue Culture</dc:title>
</cp:coreProperties>
</file>