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CAEF-9589-4EC9-A23F-7F945BF033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cover entire surface of substratum (conflu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cover entire surface of substratum (conflu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by proteolytic enzyme (Tryps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by proteolytic enzyme (Tryps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n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mortalised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lines are neo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n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mortalised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lines are neo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0E99-5B9C-45A2-ACC6-B3F77CC0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5C0-A204-4124-9E60-E4F55273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1B6-16EA-4EFE-8D88-E3ECE97C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DC86-9F1F-4143-9CC5-39B4EB0A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7F2-54C1-4E07-8FE9-F791A77B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0143-DB1A-40EC-9417-FAF73143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39E4-0C49-4AF7-80BE-0E39D84F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65E2-3C24-426D-B277-96734C39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7840-4DCE-4B5D-ACD8-85214344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23D-2876-49AD-9A6B-10097CC9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FE4-5C5D-4590-B26A-C8779926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918-2046-4F39-BAEB-574C6710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8E04-159F-4AF8-A43C-6D52373980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ventually cover entire surface of substratum (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nfluenc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ed b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teolytic enzy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ryps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mortalis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ell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 lines a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op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50920" y="189000"/>
          <a:ext cx="8893080" cy="6480000"/>
        </p:xfrm>
        <a:graphic>
          <a:graphicData uri="http://schemas.openxmlformats.org/drawingml/2006/table">
            <a:tbl>
              <a:tblPr/>
              <a:tblGrid>
                <a:gridCol w="1368360"/>
                <a:gridCol w="1512720"/>
                <a:gridCol w="1727280"/>
                <a:gridCol w="2089080"/>
                <a:gridCol w="219564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 of ori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 of ori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morph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wth in suspens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T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e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K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r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v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cino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46178891_150"/>
          <p:cNvPicPr/>
          <p:nvPr/>
        </p:nvPicPr>
        <p:blipFill>
          <a:blip r:embed="rId1"/>
          <a:stretch/>
        </p:blipFill>
        <p:spPr>
          <a:xfrm>
            <a:off x="6300720" y="177336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ferment"/>
          <p:cNvPicPr/>
          <p:nvPr/>
        </p:nvPicPr>
        <p:blipFill>
          <a:blip r:embed="rId2"/>
          <a:stretch/>
        </p:blipFill>
        <p:spPr>
          <a:xfrm>
            <a:off x="6012000" y="4686480"/>
            <a:ext cx="2901960" cy="2171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7.5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8:41:38Z</dcterms:created>
  <dc:creator>CEC</dc:creator>
  <dc:description/>
  <dc:language>en-US</dc:language>
  <cp:lastModifiedBy>LEGION2</cp:lastModifiedBy>
  <dcterms:modified xsi:type="dcterms:W3CDTF">2016-01-11T12:23:16Z</dcterms:modified>
  <cp:revision>8</cp:revision>
  <dc:subject/>
  <dc:title>Cell And Tissue Culture</dc:title>
</cp:coreProperties>
</file>