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E36B4-C175-4269-BA3D-7E080BB321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And Tissue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ian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ced Higher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And Tissue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ian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ced Higher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od for Measuring Cell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ing cell numbers in culture (haemocytome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 optical density in spectrophoto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od for Measuring Cell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ing cell numbers in culture (haemocytome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 optical density in spectrophoto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r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ibio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er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r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io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ri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re either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– depend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- independ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re either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– depend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- independ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– independ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ssociated with body fl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n in suspen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eventually need subcultu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– independ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ssociated with body flu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n in suspen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eventually need subcultu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– depend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animal deriv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here to bottom of a flask and form a mono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tually cover entire surface of substratum (conflu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liferation then st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subculture cells at this point (remove to fresh med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liferation can begin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rage – depend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animal deriv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here to bottom of a flask and form a mono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tually cover entire surface of substratum (conflu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liferation then st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subculture cells at this point (remove to fresh med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liferation can begin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ain categories of animal cell culture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ous cel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ain categories of animal cell culture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ous cel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Cul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n from fresh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ed life span in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ed by proteolytic enzyme (Tryps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e into singl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pitheli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ibrob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Cul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n from fresh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ed life span in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ed by proteolytic enzyme (Tryps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e into singl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pitheli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ibrobl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ous Cel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ed from huma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n trans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ose sensitivity to factors associated with growth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immortalised cell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lines are neopla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lose their anchorage-depen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ssociated with an altered xsome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easily cultu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ous Cel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rived from huma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n trans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ose sensitivity to factors associated with growth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immortalised cell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lines are neopla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lose their anchorage-depen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ssociated with an altered xsome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easily cultu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ular cells can be isolated and clo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solation of mut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vestigate cell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duce hybrid cells that have applications in bio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important pharmaceutic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vacc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orm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ular cells can be isolated and clo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solation of mut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vestigate cell 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duce hybrid cells that have applications in bio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important pharmaceutic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vacc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orm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it usefu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 mani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lturing mammalian cells for cancer stu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ing new plants through tissue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is it usefu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 mani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lturing mammalian cells for cancer stu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ing new plants through tissue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need to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of cell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reshly pre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tock of cel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acterial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need to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 of cell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reshly prep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tock of cel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acterial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itable contai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fl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phisticated fermenter with computer-controlled monito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itable contai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fl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phisticated fermenter with computer-controlled monito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 me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 med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rtunity for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rtunity for Gas Ex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se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etal Bovine Se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sential for animal cell prolif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% - 10% of growth 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se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etal Bovine Se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sential for animal cell prolif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% - 10% of growth 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te products causes change in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indicator like phenol r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s from red to 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te products causes change in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indicator like phenol r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s from red to 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of Temperature and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7.5 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7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of Temperature and 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7.5 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 7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3C2A-DDDA-4FD0-B42B-3812FE803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CA20-B250-48B4-9D36-5FFBA61E0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C140-4DFB-4B2D-9FD2-2F56A7EF2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C48A-30AB-41C5-802E-4CD4D50F2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9EF7-F5CE-4F4D-967F-61EF90CC8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A596-0B4E-4E93-B94F-8F094363D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12C7-54BA-4D3B-92E3-CA959E0C8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E97D-CB0D-4E09-A796-180413187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7926-8471-4FC4-9C0D-8E3204D17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2BA7-04D8-45B9-B7D7-C0CAD929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FE11-CC4E-4C45-B6A0-2D7FF152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DA34-B1BF-4499-8716-0BFD1BEA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8BD2E-24E5-40A5-B0C4-B2D672E0D8B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ell And Tissue Cul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mmalian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vanced Higher 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ethod for Measuring Cell Grow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unting cell numbers in culture (haemocytome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asure optical density in spectrophoto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tibio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eril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ells are either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chorage – depend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chorage - independ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chorage – independan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ells associated with body fl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blood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own in susp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eventually need subcultu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chorage – dependan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Most animal derived cell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Adhere to bottom of a flask and form a monolay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Eventually cover entire surface of substratum (</a:t>
            </a: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confluence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Proliferation then stop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Need to subculture cells at this point (remove to fresh medium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Proliferation can begin agai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2 main categories of animal cell cultures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mary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inuous cell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imary Cul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ken from fresh 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mited life span in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eated by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teolytic enzym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Tryps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parate into single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epithelial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fibrobla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tinuous Cell 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rived from huma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en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rans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lose sensitivity to factors associated with growth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duc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mmortalise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ell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ell lines ar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eop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ten lose their anchorage-depe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associated with an altered xsome pat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re easily cultu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250920" y="189000"/>
          <a:ext cx="8893080" cy="6480000"/>
        </p:xfrm>
        <a:graphic>
          <a:graphicData uri="http://schemas.openxmlformats.org/drawingml/2006/table">
            <a:tbl>
              <a:tblPr/>
              <a:tblGrid>
                <a:gridCol w="1368360"/>
                <a:gridCol w="1512720"/>
                <a:gridCol w="1727280"/>
                <a:gridCol w="2089080"/>
                <a:gridCol w="219564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es of orig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ssue of orig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 morpholog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wth in suspension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T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ne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brobl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ine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ms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theli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HK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ri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ms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dne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brobl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m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vi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cinom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theli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do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icular cells can be isolated and clo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isolation of mutant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investigate cell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produce hybrid cells that have applications in bio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duce important pharmaceutic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vacc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-horm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is it usef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 mani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ulturing mammalian cells for cancer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ducing new plants through tissue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do you need to do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urce of cell mate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freshly prepa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stock of cell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bacterial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uitable contai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mple fl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phisticated fermenter with computer-controlled monito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46178891_150"/>
          <p:cNvPicPr/>
          <p:nvPr/>
        </p:nvPicPr>
        <p:blipFill>
          <a:blip r:embed="rId1"/>
          <a:stretch/>
        </p:blipFill>
        <p:spPr>
          <a:xfrm>
            <a:off x="6300720" y="1773360"/>
            <a:ext cx="1860480" cy="18604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ferment"/>
          <p:cNvPicPr/>
          <p:nvPr/>
        </p:nvPicPr>
        <p:blipFill>
          <a:blip r:embed="rId2"/>
          <a:stretch/>
        </p:blipFill>
        <p:spPr>
          <a:xfrm>
            <a:off x="6012000" y="4686480"/>
            <a:ext cx="2901960" cy="217152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owth med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pportunity for Gas Ex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rbon di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imal ser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etal Bovine Se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ssential for animal cell prolif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5% - 10% of growth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ic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ste products causes change in 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indicator like phenol r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nges from red to ye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ntrol of Temperature and 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7.5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H 7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4T08:41:38Z</dcterms:created>
  <dc:creator>CEC</dc:creator>
  <dc:description/>
  <dc:language>en-US</dc:language>
  <cp:lastModifiedBy>LEGION2</cp:lastModifiedBy>
  <dcterms:modified xsi:type="dcterms:W3CDTF">2016-01-11T12:23:16Z</dcterms:modified>
  <cp:revision>8</cp:revision>
  <dc:subject/>
  <dc:title>Cell And Tissue Culture</dc:title>
</cp:coreProperties>
</file>