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7CD6-B0EE-4525-9110-09E5A4A3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PRESENTATION  REPORT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PATHOLO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ITY OF  RAJASTHAN, JAIP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MITTED TO 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Final yr. (2010-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uman lal kumaw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Sc. Biotech.(i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bnormal Results Mean patient have a blood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 For Sincerely Paying Atten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Hospital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spital Lab is a place where blood and other biological fluid is collected, tested and Resulted for pathology and dise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test is a lab analysis performed on a blood  sample that is usually extracted from a vein in the arm using a needle, or via fingerp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bloo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cal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nalysis blood compositions for prevention of  blood die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of blood sample col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sample collection performed using a vaca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is drawn from a vein (venipuncture), usually from the inside of the elbow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 of the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i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-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blood count: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 not obser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latelets per microli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test –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and 125 mg/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or Normal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al T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M ratio 1: 160  IgG ratio 1:4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 not fa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um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D5DB-5935-4824-9A00-79DD22B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FA3-3B83-46E7-9D31-A8BBBB2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C2A-35E2-4F10-8A97-76E202FD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4AE-C96B-42C8-ACB3-ABE3BD5C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2A6B-BEEB-467A-8157-5BF6AF7E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A197-496D-4F92-A57B-2FC8B232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F3C5-7E5E-43E9-8E80-A40F4F15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E9D-D6B9-42CB-AC5E-9654E031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1401-2467-40AC-AC67-B5571DD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C034-1C82-4EE0-80A6-ED519DD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646D-377F-4348-B382-E0F2B49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110-75BE-47A9-847A-C69695BC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260B-40BB-49C5-B74B-9FEBC6F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2CA1-A396-45DB-8798-2C72F1C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3E9D-0B7E-4B40-999E-A2BFD8DB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3741-937B-4C7D-89DD-39B30ECB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B51-6AE5-4640-B6D2-493B2A30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0185-1676-417C-B58E-CEDFFEEC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F3D55-72EB-4CAD-8B63-46272652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ABE2-A605-4C01-BB71-99B3FE28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EAEAB-8391-43B7-8B6C-96616541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F5996-6521-41EA-853F-EC642E2A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B89-757E-4F24-81E6-5D8F2BE2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B9F3B-8F53-4A43-A637-ED06459A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05D21-C995-42E5-9698-8441466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691D0-F3F9-42CE-8FBE-6A23A494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F7E3-D289-4584-AF0F-A5B68F06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FB2B-EF4D-4715-B30E-FB19F3BC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6FFF-A87F-4503-B3D8-AD9484F7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BECE-3C30-4DF6-9C64-F052ED20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5F69-C54E-4BB8-B15E-78552803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3A2A4-898D-4195-9F5E-91C1AB5B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D33D-B1CC-4754-BB1B-F43BE84E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8A4-6613-42BA-9C85-1C26990C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0EDE6-DB76-4358-BA76-48215339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D69F-2FC6-4243-9051-5511BA3F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BEA0-0C2F-4AEE-BD8E-2A91224A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4FFB-7A61-42B0-AA01-3E24237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D146-6234-4ED8-AA12-522F1FA8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5414B-BC01-4945-98D8-4E870EC1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A946-DD6C-428E-92B0-6DE2FBD7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BFB5-ECA9-47F4-AF03-23CE17AA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73BF-DBB4-41AD-940E-ED3D1DC0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016-58C0-4D9F-B462-B194D7E3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5B5D-FB10-4CAD-807E-247ABE6C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BEC-30E2-4346-AAC0-BAD44E2F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060-6752-4013-9FB7-3BFD350E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799-0057-48C3-86F9-3B3CCF2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7B3E-F0A0-4290-81F0-3003DA9AC88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2271-A01F-4DAD-95B9-178FA7EE05B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B50C-AE25-44DE-ABCB-8F42B3ED7E4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1FE-D8AE-4D94-B2EC-1E09F97D1F4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5"/>
          <p:cNvSpPr/>
          <p:nvPr/>
        </p:nvSpPr>
        <p:spPr>
          <a:xfrm>
            <a:off x="1975680" y="0"/>
            <a:ext cx="493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 PRESENTATION  REPOR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PATHOLOGY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1401840" y="26668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 RAJASTHAN, JAIP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600200" y="3124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C:\Documents and Settings\BABALU\My Documents\logo2.gif"/>
          <p:cNvPicPr/>
          <p:nvPr/>
        </p:nvPicPr>
        <p:blipFill>
          <a:blip r:embed="rId1"/>
          <a:stretch/>
        </p:blipFill>
        <p:spPr>
          <a:xfrm>
            <a:off x="3352680" y="68580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3282480" y="23623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MITTED TO 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2973600" y="3124080"/>
            <a:ext cx="274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.Sc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r. (2010-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2892240" y="4648320"/>
            <a:ext cx="279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      SUBMITTED BY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hanuman lal kumaw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.Sc. Biotech.(i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nal 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2962080" y="3657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CONCLU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Any Abnormal Results Mean patient have a blood disorder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sdwddd"/>
          <p:cNvPicPr/>
          <p:nvPr/>
        </p:nvPicPr>
        <p:blipFill>
          <a:blip r:embed="rId1"/>
          <a:stretch/>
        </p:blipFill>
        <p:spPr>
          <a:xfrm>
            <a:off x="0" y="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1295280" y="502920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obo Std"/>
                <a:ea typeface="Arial"/>
              </a:rPr>
              <a:t>Thank You For Sincerely Paying Attention…</a:t>
            </a:r>
            <a:r>
              <a:rPr b="0" lang="en-US" sz="2400" spc="-1" strike="noStrike">
                <a:solidFill>
                  <a:srgbClr val="ffffff"/>
                </a:solidFill>
                <a:latin typeface="Hobo St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About Hospital La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33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nstantia"/>
                <a:ea typeface="Times New Roman"/>
              </a:rPr>
              <a:t>A Hospital Lab is a place where blood and other biological fluid is collected, tested and Resulted for pathology and dises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660066"/>
                </a:solidFill>
                <a:uFillTx/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Constantia"/>
              </a:rPr>
              <a:t>blood test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 is a lab analysis performed on a blood  sample that is usually extracted from a vein in the arm using a needle, or via fingerprick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</a:rPr>
              <a:t>Types of blood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Biochemical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Molec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ellular  analysis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OBJEC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nstantia"/>
              </a:rPr>
              <a:t>To analysis blood compositions for prevention of  blood dieses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Process of blood sample collectio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20574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Blood sample collection performed using a vacatio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Blood is drawn from a vein (venipuncture), usually from the inside of the elbow o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the back of the h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172200" y="1600200"/>
            <a:ext cx="2101680" cy="1569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324480" y="32767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</a:rPr>
              <a:t>Involving Test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8284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Complete blood c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Blood fil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Glucose test -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3047760" cy="1600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3047760" cy="203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widal-test-300x225"/>
          <p:cNvPicPr/>
          <p:nvPr/>
        </p:nvPicPr>
        <p:blipFill>
          <a:blip r:embed="rId3"/>
          <a:stretch/>
        </p:blipFill>
        <p:spPr>
          <a:xfrm>
            <a:off x="5791320" y="1143000"/>
            <a:ext cx="26240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of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Complete blood count:-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WBCs: 4,500–11,000 per microliter, RBCs: 4.2–5.0 million per microliter, Hemoglobin: 12–15 g/dL Hematocrit: 35–47% , Platelets: 150,000 per microli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Blood cul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crobes not observ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Platelet 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50,000 to 400,000 platelets per microlite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Glucose test –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00 and 125 mg/d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RESULTS for Normal Bloo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Widal Te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IgM ratio 1: 160  IgG ratio 1:40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ELI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Antigens not fau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Ammonium 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Not prese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0:13:04Z</dcterms:created>
  <dc:creator>user</dc:creator>
  <dc:description/>
  <dc:language>en-US</dc:language>
  <cp:lastModifiedBy>RomaK</cp:lastModifiedBy>
  <dcterms:modified xsi:type="dcterms:W3CDTF">2015-09-04T10:54:25Z</dcterms:modified>
  <cp:revision>77</cp:revision>
  <dc:subject/>
  <dc:title>URINARY TRACT INFECTION</dc:title>
</cp:coreProperties>
</file>