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561E1-7B20-4C3D-BC80-6A851EEB3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 PRESENTATION  REPORT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PATHOLOG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SITY OF  RAJASTHAN, JAIP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MITTED TO 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.Sc. Final yr. (2010-1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-      SUBMITTED BY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uman lal kumaw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.Sc. Biotech.(int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 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 PRESENTATION  REPORT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PATHOLOG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SITY OF  RAJASTHAN, JAIP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MITTED TO 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.Sc. Final yr. (2010-1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-      SUBMITTED BY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uman lal kumaw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.Sc. Biotech.(int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 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Abnormal Results Mean patient have a blood disor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Abnormal Results Mean patient have a blood disor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 For Sincerely Paying Attention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 For Sincerely Paying Attention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Hospital 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ospital Lab is a place where blood and other biological fluid is collected, tested and Resulted for pathology and dise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Hospital 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ospital Lab is a place where blood and other biological fluid is collected, tested and Resulted for pathology and dise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lood test is a lab analysis performed on a blood  sample that is usually extracted from a vein in the arm using a needle, or via fingerpri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lood test is a lab analysis performed on a blood  sample that is usually extracted from a vein in the arm using a needle, or via fingerpri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blood t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chemical 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cular 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blood t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chemical 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cular 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nalysis blood compositions for prevention of  blood die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nalysis blood compositions for prevention of  blood die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of blood sample colle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sample collection performed using a vacatio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is drawn from a vein (venipuncture), usually from the inside of the elbow 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ck of the h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of blood sample colle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sample collection performed using a vacatio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is drawn from a vein (venipuncture), usually from the inside of the elbow 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ck of the h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olving Tes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blood cou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fi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 cou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test -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al Te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onium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olving Tes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blood cou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fi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 cou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test -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al Te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onium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blood count:-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BCs: 4,500–11,000 per microliter, RBCs: 4.2–5.0 million per microliter, Hemoglobin: 12–15 g/dL Hematocrit: 35–47% , Platelets: 150,000 per microli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bes not observ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 cou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,000 to 400,000 platelets per microli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test –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 and 125 mg/d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blood count:-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BCs: 4,500–11,000 per microliter, RBCs: 4.2–5.0 million per microliter, Hemoglobin: 12–15 g/dL Hematocrit: 35–47% , Platelets: 150,000 per microli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bes not observ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 cou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,000 to 400,000 platelets per microli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test –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 and 125 mg/d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for Normal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al Te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gM ratio 1: 160  IgG ratio 1:4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ens not fa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onium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pres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for Normal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al Te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gM ratio 1: 160  IgG ratio 1:4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ens not fa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onium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pres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C101-FBF5-4977-BA19-F9017B293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F7CB-E1BE-4A3D-9EA2-EA7A0EFC2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24E0-C13B-4F96-AFC4-425B21D6D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00B3-6F60-43F2-A1CA-9DA1BC1A3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C4080-1F31-4E4E-9637-7F1F860BB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B2781-5ED7-46FC-AF89-426B82B74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0D97C-BB93-4DFA-8EAB-B0700A312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54605-2294-439E-984F-C22E95DCD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8DEAA-ADCD-4F20-B18A-24E7EA626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A832B-B8CF-4CDC-90CC-9D997429A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33413-A663-4E1C-B2DA-443639C7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9AF6-BD8C-43E1-A244-C66E16071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22FC2-1569-4F25-AFB0-69FA54E9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DF53B-6CFA-4C21-A228-23334FBA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22516-B237-44FA-A224-F18A8EE8D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7B9DF-0763-4857-963C-426290C29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95AE9-36DA-4EDE-B2F2-E4960C385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3FB49-59C0-4C51-B680-19F09377E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3D345-9072-44A8-9B40-420D53CC3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FD28B-90EB-4BA4-B1E1-01E1FA72A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AAF73-64D7-4038-80F1-495893BBC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DE3B2-2DDA-465F-8218-D191F4FA4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1DFD-C106-4A7E-A471-6D6090B04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DD133-8CAC-4942-BF9E-B086C3EC4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3DD12-01A1-4F85-8E88-C4666510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8244B-5DFB-46AF-9C49-276D2F8F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EB7B9-E556-4B50-A6DA-08C1F92D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F7C9A-1612-4763-9DAA-820713FD6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F61D7-5C42-4EBD-AC34-69E43DC73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43626-1BDC-41C2-A1DC-13EEC6D33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757BB-8CF4-45EF-89B7-A76123828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085FA-93DA-4FEE-B999-A716A3D9C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936A4-52CC-454B-9FB5-5F67C99B4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3766-3A4A-43F7-943B-15F6464CC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8E859-F0ED-4AEA-8657-093BB726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C0023-7455-4DB1-94BD-46BC2CEF9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66320-C276-4CE6-9784-1043311EF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EA875-AB52-4FE3-8B9F-7835EC47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44464-37C7-47A3-B5DD-22606A5D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F8437-6F2C-4896-9C40-48FBC943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40664-AED5-4A16-BA95-A98F549BD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AE8B4-5ED3-4CD7-993A-9D188BD34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49226-6E90-411E-B3C4-967857488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DD61-0322-4E07-9497-192A98CBC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397C-6F9C-46FC-80F0-4D52CE3E1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4450-4CF4-4E9C-B629-4F691EA2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17EE-4CCE-4CCD-9D09-6B6EE5B1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0951-067C-4316-B930-8D5215CE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9B31D-4B92-4D8F-84E1-EBBF4305C357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A0A90-086E-45ED-8C14-EF57F01B33AD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030FC-A652-424F-B9FF-9B28377D85BD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187CE-F378-4637-B888-98E601A79069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5"/>
          <p:cNvSpPr/>
          <p:nvPr/>
        </p:nvSpPr>
        <p:spPr>
          <a:xfrm>
            <a:off x="1975680" y="0"/>
            <a:ext cx="4935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 PRESENTATION  REPORT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“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LOOD PATHOLOGY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8"/>
          <p:cNvSpPr/>
          <p:nvPr/>
        </p:nvSpPr>
        <p:spPr>
          <a:xfrm>
            <a:off x="1401840" y="26668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VERSITY OF  RAJASTHAN, JAIP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9"/>
          <p:cNvSpPr/>
          <p:nvPr/>
        </p:nvSpPr>
        <p:spPr>
          <a:xfrm>
            <a:off x="1600200" y="31240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" descr="C:\Documents and Settings\BABALU\My Documents\logo2.gif"/>
          <p:cNvPicPr/>
          <p:nvPr/>
        </p:nvPicPr>
        <p:blipFill>
          <a:blip r:embed="rId1"/>
          <a:stretch/>
        </p:blipFill>
        <p:spPr>
          <a:xfrm>
            <a:off x="3352680" y="685800"/>
            <a:ext cx="2057400" cy="167652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6"/>
          <p:cNvSpPr/>
          <p:nvPr/>
        </p:nvSpPr>
        <p:spPr>
          <a:xfrm>
            <a:off x="3282480" y="23623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MITTED TO :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0"/>
          <p:cNvSpPr/>
          <p:nvPr/>
        </p:nvSpPr>
        <p:spPr>
          <a:xfrm>
            <a:off x="2973600" y="3124080"/>
            <a:ext cx="274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.Sc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yr. (2010-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2"/>
          <p:cNvSpPr/>
          <p:nvPr/>
        </p:nvSpPr>
        <p:spPr>
          <a:xfrm>
            <a:off x="2892240" y="4648320"/>
            <a:ext cx="27928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-      SUBMITTED BY: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hanuman lal kumaw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.Sc. Biotech.(i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inal 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7"/>
          <p:cNvSpPr/>
          <p:nvPr/>
        </p:nvSpPr>
        <p:spPr>
          <a:xfrm>
            <a:off x="2962080" y="3657600"/>
            <a:ext cx="28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O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660066"/>
                </a:solidFill>
                <a:uFillTx/>
                <a:latin typeface="Calibri"/>
                <a:ea typeface="Times New Roman"/>
              </a:rPr>
              <a:t>CONCLUS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Any Abnormal Results Mean patient have a blood disorder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sdwddd"/>
          <p:cNvPicPr/>
          <p:nvPr/>
        </p:nvPicPr>
        <p:blipFill>
          <a:blip r:embed="rId1"/>
          <a:stretch/>
        </p:blipFill>
        <p:spPr>
          <a:xfrm>
            <a:off x="0" y="0"/>
            <a:ext cx="9144000" cy="449568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3"/>
          <p:cNvSpPr/>
          <p:nvPr/>
        </p:nvSpPr>
        <p:spPr>
          <a:xfrm>
            <a:off x="1295280" y="5029200"/>
            <a:ext cx="693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Hobo Std"/>
                <a:ea typeface="Arial"/>
              </a:rPr>
              <a:t>Thank You For Sincerely Paying Attention…</a:t>
            </a:r>
            <a:r>
              <a:rPr b="0" lang="en-US" sz="2400" spc="-1" strike="noStrike">
                <a:solidFill>
                  <a:srgbClr val="ffffff"/>
                </a:solidFill>
                <a:latin typeface="Hobo Std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660066"/>
                </a:solidFill>
                <a:uFillTx/>
                <a:latin typeface="Calibri"/>
              </a:rPr>
              <a:t>About Hospital Lab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213372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nstantia"/>
                <a:ea typeface="Times New Roman"/>
              </a:rPr>
              <a:t>A Hospital Lab is a place where blood and other biological fluid is collected, tested and Resulted for pathology and diseses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660066"/>
                </a:solidFill>
                <a:uFillTx/>
                <a:latin typeface="Calibri"/>
              </a:rPr>
              <a:t>INTRODUC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A 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blood test</a:t>
            </a: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 is a lab analysis performed on a blood  sample that is usually extracted from a vein in the arm using a needle, or via fingerprick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Types of blood tes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Biochemical  analysi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Molecular  analysi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Cellular  analysi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ff0000"/>
                </a:solidFill>
                <a:uFillTx/>
                <a:latin typeface="Calibri"/>
                <a:ea typeface="Times New Roman"/>
              </a:rPr>
              <a:t>OBJECTIV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nstantia"/>
              </a:rPr>
              <a:t>To analysis blood compositions for prevention of  blood dieses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 u="sng">
                <a:solidFill>
                  <a:srgbClr val="ff0000"/>
                </a:solidFill>
                <a:uFillTx/>
                <a:latin typeface="Calibri"/>
              </a:rPr>
              <a:t>Process of blood sample collection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0" y="205740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Blood sample collection performed using a vacation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Constantia"/>
              </a:rPr>
              <a:t>   </a:t>
            </a:r>
            <a:r>
              <a:rPr b="1" i="1" lang="en-US" sz="2600" spc="-1" strike="noStrike">
                <a:solidFill>
                  <a:srgbClr val="ff0000"/>
                </a:solidFill>
                <a:latin typeface="Constantia"/>
              </a:rPr>
              <a:t>Blood is drawn from a vein (venipuncture), usually from the inside of the elbow or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Constantia"/>
              </a:rPr>
              <a:t>the back of the han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6172200" y="1600200"/>
            <a:ext cx="2101680" cy="15699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"/>
          <p:cNvPicPr/>
          <p:nvPr/>
        </p:nvPicPr>
        <p:blipFill>
          <a:blip r:embed="rId2"/>
          <a:stretch/>
        </p:blipFill>
        <p:spPr>
          <a:xfrm>
            <a:off x="6324480" y="3276720"/>
            <a:ext cx="28195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ff0000"/>
                </a:solidFill>
                <a:uFillTx/>
                <a:latin typeface="Calibri"/>
              </a:rPr>
              <a:t>Involving Tests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6840" y="1828440"/>
            <a:ext cx="4876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Complete blood coun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Blood cultu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Blood fil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Platelet cou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Glucose test - bloo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Widal Tes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ELIS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Ammonium 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4" name="Picture 3" descr=""/>
          <p:cNvPicPr/>
          <p:nvPr/>
        </p:nvPicPr>
        <p:blipFill>
          <a:blip r:embed="rId1"/>
          <a:stretch/>
        </p:blipFill>
        <p:spPr>
          <a:xfrm>
            <a:off x="5791320" y="2971800"/>
            <a:ext cx="3047760" cy="16002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"/>
          <p:cNvPicPr/>
          <p:nvPr/>
        </p:nvPicPr>
        <p:blipFill>
          <a:blip r:embed="rId2"/>
          <a:stretch/>
        </p:blipFill>
        <p:spPr>
          <a:xfrm>
            <a:off x="5791320" y="4572000"/>
            <a:ext cx="3047760" cy="20318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widal-test-300x225"/>
          <p:cNvPicPr/>
          <p:nvPr/>
        </p:nvPicPr>
        <p:blipFill>
          <a:blip r:embed="rId3"/>
          <a:stretch/>
        </p:blipFill>
        <p:spPr>
          <a:xfrm>
            <a:off x="5791320" y="1143000"/>
            <a:ext cx="262404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ff0000"/>
                </a:solidFill>
                <a:uFillTx/>
                <a:latin typeface="Calibri"/>
                <a:ea typeface="Times New Roman"/>
              </a:rPr>
              <a:t>RESULTS of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094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Complete blood count:-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WBCs: 4,500–11,000 per microliter, RBCs: 4.2–5.0 million per microliter, Hemoglobin: 12–15 g/dL Hematocrit: 35–47% , Platelets: 150,000 per microli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Blood cultu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Microbes not observed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Platelet cou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150,000 to 400,000 platelets per microliter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Glucose test – bloo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100 and 125 mg/d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ff0000"/>
                </a:solidFill>
                <a:uFillTx/>
                <a:latin typeface="Calibri"/>
                <a:ea typeface="Times New Roman"/>
              </a:rPr>
              <a:t>RESULTS for Normal Bloo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Widal Tes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Constantia"/>
              </a:rPr>
              <a:t>IgM ratio 1: 160  IgG ratio 1:40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ELIS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Antigens not faun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Ammonium 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    </a:t>
            </a: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Not presen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1T10:13:04Z</dcterms:created>
  <dc:creator>user</dc:creator>
  <dc:description/>
  <dc:language>en-US</dc:language>
  <cp:lastModifiedBy>RomaK</cp:lastModifiedBy>
  <dcterms:modified xsi:type="dcterms:W3CDTF">2015-09-04T10:54:25Z</dcterms:modified>
  <cp:revision>77</cp:revision>
  <dc:subject/>
  <dc:title>URINARY TRACT INFECTION</dc:title>
</cp:coreProperties>
</file>