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9.png" ContentType="image/png"/>
  <Override PartName="/ppt/media/image13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67435-6307-467D-B288-809953809E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 PRESENTATION  REPORT 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 PATHOLOGY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VERSITY OF  RAJASTHAN, JAIPU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MITTED TO :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.Sc. Final yr. (2010-1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-      SUBMITTED BY: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uman lal kumaw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.Sc. Biotech.(int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al  y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OTECHN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 PRESENTATION  REPORT 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 PATHOLOGY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VERSITY OF  RAJASTHAN, JAIPU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MITTED TO :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.Sc. Final yr. (2010-1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-      SUBMITTED BY: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uman lal kumaw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.Sc. Biotech.(int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al  y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OTECHN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y Abnormal Results Mean patient have a blood disord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y Abnormal Results Mean patient have a blood disord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nk You For Sincerely Paying Attention…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nk You For Sincerely Paying Attention…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Hospital L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Hospital Lab is a place where blood and other biological fluid is collected, tested and Resulted for pathology and dise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Hospital L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Hospital Lab is a place where blood and other biological fluid is collected, tested and Resulted for pathology and dise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lood test is a lab analysis performed on a blood  sample that is usually extracted from a vein in the arm using a needle, or via fingerpri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lood test is a lab analysis performed on a blood  sample that is usually extracted from a vein in the arm using a needle, or via fingerpri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blood te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ochemical 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lecular 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ular 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blood te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ochemical 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lecular 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ular 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nalysis blood compositions for prevention of  blood dies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nalysis blood compositions for prevention of  blood dies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of blood sample collec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 sample collection performed using a vacation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 is drawn from a vein (venipuncture), usually from the inside of the elbow o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ack of the ha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of blood sample collec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 sample collection performed using a vacation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 is drawn from a vein (venipuncture), usually from the inside of the elbow o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ack of the ha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olving Tes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blood cou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 cul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 fil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telet cou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ucose test -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dal Tes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I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monium 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olving Tes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blood cou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 cul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 fil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telet cou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ucose test -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dal Tes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I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monium 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S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blood count:-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BCs: 4,500–11,000 per microliter, RBCs: 4.2–5.0 million per microliter, Hemoglobin: 12–15 g/dL Hematocrit: 35–47% , Platelets: 150,000 per microli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 cul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robes not observ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telet cou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0,000 to 400,000 platelets per microlit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ucose test –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0 and 125 mg/d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S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blood count:-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BCs: 4,500–11,000 per microliter, RBCs: 4.2–5.0 million per microliter, Hemoglobin: 12–15 g/dL Hematocrit: 35–47% , Platelets: 150,000 per microli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 cul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robes not observ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telet cou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0,000 to 400,000 platelets per microlit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ucose test –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0 and 125 mg/d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S for Normal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dal Tes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gM ratio 1: 160  IgG ratio 1:4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I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gens not fa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monium 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pres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S for Normal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dal Tes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gM ratio 1: 160  IgG ratio 1:4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I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gens not fa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monium 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pres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AA4A1-A302-4F8C-B01A-0FB45BBC2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5CF56-C99D-491B-9A68-F9D4CC316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12B25-E299-4BE8-9571-C6985BF60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279EF-FCBA-47C6-9181-9F7FD841C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A0CF4-11CE-44D7-B9B9-DE1CEFC07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9BE67-D474-4D9F-BCDB-301139CD7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84FD4-F25B-4D38-ABCB-F7B11D2AC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83B92-A9FF-47BB-891F-E308D2443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AD8D5-150C-416A-9242-25DC7AB5A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0E672-E56B-451E-825D-5BE68CEB1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9BC86-6E55-4945-8BD0-0F6E5C5A5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5C894-F9E9-4809-87B0-4D3BF8F83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5AD27-E0D2-4CA8-B54A-C63462B74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605BA-1250-48C1-BE26-3E475321F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C08F3-B853-42CC-A24A-EC3FFAD18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64AF9-5800-4673-9650-E72AEB5BB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1B304-DA24-4916-9A8B-6E57234CB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9E810B-D6BD-4C14-9BB1-AAAE51D5A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5E27AF-9912-41DC-B591-41CCA46FE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F7FF73-FEF0-4897-BF46-2841D1109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D0C6A5-B33D-4632-B8BB-96CD4A0EB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C21E61-8527-4F09-AC21-6FB6FDB9B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7BCE0-66BE-46E9-9FE0-95125BC57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E474F3-6F81-41B2-8AF8-EBD2BFC64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9C0FBB-653D-4879-B9CD-E3B4B5809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5F221C-C67F-4322-AE82-4916B5D0A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8FC256-6A1C-4D26-8E66-E0F7D78FA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9B0AA3-BDB3-4E8E-ABF7-3B0E6C76F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E394F2-B81A-4233-B2CE-60C2F331C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436799-776F-416B-8549-B8DCDD284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F12FD5-7F46-4813-82B1-B16D4C361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60ABFB-43A9-4DF2-AFF5-0F71B3E8B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2C2F5F-9D2A-4C32-9872-3F1CEC030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459A8-254D-4D31-8BB6-0AD8B3225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AA8D83-6324-4D46-BA1B-DB1372A8E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A463D7-3643-433E-9FDD-FD462DCC4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4B16F3-BFE3-405A-B85E-C220C3F55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C8BFD4-EBDD-415F-A58A-1BC9F5761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90C302-AF94-47E4-B746-42A027695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40A96A-F953-4752-B690-13D844305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39ADE9-01D6-4103-B83D-A84E0CCDB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DADEB3-B6C5-4A73-93A0-AE0E466C3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31A0E0-55A6-4707-B787-88B08797E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DAD2C-72ED-4388-9A50-AEC164519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73378-E4FE-451A-B8E6-90464AC46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ACF1E-36DC-4077-909A-BDE57729A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9E1BF-0C54-49A6-B04A-7A6143BF0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BE310-7401-4FC6-B4BC-A67169BE8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77F41-0722-4F60-BA5B-C40E90B27971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C0673-5A87-47FA-A95B-ECDDF1EF71D9}" type="slidenum">
              <a:rPr b="0" lang="en-US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B8791-ED8A-4C82-9DC8-FD4043F1B842}" type="slidenum">
              <a:rPr b="0" lang="en-US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A75CC-1663-44D7-B6AB-2C7C0DF3A3B2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Box 5"/>
          <p:cNvSpPr/>
          <p:nvPr/>
        </p:nvSpPr>
        <p:spPr>
          <a:xfrm>
            <a:off x="1975680" y="0"/>
            <a:ext cx="4935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 PRESENTATION  REPORT 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“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LOOD PATHOLOGY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Box 8"/>
          <p:cNvSpPr/>
          <p:nvPr/>
        </p:nvSpPr>
        <p:spPr>
          <a:xfrm>
            <a:off x="1401840" y="2666880"/>
            <a:ext cx="593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NIVERSITY OF  RAJASTHAN, JAIPU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Box 9"/>
          <p:cNvSpPr/>
          <p:nvPr/>
        </p:nvSpPr>
        <p:spPr>
          <a:xfrm>
            <a:off x="1600200" y="312408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2" descr="C:\Documents and Settings\BABALU\My Documents\logo2.gif"/>
          <p:cNvPicPr/>
          <p:nvPr/>
        </p:nvPicPr>
        <p:blipFill>
          <a:blip r:embed="rId1"/>
          <a:stretch/>
        </p:blipFill>
        <p:spPr>
          <a:xfrm>
            <a:off x="3352680" y="685800"/>
            <a:ext cx="2057400" cy="1676520"/>
          </a:xfrm>
          <a:prstGeom prst="rect">
            <a:avLst/>
          </a:prstGeom>
          <a:ln w="0">
            <a:noFill/>
          </a:ln>
        </p:spPr>
      </p:pic>
      <p:sp>
        <p:nvSpPr>
          <p:cNvPr id="206" name="Rectangle 6"/>
          <p:cNvSpPr/>
          <p:nvPr/>
        </p:nvSpPr>
        <p:spPr>
          <a:xfrm>
            <a:off x="3282480" y="23623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UBMITTED TO :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Box 10"/>
          <p:cNvSpPr/>
          <p:nvPr/>
        </p:nvSpPr>
        <p:spPr>
          <a:xfrm>
            <a:off x="2973600" y="3124080"/>
            <a:ext cx="2745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.Sc.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a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yr. (2010-1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12"/>
          <p:cNvSpPr/>
          <p:nvPr/>
        </p:nvSpPr>
        <p:spPr>
          <a:xfrm>
            <a:off x="2892240" y="4648320"/>
            <a:ext cx="279288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-      SUBMITTED BY: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hanuman lal kumaw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M.Sc. Biotech.(int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nstantia"/>
              </a:rPr>
              <a:t>              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Final  y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Box 17"/>
          <p:cNvSpPr/>
          <p:nvPr/>
        </p:nvSpPr>
        <p:spPr>
          <a:xfrm>
            <a:off x="2962080" y="3657600"/>
            <a:ext cx="287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IO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 u="sng">
                <a:solidFill>
                  <a:srgbClr val="660066"/>
                </a:solidFill>
                <a:uFillTx/>
                <a:latin typeface="Calibri"/>
                <a:ea typeface="Times New Roman"/>
              </a:rPr>
              <a:t>CONCLUS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nstantia"/>
              </a:rPr>
              <a:t>Any Abnormal Results Mean patient have a blood disorder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2" descr="sdwddd"/>
          <p:cNvPicPr/>
          <p:nvPr/>
        </p:nvPicPr>
        <p:blipFill>
          <a:blip r:embed="rId1"/>
          <a:stretch/>
        </p:blipFill>
        <p:spPr>
          <a:xfrm>
            <a:off x="0" y="0"/>
            <a:ext cx="9144000" cy="4495680"/>
          </a:xfrm>
          <a:prstGeom prst="rect">
            <a:avLst/>
          </a:prstGeom>
          <a:ln w="0">
            <a:noFill/>
          </a:ln>
        </p:spPr>
      </p:pic>
      <p:sp>
        <p:nvSpPr>
          <p:cNvPr id="234" name="Text Box 3"/>
          <p:cNvSpPr/>
          <p:nvPr/>
        </p:nvSpPr>
        <p:spPr>
          <a:xfrm>
            <a:off x="1295280" y="5029200"/>
            <a:ext cx="6934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Hobo Std"/>
                <a:ea typeface="Arial"/>
              </a:rPr>
              <a:t>Thank You For Sincerely Paying Attention…</a:t>
            </a:r>
            <a:r>
              <a:rPr b="0" lang="en-US" sz="2400" spc="-1" strike="noStrike">
                <a:solidFill>
                  <a:srgbClr val="ffffff"/>
                </a:solidFill>
                <a:latin typeface="Hobo Std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8088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 u="sng">
                <a:solidFill>
                  <a:srgbClr val="660066"/>
                </a:solidFill>
                <a:uFillTx/>
                <a:latin typeface="Calibri"/>
              </a:rPr>
              <a:t>About Hospital Lab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2133720"/>
            <a:ext cx="6781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nstantia"/>
                <a:ea typeface="Times New Roman"/>
              </a:rPr>
              <a:t>A Hospital Lab is a place where blood and other biological fluid is collected, tested and Resulted for pathology and diseses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 u="sng">
                <a:solidFill>
                  <a:srgbClr val="660066"/>
                </a:solidFill>
                <a:uFillTx/>
                <a:latin typeface="Calibri"/>
              </a:rPr>
              <a:t>INTRODUCT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nstantia"/>
              </a:rPr>
              <a:t>A </a:t>
            </a:r>
            <a:r>
              <a:rPr b="1" lang="en-US" sz="3600" spc="-1" strike="noStrike">
                <a:solidFill>
                  <a:srgbClr val="ff0000"/>
                </a:solidFill>
                <a:latin typeface="Constantia"/>
              </a:rPr>
              <a:t>blood test</a:t>
            </a:r>
            <a:r>
              <a:rPr b="0" lang="en-US" sz="3600" spc="-1" strike="noStrike">
                <a:solidFill>
                  <a:srgbClr val="ff0000"/>
                </a:solidFill>
                <a:latin typeface="Constantia"/>
              </a:rPr>
              <a:t> is a lab analysis performed on a blood  sample that is usually extracted from a vein in the arm using a needle, or via fingerprick</a:t>
            </a: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0000"/>
                </a:solidFill>
                <a:latin typeface="Calibri"/>
              </a:rPr>
              <a:t>Types of blood test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nstantia"/>
              </a:rPr>
              <a:t>Biochemical  analysis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nstantia"/>
              </a:rPr>
              <a:t>Molecular  analysis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nstantia"/>
              </a:rPr>
              <a:t>Cellular  analysis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 u="sng">
                <a:solidFill>
                  <a:srgbClr val="ff0000"/>
                </a:solidFill>
                <a:uFillTx/>
                <a:latin typeface="Calibri"/>
                <a:ea typeface="Times New Roman"/>
              </a:rPr>
              <a:t>OBJECTIV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nstantia"/>
              </a:rPr>
              <a:t>To analysis blood compositions for prevention of  blood dieses</a:t>
            </a: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 u="sng">
                <a:solidFill>
                  <a:srgbClr val="ff0000"/>
                </a:solidFill>
                <a:uFillTx/>
                <a:latin typeface="Calibri"/>
              </a:rPr>
              <a:t>Process of blood sample collection 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0" y="2057400"/>
            <a:ext cx="6477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   </a:t>
            </a: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Blood sample collection performed using a vacatione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Constantia"/>
              </a:rPr>
              <a:t>   </a:t>
            </a:r>
            <a:r>
              <a:rPr b="1" i="1" lang="en-US" sz="2600" spc="-1" strike="noStrike">
                <a:solidFill>
                  <a:srgbClr val="ff0000"/>
                </a:solidFill>
                <a:latin typeface="Constantia"/>
              </a:rPr>
              <a:t>Blood is drawn from a vein (venipuncture), usually from the inside of the elbow or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Constantia"/>
              </a:rPr>
              <a:t>the back of the hand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0" name="Picture 2" descr=""/>
          <p:cNvPicPr/>
          <p:nvPr/>
        </p:nvPicPr>
        <p:blipFill>
          <a:blip r:embed="rId1"/>
          <a:stretch/>
        </p:blipFill>
        <p:spPr>
          <a:xfrm>
            <a:off x="6172200" y="1600200"/>
            <a:ext cx="2101680" cy="156996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3" descr=""/>
          <p:cNvPicPr/>
          <p:nvPr/>
        </p:nvPicPr>
        <p:blipFill>
          <a:blip r:embed="rId2"/>
          <a:stretch/>
        </p:blipFill>
        <p:spPr>
          <a:xfrm>
            <a:off x="6324480" y="3276720"/>
            <a:ext cx="281952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 u="sng">
                <a:solidFill>
                  <a:srgbClr val="ff0000"/>
                </a:solidFill>
                <a:uFillTx/>
                <a:latin typeface="Calibri"/>
              </a:rPr>
              <a:t>Involving Tests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6840" y="1828440"/>
            <a:ext cx="48769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onstantia"/>
              </a:rPr>
              <a:t>Complete blood count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onstantia"/>
              </a:rPr>
              <a:t>Blood cultur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onstantia"/>
              </a:rPr>
              <a:t>Blood film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onstantia"/>
              </a:rPr>
              <a:t>Platelet coun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onstantia"/>
              </a:rPr>
              <a:t>Glucose test - bloo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onstantia"/>
              </a:rPr>
              <a:t>Widal Test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onstantia"/>
              </a:rPr>
              <a:t>ELIS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onstantia"/>
              </a:rPr>
              <a:t>Ammonium 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4" name="Picture 3" descr=""/>
          <p:cNvPicPr/>
          <p:nvPr/>
        </p:nvPicPr>
        <p:blipFill>
          <a:blip r:embed="rId1"/>
          <a:stretch/>
        </p:blipFill>
        <p:spPr>
          <a:xfrm>
            <a:off x="5791320" y="2971800"/>
            <a:ext cx="3047760" cy="160020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4" descr=""/>
          <p:cNvPicPr/>
          <p:nvPr/>
        </p:nvPicPr>
        <p:blipFill>
          <a:blip r:embed="rId2"/>
          <a:stretch/>
        </p:blipFill>
        <p:spPr>
          <a:xfrm>
            <a:off x="5791320" y="4572000"/>
            <a:ext cx="3047760" cy="203184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5" descr="widal-test-300x225"/>
          <p:cNvPicPr/>
          <p:nvPr/>
        </p:nvPicPr>
        <p:blipFill>
          <a:blip r:embed="rId3"/>
          <a:stretch/>
        </p:blipFill>
        <p:spPr>
          <a:xfrm>
            <a:off x="5791320" y="1143000"/>
            <a:ext cx="2624040" cy="18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 u="sng">
                <a:solidFill>
                  <a:srgbClr val="ff0000"/>
                </a:solidFill>
                <a:uFillTx/>
                <a:latin typeface="Calibri"/>
                <a:ea typeface="Times New Roman"/>
              </a:rPr>
              <a:t>RESULTS of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60948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Complete blood count:-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WBCs: 4,500–11,000 per microliter, RBCs: 4.2–5.0 million per microliter, Hemoglobin: 12–15 g/dL Hematocrit: 35–47% , Platelets: 150,000 per microlite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Blood cultur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Microbes not observed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Platelet coun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onstantia"/>
              </a:rPr>
              <a:t>   </a:t>
            </a: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150,000 to 400,000 platelets per microliter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Glucose test – blood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onstantia"/>
              </a:rPr>
              <a:t>    </a:t>
            </a: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100 and 125 mg/d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 u="sng">
                <a:solidFill>
                  <a:srgbClr val="ff0000"/>
                </a:solidFill>
                <a:uFillTx/>
                <a:latin typeface="Calibri"/>
                <a:ea typeface="Times New Roman"/>
              </a:rPr>
              <a:t>RESULTS for Normal Blood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onstantia"/>
              </a:rPr>
              <a:t>Widal Test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en-US" sz="2800" spc="-1" strike="noStrike">
                <a:solidFill>
                  <a:srgbClr val="ff0000"/>
                </a:solidFill>
                <a:latin typeface="Constantia"/>
              </a:rPr>
              <a:t>IgM ratio 1: 160  IgG ratio 1:40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onstantia"/>
              </a:rPr>
              <a:t>ELIS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nstantia"/>
              </a:rPr>
              <a:t>    </a:t>
            </a:r>
            <a:r>
              <a:rPr b="1" lang="en-US" sz="2800" spc="-1" strike="noStrike">
                <a:solidFill>
                  <a:srgbClr val="ff0000"/>
                </a:solidFill>
                <a:latin typeface="Constantia"/>
              </a:rPr>
              <a:t>Antigens not faund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onstantia"/>
              </a:rPr>
              <a:t>Ammonium 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onstantia"/>
              </a:rPr>
              <a:t>    </a:t>
            </a:r>
            <a:r>
              <a:rPr b="1" lang="en-US" sz="2600" spc="-1" strike="noStrike">
                <a:solidFill>
                  <a:srgbClr val="ff0000"/>
                </a:solidFill>
                <a:latin typeface="Constantia"/>
              </a:rPr>
              <a:t>Not present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1T10:13:04Z</dcterms:created>
  <dc:creator>user</dc:creator>
  <dc:description/>
  <dc:language>en-US</dc:language>
  <cp:lastModifiedBy>RomaK</cp:lastModifiedBy>
  <dcterms:modified xsi:type="dcterms:W3CDTF">2015-09-04T10:54:25Z</dcterms:modified>
  <cp:revision>77</cp:revision>
  <dc:subject/>
  <dc:title>URINARY TRACT INFECTION</dc:title>
</cp:coreProperties>
</file>