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D1A2-5648-4C7A-BF41-047400F8CB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16-p.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16-p.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……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between a glycoprotein and a glycolipi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……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between a glycoprotein and a glycolip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glycoprotein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help in the recognition of, and interaction with, other cells. They may also play a part in the recognition of hormones and foreign molecul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glyco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help in the recognition of, and interaction with, other cells. They may also play a part in the recognition of hormones and foreign mole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cholesterol in the cell membran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 is also present in the membrane. It maintains the fluidity and increases the stability of the membrane. Without cholesterol the membrane would easily split apar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cholesterol in the cell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 is also present in the membrane. It maintains the fluidity and increases the stability of the membrane. Without cholesterol the membrane would easily split ap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: Fun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 barri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, keeping the cell contents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mmunication with other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recognition of other external substanc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bility in some organisms, e.g. amoeb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te of various chemical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: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, keeping the cell contents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mmunication with oth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recognition of other external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bility in some organisms, e.g. amoeb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te of various chemical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ganisms do exist as single cells - for example, Amoeba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ny organisms are multicellular and consist of from hundreds to billions of cel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s of the organism are divided up amongst the groups of cells, which become specialised for particular ro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 show division of labour by being grouped into tissu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ganisms do exist as single cells - for example, Amoeb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ny organisms are multicellular and consist of from hundreds to billions of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s of the organism are divided up amongst the groups of cells, which become specialised for particular r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 show division of labour by being grouped into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Tissue? Defin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Tissue?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 Refer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-cool.co.u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Biology and th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ells and Organel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Gas Ex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ranspo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 Refer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-cool.co.u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Biology and th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ells and Organel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Gas Ex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membranes have the same basic structu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cell surface membrane and the membranes surrounding certain organelles have the same basic structure. Much of the membrane is made up of a 'sea' of phospholipids with protein molecules 'floating' in between the phospholipid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membranes have the same basic stru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cell surface membrane and the membranes surrounding certain organelles have the same basic structure. Much of the membrane is made up of a 'sea' of phospholipids with protein molecules 'floating' in between the phospholip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proteins located within the membran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trinsic prote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xtrinsic prote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called the fluid mosaic mode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proteins located within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trinsic pro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xtrinsic pro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called the fluid mosaic mod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1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movement of substances, such as glucose, across th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TP REQUI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1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movement of substances, such as glucose,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TP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transport substances, such as minerals, across th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REQUI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2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transport substances, such as minerals,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2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) Channel       VS    (b) Carri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Channel       VS    (b) 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;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ilay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 molecules and so are water-solu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 and therefore are not water-solu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;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ilay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 molecules and so are water-solu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 and therefore are not water-solu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phospholipids have both a hydrophilic and a hydrophobic par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. Are they water-solubl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. Are they water-solubl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phospholipids have both a hydrophilic and a hydrophobic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. Are they water-solu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. Are they water-solu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lysaccharid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: polymer; monomer; carbohyd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lysacchar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: polymer; monomer; 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1533-DB8A-4CB2-B71C-F0FA879A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684A-573D-465E-9F28-D0FDB9B5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F73-00D1-4025-A332-88AA7734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A34-0608-4528-A6B2-361E07ED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38A5-2D8D-4B7D-901C-CDA20F6B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DC26-9973-45F7-81FE-11EE26BC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C4EA-D73B-4B9F-AD9F-059440AF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1AE9-998B-45B6-BAA6-6D1192FB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CDDF-EACC-4BCE-B2A0-7261248E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F5A3-EC4A-4AC0-942E-A7F70C4F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2CDB-3627-44F5-AE17-1140EA9F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CE77-A788-455C-9A96-BC367D30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52BA-9E3B-4C6F-8EE3-98E3FCD9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5232-8138-4BF5-A3AB-B6EBAE11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D27C-DE24-419E-8FBE-57AFF8C3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A192-60A0-4776-8D49-AAC3223A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A4E9-B53E-4489-B554-669D5D19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AAB-56B3-492A-9F66-4E083CAD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08B-FF97-4FD4-B148-070F4FFF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5F0-88B8-4789-BF11-A3BA838F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B40-EC95-4C39-AEFD-93E6287A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2ECD-DA27-4F38-89BA-463C1A01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1FA2-86FA-4E16-9A4B-694050D3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212C-BC6F-412B-8CB8-82C0BFC8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2DE8-7018-421F-961B-DA1E29E0C6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6775-5018-4ECA-B19D-A28108197F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-cool.co.uk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images.google.co.uk/imgres?imgurl=http://www.ncbi.nlm.nih.gov/bookshelf/picrender.fcgi%3Fbook%3Dglyco2%26part%3Dch20%26blobname%3Dch20f1.jpg&amp;imgrefurl=http://www.ncbi.nlm.nih.gov/bookshelf/br.fcgi%3Fbook%3Dglyco2%26part%3Dch20&amp;usg=__XGfnPg3KHTnKiV3Od8EsVPFE0f8=&amp;h=718&amp;w=784&amp;sz=234&amp;hl=en&amp;start=2&amp;um=1&amp;tbnid=5y1k_ydNYGbF-M:&amp;tbnh=131&amp;tbnw=143&amp;prev=/images%3Fq%3Dpolysaccharide%2Bcell%2Bmembrane%26hl%3Den%26sa%3DX%26um%3D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Cells and Organelles;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The Cell Membran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ook Reference: p.16-p.1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Image127"/>
          <p:cNvPicPr/>
          <p:nvPr/>
        </p:nvPicPr>
        <p:blipFill>
          <a:blip r:embed="rId1"/>
          <a:stretch/>
        </p:blipFill>
        <p:spPr>
          <a:xfrm>
            <a:off x="324000" y="0"/>
            <a:ext cx="72104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lyco……wha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0"/>
            <a:ext cx="37782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is the difference between a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glycoprotein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and a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glycolipi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8" descr="glycoprotein"/>
          <p:cNvPicPr/>
          <p:nvPr/>
        </p:nvPicPr>
        <p:blipFill>
          <a:blip r:embed="rId1"/>
          <a:stretch/>
        </p:blipFill>
        <p:spPr>
          <a:xfrm>
            <a:off x="5148360" y="1989000"/>
            <a:ext cx="3371760" cy="3934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556cerebroside"/>
          <p:cNvPicPr/>
          <p:nvPr/>
        </p:nvPicPr>
        <p:blipFill>
          <a:blip r:embed="rId2"/>
          <a:stretch/>
        </p:blipFill>
        <p:spPr>
          <a:xfrm>
            <a:off x="0" y="2924280"/>
            <a:ext cx="431964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the role of glycoprotein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may help in the recognition of, and interaction with, other cells.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They may also play a part in the recognition of hormones and foreign molecules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8" descr="cellreceptors"/>
          <p:cNvPicPr/>
          <p:nvPr/>
        </p:nvPicPr>
        <p:blipFill>
          <a:blip r:embed="rId1"/>
          <a:stretch/>
        </p:blipFill>
        <p:spPr>
          <a:xfrm>
            <a:off x="4029120" y="2060640"/>
            <a:ext cx="51148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at is the role of cholesterol in the cell membran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olesterol is also present in the membrane. It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aintains the fluidity and increases the stability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the membrane.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itho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cholesterol the membrane would easily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plit apa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8" descr="cholesterol"/>
          <p:cNvPicPr/>
          <p:nvPr/>
        </p:nvPicPr>
        <p:blipFill>
          <a:blip r:embed="rId1"/>
          <a:stretch/>
        </p:blipFill>
        <p:spPr>
          <a:xfrm>
            <a:off x="4788000" y="1844640"/>
            <a:ext cx="36716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ell membrane: Func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Selectively permeable barri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tructural, keeping the cell contents toge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200"/>
                </a:solidFill>
                <a:latin typeface="Comic Sans MS"/>
              </a:rPr>
              <a:t>Allows communication with other ce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llows recognition of other external substa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llows mobility in some organisms, e.g. amoeb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200"/>
                </a:solidFill>
                <a:latin typeface="Comic Sans MS"/>
              </a:rPr>
              <a:t>The site of various chemical reac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ells and Organelles;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issu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me organisms do exist as single cells - for example, Amoeba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t many organisms are multicellular and consist of from hundreds to billions of cell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functions of the organism are divided up amongst the groups of cells, which become specialised for particular ro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ecialised cells show division of labour by being grouped into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tissu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7" descr="amoeba"/>
          <p:cNvPicPr/>
          <p:nvPr/>
        </p:nvPicPr>
        <p:blipFill>
          <a:blip r:embed="rId1"/>
          <a:stretch/>
        </p:blipFill>
        <p:spPr>
          <a:xfrm>
            <a:off x="5867280" y="620640"/>
            <a:ext cx="2163960" cy="165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piperine-fig1"/>
          <p:cNvPicPr/>
          <p:nvPr/>
        </p:nvPicPr>
        <p:blipFill>
          <a:blip r:embed="rId2"/>
          <a:stretch/>
        </p:blipFill>
        <p:spPr>
          <a:xfrm>
            <a:off x="4716360" y="2349360"/>
            <a:ext cx="2689200" cy="187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liver"/>
          <p:cNvPicPr/>
          <p:nvPr/>
        </p:nvPicPr>
        <p:blipFill>
          <a:blip r:embed="rId3"/>
          <a:stretch/>
        </p:blipFill>
        <p:spPr>
          <a:xfrm>
            <a:off x="5435640" y="4508640"/>
            <a:ext cx="29462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 Tissue?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00360" y="213372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8" descr="Arm_4_Finished"/>
          <p:cNvPicPr/>
          <p:nvPr/>
        </p:nvPicPr>
        <p:blipFill>
          <a:blip r:embed="rId1"/>
          <a:stretch/>
        </p:blipFill>
        <p:spPr>
          <a:xfrm>
            <a:off x="0" y="981000"/>
            <a:ext cx="4286160" cy="39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bsite Reference: </a:t>
            </a:r>
            <a:br>
              <a:rPr sz="4400"/>
            </a:br>
            <a:r>
              <a:rPr b="0" lang="en-GB" sz="4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s-cool.co.uk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 to Biology and then: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1.Cells and Organelles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2.Gas Exchange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3.Trans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8" descr="SCoolIcon"/>
          <p:cNvPicPr/>
          <p:nvPr/>
        </p:nvPicPr>
        <p:blipFill>
          <a:blip r:embed="rId2"/>
          <a:stretch/>
        </p:blipFill>
        <p:spPr>
          <a:xfrm>
            <a:off x="324000" y="2349360"/>
            <a:ext cx="1428480" cy="1123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SCoolIcon"/>
          <p:cNvPicPr/>
          <p:nvPr/>
        </p:nvPicPr>
        <p:blipFill>
          <a:blip r:embed="rId3"/>
          <a:stretch/>
        </p:blipFill>
        <p:spPr>
          <a:xfrm>
            <a:off x="155520" y="46080"/>
            <a:ext cx="1428840" cy="1123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SCoolIcon"/>
          <p:cNvPicPr/>
          <p:nvPr/>
        </p:nvPicPr>
        <p:blipFill>
          <a:blip r:embed="rId4"/>
          <a:stretch/>
        </p:blipFill>
        <p:spPr>
          <a:xfrm>
            <a:off x="6804000" y="4724280"/>
            <a:ext cx="14288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 all membranes have the same basic structur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1197000"/>
            <a:ext cx="3778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Both the cell surface membrane and the membranes surrounding certain organelles have the same basic structure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uch of the membrane is made up of a 'sea' of phospholipids with protein molecules 'floating' in between the phospholipids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2" descr="Image31"/>
          <p:cNvPicPr/>
          <p:nvPr/>
        </p:nvPicPr>
        <p:blipFill>
          <a:blip r:embed="rId1"/>
          <a:stretch/>
        </p:blipFill>
        <p:spPr>
          <a:xfrm>
            <a:off x="4572000" y="2492280"/>
            <a:ext cx="38386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ere are proteins located within the membran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What is an intrinsic prote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at is an extrinsic prote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 is it called th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luid mosaic mode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15" descr="CellMembrane"/>
          <p:cNvPicPr/>
          <p:nvPr/>
        </p:nvPicPr>
        <p:blipFill>
          <a:blip r:embed="rId1"/>
          <a:stretch/>
        </p:blipFill>
        <p:spPr>
          <a:xfrm>
            <a:off x="2843280" y="4653000"/>
            <a:ext cx="609588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INSIC 1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annel Prote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3628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ow movement of substances, such as glucose, across the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ATP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0" descr="Image133"/>
          <p:cNvPicPr/>
          <p:nvPr/>
        </p:nvPicPr>
        <p:blipFill>
          <a:blip r:embed="rId1"/>
          <a:stretch/>
        </p:blipFill>
        <p:spPr>
          <a:xfrm>
            <a:off x="3995640" y="2637000"/>
            <a:ext cx="4923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8862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ctively transport substances, such as minerals, across the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P is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618920" y="620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INSIC 2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rier Prote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6" descr="ch05summary"/>
          <p:cNvPicPr/>
          <p:nvPr/>
        </p:nvPicPr>
        <p:blipFill>
          <a:blip r:embed="rId1"/>
          <a:stretch/>
        </p:blipFill>
        <p:spPr>
          <a:xfrm>
            <a:off x="4859280" y="2133720"/>
            <a:ext cx="3457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Image132"/>
          <p:cNvPicPr/>
          <p:nvPr/>
        </p:nvPicPr>
        <p:blipFill>
          <a:blip r:embed="rId1"/>
          <a:stretch/>
        </p:blipFill>
        <p:spPr>
          <a:xfrm>
            <a:off x="762120" y="1947960"/>
            <a:ext cx="7619760" cy="2962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0" y="260280"/>
            <a:ext cx="84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(a) Channel       VS    (b) Carri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otein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ilayer; Phospholipi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200"/>
                </a:solidFill>
                <a:latin typeface="Comic Sans MS"/>
              </a:rPr>
              <a:t>What is the bilay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phosphate head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so ar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water-sol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lipid tail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on-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therefore ar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ot water-sol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8" descr="lipidbilayer"/>
          <p:cNvPicPr/>
          <p:nvPr/>
        </p:nvPicPr>
        <p:blipFill>
          <a:blip r:embed="rId1"/>
          <a:stretch/>
        </p:blipFill>
        <p:spPr>
          <a:xfrm>
            <a:off x="4716360" y="2637000"/>
            <a:ext cx="28576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 do phospholipids have both a hydrophilic and a hydrophobic par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hosphate head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Are they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water-solubl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ipid tail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on-polar.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they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water-solub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8" descr="phospholipid"/>
          <p:cNvPicPr/>
          <p:nvPr/>
        </p:nvPicPr>
        <p:blipFill>
          <a:blip r:embed="rId1"/>
          <a:stretch/>
        </p:blipFill>
        <p:spPr>
          <a:xfrm>
            <a:off x="4500720" y="148428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 polysaccharid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4076640"/>
            <a:ext cx="273528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lu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polymer; monomer; carbohydr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8" descr="polysaccharide_1_c_la_784"/>
          <p:cNvPicPr/>
          <p:nvPr/>
        </p:nvPicPr>
        <p:blipFill>
          <a:blip r:embed="rId1"/>
          <a:stretch/>
        </p:blipFill>
        <p:spPr>
          <a:xfrm>
            <a:off x="179280" y="1341360"/>
            <a:ext cx="3114720" cy="2752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glucose"/>
          <p:cNvPicPr/>
          <p:nvPr/>
        </p:nvPicPr>
        <p:blipFill>
          <a:blip r:embed="rId2"/>
          <a:stretch/>
        </p:blipFill>
        <p:spPr>
          <a:xfrm>
            <a:off x="5796000" y="1773360"/>
            <a:ext cx="2676600" cy="2809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picrend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43280" y="3933720"/>
            <a:ext cx="2881080" cy="239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8:52:04Z</dcterms:created>
  <dc:creator>User</dc:creator>
  <dc:description/>
  <dc:language>en-US</dc:language>
  <cp:lastModifiedBy>RomaK</cp:lastModifiedBy>
  <dcterms:modified xsi:type="dcterms:W3CDTF">2015-09-04T10:54:38Z</dcterms:modified>
  <cp:revision>18</cp:revision>
  <dc:subject/>
  <dc:title>Cells and Organelles The Cell Membrane  </dc:title>
</cp:coreProperties>
</file>