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4F25-F41E-4586-92F4-AEC5FF4EEE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16-p.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16-p.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……wha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fference between a glycoprotein and a glycolipi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……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fference between a glycoprotein and a glycolipi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glycoprotein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help in the recognition of, and interaction with, other cells. They may also play a part in the recognition of hormones and foreign molecul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glyco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help in the recognition of, and interaction with, other cells. They may also play a part in the recognition of hormones and foreign mole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cholesterol in the cell membran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 is also present in the membrane. It maintains the fluidity and increases the stability of the membrane. Without cholesterol the membrane would easily split apar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cholesterol in the cell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 is also present in the membrane. It maintains the fluidity and increases the stability of the membrane. Without cholesterol the membrane would easily split apa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: Fun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 barri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, keeping the cell contents toge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communication with other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recognition of other external substanc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mobility in some organisms, e.g. amoeb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te of various chemical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: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, keeping the cell contents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communication with oth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recognition of other external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mobility in some organisms, e.g. amoeb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te of various chemical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rganisms do exist as single cells - for example, Amoeba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ny organisms are multicellular and consist of from hundreds to billions of cell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s of the organism are divided up amongst the groups of cells, which become specialised for particular ro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cells show division of labour by being grouped into tissu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rganisms do exist as single cells - for example, Amoeb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ny organisms are multicellular and consist of from hundreds to billions of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s of the organism are divided up amongst the groups of cells, which become specialised for particular ro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cells show division of labour by being grouped into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Tissue? Defini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Tissue? 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ite Referenc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-cool.co.u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Biology and th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ells and Organel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Gas Ex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ranspo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ite Referenc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-cool.co.u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Biology and th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ells and Organel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Gas Ex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membranes have the same basic structu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cell surface membrane and the membranes surrounding certain organelles have the same basic structure. Much of the membrane is made up of a 'sea' of phospholipids with protein molecules 'floating' in between the phospholipid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membranes have the same basic stru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cell surface membrane and the membranes surrounding certain organelles have the same basic structure. Much of the membrane is made up of a 'sea' of phospholipids with protein molecules 'floating' in between the phospholip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proteins located within the membran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intrinsic prote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xtrinsic prote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called the fluid mosaic mode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proteins located within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intrinsic pro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xtrinsic pro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called the fluid mosaic mod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1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movement of substances, such as glucose, across the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TP REQUI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1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movement of substances, such as glucose, a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TP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transport substances, such as minerals, across the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REQUI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2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transport substances, such as minerals, a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2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) Channel       VS    (b) Carri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Channel       VS    (b) C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; Phospho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bilay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 molecules and so are water-solu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 and therefore are not water-solu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; 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bilay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 molecules and so are water-solu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 and therefore are not water-solu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phospholipids have both a hydrophilic and a hydrophobic par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. Are they water-soluble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. Are they water-solubl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phospholipids have both a hydrophilic and a hydrophobic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. Are they water-solu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. Are they water-solu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olysaccharid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e: polymer; monomer; carbohyd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olysacchar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e: polymer; monomer; 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3FB0-BCBB-458B-B871-C453C191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09AF-9276-47AE-823D-5F5DF291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D350-B285-41F7-A871-1C842F8D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E42D-8AB2-4FF7-8E82-31EADCFE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95EA-2E38-4BFF-B0CC-43AED6C0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9E36-6C97-4068-B282-12517BF3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E6B7-9AFC-4361-BD0A-C0AB55DC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E3A0-06B6-44B3-B557-560D3C2F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17A3-2B30-4CC2-B1FD-4CA7ED87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72AE-8AEE-40E5-B6E0-71833B62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262D-4B6E-497D-9631-A3AA03E3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30F1-15B3-4A72-B64D-BA261BAF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A4FB-EADE-4684-A9BF-446170E6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8B87-C42D-42C2-917A-428129A6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7022-A07E-41B1-BC58-5BE79B36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F994-1CA0-4D37-9FB4-37743C89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6116-36CB-4838-BE45-3DB0FCC5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4065-404E-446E-8404-7C948498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7076-C1FF-45CA-9AC8-6F1430B9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A84B-F1CD-4A46-99BA-A202A37F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4794-F3C1-4B67-89B3-ABF4D691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3A36-B925-48C0-9DBB-7379FB5C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935D-8EBC-494E-B7F8-ED465D37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47A3-6DBA-4E4A-A3B7-6D93E601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8047-0C42-4D83-94A3-D5ABC2CC91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6265-9095-4ED1-B903-00F580EB5D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-cool.co.uk/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images.google.co.uk/imgres?imgurl=http://www.ncbi.nlm.nih.gov/bookshelf/picrender.fcgi%3Fbook%3Dglyco2%26part%3Dch20%26blobname%3Dch20f1.jpg&amp;imgrefurl=http://www.ncbi.nlm.nih.gov/bookshelf/br.fcgi%3Fbook%3Dglyco2%26part%3Dch20&amp;usg=__XGfnPg3KHTnKiV3Od8EsVPFE0f8=&amp;h=718&amp;w=784&amp;sz=234&amp;hl=en&amp;start=2&amp;um=1&amp;tbnid=5y1k_ydNYGbF-M:&amp;tbnh=131&amp;tbnw=143&amp;prev=/images%3Fq%3Dpolysaccharide%2Bcell%2Bmembrane%26hl%3Den%26sa%3DX%26um%3D1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Cells and Organelles;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The Cell Membran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ook Reference: p.16-p.1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Image127"/>
          <p:cNvPicPr/>
          <p:nvPr/>
        </p:nvPicPr>
        <p:blipFill>
          <a:blip r:embed="rId1"/>
          <a:stretch/>
        </p:blipFill>
        <p:spPr>
          <a:xfrm>
            <a:off x="324000" y="0"/>
            <a:ext cx="72104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lyco……what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8920" y="0"/>
            <a:ext cx="37782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is the difference between a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glycoprotein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and a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glycolipid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8" descr="glycoprotein"/>
          <p:cNvPicPr/>
          <p:nvPr/>
        </p:nvPicPr>
        <p:blipFill>
          <a:blip r:embed="rId1"/>
          <a:stretch/>
        </p:blipFill>
        <p:spPr>
          <a:xfrm>
            <a:off x="5148360" y="1989000"/>
            <a:ext cx="3371760" cy="3934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556cerebroside"/>
          <p:cNvPicPr/>
          <p:nvPr/>
        </p:nvPicPr>
        <p:blipFill>
          <a:blip r:embed="rId2"/>
          <a:stretch/>
        </p:blipFill>
        <p:spPr>
          <a:xfrm>
            <a:off x="0" y="2924280"/>
            <a:ext cx="431964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the role of glycoprotein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may help in the recognition of, and interaction with, other cells.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They may also play a part in the recognition of hormones and foreign molecules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8" descr="cellreceptors"/>
          <p:cNvPicPr/>
          <p:nvPr/>
        </p:nvPicPr>
        <p:blipFill>
          <a:blip r:embed="rId1"/>
          <a:stretch/>
        </p:blipFill>
        <p:spPr>
          <a:xfrm>
            <a:off x="4029120" y="2060640"/>
            <a:ext cx="51148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at is the role of cholesterol in the cell membran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olesterol is also present in the membrane. It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maintains the fluidity and increases the stability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f the membrane.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itho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cholesterol the membrane would easily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plit apar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8" descr="cholesterol"/>
          <p:cNvPicPr/>
          <p:nvPr/>
        </p:nvPicPr>
        <p:blipFill>
          <a:blip r:embed="rId1"/>
          <a:stretch/>
        </p:blipFill>
        <p:spPr>
          <a:xfrm>
            <a:off x="4788000" y="1844640"/>
            <a:ext cx="36716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ell membrane: Func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Selectively permeable barri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Structural, keeping the cell contents toge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200"/>
                </a:solidFill>
                <a:latin typeface="Comic Sans MS"/>
              </a:rPr>
              <a:t>Allows communication with other cel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llows recognition of other external substan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llows mobility in some organisms, e.g. amoeb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200"/>
                </a:solidFill>
                <a:latin typeface="Comic Sans MS"/>
              </a:rPr>
              <a:t>The site of various chemical react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ells and Organelles;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issu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me organisms do exist as single cells - for example, Amoeba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ut many organisms are multicellular and consist of from hundreds to billions of cell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functions of the organism are divided up amongst the groups of cells, which become specialised for particular rol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pecialised cells show division of labour by being grouped into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tissue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7" descr="amoeba"/>
          <p:cNvPicPr/>
          <p:nvPr/>
        </p:nvPicPr>
        <p:blipFill>
          <a:blip r:embed="rId1"/>
          <a:stretch/>
        </p:blipFill>
        <p:spPr>
          <a:xfrm>
            <a:off x="5867280" y="620640"/>
            <a:ext cx="2163960" cy="165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piperine-fig1"/>
          <p:cNvPicPr/>
          <p:nvPr/>
        </p:nvPicPr>
        <p:blipFill>
          <a:blip r:embed="rId2"/>
          <a:stretch/>
        </p:blipFill>
        <p:spPr>
          <a:xfrm>
            <a:off x="4716360" y="2349360"/>
            <a:ext cx="2689200" cy="1871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liver"/>
          <p:cNvPicPr/>
          <p:nvPr/>
        </p:nvPicPr>
        <p:blipFill>
          <a:blip r:embed="rId3"/>
          <a:stretch/>
        </p:blipFill>
        <p:spPr>
          <a:xfrm>
            <a:off x="5435640" y="4508640"/>
            <a:ext cx="294624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 Tissue?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00360" y="213372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8" descr="Arm_4_Finished"/>
          <p:cNvPicPr/>
          <p:nvPr/>
        </p:nvPicPr>
        <p:blipFill>
          <a:blip r:embed="rId1"/>
          <a:stretch/>
        </p:blipFill>
        <p:spPr>
          <a:xfrm>
            <a:off x="0" y="981000"/>
            <a:ext cx="4286160" cy="39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9360">
            <a:solidFill>
              <a:srgbClr val="703d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ebsite Reference: </a:t>
            </a:r>
            <a:br>
              <a:rPr sz="4400"/>
            </a:br>
            <a:r>
              <a:rPr b="0" lang="en-GB" sz="4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s-cool.co.uk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 to Biology and then: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1.Cells and Organelles 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2.Gas Exchange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3.Trans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8" descr="SCoolIcon"/>
          <p:cNvPicPr/>
          <p:nvPr/>
        </p:nvPicPr>
        <p:blipFill>
          <a:blip r:embed="rId2"/>
          <a:stretch/>
        </p:blipFill>
        <p:spPr>
          <a:xfrm>
            <a:off x="324000" y="2349360"/>
            <a:ext cx="1428480" cy="1123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SCoolIcon"/>
          <p:cNvPicPr/>
          <p:nvPr/>
        </p:nvPicPr>
        <p:blipFill>
          <a:blip r:embed="rId3"/>
          <a:stretch/>
        </p:blipFill>
        <p:spPr>
          <a:xfrm>
            <a:off x="155520" y="46080"/>
            <a:ext cx="1428840" cy="1123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SCoolIcon"/>
          <p:cNvPicPr/>
          <p:nvPr/>
        </p:nvPicPr>
        <p:blipFill>
          <a:blip r:embed="rId4"/>
          <a:stretch/>
        </p:blipFill>
        <p:spPr>
          <a:xfrm>
            <a:off x="6804000" y="4724280"/>
            <a:ext cx="142884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00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 all membranes have the same basic structur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920" y="1197000"/>
            <a:ext cx="3778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Both the cell surface membrane and the membranes surrounding certain organelles have the same basic structure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Much of the membrane is made up of a 'sea' of phospholipids with protein molecules 'floating' in between the phospholipids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12" descr="Image31"/>
          <p:cNvPicPr/>
          <p:nvPr/>
        </p:nvPicPr>
        <p:blipFill>
          <a:blip r:embed="rId1"/>
          <a:stretch/>
        </p:blipFill>
        <p:spPr>
          <a:xfrm>
            <a:off x="4572000" y="2492280"/>
            <a:ext cx="383868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ere are proteins located within the membran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What is an intrinsic protei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at is an extrinsic protei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 is it called the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fluid mosaic model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15" descr="CellMembrane"/>
          <p:cNvPicPr/>
          <p:nvPr/>
        </p:nvPicPr>
        <p:blipFill>
          <a:blip r:embed="rId1"/>
          <a:stretch/>
        </p:blipFill>
        <p:spPr>
          <a:xfrm>
            <a:off x="2843280" y="4653000"/>
            <a:ext cx="609588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INSIC 1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annel Prote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3628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ow movement of substances, such as glucose, across the membra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 ATP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10" descr="Image133"/>
          <p:cNvPicPr/>
          <p:nvPr/>
        </p:nvPicPr>
        <p:blipFill>
          <a:blip r:embed="rId1"/>
          <a:stretch/>
        </p:blipFill>
        <p:spPr>
          <a:xfrm>
            <a:off x="3995640" y="2637000"/>
            <a:ext cx="4923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38862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ctively transport substances, such as minerals, across the membra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P is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618920" y="620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INSIC 2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rrier Prote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6" descr="ch05summary"/>
          <p:cNvPicPr/>
          <p:nvPr/>
        </p:nvPicPr>
        <p:blipFill>
          <a:blip r:embed="rId1"/>
          <a:stretch/>
        </p:blipFill>
        <p:spPr>
          <a:xfrm>
            <a:off x="4859280" y="2133720"/>
            <a:ext cx="34578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6" descr="Image132"/>
          <p:cNvPicPr/>
          <p:nvPr/>
        </p:nvPicPr>
        <p:blipFill>
          <a:blip r:embed="rId1"/>
          <a:stretch/>
        </p:blipFill>
        <p:spPr>
          <a:xfrm>
            <a:off x="762120" y="1947960"/>
            <a:ext cx="7619760" cy="2962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0" y="260280"/>
            <a:ext cx="8459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(a) Channel       VS    (b) Carri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otein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ilayer; Phospholipi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200"/>
                </a:solidFill>
                <a:latin typeface="Comic Sans MS"/>
              </a:rPr>
              <a:t>What is the bilaye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phosphate head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lecu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so ar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water-solu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lipid tail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non-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therefore ar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not water-solu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8" descr="lipidbilayer"/>
          <p:cNvPicPr/>
          <p:nvPr/>
        </p:nvPicPr>
        <p:blipFill>
          <a:blip r:embed="rId1"/>
          <a:stretch/>
        </p:blipFill>
        <p:spPr>
          <a:xfrm>
            <a:off x="4716360" y="2637000"/>
            <a:ext cx="285768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y do phospholipids have both a hydrophilic and a hydrophobic part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hosphate head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 Are they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water-solubl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ipid tail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on-polar.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they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water-solubl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8" descr="phospholipid"/>
          <p:cNvPicPr/>
          <p:nvPr/>
        </p:nvPicPr>
        <p:blipFill>
          <a:blip r:embed="rId1"/>
          <a:stretch/>
        </p:blipFill>
        <p:spPr>
          <a:xfrm>
            <a:off x="4500720" y="1484280"/>
            <a:ext cx="4114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 polysaccharid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4076640"/>
            <a:ext cx="2735280" cy="14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lu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polymer; monomer; carbohydr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8" descr="polysaccharide_1_c_la_784"/>
          <p:cNvPicPr/>
          <p:nvPr/>
        </p:nvPicPr>
        <p:blipFill>
          <a:blip r:embed="rId1"/>
          <a:stretch/>
        </p:blipFill>
        <p:spPr>
          <a:xfrm>
            <a:off x="179280" y="1341360"/>
            <a:ext cx="3114720" cy="2752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glucose"/>
          <p:cNvPicPr/>
          <p:nvPr/>
        </p:nvPicPr>
        <p:blipFill>
          <a:blip r:embed="rId2"/>
          <a:stretch/>
        </p:blipFill>
        <p:spPr>
          <a:xfrm>
            <a:off x="5796000" y="1773360"/>
            <a:ext cx="2676600" cy="2809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picrend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43280" y="3933720"/>
            <a:ext cx="2881080" cy="2398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8:52:04Z</dcterms:created>
  <dc:creator>User</dc:creator>
  <dc:description/>
  <dc:language>en-US</dc:language>
  <cp:lastModifiedBy>RomaK</cp:lastModifiedBy>
  <dcterms:modified xsi:type="dcterms:W3CDTF">2015-09-04T10:54:38Z</dcterms:modified>
  <cp:revision>18</cp:revision>
  <dc:subject/>
  <dc:title>Cells and Organelles The Cell Membrane  </dc:title>
</cp:coreProperties>
</file>