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3496-CCF3-4CB3-A536-6437AFAED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60C-7A1C-46D7-8A08-AA6D5B17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D4B-8AA0-4751-8F3E-F2C2EB2A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4F9-8E38-450D-A81B-51B9B9CC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3CA-8D34-4339-9A1F-384BA5F2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D2DA-050C-45CF-A9E2-F37038B2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D6F7-3BCA-4C59-9C1D-2291C112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2079-2FA0-4254-A72A-19F8948B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39A8-2327-40C0-B8B6-E51B81CF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D114-FDAD-4CE8-B5C7-585B3A2F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B7D6-082A-42A4-8B6B-2E92FFD2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BCE0-4C5B-4B6A-9217-A91220F4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046-113D-4B6B-9095-2F90951F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42BE-16C1-4555-BE12-231EF9A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D7FE-BB01-4462-9B97-E1A9BFA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CB5B-A27B-4170-B440-97D5D926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5F99-F634-40F9-A2C7-928EB547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B182-09B7-4A52-9FAB-8CAF4B7C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3D8-4ADA-4C0B-B3DE-C7290396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855-90FC-4FE3-A66C-83A93279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7B9-542A-4439-8A44-A92D2651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F7B-BC59-4F61-BAC8-199CBBC4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C03-603D-4832-B8E1-22B3029C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5AA-B874-47F0-9346-A524026D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43E-C9BF-499D-B35E-98B50434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DE7B-1CE6-44BB-9EFE-50E7DD1F01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5D0C-20F1-404B-AEF7-6BC47AD19F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-cool.co.uk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images.google.co.uk/imgres?imgurl=http://www.ncbi.nlm.nih.gov/bookshelf/picrender.fcgi%3Fbook%3Dglyco2%26part%3Dch20%26blobname%3Dch20f1.jpg&amp;imgrefurl=http://www.ncbi.nlm.nih.gov/bookshelf/br.fcgi%3Fbook%3Dglyco2%26part%3Dch20&amp;usg=__XGfnPg3KHTnKiV3Od8EsVPFE0f8=&amp;h=718&amp;w=784&amp;sz=234&amp;hl=en&amp;start=2&amp;um=1&amp;tbnid=5y1k_ydNYGbF-M:&amp;tbnh=131&amp;tbnw=143&amp;prev=/images%3Fq%3Dpolysaccharide%2Bcell%2Bmembrane%26hl%3D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The Cell Membra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ok Reference: p.16-p.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mage127"/>
          <p:cNvPicPr/>
          <p:nvPr/>
        </p:nvPicPr>
        <p:blipFill>
          <a:blip r:embed="rId1"/>
          <a:stretch/>
        </p:blipFill>
        <p:spPr>
          <a:xfrm>
            <a:off x="324000" y="0"/>
            <a:ext cx="7210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lyco……wha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37782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is the difference between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ycoprotei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glycolipi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glycoprotein"/>
          <p:cNvPicPr/>
          <p:nvPr/>
        </p:nvPicPr>
        <p:blipFill>
          <a:blip r:embed="rId1"/>
          <a:stretch/>
        </p:blipFill>
        <p:spPr>
          <a:xfrm>
            <a:off x="5148360" y="1989000"/>
            <a:ext cx="3371760" cy="393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56cerebroside"/>
          <p:cNvPicPr/>
          <p:nvPr/>
        </p:nvPicPr>
        <p:blipFill>
          <a:blip r:embed="rId2"/>
          <a:stretch/>
        </p:blipFill>
        <p:spPr>
          <a:xfrm>
            <a:off x="0" y="2924280"/>
            <a:ext cx="4319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role of glycoprotei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may help in the recognition of, and interaction with, other cells.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y may also play a part in the recognition of hormones and foreign molecule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cellreceptors"/>
          <p:cNvPicPr/>
          <p:nvPr/>
        </p:nvPicPr>
        <p:blipFill>
          <a:blip r:embed="rId1"/>
          <a:stretch/>
        </p:blipFill>
        <p:spPr>
          <a:xfrm>
            <a:off x="4029120" y="2060640"/>
            <a:ext cx="511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role of cholesterol in the cell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lesterol is also present in the membrane. I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intains the fluidity and increases the stability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the membrane.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olesterol the membrane would easil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plit apa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8" descr="cholesterol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ell membrane: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lectively permeable barri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ructural, keeping the cell content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Allows communication with other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llows recognition of other external substa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llows mobility in some organisms, e.g. amoeb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The site of various chemical re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organisms do exist as single cells - for example, Amoeb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many organisms are multicellular and consist of from hundreds to billions of cell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unctions of the organism are divided up amongst the groups of cells, which become specialised for particular ro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ialised cells show division of labour by being grouped into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tiss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amoeba"/>
          <p:cNvPicPr/>
          <p:nvPr/>
        </p:nvPicPr>
        <p:blipFill>
          <a:blip r:embed="rId1"/>
          <a:stretch/>
        </p:blipFill>
        <p:spPr>
          <a:xfrm>
            <a:off x="5867280" y="620640"/>
            <a:ext cx="216396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perine-fig1"/>
          <p:cNvPicPr/>
          <p:nvPr/>
        </p:nvPicPr>
        <p:blipFill>
          <a:blip r:embed="rId2"/>
          <a:stretch/>
        </p:blipFill>
        <p:spPr>
          <a:xfrm>
            <a:off x="4716360" y="2349360"/>
            <a:ext cx="268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liver"/>
          <p:cNvPicPr/>
          <p:nvPr/>
        </p:nvPicPr>
        <p:blipFill>
          <a:blip r:embed="rId3"/>
          <a:stretch/>
        </p:blipFill>
        <p:spPr>
          <a:xfrm>
            <a:off x="5435640" y="4508640"/>
            <a:ext cx="29462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Tissue?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360" y="213372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Arm_4_Finished"/>
          <p:cNvPicPr/>
          <p:nvPr/>
        </p:nvPicPr>
        <p:blipFill>
          <a:blip r:embed="rId1"/>
          <a:stretch/>
        </p:blipFill>
        <p:spPr>
          <a:xfrm>
            <a:off x="0" y="981000"/>
            <a:ext cx="4286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bsite Reference: </a:t>
            </a:r>
            <a:br>
              <a:rPr sz="4400"/>
            </a:br>
            <a:r>
              <a:rPr b="0" lang="en-GB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-cool.co.uk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 to Biology and then: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1.Cells and Organelles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.Gas Exchan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3.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SCoolIcon"/>
          <p:cNvPicPr/>
          <p:nvPr/>
        </p:nvPicPr>
        <p:blipFill>
          <a:blip r:embed="rId2"/>
          <a:stretch/>
        </p:blipFill>
        <p:spPr>
          <a:xfrm>
            <a:off x="324000" y="2349360"/>
            <a:ext cx="1428480" cy="11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CoolIcon"/>
          <p:cNvPicPr/>
          <p:nvPr/>
        </p:nvPicPr>
        <p:blipFill>
          <a:blip r:embed="rId3"/>
          <a:stretch/>
        </p:blipFill>
        <p:spPr>
          <a:xfrm>
            <a:off x="155520" y="4608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SCoolIcon"/>
          <p:cNvPicPr/>
          <p:nvPr/>
        </p:nvPicPr>
        <p:blipFill>
          <a:blip r:embed="rId4"/>
          <a:stretch/>
        </p:blipFill>
        <p:spPr>
          <a:xfrm>
            <a:off x="6804000" y="472428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 all membranes have the same basic structu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oth the cell surface membrane and the membranes surrounding certain organelles have the same basic structur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uch of the membrane is made up of a 'sea' of phospholipids with protein molecules 'floating' in between the phospholipid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Image31"/>
          <p:cNvPicPr/>
          <p:nvPr/>
        </p:nvPicPr>
        <p:blipFill>
          <a:blip r:embed="rId1"/>
          <a:stretch/>
        </p:blipFill>
        <p:spPr>
          <a:xfrm>
            <a:off x="4572000" y="2492280"/>
            <a:ext cx="38386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are proteins located within the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hat is an in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at is an ex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is it called th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luid mosaic mod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5" descr="CellMembrane"/>
          <p:cNvPicPr/>
          <p:nvPr/>
        </p:nvPicPr>
        <p:blipFill>
          <a:blip r:embed="rId1"/>
          <a:stretch/>
        </p:blipFill>
        <p:spPr>
          <a:xfrm>
            <a:off x="2843280" y="4653000"/>
            <a:ext cx="60958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1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annel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362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ow movement of substances, such as glucose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ATP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Image133"/>
          <p:cNvPicPr/>
          <p:nvPr/>
        </p:nvPicPr>
        <p:blipFill>
          <a:blip r:embed="rId1"/>
          <a:stretch/>
        </p:blipFill>
        <p:spPr>
          <a:xfrm>
            <a:off x="3995640" y="2637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ely transport substances, such as minerals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P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2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h05summary"/>
          <p:cNvPicPr/>
          <p:nvPr/>
        </p:nvPicPr>
        <p:blipFill>
          <a:blip r:embed="rId1"/>
          <a:stretch/>
        </p:blipFill>
        <p:spPr>
          <a:xfrm>
            <a:off x="4859280" y="2133720"/>
            <a:ext cx="34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Image132"/>
          <p:cNvPicPr/>
          <p:nvPr/>
        </p:nvPicPr>
        <p:blipFill>
          <a:blip r:embed="rId1"/>
          <a:stretch/>
        </p:blipFill>
        <p:spPr>
          <a:xfrm>
            <a:off x="762120" y="1947960"/>
            <a:ext cx="7619760" cy="29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0" y="260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a) Channel       VS    (b) Carri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tei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ilayer; Phospholip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200"/>
                </a:solidFill>
                <a:latin typeface="Comic Sans MS"/>
              </a:rPr>
              <a:t>What is the bi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hosphate head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so 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ipid tail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n-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therefore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t 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lipidbilayer"/>
          <p:cNvPicPr/>
          <p:nvPr/>
        </p:nvPicPr>
        <p:blipFill>
          <a:blip r:embed="rId1"/>
          <a:stretch/>
        </p:blipFill>
        <p:spPr>
          <a:xfrm>
            <a:off x="4716360" y="2637000"/>
            <a:ext cx="2857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 do phospholipids have both a hydrophilic and a hydrophobic par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hosphate hea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Are the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ater-solubl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pid tail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n-polar.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water-solu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phospholipid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polysacchari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27352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u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polymer; monomer; carbohyd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polysaccharide_1_c_la_784"/>
          <p:cNvPicPr/>
          <p:nvPr/>
        </p:nvPicPr>
        <p:blipFill>
          <a:blip r:embed="rId1"/>
          <a:stretch/>
        </p:blipFill>
        <p:spPr>
          <a:xfrm>
            <a:off x="179280" y="1341360"/>
            <a:ext cx="3114720" cy="275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glucose"/>
          <p:cNvPicPr/>
          <p:nvPr/>
        </p:nvPicPr>
        <p:blipFill>
          <a:blip r:embed="rId2"/>
          <a:stretch/>
        </p:blipFill>
        <p:spPr>
          <a:xfrm>
            <a:off x="5796000" y="1773360"/>
            <a:ext cx="2676600" cy="28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icren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33720"/>
            <a:ext cx="28810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52:04Z</dcterms:created>
  <dc:creator>User</dc:creator>
  <dc:description/>
  <dc:language>en-US</dc:language>
  <cp:lastModifiedBy>RomaK</cp:lastModifiedBy>
  <dcterms:modified xsi:type="dcterms:W3CDTF">2015-09-04T10:54:38Z</dcterms:modified>
  <cp:revision>18</cp:revision>
  <dc:subject/>
  <dc:title>Cells and Organelles The Cell Membrane  </dc:title>
</cp:coreProperties>
</file>