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3F81-9003-498E-A0B4-AD7DA9DD16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sizes!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iz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first to tak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primary consum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first to tak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primary consumers have predators. Other animals that feed on the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primary consumers have predators. Other animals that feed o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primary consumers are called secondary consum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primary consumers are called 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→ aphid → ladybir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→ aphid → lady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ladybirds and aphi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ladybirds and aph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eat the frog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 the frog eats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eat the fro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 the frog ea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ENERGY from the su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plants produce their own food, they are called ‘Producers’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plants produce their own food, they are called ‘Producer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F2C9-F4B6-41EA-A4EB-02696171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46F-7D0E-464E-A2DB-208443A6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1B1-0193-461D-B522-EF2B44CB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05D-28E1-4049-A542-C7774C1D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4F9-CC0A-48DD-B0C6-E4C9D072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2D8-A974-4566-80A3-453A1157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82EE-6C8E-472D-A18E-B7A6F61A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C65B-BDB1-4EE8-BAD3-54A3EA79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755-8E1D-4D72-98D7-A115BE00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F4E-DB78-4445-AF18-F9B21765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2CB-B05C-4CC5-819C-FBB41889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9FE-D5B7-40C8-8C05-A9E64321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0CA3-DED0-42A5-B6F6-2DCD8EA4AA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28" descr="54833838nAzMGk_ph"/>
          <p:cNvPicPr/>
          <p:nvPr/>
        </p:nvPicPr>
        <p:blipFill>
          <a:blip r:embed="rId1"/>
          <a:stretch/>
        </p:blipFill>
        <p:spPr>
          <a:xfrm>
            <a:off x="609480" y="4572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51043429TzJdSH_ph"/>
          <p:cNvPicPr/>
          <p:nvPr/>
        </p:nvPicPr>
        <p:blipFill>
          <a:blip r:embed="rId1"/>
          <a:stretch/>
        </p:blipFill>
        <p:spPr>
          <a:xfrm>
            <a:off x="762120" y="366840"/>
            <a:ext cx="7619760" cy="6124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nd sizes!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78580970BTaXaB_ph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1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029200" y="4800600"/>
            <a:ext cx="3276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hey are called </a:t>
            </a:r>
            <a:r>
              <a:rPr b="1" i="1" lang="en-GB" sz="31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39589844nfznzY_ph"/>
          <p:cNvPicPr/>
          <p:nvPr/>
        </p:nvPicPr>
        <p:blipFill>
          <a:blip r:embed="rId1"/>
          <a:stretch/>
        </p:blipFill>
        <p:spPr>
          <a:xfrm>
            <a:off x="609480" y="457200"/>
            <a:ext cx="790128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495680" y="46483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of these primary consumers hav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edator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animals that feed on the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51043689fkzMoZ_ph"/>
          <p:cNvPicPr/>
          <p:nvPr/>
        </p:nvPicPr>
        <p:blipFill>
          <a:blip r:embed="rId1"/>
          <a:stretch/>
        </p:blipFill>
        <p:spPr>
          <a:xfrm>
            <a:off x="762120" y="385920"/>
            <a:ext cx="7619760" cy="6086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3962520" y="838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84560156ttgWDR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257800" y="5105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78581179zBdQfy_ph"/>
          <p:cNvPicPr/>
          <p:nvPr/>
        </p:nvPicPr>
        <p:blipFill>
          <a:blip r:embed="rId1"/>
          <a:stretch/>
        </p:blipFill>
        <p:spPr>
          <a:xfrm>
            <a:off x="609480" y="3808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133720" y="5331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00"/>
                </a:solidFill>
                <a:latin typeface="Times New Roman"/>
              </a:rPr>
              <a:t>Animals that eat primary consumers are called secondary consum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phid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dy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54833379tvSXMh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105520" y="129528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This bird eats ladybirds</a:t>
            </a:r>
            <a:r>
              <a:rPr b="1" i="1" lang="en-GB" sz="30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aphid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 rot="21379200">
            <a:off x="5528520" y="403200"/>
            <a:ext cx="3395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1160" y="1916280"/>
            <a:ext cx="7729560" cy="48891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990720" y="5638680"/>
            <a:ext cx="5181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91700292AaoMGU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066680" y="1295280"/>
            <a:ext cx="312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Times New Roman"/>
              </a:rPr>
              <a:t>What will eat the frog?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867280" y="4724280"/>
            <a:ext cx="2286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ffffff"/>
                </a:solidFill>
                <a:latin typeface="Times New Roman"/>
              </a:rPr>
              <a:t>What do you think the frog eats?</a:t>
            </a:r>
            <a:endParaRPr b="0" i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107013335MQlSLy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419720" y="1143000"/>
            <a:ext cx="3581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33520" y="3808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eco2"/>
          <p:cNvPicPr/>
          <p:nvPr/>
        </p:nvPicPr>
        <p:blipFill>
          <a:blip r:embed="rId1"/>
          <a:stretch/>
        </p:blipFill>
        <p:spPr>
          <a:xfrm>
            <a:off x="990720" y="1797120"/>
            <a:ext cx="6858000" cy="42577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609480" y="3808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138320" y="1297080"/>
            <a:ext cx="6867360" cy="42638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138320" y="1297080"/>
            <a:ext cx="6867360" cy="4263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3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1"/>
          <p:cNvSpPr/>
          <p:nvPr/>
        </p:nvSpPr>
        <p:spPr>
          <a:xfrm>
            <a:off x="152280" y="137160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6878520" cy="4273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5257800" y="2286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6878520" cy="427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4876920" y="52578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6"/>
          <a:stretch/>
        </p:blipFill>
        <p:spPr>
          <a:xfrm>
            <a:off x="6248520" y="55627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7"/>
          <a:stretch/>
        </p:blipFill>
        <p:spPr>
          <a:xfrm>
            <a:off x="3809880" y="57913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8"/>
          <a:stretch/>
        </p:blipFill>
        <p:spPr>
          <a:xfrm>
            <a:off x="5029200" y="5989680"/>
            <a:ext cx="133668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4"/>
          <p:cNvSpPr/>
          <p:nvPr/>
        </p:nvSpPr>
        <p:spPr>
          <a:xfrm>
            <a:off x="6103800" y="26668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7391520" y="5715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7543800" y="53341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4"/>
          <a:stretch/>
        </p:blipFill>
        <p:spPr>
          <a:xfrm>
            <a:off x="6477120" y="55627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5"/>
          <a:stretch/>
        </p:blipFill>
        <p:spPr>
          <a:xfrm>
            <a:off x="4343400" y="52578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6"/>
          <a:stretch/>
        </p:blipFill>
        <p:spPr>
          <a:xfrm>
            <a:off x="5562720" y="54864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/>
          <p:cNvPicPr/>
          <p:nvPr/>
        </p:nvPicPr>
        <p:blipFill>
          <a:blip r:embed="rId7"/>
          <a:stretch/>
        </p:blipFill>
        <p:spPr>
          <a:xfrm>
            <a:off x="1143000" y="1219320"/>
            <a:ext cx="6878520" cy="4273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7010280" y="33526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4" descr=""/>
          <p:cNvPicPr/>
          <p:nvPr/>
        </p:nvPicPr>
        <p:blipFill>
          <a:blip r:embed="rId8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6878880" cy="42735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5867280" y="50292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3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4"/>
          <a:stretch/>
        </p:blipFill>
        <p:spPr>
          <a:xfrm>
            <a:off x="1219320" y="106668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eco2"/>
          <p:cNvPicPr/>
          <p:nvPr/>
        </p:nvPicPr>
        <p:blipFill>
          <a:blip r:embed="rId1"/>
          <a:stretch/>
        </p:blipFill>
        <p:spPr>
          <a:xfrm>
            <a:off x="990720" y="1797120"/>
            <a:ext cx="6858000" cy="42577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609480" y="3049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027"/>
          <p:cNvSpPr/>
          <p:nvPr/>
        </p:nvSpPr>
        <p:spPr>
          <a:xfrm>
            <a:off x="2556000" y="2349360"/>
            <a:ext cx="6337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All food chains start with ENERGY from the sun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Fig30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4762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756440" y="16765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bon dioxide from the ai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631560" y="32004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from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ligh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r light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06720" y="3429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from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o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8320" y="4724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orted to th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the plan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ig30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4762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756440" y="16765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bon dioxide from the ai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631560" y="32004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from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ligh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r light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6720" y="3429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from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o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88320" y="4724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orted to th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the plan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80880" y="30492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120" y="1143000"/>
            <a:ext cx="76197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Because plants </a:t>
            </a:r>
            <a:r>
              <a:rPr b="1" i="1" lang="en-GB" sz="33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 their own food, they are called ‘Producers’</a:t>
            </a:r>
            <a:endParaRPr b="0" i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39589895mpnisC_ph"/>
          <p:cNvPicPr/>
          <p:nvPr/>
        </p:nvPicPr>
        <p:blipFill>
          <a:blip r:embed="rId1"/>
          <a:stretch/>
        </p:blipFill>
        <p:spPr>
          <a:xfrm>
            <a:off x="776160" y="588960"/>
            <a:ext cx="7589880" cy="5680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2:42:39Z</dcterms:created>
  <dc:creator>WBC</dc:creator>
  <dc:description/>
  <dc:language>en-US</dc:language>
  <cp:lastModifiedBy>LEGION2</cp:lastModifiedBy>
  <dcterms:modified xsi:type="dcterms:W3CDTF">2015-12-15T09:28:54Z</dcterms:modified>
  <cp:revision>52</cp:revision>
  <dc:subject/>
  <dc:title>Feeding Relationships</dc:title>
</cp:coreProperties>
</file>