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85BD-30E1-485E-91D7-62B84B0514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iz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first to tak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primary consumers have predators. Other animals that feed o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primary consumers are called 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→ aphid → lady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ladybirds and aph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eat the fr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think the frog ea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od chains start with 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from 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ed to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 of the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plants produce their own food, they are called ‘Producer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B31-575E-4864-91DA-4BB2F70A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42E-F5BC-4987-82E7-9867F12E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19D-420E-48DE-AC7C-9D2FC895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E4B5-CE17-4363-866E-55412E255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B72-1566-4ACF-A868-B8AE4924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CD3-29C5-4058-BBF2-77670E6D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1C8-740F-43B4-B2C0-46F2B468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980-ACB5-4E5C-8377-F3044592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F5D7-12D6-4D1E-8810-3A987C46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8AD-2226-4449-82D4-23060A81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15E-A36C-470C-92E2-486B10C3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2863-7210-4DCC-8E62-46EFDCA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4CD9-2E02-4A20-B201-EF34249724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food chains start with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028" descr="54833838nAzMGk_ph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Animals of all shapes…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51043429TzJdSH_ph"/>
          <p:cNvPicPr/>
          <p:nvPr/>
        </p:nvPicPr>
        <p:blipFill>
          <a:blip r:embed="rId1"/>
          <a:stretch/>
        </p:blipFill>
        <p:spPr>
          <a:xfrm>
            <a:off x="762120" y="366840"/>
            <a:ext cx="7619760" cy="612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nd sizes!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78580970BTaXaB_ph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9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Because these animals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r>
              <a:rPr b="0" i="1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first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 food energy</a:t>
            </a:r>
            <a:br>
              <a:rPr sz="3100"/>
            </a:b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from the plants,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029200" y="4800600"/>
            <a:ext cx="3276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They are called </a:t>
            </a:r>
            <a:r>
              <a:rPr b="1" i="1" lang="en-GB" sz="31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39589844nfznzY_ph"/>
          <p:cNvPicPr/>
          <p:nvPr/>
        </p:nvPicPr>
        <p:blipFill>
          <a:blip r:embed="rId1"/>
          <a:stretch/>
        </p:blipFill>
        <p:spPr>
          <a:xfrm>
            <a:off x="609480" y="457200"/>
            <a:ext cx="79012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4495680" y="46483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these primary consumers have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redators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animals that feed on them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51043689fkzMoZ_ph"/>
          <p:cNvPicPr/>
          <p:nvPr/>
        </p:nvPicPr>
        <p:blipFill>
          <a:blip r:embed="rId1"/>
          <a:stretch/>
        </p:blipFill>
        <p:spPr>
          <a:xfrm>
            <a:off x="762120" y="385920"/>
            <a:ext cx="7619760" cy="6086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3962520" y="8380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phids are eaten by…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84560156ttgWDR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5257800" y="5105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Ladybird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78581179zBdQfy_ph"/>
          <p:cNvPicPr/>
          <p:nvPr/>
        </p:nvPicPr>
        <p:blipFill>
          <a:blip r:embed="rId1"/>
          <a:stretch/>
        </p:blipFill>
        <p:spPr>
          <a:xfrm>
            <a:off x="609480" y="3808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133720" y="5331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Animals that eat primary consumers are called secondary consume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 far this is a straightforward food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n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phid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dy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in reality it is more complicated than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54833379tvSXMh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5105520" y="1295280"/>
            <a:ext cx="2514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his bird eats ladybirds</a:t>
            </a:r>
            <a:r>
              <a:rPr b="1" i="1" lang="en-GB" sz="30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aphid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 rot="21379200">
            <a:off x="5528520" y="403200"/>
            <a:ext cx="3395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This bird eats smaller birds, mice, and rabbit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11160" y="1916280"/>
            <a:ext cx="7729560" cy="488916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990720" y="5638680"/>
            <a:ext cx="5181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Mice and rabbits have other predators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91700292AaoMGU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066680" y="1295280"/>
            <a:ext cx="3124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ffffff"/>
                </a:solidFill>
                <a:latin typeface="Times New Roman"/>
              </a:rPr>
              <a:t>What will eat the frog?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5867280" y="4724280"/>
            <a:ext cx="228600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900" spc="-1" strike="noStrike">
                <a:solidFill>
                  <a:srgbClr val="ffffff"/>
                </a:solidFill>
                <a:latin typeface="Times New Roman"/>
              </a:rPr>
              <a:t>What do you think the frog eats?</a:t>
            </a:r>
            <a:endParaRPr b="0" i="1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107013335MQlSLy_ph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4419720" y="1143000"/>
            <a:ext cx="3581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Times New Roman"/>
              </a:rPr>
              <a:t>Sometimes it’s not entirely clear who eats who!</a:t>
            </a:r>
            <a:endParaRPr b="0" i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3808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e can show what goes on with the help of a Food Web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609480" y="3808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at would happen if a disease killed off many of the hawks?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38320" y="1297080"/>
            <a:ext cx="6867360" cy="42638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"/>
          <p:cNvPicPr/>
          <p:nvPr/>
        </p:nvPicPr>
        <p:blipFill>
          <a:blip r:embed="rId2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1"/>
          <p:cNvSpPr/>
          <p:nvPr/>
        </p:nvSpPr>
        <p:spPr>
          <a:xfrm>
            <a:off x="152280" y="137160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will be nothing to eat the snakes, so their numbers will increase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257800" y="22860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 the frogs get eat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131840" y="1292400"/>
            <a:ext cx="6878520" cy="427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4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5"/>
          <a:stretch/>
        </p:blipFill>
        <p:spPr>
          <a:xfrm>
            <a:off x="487692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6"/>
          <a:stretch/>
        </p:blipFill>
        <p:spPr>
          <a:xfrm>
            <a:off x="62485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7"/>
          <a:stretch/>
        </p:blipFill>
        <p:spPr>
          <a:xfrm>
            <a:off x="3809880" y="57913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"/>
          <p:cNvPicPr/>
          <p:nvPr/>
        </p:nvPicPr>
        <p:blipFill>
          <a:blip r:embed="rId8"/>
          <a:stretch/>
        </p:blipFill>
        <p:spPr>
          <a:xfrm>
            <a:off x="5029200" y="5989680"/>
            <a:ext cx="133668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4"/>
          <p:cNvSpPr/>
          <p:nvPr/>
        </p:nvSpPr>
        <p:spPr>
          <a:xfrm>
            <a:off x="6103800" y="26668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 frog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7391520" y="5715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r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"/>
          <p:cNvPicPr/>
          <p:nvPr/>
        </p:nvPicPr>
        <p:blipFill>
          <a:blip r:embed="rId4"/>
          <a:stretch/>
        </p:blipFill>
        <p:spPr>
          <a:xfrm>
            <a:off x="6477120" y="556272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"/>
          <p:cNvPicPr/>
          <p:nvPr/>
        </p:nvPicPr>
        <p:blipFill>
          <a:blip r:embed="rId5"/>
          <a:stretch/>
        </p:blipFill>
        <p:spPr>
          <a:xfrm>
            <a:off x="4343400" y="52578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6"/>
          <a:stretch/>
        </p:blipFill>
        <p:spPr>
          <a:xfrm>
            <a:off x="5562720" y="5486400"/>
            <a:ext cx="1336680" cy="868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"/>
          <p:cNvPicPr/>
          <p:nvPr/>
        </p:nvPicPr>
        <p:blipFill>
          <a:blip r:embed="rId7"/>
          <a:stretch/>
        </p:blipFill>
        <p:spPr>
          <a:xfrm>
            <a:off x="1143000" y="1219320"/>
            <a:ext cx="6878520" cy="4273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3"/>
          <p:cNvSpPr/>
          <p:nvPr/>
        </p:nvSpPr>
        <p:spPr>
          <a:xfrm>
            <a:off x="7010280" y="335268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ost of the cattail gets eaten by the cricke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4" descr=""/>
          <p:cNvPicPr/>
          <p:nvPr/>
        </p:nvPicPr>
        <p:blipFill>
          <a:blip r:embed="rId8"/>
          <a:stretch/>
        </p:blipFill>
        <p:spPr>
          <a:xfrm>
            <a:off x="2819520" y="8380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878880" cy="42735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5867280" y="50292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ow the crickets don’t have enough food so their numbers go dow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2809800" cy="6728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2809800" cy="673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1219320" y="1066680"/>
            <a:ext cx="2809800" cy="673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co2"/>
          <p:cNvPicPr/>
          <p:nvPr/>
        </p:nvPicPr>
        <p:blipFill>
          <a:blip r:embed="rId1"/>
          <a:stretch/>
        </p:blipFill>
        <p:spPr>
          <a:xfrm>
            <a:off x="990720" y="1797120"/>
            <a:ext cx="6858000" cy="4257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609480" y="304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..and so on. Numbers of each species have an effect on the numbers of the other species in the web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se the food web worksheet to predict  what might happen in the following situati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) There is very little rain and much of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sh Grass and Cattail die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)  Humans nearby bring cats into the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)  The frogs eats some poisoned slugs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om a ga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eeding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food chain shows a simple feeding relation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n  →  grass  →  rabbit →  fo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027"/>
          <p:cNvSpPr/>
          <p:nvPr/>
        </p:nvSpPr>
        <p:spPr>
          <a:xfrm>
            <a:off x="2556000" y="2349360"/>
            <a:ext cx="63370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ff0000"/>
                </a:solidFill>
                <a:latin typeface="Times New Roman"/>
              </a:rPr>
              <a:t>All food chains start with ENERGY from the sun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ig30"/>
          <p:cNvPicPr/>
          <p:nvPr/>
        </p:nvPicPr>
        <p:blipFill>
          <a:blip r:embed="rId1"/>
          <a:stretch/>
        </p:blipFill>
        <p:spPr>
          <a:xfrm>
            <a:off x="990720" y="1143000"/>
            <a:ext cx="7183440" cy="47624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756440" y="16765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bon dioxide from the ai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631560" y="3200400"/>
            <a:ext cx="14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from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nlight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or light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6720" y="3429000"/>
            <a:ext cx="12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from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oot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88320" y="4724280"/>
            <a:ext cx="196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ported to th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t of the plan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380880" y="3049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120" y="1143000"/>
            <a:ext cx="7619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Because plants </a:t>
            </a:r>
            <a:r>
              <a:rPr b="1" i="1" lang="en-GB" sz="33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r>
              <a:rPr b="1" lang="en-GB" sz="3300" spc="-1" strike="noStrike">
                <a:solidFill>
                  <a:srgbClr val="000000"/>
                </a:solidFill>
                <a:latin typeface="Times New Roman"/>
              </a:rPr>
              <a:t> their own food, they are called ‘Producers’</a:t>
            </a:r>
            <a:endParaRPr b="0" i="1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4572000" y="32767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39589895mpnisC_ph"/>
          <p:cNvPicPr/>
          <p:nvPr/>
        </p:nvPicPr>
        <p:blipFill>
          <a:blip r:embed="rId1"/>
          <a:stretch/>
        </p:blipFill>
        <p:spPr>
          <a:xfrm>
            <a:off x="776160" y="588960"/>
            <a:ext cx="7589880" cy="5680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energy is then passed on to animals when they eat the pla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12:42:39Z</dcterms:created>
  <dc:creator>WBC</dc:creator>
  <dc:description/>
  <dc:language>en-US</dc:language>
  <cp:lastModifiedBy>LEGION2</cp:lastModifiedBy>
  <dcterms:modified xsi:type="dcterms:W3CDTF">2015-12-15T09:28:54Z</dcterms:modified>
  <cp:revision>52</cp:revision>
  <dc:subject/>
  <dc:title>Feeding Relationships</dc:title>
</cp:coreProperties>
</file>