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gif" ContentType="image/gi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3FF-6A44-4251-9EDB-7BDC556A6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555F-4A9F-4FC8-A0EB-1D42C42C83A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8160-3F84-486A-9EF6-F3A75B349E0E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DB9-8FEA-49C7-8969-88642D89D89F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BDCF2-BBA3-413A-A152-FC0D74FD82E1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5864-1D9B-4F71-B0A1-98C62C81839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360F-EDCA-4E3E-B8A1-8EBF40B6DF60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085C-9CCB-4600-B436-D64786A47A2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139-79E7-4733-8632-F37D4C5DC02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29C7-BF02-4B0D-8D81-C57CEE629A2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8211F-4B56-4B3E-BAEB-7F58465FA7F2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FBB9-2931-4889-A8B3-65FAC1A32FE5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EF6D-75EB-4113-A95E-57F8ECB45896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3CFD-6057-4F4B-B9BA-4D81B974E29B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797-874C-4AF5-B189-7531DD107548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25E8-F490-4064-87D4-A3D4F5681489}" type="slidenum"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A91-ACFD-43A2-9C9F-8D416519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273-94DC-4C91-91F4-59800F1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DE43-1233-47F0-9351-5F1E654E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337-967F-4771-B795-E30EE6E0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B8BDA-1150-4CA2-AF93-83510FE8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71F-EB4B-4C03-9EEF-4475560F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678B-2D3F-41BF-ABF6-5440A45C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39D1-84C0-4A7F-878D-E6EDE154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D47A-57AD-40CF-BA40-58D6787B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B329-D7FB-41C6-B0D0-CFD5F67D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CBB8-1ECC-4785-8D49-8989BA7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FA79-F7F8-4CA2-9296-665A40E6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0744-AA77-4CBB-B74D-729660AA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2E4D-3C1A-4D7F-9FCB-5A0DC8B5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5292-548F-4706-8A75-F18ADF9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BE74-D0D0-4004-B2D8-46A7194D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01C03-93BF-4637-A02E-7C12A483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CD92-7CE4-4924-BD0F-26EB32B4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769-E6FB-4121-A0FC-F22731E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8683-A068-404E-803E-1F81AEB91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FADC-93E1-4BC9-8480-B30BBCFA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775-8FDC-4499-B9E1-D4BBFB6E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EED6-98C9-49F6-B407-C6CC6211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8AE-60CF-4392-B2E4-2A14F63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D221-FFFC-4B0E-A50C-E223D438640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FAF3-73DC-42E5-A447-B7313BA5BB0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Ecology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: </a:t>
            </a:r>
            <a:br>
              <a:rPr sz="4400"/>
            </a:b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81280" y="4343400"/>
            <a:ext cx="5105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 a hierarchy of organiz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environ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Biosphe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urface of the earth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omposed of many ecosyste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</a:rPr>
              <a:t>Ecosyste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arge or small as we dec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ackyard, O’Melveney Park, Hedge along Room 110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Picture 4" descr="globe2"/>
          <p:cNvPicPr/>
          <p:nvPr/>
        </p:nvPicPr>
        <p:blipFill>
          <a:blip r:embed="rId1"/>
          <a:stretch/>
        </p:blipFill>
        <p:spPr>
          <a:xfrm>
            <a:off x="7086600" y="2286000"/>
            <a:ext cx="1206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305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one species live in one place at one ti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Community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All populations (diff. species) that live in a particular are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Picture 5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Levels of organization - Term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449532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Habita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physical location of commu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</a:rPr>
              <a:t>Organism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– simplest level of organiz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4" descr="levels_4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447920" y="4648320"/>
            <a:ext cx="7315200" cy="15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Very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an contain 100’s to 1000’s of interacting speci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Picture 5" descr="levels_4"/>
          <p:cNvPicPr/>
          <p:nvPr/>
        </p:nvPicPr>
        <p:blipFill>
          <a:blip r:embed="rId1"/>
          <a:stretch/>
        </p:blipFill>
        <p:spPr>
          <a:xfrm>
            <a:off x="2057400" y="990720"/>
            <a:ext cx="56386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N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23520" y="4190760"/>
            <a:ext cx="691524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Ecology is an integrated and dynamic study of the environmen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Origin of the word…”ecology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32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Greek origi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IKOS = househol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LOGOS = study of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tudy of the “house/environment” in which we li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Ecology is study of interactions betwee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non-living components in the environment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light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win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nutrients in soi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heat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olar radiation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4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tmosphere, etc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ND…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Picture 8" descr="bd05217_"/>
          <p:cNvPicPr/>
          <p:nvPr/>
        </p:nvPicPr>
        <p:blipFill>
          <a:blip r:embed="rId1"/>
          <a:stretch/>
        </p:blipFill>
        <p:spPr>
          <a:xfrm>
            <a:off x="4495680" y="2362320"/>
            <a:ext cx="449604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Living organisms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lant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imal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icroorganisms in soil, etc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6" name="Picture 10" descr="bd05223_"/>
          <p:cNvPicPr/>
          <p:nvPr/>
        </p:nvPicPr>
        <p:blipFill>
          <a:blip r:embed="rId1"/>
          <a:stretch/>
        </p:blipFill>
        <p:spPr>
          <a:xfrm>
            <a:off x="2895480" y="2971800"/>
            <a:ext cx="62485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o study Ecology involves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449604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non-living (a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limat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ydr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Oceanograph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c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Chemistr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e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soil analysi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181480" y="22860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029200" y="1828800"/>
            <a:ext cx="3733920" cy="40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i="1" lang="en-US" sz="3200" spc="-1" strike="noStrike">
                <a:solidFill>
                  <a:srgbClr val="333333"/>
                </a:solidFill>
                <a:latin typeface="MS Reference Sans Serif"/>
              </a:rPr>
              <a:t>For living (biotic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animal behavio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Taxonom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Physiolo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mathematics (population studie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3962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cology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views each locale as an integrated whole of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interdependent part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that function as a uni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3" name="Picture 4" descr="btundra"/>
          <p:cNvPicPr/>
          <p:nvPr/>
        </p:nvPicPr>
        <p:blipFill>
          <a:blip r:embed="rId1"/>
          <a:stretch/>
        </p:blipFill>
        <p:spPr>
          <a:xfrm>
            <a:off x="762120" y="28195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Caribou"/>
          <p:cNvPicPr/>
          <p:nvPr/>
        </p:nvPicPr>
        <p:blipFill>
          <a:blip r:embed="rId2"/>
          <a:stretch/>
        </p:blipFill>
        <p:spPr>
          <a:xfrm>
            <a:off x="5410080" y="2895480"/>
            <a:ext cx="3429000" cy="2556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286000" y="5867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6477120" y="54864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interdependent parts are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723920" y="91404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Nonliv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dead organic matt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nutrients in the soil and water.</a:t>
            </a: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Produc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green pla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Picture 4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752480" y="4191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00240" y="914400"/>
            <a:ext cx="4343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Consumers</a:t>
            </a:r>
            <a:r>
              <a:rPr b="0" lang="en-US" sz="3200" spc="-1" strike="noStrike">
                <a:solidFill>
                  <a:srgbClr val="333333"/>
                </a:solidFill>
                <a:latin typeface="MS Reference Sans Serif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herbivores and carnivor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33333"/>
                </a:solidFill>
                <a:uFillTx/>
                <a:latin typeface="MS Reference Sans Serif"/>
              </a:rPr>
              <a:t>Decompose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MS Reference Sans Serif"/>
              </a:rPr>
              <a:t>fungi and bacteria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3" name="Picture 3" descr="btundra"/>
          <p:cNvPicPr/>
          <p:nvPr/>
        </p:nvPicPr>
        <p:blipFill>
          <a:blip r:embed="rId1"/>
          <a:stretch/>
        </p:blipFill>
        <p:spPr>
          <a:xfrm>
            <a:off x="685800" y="10666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aribou"/>
          <p:cNvPicPr/>
          <p:nvPr/>
        </p:nvPicPr>
        <p:blipFill>
          <a:blip r:embed="rId2"/>
          <a:stretch/>
        </p:blipFill>
        <p:spPr>
          <a:xfrm>
            <a:off x="5334120" y="3962520"/>
            <a:ext cx="3429000" cy="2555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213372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und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8128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Caribou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04:31:59Z</dcterms:created>
  <dc:creator>Charlene Hisayasu</dc:creator>
  <dc:description/>
  <dc:language>en-US</dc:language>
  <cp:lastModifiedBy>RK</cp:lastModifiedBy>
  <dcterms:modified xsi:type="dcterms:W3CDTF">2015-12-11T14:27:48Z</dcterms:modified>
  <cp:revision>32</cp:revision>
  <dc:subject/>
  <dc:title>What is Ecology?</dc:title>
</cp:coreProperties>
</file>