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gif" ContentType="image/gi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3FB1-F85A-423E-87E2-330E14C731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2B45-C2CC-46AF-95F5-AD434CBBD2D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9F5E-6C8F-4559-A467-BCBE96DEE81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A660-B537-487B-BA88-D441A44C3F7F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AD98-D890-4B8E-BCD0-14FBF21CBE25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D478-EFA5-4F74-AA60-98C59D16DBC4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8CD2-D938-4676-82C9-9CD525F2B3D0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3486-0471-46D8-AAE5-20A5A0AB8781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E157-5ADB-4972-9E6C-F2D14E089F2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B089-3309-465C-995D-85110F2C6C9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710B-C6EE-43EA-A9E2-A625927BACF1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96F6-88E4-4097-A45F-0F745FFF8A9F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41CC-81DC-4A64-BF20-95586D07A63A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55EF-FBA9-41C6-9E9B-DC450211BC0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5A33-1448-4C2B-AEE0-D7F869D363C0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5515-AF53-4D4B-996A-BC60E78FB0B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61A-E0B6-4FB2-9791-3039A280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0DA-DE6E-464E-9428-CD4E4F78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8BE0-48C5-4B5B-8AEA-B1600EF0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ADDD-F2FC-407E-A7A5-B09601BA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AF0C-1226-4A5B-85F1-D7A121A7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62A8-67F7-4A31-BBFE-F16DFD82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0CEA-7DCD-4DCC-907B-4209506A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E215-E17E-4ED8-ABBD-BC909940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5255-D59A-497C-AA9B-E7288090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91EA-94CC-4351-A2AB-8B549C25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082E-D874-41B0-8BD9-92CCF1A8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3D7-44AF-493B-99AC-987879D7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522D-F95C-4A8B-9440-8DD6F3C1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6978-A9CE-4F65-8619-1F87A8F1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02A5-77D6-41CF-88CB-220D90C8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AA2D-48A6-4541-AE87-A834C317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5B83-DCBE-45DA-88F8-911DB781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BB6-67D0-4102-B52E-88DFD9F1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240-E2EC-4ECA-87D2-56C4D4AA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623-6741-4CCF-9BF2-9E1F6024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0CB5-3E53-4FF3-B90A-F31D0876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2481-BA9A-43F8-926D-8903B35D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FBE9-5468-4FCE-9BA5-166D993F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B89-C5FD-4EE6-8FE4-FB73E528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3673-DE27-4773-839B-E52FA61787F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6CA3-2C1B-426B-90A3-5523AEDF468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Ecology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LOGY: 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581280" y="43434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- a hierarchy of organiz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enviro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Biosph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urface of the earth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mposed of many ecosyst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Ecosyste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arge or small as we decid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ackyard, O’Melveney Park, Hedge along Room 110, et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4" descr="globe2"/>
          <p:cNvPicPr/>
          <p:nvPr/>
        </p:nvPicPr>
        <p:blipFill>
          <a:blip r:embed="rId1"/>
          <a:stretch/>
        </p:blipFill>
        <p:spPr>
          <a:xfrm>
            <a:off x="7086600" y="2286000"/>
            <a:ext cx="1206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44953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Population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one species live in one place at one ti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Community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All populations (diff. species) that live in a particular are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Picture 5" descr="levels_4"/>
          <p:cNvPicPr/>
          <p:nvPr/>
        </p:nvPicPr>
        <p:blipFill>
          <a:blip r:embed="rId1"/>
          <a:stretch/>
        </p:blipFill>
        <p:spPr>
          <a:xfrm>
            <a:off x="2514600" y="1523880"/>
            <a:ext cx="42670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449532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Habita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physical location of communit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Organism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simplest level of organiz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Picture 4" descr="levels_4"/>
          <p:cNvPicPr/>
          <p:nvPr/>
        </p:nvPicPr>
        <p:blipFill>
          <a:blip r:embed="rId1"/>
          <a:stretch/>
        </p:blipFill>
        <p:spPr>
          <a:xfrm>
            <a:off x="2514600" y="1523880"/>
            <a:ext cx="42670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447920" y="4648320"/>
            <a:ext cx="7315200" cy="15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Very comple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an contain 100’s to 1000’s of interacting speci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Picture 5" descr="levels_4"/>
          <p:cNvPicPr/>
          <p:nvPr/>
        </p:nvPicPr>
        <p:blipFill>
          <a:blip r:embed="rId1"/>
          <a:stretch/>
        </p:blipFill>
        <p:spPr>
          <a:xfrm>
            <a:off x="2057400" y="990720"/>
            <a:ext cx="56386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N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523520" y="4190760"/>
            <a:ext cx="691524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cology is an integrated and dynamic study of the environmen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Origin of the word…”ecology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reek origi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IKOS = househol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OGOS = study of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udy of the “house/environment” in which we l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cology is study of interactions betwee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non-living components in the environment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light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win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nutrients in soi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hea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olar radia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tmosphere, etc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D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8" descr="bd05217_"/>
          <p:cNvPicPr/>
          <p:nvPr/>
        </p:nvPicPr>
        <p:blipFill>
          <a:blip r:embed="rId1"/>
          <a:stretch/>
        </p:blipFill>
        <p:spPr>
          <a:xfrm>
            <a:off x="4495680" y="2362320"/>
            <a:ext cx="449604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120" y="9907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Living organisms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lant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nima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icroorganisms in soil, et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Picture 10" descr="bd05223_"/>
          <p:cNvPicPr/>
          <p:nvPr/>
        </p:nvPicPr>
        <p:blipFill>
          <a:blip r:embed="rId1"/>
          <a:stretch/>
        </p:blipFill>
        <p:spPr>
          <a:xfrm>
            <a:off x="2895480" y="2971800"/>
            <a:ext cx="62485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o study Ecology involves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49604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For non-living (abiotic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Climat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Hydr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Oceanograph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Physic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Chemist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Ge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soil analysis, 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181480" y="22860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029200" y="1828800"/>
            <a:ext cx="3733920" cy="40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For living (biotic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animal behavi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Taxonom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Physi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mathematics (population studi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39625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logy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views each locale as an integrated whole of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interdependent part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that function as a uni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4" descr="btundra"/>
          <p:cNvPicPr/>
          <p:nvPr/>
        </p:nvPicPr>
        <p:blipFill>
          <a:blip r:embed="rId1"/>
          <a:stretch/>
        </p:blipFill>
        <p:spPr>
          <a:xfrm>
            <a:off x="762120" y="2819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aribou"/>
          <p:cNvPicPr/>
          <p:nvPr/>
        </p:nvPicPr>
        <p:blipFill>
          <a:blip r:embed="rId2"/>
          <a:stretch/>
        </p:blipFill>
        <p:spPr>
          <a:xfrm>
            <a:off x="5410080" y="2895480"/>
            <a:ext cx="3429000" cy="2556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286000" y="5867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477120" y="5486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ribo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interdependent parts are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723920" y="91404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Nonliv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dead organic mat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nutrients in the soil and water.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Producer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green plan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Picture 4" descr="btundra"/>
          <p:cNvPicPr/>
          <p:nvPr/>
        </p:nvPicPr>
        <p:blipFill>
          <a:blip r:embed="rId1"/>
          <a:stretch/>
        </p:blipFill>
        <p:spPr>
          <a:xfrm>
            <a:off x="685800" y="10666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752480" y="4191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800240" y="914400"/>
            <a:ext cx="4343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Consumer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herbivores and carnivor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Decompose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fungi and bacteria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3" descr="btundra"/>
          <p:cNvPicPr/>
          <p:nvPr/>
        </p:nvPicPr>
        <p:blipFill>
          <a:blip r:embed="rId1"/>
          <a:stretch/>
        </p:blipFill>
        <p:spPr>
          <a:xfrm>
            <a:off x="685800" y="10666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aribou"/>
          <p:cNvPicPr/>
          <p:nvPr/>
        </p:nvPicPr>
        <p:blipFill>
          <a:blip r:embed="rId2"/>
          <a:stretch/>
        </p:blipFill>
        <p:spPr>
          <a:xfrm>
            <a:off x="5334120" y="3962520"/>
            <a:ext cx="3429000" cy="2555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213372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58128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ribo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04:31:59Z</dcterms:created>
  <dc:creator>Charlene Hisayasu</dc:creator>
  <dc:description/>
  <dc:language>en-US</dc:language>
  <cp:lastModifiedBy>RK</cp:lastModifiedBy>
  <dcterms:modified xsi:type="dcterms:W3CDTF">2015-12-11T14:27:48Z</dcterms:modified>
  <cp:revision>32</cp:revision>
  <dc:subject/>
  <dc:title>What is Ecology?</dc:title>
</cp:coreProperties>
</file>