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DF83-397D-4938-AA86-6DAC8C828E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2804-B702-485C-A678-ED17622A3E7A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C215-0155-4756-B930-DF05A325DE9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1DD2-9306-4FE7-832F-900B829B641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734C-7F9E-4A68-924B-BB2E8625C3FD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A495-F0EA-496E-955B-E62ABFFF270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F17E-F3AB-4F75-BAB1-4D989CC6D2B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A495-0081-431B-A5E4-683D1CFFAE0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54FC-443D-4650-BED8-23F1AAB32A5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6EBE-3145-4468-845C-9A56127514A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F07A-19E4-4AB6-962B-3F61424032D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6BFC-31BA-4D83-9BF7-4BEEE3B8A39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FB92-9D3C-469A-BB34-3DC755EF3DD3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12E7-E3BB-4A58-A5AB-5B6FF1772D8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A805-1134-406C-B37E-D5D923D08164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549E-B3F4-40A4-9663-9F4EEE653697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8DB-C2FD-49F5-8245-17B200A0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94A-CFD3-48A9-800E-C669D99C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034-28D2-4F53-A214-B625DEFB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31A-02AA-43B5-B649-46084FB3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3D7D-0DBF-4BA4-A4E5-E6C54E64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27FD-290E-4473-94C5-8DBDF88B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AA80-1A66-4F58-9B33-21DFCF91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5F16-5ABE-44BF-8423-54137F82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3291-6378-45B8-8C38-1C47F9E8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F9BB-72B6-4B95-AD36-D7B3092C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AE8E-D244-4FE0-A5B4-2E3C04D3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7A46-0584-40DA-9E2D-086E7C7D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FB5D-E6DC-40F3-8310-73181296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D6B4-A752-4AEE-AFAB-F905D2A7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C44E-FCAF-4D4F-BEDB-C8B5BF2B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3C9F-D4B8-4D9C-99C3-A919FD7A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17DB-9CFA-4F98-87F1-801C31CD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0FF-53AE-42C9-B2FF-19C955A0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2E6-635F-4404-A40C-158ADF49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D65-F491-4249-A536-7466DC93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B70-D647-4358-B99B-A4DEBE60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A4A-FC77-4272-8094-C57EE056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8A2-4B59-4A06-9C99-A7C30DBF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816-4B99-4F10-8D67-14D821A8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EFA7-1D43-4965-B66C-0D6E09A0AA7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EC13-3399-4F1B-9AC9-1E2553CBD1A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Ecology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: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581280" y="43434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 a hierarchy of organiz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Biosph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urface of the earth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osed of many ecosyst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Ecosyste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arge or small as we decid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ackyard, O’Melveney Park, Hedge along Room 110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4" descr="globe2"/>
          <p:cNvPicPr/>
          <p:nvPr/>
        </p:nvPicPr>
        <p:blipFill>
          <a:blip r:embed="rId1"/>
          <a:stretch/>
        </p:blipFill>
        <p:spPr>
          <a:xfrm>
            <a:off x="7086600" y="2286000"/>
            <a:ext cx="1206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44953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Populatio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one species live in one place at one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mmunit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ll populations (diff. species) that live in a particular are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5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449532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Habita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physical location of communit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Organis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simplest level of organiz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Picture 4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447920" y="4648320"/>
            <a:ext cx="7315200" cy="15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ery comple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n contain 100’s to 1000’s of interacting speci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5" descr="levels_4"/>
          <p:cNvPicPr/>
          <p:nvPr/>
        </p:nvPicPr>
        <p:blipFill>
          <a:blip r:embed="rId1"/>
          <a:stretch/>
        </p:blipFill>
        <p:spPr>
          <a:xfrm>
            <a:off x="2057400" y="990720"/>
            <a:ext cx="56386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N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23520" y="4190760"/>
            <a:ext cx="691524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cology is an integrated and dynamic study of the environmen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rigin of the word…”ecology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eek origi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IKOS = househol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OGOS = study of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udy of the “house/environment” in which we 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cology is study of interactions betwee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non-living components in the environment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light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nutrients in soi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ea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olar radi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tmosphere, etc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D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8" descr="bd05217_"/>
          <p:cNvPicPr/>
          <p:nvPr/>
        </p:nvPicPr>
        <p:blipFill>
          <a:blip r:embed="rId1"/>
          <a:stretch/>
        </p:blipFill>
        <p:spPr>
          <a:xfrm>
            <a:off x="4495680" y="2362320"/>
            <a:ext cx="449604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Living organisms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icroorganisms in soil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Picture 10" descr="bd05223_"/>
          <p:cNvPicPr/>
          <p:nvPr/>
        </p:nvPicPr>
        <p:blipFill>
          <a:blip r:embed="rId1"/>
          <a:stretch/>
        </p:blipFill>
        <p:spPr>
          <a:xfrm>
            <a:off x="2895480" y="2971800"/>
            <a:ext cx="6248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 study Ecology involves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49604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non-living (a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limat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ydr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Oceanograph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c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hemist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e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soil analysis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181480" y="2286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029200" y="1828800"/>
            <a:ext cx="373392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living (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animal behavi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Taxonom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mathematics (population studi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3962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views each locale as an integrated whole of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interdependent part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that function as a un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4" descr="btundra"/>
          <p:cNvPicPr/>
          <p:nvPr/>
        </p:nvPicPr>
        <p:blipFill>
          <a:blip r:embed="rId1"/>
          <a:stretch/>
        </p:blipFill>
        <p:spPr>
          <a:xfrm>
            <a:off x="762120" y="2819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aribou"/>
          <p:cNvPicPr/>
          <p:nvPr/>
        </p:nvPicPr>
        <p:blipFill>
          <a:blip r:embed="rId2"/>
          <a:stretch/>
        </p:blipFill>
        <p:spPr>
          <a:xfrm>
            <a:off x="5410080" y="2895480"/>
            <a:ext cx="3429000" cy="2556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28600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477120" y="5486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interdependent parts are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723920" y="91404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Nonliv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dead organic mat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nutrients in the soil and water.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Produc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reen pla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Picture 4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752480" y="4191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800240" y="91440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Consum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erbivores and carnivo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Decompos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fungi and bacteria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3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aribou"/>
          <p:cNvPicPr/>
          <p:nvPr/>
        </p:nvPicPr>
        <p:blipFill>
          <a:blip r:embed="rId2"/>
          <a:stretch/>
        </p:blipFill>
        <p:spPr>
          <a:xfrm>
            <a:off x="5334120" y="3962520"/>
            <a:ext cx="342900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1337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58128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4:31:59Z</dcterms:created>
  <dc:creator>Charlene Hisayasu</dc:creator>
  <dc:description/>
  <dc:language>en-US</dc:language>
  <cp:lastModifiedBy>RK</cp:lastModifiedBy>
  <dcterms:modified xsi:type="dcterms:W3CDTF">2015-12-11T14:27:48Z</dcterms:modified>
  <cp:revision>32</cp:revision>
  <dc:subject/>
  <dc:title>What is Ecology?</dc:title>
</cp:coreProperties>
</file>