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B338-5F66-41AF-B694-1B86BAAB41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D60E-A201-460B-94C4-735216E5623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DAA-5386-449A-89E3-374CA46C155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3463-68B3-4F2B-9CAA-851A4B8FFA1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94DD-D58A-4B07-9760-680148B0BAC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9951-80A9-4859-94BC-341CE5EF352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14E5-BD43-43C6-BC50-F07588F4418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E954-B6F2-46C6-B731-F970FAC1811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6182-DFBD-4723-B49B-4625110133C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566B-BE59-4380-ADBC-5DDFC2C5D79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9D46-04AB-4241-A2CF-4C28015D913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2266-445D-4D81-9936-E7608B3A908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4441-E17A-4C74-AF37-C436037742B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8190-A08C-4A4B-8D7F-7D1ABA35DFA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DBFF-AEB0-493F-98C6-7C1B3F45C86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2934-ED11-4AE2-ACD2-1A4C977815A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269-A4D6-4EBB-8881-E099D40C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8F6-840F-401F-8C65-00A95B99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99D-1F04-4509-B9CC-B5C830BC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5CC-A943-4FFF-A921-8BBD7B02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F093-76C8-4333-A72B-28EC617A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F411-7069-4E63-AC20-8B4802EB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2AD0-37B0-439F-9C2A-9F1AA0F9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E75A-065C-4055-9318-E47F7E2F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50F8-93B5-4897-9B6E-5EA735B4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71CE-E5F5-4C66-A79E-6BED766F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7782-567E-4908-9DC0-8973F0B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4BE-4D96-4188-B583-0E9FD0B3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8DC8-1929-4DBD-9EBB-AB533C51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2148-2BD9-4E4F-BCB3-C7931876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C1A6-F7CA-48D9-A096-2AB48672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D452-A147-444C-884A-784DF402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F374-A380-46D0-A108-04D1898D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D46-CD1A-4CF8-8DD9-E007AEE7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A5D-578E-4203-9894-F6830EF6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79F-AE8A-4BA7-8961-6B72A2EC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A6C-5F42-43E3-BD23-359EFDE8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006-6161-4FF7-ADEE-ADAAFCEF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629-62A4-48D9-B2BF-E192DF90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3F8-E61D-48B0-B2FD-0844485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D590-E857-4D62-A795-99B795CB5DE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2E8A-0E85-43BD-A300-A739DF4C375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Ecology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: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81280" y="43434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a hierarchy of organiz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Biosph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urface of the eart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osed of many ecosyst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Ecosyste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rge or small as we deci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ackyard, O’Melveney Park, Hedge along Room 110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4" descr="globe2"/>
          <p:cNvPicPr/>
          <p:nvPr/>
        </p:nvPicPr>
        <p:blipFill>
          <a:blip r:embed="rId1"/>
          <a:stretch/>
        </p:blipFill>
        <p:spPr>
          <a:xfrm>
            <a:off x="7086600" y="2286000"/>
            <a:ext cx="1206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one species live in one place at one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mmunit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ll populations (diff. species) that live in a particular are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5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44953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Habita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physical location of commun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simplest level of organiz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4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447920" y="4648320"/>
            <a:ext cx="7315200" cy="15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ery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contain 100’s to 1000’s of interacting spec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levels_4"/>
          <p:cNvPicPr/>
          <p:nvPr/>
        </p:nvPicPr>
        <p:blipFill>
          <a:blip r:embed="rId1"/>
          <a:stretch/>
        </p:blipFill>
        <p:spPr>
          <a:xfrm>
            <a:off x="2057400" y="990720"/>
            <a:ext cx="56386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N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23520" y="4190760"/>
            <a:ext cx="691524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cology is an integrated and dynamic study of the 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rigin of the word…”ecology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eek origi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IKOS = househol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GOS = study of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the “house/environment” in which we 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cology is study of interactions betwee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non-living components in the environmen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ligh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utrients in soi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olar radi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tmosphere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D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8" descr="bd05217_"/>
          <p:cNvPicPr/>
          <p:nvPr/>
        </p:nvPicPr>
        <p:blipFill>
          <a:blip r:embed="rId1"/>
          <a:stretch/>
        </p:blipFill>
        <p:spPr>
          <a:xfrm>
            <a:off x="4495680" y="2362320"/>
            <a:ext cx="44960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iving organisms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icroorganisms in soil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10" descr="bd05223_"/>
          <p:cNvPicPr/>
          <p:nvPr/>
        </p:nvPicPr>
        <p:blipFill>
          <a:blip r:embed="rId1"/>
          <a:stretch/>
        </p:blipFill>
        <p:spPr>
          <a:xfrm>
            <a:off x="2895480" y="2971800"/>
            <a:ext cx="6248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 study Ecology involves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960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non-living (a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limat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ydr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Oceanograph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hemist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e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soil analysi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181480" y="2286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029200" y="1828800"/>
            <a:ext cx="373392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living (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animal behavi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Taxonom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mathematics (population studi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3962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views each locale as an integrated whole of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interdependent part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that function as a un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4" descr="btundra"/>
          <p:cNvPicPr/>
          <p:nvPr/>
        </p:nvPicPr>
        <p:blipFill>
          <a:blip r:embed="rId1"/>
          <a:stretch/>
        </p:blipFill>
        <p:spPr>
          <a:xfrm>
            <a:off x="762120" y="2819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aribou"/>
          <p:cNvPicPr/>
          <p:nvPr/>
        </p:nvPicPr>
        <p:blipFill>
          <a:blip r:embed="rId2"/>
          <a:stretch/>
        </p:blipFill>
        <p:spPr>
          <a:xfrm>
            <a:off x="5410080" y="2895480"/>
            <a:ext cx="3429000" cy="2556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28600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477120" y="5486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interdependent parts are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23920" y="9140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Nonliv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dead organic m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nutrients in the soil and water.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Produc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reen pla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752480" y="4191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Consum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erbivores and carniv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Decompos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fungi and bacteria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3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aribou"/>
          <p:cNvPicPr/>
          <p:nvPr/>
        </p:nvPicPr>
        <p:blipFill>
          <a:blip r:embed="rId2"/>
          <a:stretch/>
        </p:blipFill>
        <p:spPr>
          <a:xfrm>
            <a:off x="5334120" y="3962520"/>
            <a:ext cx="342900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1337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812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31:59Z</dcterms:created>
  <dc:creator>Charlene Hisayasu</dc:creator>
  <dc:description/>
  <dc:language>en-US</dc:language>
  <cp:lastModifiedBy>RK</cp:lastModifiedBy>
  <dcterms:modified xsi:type="dcterms:W3CDTF">2015-12-11T14:27:48Z</dcterms:modified>
  <cp:revision>32</cp:revision>
  <dc:subject/>
  <dc:title>What is Ecology?</dc:title>
</cp:coreProperties>
</file>