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chimes.wav" ContentType="audio/x-wav"/>
  <Override PartName="/ppt/media/image8.png" ContentType="image/png"/>
  <Override PartName="/ppt/media/image14.jpeg" ContentType="image/jpeg"/>
  <Override PartName="/ppt/media/image16.wmf" ContentType="image/x-wmf"/>
  <Override PartName="/ppt/media/image22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84F4-27CA-40D0-B855-90037991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709-0FC5-4165-AD24-6AF78C14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04B-CCD8-4018-B253-F71B57EA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56A-DE49-46B1-95CD-7CEF2543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549E-E1E2-4EC6-B622-1798A1E1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7CF8-14A0-47E8-8EC8-C16C6AD5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7AB6-CE3B-4359-8018-51F711CF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1646-56AD-4F7E-A964-F5138473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88EF-EE15-4522-A9F1-300FD55D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DBEB-0C59-4975-B3B9-8FC7EB19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50B2-756A-4237-A90F-D61B076F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7FD-431E-45F9-B6A9-6D1CCE19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D635-6A4F-40CC-B383-EA245602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989E-EF2C-4CF1-91AD-54B814DC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C285-F9B7-4804-B38F-BFF380FA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86F7-EDBE-49A9-8AFC-8750CD2F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B68C-A655-42FC-89EC-81661AFE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0150-B813-4169-A4F4-2BB04258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2BB-D644-4871-A876-FA3F953A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3FB-5CCF-4293-AE49-C85D3277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3B8-B569-452E-8E60-2FAA0760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091-C6DE-46F6-866D-210B1D8A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C479-4E8C-43D5-A81B-F999874F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D933-8C90-480B-B58A-5687A7BF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90B9-E807-43D8-91E4-8E8239338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866E-F3A2-46CD-A70F-38F17ADE7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6248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Food Produ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Action in Pla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0440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How does the water get into plant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14800" y="15238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absorbed through root hair cells by </a:t>
            </a: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osmosis 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water moves from an area of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high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 water concentration to a region of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low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 water concent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0" y="1676520"/>
          <a:ext cx="4419720" cy="38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441972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12"/>
          <p:cNvSpPr/>
          <p:nvPr/>
        </p:nvSpPr>
        <p:spPr>
          <a:xfrm>
            <a:off x="380880" y="5638680"/>
            <a:ext cx="7162920" cy="825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root hair cell has a large surface area and thin walls to help water up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Osmo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23" name="Object 11"/>
          <p:cNvGraphicFramePr/>
          <p:nvPr/>
        </p:nvGraphicFramePr>
        <p:xfrm>
          <a:off x="304920" y="1066680"/>
          <a:ext cx="693396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693396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4876920" y="3124080"/>
          <a:ext cx="2512800" cy="28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124080"/>
                    <a:ext cx="251280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Line 13"/>
          <p:cNvSpPr/>
          <p:nvPr/>
        </p:nvSpPr>
        <p:spPr>
          <a:xfrm>
            <a:off x="3505320" y="3200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3505320" y="4038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581280" y="51055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676520" y="60199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ively permeable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is water needed in plant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er is required for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er is needed to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aintain turgidit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.e. to keep plants cells rigid and to stop them from losing their shape and going flaccid (flop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aporation of water through stomata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coo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the plant down on a ho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Arial Black"/>
              </a:rPr>
              <a:t>Transporting substances inside the pla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66720" y="990360"/>
            <a:ext cx="350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Xy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issue is made up of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dead cel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joined end to end (with no ‘end wall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ubes contain </a:t>
            </a:r>
            <a:r>
              <a:rPr b="1" lang="en-GB" sz="2400" spc="-1" strike="noStrike" u="sng">
                <a:solidFill>
                  <a:srgbClr val="008000"/>
                </a:solidFill>
                <a:uFillTx/>
                <a:latin typeface="Arial"/>
              </a:rPr>
              <a:t>ligni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hich makes them strong and st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ubes take </a:t>
            </a:r>
            <a:r>
              <a:rPr b="1" lang="en-GB" sz="2400" spc="-1" strike="noStrike" u="sng">
                <a:solidFill>
                  <a:srgbClr val="800080"/>
                </a:solidFill>
                <a:uFillTx/>
                <a:latin typeface="Arial"/>
              </a:rPr>
              <a:t>water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up the plant, along with </a:t>
            </a:r>
            <a:r>
              <a:rPr b="1" lang="en-GB" sz="2400" spc="-1" strike="noStrike" u="sng">
                <a:solidFill>
                  <a:srgbClr val="800080"/>
                </a:solidFill>
                <a:uFillTx/>
                <a:latin typeface="Arial"/>
              </a:rPr>
              <a:t>mineral salt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dissolved in th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7"/>
          <p:cNvGraphicFramePr/>
          <p:nvPr/>
        </p:nvGraphicFramePr>
        <p:xfrm>
          <a:off x="0" y="1905120"/>
          <a:ext cx="419112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419112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33480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 Black"/>
              </a:rPr>
              <a:t>Phloem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tubes are made of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living cel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ith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perforated end-plat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to let substances pass throu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tubes transport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foo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made in the leaves to all other parts of the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ubstances such as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starch, fats and protei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re carried by phloem to the growing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shoot tip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root tip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, and to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storage orga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in the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can transport food in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both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Phloem tube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2666880" y="990720"/>
          <a:ext cx="2324160" cy="52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990720"/>
                    <a:ext cx="2324160" cy="52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929160"/>
            <a:ext cx="746748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Black"/>
              </a:rPr>
              <a:t>A cross-section through a stem, stained to show the phloem and xylem vessel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828800" y="2335320"/>
          <a:ext cx="441972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335320"/>
                    <a:ext cx="441972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What else can get out of leaves through the stomata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112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lost through the stomata during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tran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8"/>
          <p:cNvGraphicFramePr/>
          <p:nvPr/>
        </p:nvGraphicFramePr>
        <p:xfrm>
          <a:off x="228600" y="1965240"/>
          <a:ext cx="396252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65240"/>
                    <a:ext cx="396252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at is transpiration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iration is th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constant flow of water up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caused by th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evaporation of wat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the plant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through the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reates a slight shortage of water in the leaf, which causes more water to be drawn up into the leaf from the rest of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n turn results in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ore water being drawn in through the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is transpiration useful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transports minera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from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coo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the pl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transpiration"/>
          <p:cNvPicPr/>
          <p:nvPr/>
        </p:nvPicPr>
        <p:blipFill>
          <a:blip r:embed="rId1"/>
          <a:stretch/>
        </p:blipFill>
        <p:spPr>
          <a:xfrm>
            <a:off x="228600" y="2190600"/>
            <a:ext cx="36957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lant ce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 cells contain a jelly-like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ll have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usually have a sap-filled va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cell is surrounded by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ound the cell membrane there is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ulose 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 cells in green parts of a plant like leaves also contain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lorop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plant cells"/>
          <p:cNvPicPr/>
          <p:nvPr/>
        </p:nvPicPr>
        <p:blipFill>
          <a:blip r:embed="rId1"/>
          <a:stretch/>
        </p:blipFill>
        <p:spPr>
          <a:xfrm>
            <a:off x="4191120" y="1295280"/>
            <a:ext cx="35049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548280"/>
            <a:ext cx="746748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Black"/>
              </a:rPr>
              <a:t>What factors can affect the rate of water loss through stomata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668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bd05670_"/>
          <p:cNvPicPr/>
          <p:nvPr/>
        </p:nvPicPr>
        <p:blipFill>
          <a:blip r:embed="rId1"/>
          <a:stretch/>
        </p:blipFill>
        <p:spPr>
          <a:xfrm>
            <a:off x="4876920" y="2133720"/>
            <a:ext cx="2819160" cy="164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bd05214_"/>
          <p:cNvPicPr/>
          <p:nvPr/>
        </p:nvPicPr>
        <p:blipFill>
          <a:blip r:embed="rId2"/>
          <a:stretch/>
        </p:blipFill>
        <p:spPr>
          <a:xfrm>
            <a:off x="228600" y="2438280"/>
            <a:ext cx="2209680" cy="2173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na01682_"/>
          <p:cNvPicPr/>
          <p:nvPr/>
        </p:nvPicPr>
        <p:blipFill>
          <a:blip r:embed="rId3"/>
          <a:stretch/>
        </p:blipFill>
        <p:spPr>
          <a:xfrm>
            <a:off x="5029200" y="4267080"/>
            <a:ext cx="275904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do plants need mineral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s need minerals for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healthy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rge amounts of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nitrat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needed for making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rot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maller amounts of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ir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magnesiu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needed to make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nitrogen deficiency &amp; chlorosis"/>
          <p:cNvPicPr/>
          <p:nvPr/>
        </p:nvPicPr>
        <p:blipFill>
          <a:blip r:embed="rId1"/>
          <a:stretch/>
        </p:blipFill>
        <p:spPr>
          <a:xfrm>
            <a:off x="3429000" y="1752480"/>
            <a:ext cx="4267080" cy="2764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724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aves showing varying amounts of magnesium de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-4788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How do plants get their mineral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ts take up some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issolved mineral salt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ever, diffusion will not happen if the concentration of minerals in the soil is greater inside the root (which is usually the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concentration of minerals outside the root is lower than inside, then the root will take up mineral ions by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se minerals ar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essential for a plants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425160"/>
            <a:ext cx="7467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What is active transport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 transport allows the plant to absorb minerals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gainst a concentration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Energ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needed for 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lant gets this energy from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respiration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1295280" y="2149560"/>
          <a:ext cx="525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49560"/>
                    <a:ext cx="525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What are plant hormone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chemicals known a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ux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xins ar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t growth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control the growing parts of the plant, I.e. th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tips of shoots and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xins are made in the tips, they diffuse backwards are lilttle way, and cause cells to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longat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behind the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4807080" y="1295280"/>
          <a:ext cx="223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7080" y="1295280"/>
                    <a:ext cx="223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How can we use plant hormones commercially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put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rooting growth horm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nto the end of a cutting to make new root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enables farmers to mak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lon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desirable plants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very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8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9"/>
          <p:cNvGraphicFramePr/>
          <p:nvPr/>
        </p:nvGraphicFramePr>
        <p:xfrm>
          <a:off x="4076640" y="2190600"/>
          <a:ext cx="3695760" cy="369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6640" y="2190600"/>
                    <a:ext cx="369576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1"/>
          <p:cNvGraphicFramePr/>
          <p:nvPr/>
        </p:nvGraphicFramePr>
        <p:xfrm>
          <a:off x="4267080" y="2743200"/>
          <a:ext cx="2971800" cy="234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2743200"/>
                    <a:ext cx="29718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21888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Other uses for plant hormone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342900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Killing w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ive weedkillers have been developed using plant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weedkillers will broad-leaved plants (which are usually wee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38480" y="837720"/>
            <a:ext cx="3733920" cy="5334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Producing seedless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hormones can be applied to unpollinated f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ormones will cause the fruit to develop and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as the flower was not pollinated, no seeds will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lant tissue cultur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9520" y="14475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rmones are added to the agar jelly that is used for culturing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hormones will cause unspecialised cells to grow into specialised shoo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hormone is used to cause roots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n important method for agriculture and fo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plant tissue culture"/>
          <p:cNvPicPr/>
          <p:nvPr/>
        </p:nvPicPr>
        <p:blipFill>
          <a:blip r:embed="rId1"/>
          <a:stretch/>
        </p:blipFill>
        <p:spPr>
          <a:xfrm>
            <a:off x="228600" y="2300400"/>
            <a:ext cx="35812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Animal ce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76640" y="1523880"/>
            <a:ext cx="3695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imal cells cont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nucleus,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t unlike plant cells they do not have cellulose cell walls or chlorop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1031"/>
          <p:cNvGraphicFramePr/>
          <p:nvPr/>
        </p:nvGraphicFramePr>
        <p:xfrm>
          <a:off x="228600" y="2602080"/>
          <a:ext cx="369576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02080"/>
                    <a:ext cx="369576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hotosynthe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678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This is the process by which plants produce their own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Photosynthesis occurs in the 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hloroplasts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found in cells in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is reacted with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water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to produce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glucose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hlorophyll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sunlight energy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is required for this reaction to tak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Chloroplas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ells found in leaves have lots of chloroplasts for photosynthesis to take place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otosynthesis2"/>
          <p:cNvPicPr/>
          <p:nvPr/>
        </p:nvPicPr>
        <p:blipFill>
          <a:blip r:embed="rId1"/>
          <a:stretch/>
        </p:blipFill>
        <p:spPr>
          <a:xfrm>
            <a:off x="228600" y="2762280"/>
            <a:ext cx="369576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2057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7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7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"/>
          <p:cNvSpPr/>
          <p:nvPr/>
        </p:nvSpPr>
        <p:spPr>
          <a:xfrm>
            <a:off x="2590920" y="12193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57200"/>
            <a:ext cx="9144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</a:t>
            </a:r>
            <a:r>
              <a:rPr b="0" lang="en-GB" sz="1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Sunlight</a:t>
            </a:r>
            <a:r>
              <a:rPr b="0" lang="en-GB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&amp; </a:t>
            </a:r>
            <a:r>
              <a:rPr b="0" lang="en-GB" sz="14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chlorophy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+ 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                 C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+ 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7"/>
          <p:cNvGraphicFramePr/>
          <p:nvPr/>
        </p:nvGraphicFramePr>
        <p:xfrm>
          <a:off x="876240" y="1828800"/>
          <a:ext cx="6515280" cy="44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828800"/>
                    <a:ext cx="651528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196920"/>
            <a:ext cx="746748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Arial Black"/>
              </a:rPr>
              <a:t>What factors can affect the rate of photosynthesis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concentration of carbon dioxi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sunlight is needed for photosynthesis, 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light intensit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lso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so, 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temperatur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lso affect the rate of this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the equation for photosynthesis we can see that the amount of water available would also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581280" y="1447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429000" y="18288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33520" y="1219320"/>
            <a:ext cx="6400800" cy="10954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ter    +    carbon dioxide           glucose   +  oxy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   +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C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The interdependance between plants and animal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lants need to have a supply of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 in the air so they can use it fir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lants will give out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xygen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 produced from photosynthesis into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nimals need this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xygen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for respiration to mak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nimals produce wast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from respiration which is put into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How does carbon dioxide enter and oxygen go out of the leaves 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the under-side of leaves there are tiny holes called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ecial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guard cel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responsible for opening and closing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stomata6"/>
          <p:cNvPicPr/>
          <p:nvPr/>
        </p:nvPicPr>
        <p:blipFill>
          <a:blip r:embed="rId1"/>
          <a:stretch/>
        </p:blipFill>
        <p:spPr>
          <a:xfrm>
            <a:off x="228600" y="2749680"/>
            <a:ext cx="3695760" cy="2577960"/>
          </a:xfrm>
          <a:prstGeom prst="rect">
            <a:avLst/>
          </a:prstGeom>
          <a:ln w="0">
            <a:noFill/>
          </a:ln>
        </p:spPr>
      </p:pic>
      <p:sp>
        <p:nvSpPr>
          <p:cNvPr id="113" name="Line 13"/>
          <p:cNvSpPr/>
          <p:nvPr/>
        </p:nvSpPr>
        <p:spPr>
          <a:xfrm flipV="1">
            <a:off x="1447920" y="4114440"/>
            <a:ext cx="838080" cy="1600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762120" y="5638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s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2819520" y="4723920"/>
            <a:ext cx="68580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209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Guar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1:02:50Z</dcterms:created>
  <dc:creator> </dc:creator>
  <dc:description/>
  <dc:language>en-US</dc:language>
  <cp:lastModifiedBy>RK</cp:lastModifiedBy>
  <dcterms:modified xsi:type="dcterms:W3CDTF">2015-12-11T14:29:07Z</dcterms:modified>
  <cp:revision>10</cp:revision>
  <dc:subject/>
  <dc:title>Food Production &amp; the environment</dc:title>
</cp:coreProperties>
</file>