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1A9-07E1-4144-AE2F-87FF038E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A91-F917-4F69-BFE9-6B77C9C6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A5E-5DB0-42C1-B921-004DFD3C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E21-A6A8-4CBA-B04E-F22F48DA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61FF-8DF5-4D43-B502-FF955B58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6156-78E4-42DC-B161-21446229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C532-D178-4CB8-A3A8-60BD543B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DF3A-55DF-4E31-9DE2-D5AB0FA5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B782-F3C0-4778-BEB3-C056B9E0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0DBE-6C01-4D01-88DB-55CFB001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A844-0BCD-42BE-8342-3BE24BB6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D61-EDF8-46B3-99C3-A30BEE25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99B4-6E9B-4EEA-82D3-5FEB1437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C8C9-926A-4394-B4BD-6A48A210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251D-7560-4465-A865-41480F9B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06F7-0291-456A-B70F-1E85D655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E7CD-C199-4344-BA6F-701CBCC0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35E-D083-4B12-8CFA-1E295A0B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3F0-E8B8-44E8-9C37-9EB9CDAD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8F3-3848-45EB-A194-55E63AFD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21E-8B44-40F1-A816-14FEB74E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F53-AE3E-425D-A97F-356DD7EF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63B-0D72-4FA9-BAF5-691D8CF5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590-3BA4-45A3-AB8D-C2916912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B7B5-BC2A-4330-8781-5608F4376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E955-720B-48C4-9F86-1F0830ECC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Food P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ction in Pl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es the water get into plant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absorbed through root hair cells by </a:t>
            </a: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smosis 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water moves from an area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high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 to a region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low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0" y="1676520"/>
          <a:ext cx="44197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2"/>
          <p:cNvSpPr/>
          <p:nvPr/>
        </p:nvSpPr>
        <p:spPr>
          <a:xfrm>
            <a:off x="380880" y="5638680"/>
            <a:ext cx="716292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ot hair cell has a large surface area and thin walls to help water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Osmo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304920" y="1066680"/>
          <a:ext cx="693396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93396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876920" y="3124080"/>
          <a:ext cx="251280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124080"/>
                    <a:ext cx="2512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13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35053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581280" y="51055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676520" y="6019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vely permeab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water needed in plant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required for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needed to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intain turgid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.e. to keep plants cells rigid and to stop them from losing their shape and going flaccid (flop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poration of water through stomat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e plant down on a ho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 Black"/>
              </a:rPr>
              <a:t>Transporting substances inside the pla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6720" y="9903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issue is made up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dead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joined end to end (with no ‘end wal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contain </a:t>
            </a:r>
            <a:r>
              <a:rPr b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lign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makes them strong an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take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wat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p the plant, along with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mineral sal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ssolved in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0" y="1905120"/>
          <a:ext cx="4191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348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Black"/>
              </a:rPr>
              <a:t>Phlo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are made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living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perforated end-plat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o let substances pass throu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transport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foo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de in the leaves to all other part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bstances such as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starch, fats and protei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carried by phloem to the growing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h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to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torage orga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can transport food in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both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Phloem tub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66880" y="990720"/>
          <a:ext cx="232416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232416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2916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A cross-section through a stem, stained to show the phloem and xylem vessel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828800" y="2335320"/>
          <a:ext cx="441972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35320"/>
                    <a:ext cx="4419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What else can get out of leaves through the stomata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lost through the stomata during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228600" y="196524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524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at is transpiratio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iration is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nstant flow of water up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used by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vaporation of wa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the plant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through th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a slight shortage of water in the leaf, which causes more water to be drawn up into the leaf from the rest of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 turn results in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ore water being drawn in through th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transpiration useful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transports miner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e 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ranspiration"/>
          <p:cNvPicPr/>
          <p:nvPr/>
        </p:nvPicPr>
        <p:blipFill>
          <a:blip r:embed="rId1"/>
          <a:stretch/>
        </p:blipFill>
        <p:spPr>
          <a:xfrm>
            <a:off x="228600" y="21906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contain a jelly-li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ll have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usually have a sap-filled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ell is surrounded by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ound the cell membrane there is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ulose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in green parts of a plant like leaves also contain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 cells"/>
          <p:cNvPicPr/>
          <p:nvPr/>
        </p:nvPicPr>
        <p:blipFill>
          <a:blip r:embed="rId1"/>
          <a:stretch/>
        </p:blipFill>
        <p:spPr>
          <a:xfrm>
            <a:off x="4191120" y="1295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4828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What factors can affect the rate of water loss through stomata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d05670_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d05214_"/>
          <p:cNvPicPr/>
          <p:nvPr/>
        </p:nvPicPr>
        <p:blipFill>
          <a:blip r:embed="rId2"/>
          <a:stretch/>
        </p:blipFill>
        <p:spPr>
          <a:xfrm>
            <a:off x="228600" y="2438280"/>
            <a:ext cx="2209680" cy="217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na01682_"/>
          <p:cNvPicPr/>
          <p:nvPr/>
        </p:nvPicPr>
        <p:blipFill>
          <a:blip r:embed="rId3"/>
          <a:stretch/>
        </p:blipFill>
        <p:spPr>
          <a:xfrm>
            <a:off x="5029200" y="4267080"/>
            <a:ext cx="2759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do plants need mineral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need minerals for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ealth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amounts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itr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for making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er amounts of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r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esiu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to ma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nitrogen deficiency &amp; chlorosis"/>
          <p:cNvPicPr/>
          <p:nvPr/>
        </p:nvPicPr>
        <p:blipFill>
          <a:blip r:embed="rId1"/>
          <a:stretch/>
        </p:blipFill>
        <p:spPr>
          <a:xfrm>
            <a:off x="3429000" y="1752480"/>
            <a:ext cx="4267080" cy="2764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aves showing varying amounts of magnesium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 plants get their mineral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ts take up some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ssolved mineral sa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, diffusion will not happen if the concentration of minerals in the soil is greater inside the root (which is usually th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concentration of minerals outside the root is lower than inside, then the root will take up mineral ions by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se minerals ar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ssential for a plan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251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is active transport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transport allows the plant to absorb minerals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gainst a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Ener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for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lant gets this energy from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respiration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295280" y="2149560"/>
          <a:ext cx="525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9560"/>
                    <a:ext cx="525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are plant hormone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hemicals known a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u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t growth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ontrol the growing parts of the plant, I.e. th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ips of shoots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made in the tips, they diffuse backwards are lilttle way, and cause cells to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longa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hind the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807080" y="1295280"/>
          <a:ext cx="223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295280"/>
                    <a:ext cx="223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can we use plant hormones commercially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put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oting growth horm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to the end of a cutting to make new roo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nables farmers to mak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lo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desirable plant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4076640" y="2190600"/>
          <a:ext cx="369576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190600"/>
                    <a:ext cx="36957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4267080" y="2743200"/>
          <a:ext cx="297180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29718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18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Other uses for plant hormon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3429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Killing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ve weedkillers have been developed using plant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weedkillers will broad-leaved plants (which are usually wee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8480" y="837720"/>
            <a:ext cx="3733920" cy="533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roducing seedless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hormones can be applied to unpollinated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rmones will cause the fruit to develop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s the flower was not pollinated, no seeds will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tissue cul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mones are added to the agar jelly that is used for culturing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ormones will cause unspecialised cells to grow into specialised shoo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hormone is used to cause root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 method for agriculture and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lant tissue culture"/>
          <p:cNvPicPr/>
          <p:nvPr/>
        </p:nvPicPr>
        <p:blipFill>
          <a:blip r:embed="rId1"/>
          <a:stretch/>
        </p:blipFill>
        <p:spPr>
          <a:xfrm>
            <a:off x="228600" y="2300400"/>
            <a:ext cx="358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Animal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6640" y="15238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ells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unlike plant cells they do not have cellulose cell walls or 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31"/>
          <p:cNvGraphicFramePr/>
          <p:nvPr/>
        </p:nvGraphicFramePr>
        <p:xfrm>
          <a:off x="228600" y="2602080"/>
          <a:ext cx="369576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02080"/>
                    <a:ext cx="36957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hotosyn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678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his is the process by which plants produce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hotosynthesis occurs in the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lasts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found in cells i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acted with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ate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o produce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glucos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hyll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unlight energy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quired for this reaction to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Chloroplas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s found in leaves have lots of chloroplasts for photosynthesis to take plac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otosynthesis2"/>
          <p:cNvPicPr/>
          <p:nvPr/>
        </p:nvPicPr>
        <p:blipFill>
          <a:blip r:embed="rId1"/>
          <a:stretch/>
        </p:blipFill>
        <p:spPr>
          <a:xfrm>
            <a:off x="228600" y="2762280"/>
            <a:ext cx="3695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057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590920" y="1219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5720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unlight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&amp; </a:t>
            </a:r>
            <a:r>
              <a:rPr b="0" lang="en-GB" sz="14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chlorophy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                C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876240" y="1828800"/>
          <a:ext cx="65152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828800"/>
                    <a:ext cx="65152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9692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 Black"/>
              </a:rPr>
              <a:t>What factors can affect the rate of photosynthesis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concentration of carbon diox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sunlight is needed for photosynthesis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light intens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temperat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thi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e equation for photosynthesis we can see that the amount of water available would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81280" y="1447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29000" y="18288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219320"/>
            <a:ext cx="6400800" cy="1095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   +    carbon dioxide           glucose   +  oxy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  +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The interdependance between plants and anim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need to have a supply of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in the air so they can use it fi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will give 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produced from photosynthesis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need th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or respiration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produce wast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rom respiration which is put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does carbon dioxide enter and oxygen go out of the leaves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under-side of leaves there are tiny holes called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guard cel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responsible for opening and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stomata6"/>
          <p:cNvPicPr/>
          <p:nvPr/>
        </p:nvPicPr>
        <p:blipFill>
          <a:blip r:embed="rId1"/>
          <a:stretch/>
        </p:blipFill>
        <p:spPr>
          <a:xfrm>
            <a:off x="228600" y="2749680"/>
            <a:ext cx="3695760" cy="2577960"/>
          </a:xfrm>
          <a:prstGeom prst="rect">
            <a:avLst/>
          </a:prstGeom>
          <a:ln w="0">
            <a:noFill/>
          </a:ln>
        </p:spPr>
      </p:pic>
      <p:sp>
        <p:nvSpPr>
          <p:cNvPr id="113" name="Line 13"/>
          <p:cNvSpPr/>
          <p:nvPr/>
        </p:nvSpPr>
        <p:spPr>
          <a:xfrm flipV="1">
            <a:off x="1447920" y="4114440"/>
            <a:ext cx="83808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21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819520" y="4723920"/>
            <a:ext cx="6858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209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1:02:50Z</dcterms:created>
  <dc:creator> </dc:creator>
  <dc:description/>
  <dc:language>en-US</dc:language>
  <cp:lastModifiedBy>RK</cp:lastModifiedBy>
  <dcterms:modified xsi:type="dcterms:W3CDTF">2015-12-11T14:29:07Z</dcterms:modified>
  <cp:revision>10</cp:revision>
  <dc:subject/>
  <dc:title>Food Production &amp; the environment</dc:title>
</cp:coreProperties>
</file>