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chimes.wav" ContentType="audio/x-wav"/>
  <Override PartName="/ppt/media/image8.png" ContentType="image/png"/>
  <Override PartName="/ppt/media/image14.jpeg" ContentType="image/jpeg"/>
  <Override PartName="/ppt/media/image16.wmf" ContentType="image/x-wmf"/>
  <Override PartName="/ppt/media/image22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26D-154B-4DB6-A8E2-9689E005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FA5-6654-46BB-8F8E-994E1CA2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0BC-DCCD-45D9-ABC3-029A63D8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D96-43EE-4BDA-8935-D4A11452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CB25-DBA3-4C88-A8D5-0A5F3383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27FA-970C-4B19-91A7-96D41E06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4BA4-A581-49A7-AB3B-3F1BD503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BF8B-1DF0-44D5-9E4B-A58B0CC3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A573-9C60-4576-A58A-18FD33D8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9834-9528-4D32-B566-E6627043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C468-EB6D-49B8-816A-56E9CE7C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5BF-91B4-4D34-98FB-D5EEF0F0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D58D-89EC-4B9A-BDDD-9030B638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B27B-4C54-45C9-BB30-B8F7CAFE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998B-E05E-4FA0-A23F-99574BF6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7C3B-218F-4AE9-8B05-F2E81BD4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0FD7-D066-42F8-BAF3-FEE6B52A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B45-4D57-4B50-AA54-67D7EBB9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1BF-B8C6-4704-B025-34550B1F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2DC-498A-4453-BD0B-4B084761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765-127D-49F9-8A30-1FD81885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36E-8B41-4A7A-98F9-13422C96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2F1-0DCF-4BA9-BE5B-F29D5607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41A-FA5D-4292-970C-4BAA1101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5851-85EC-48EE-82EE-AC4DC3EEA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481E-3B18-4C52-98C0-DA5CEF55E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Food Produ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ction in Pl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0440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es the water get into plant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absorbed through root hair cells by </a:t>
            </a: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osmosis 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water moves from an area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high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 to a region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low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0" y="1676520"/>
          <a:ext cx="4419720" cy="38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41972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12"/>
          <p:cNvSpPr/>
          <p:nvPr/>
        </p:nvSpPr>
        <p:spPr>
          <a:xfrm>
            <a:off x="380880" y="5638680"/>
            <a:ext cx="716292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oot hair cell has a large surface area and thin walls to help water up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Osmo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23" name="Object 11"/>
          <p:cNvGraphicFramePr/>
          <p:nvPr/>
        </p:nvGraphicFramePr>
        <p:xfrm>
          <a:off x="304920" y="1066680"/>
          <a:ext cx="693396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693396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4876920" y="3124080"/>
          <a:ext cx="251280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124080"/>
                    <a:ext cx="25128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13"/>
          <p:cNvSpPr/>
          <p:nvPr/>
        </p:nvSpPr>
        <p:spPr>
          <a:xfrm>
            <a:off x="35053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3505320" y="4038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581280" y="51055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676520" y="6019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vely permeable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water needed in plant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required for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needed to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aintain turgid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.e. to keep plants cells rigid and to stop them from losing their shape and going flaccid (flop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aporation of water through stomata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e plant down on a ho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 Black"/>
              </a:rPr>
              <a:t>Transporting substances inside the pla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66720" y="99036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Xy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issue is made up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dead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joined end to end (with no ‘end wall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contain </a:t>
            </a:r>
            <a:r>
              <a:rPr b="1" lang="en-GB" sz="2400" spc="-1" strike="noStrike" u="sng">
                <a:solidFill>
                  <a:srgbClr val="008000"/>
                </a:solidFill>
                <a:uFillTx/>
                <a:latin typeface="Arial"/>
              </a:rPr>
              <a:t>ligni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makes them strong and st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take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wate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up the plant, along with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mineral sal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issolved in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0" y="1905120"/>
          <a:ext cx="419112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419112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3480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 Black"/>
              </a:rPr>
              <a:t>Phloem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are made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living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ith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perforated end-plat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to let substances pass throu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transport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foo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made in the leaves to all other parts of the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bstances such as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starch, fats and protei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re carried by phloem to the growing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h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and to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torage orga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 the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can transport food in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both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Phloem tub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666880" y="990720"/>
          <a:ext cx="232416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990720"/>
                    <a:ext cx="2324160" cy="52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92916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A cross-section through a stem, stained to show the phloem and xylem vessel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828800" y="2335320"/>
          <a:ext cx="441972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35320"/>
                    <a:ext cx="441972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What else can get out of leaves through the stomata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lost through the stomata during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ra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228600" y="1965240"/>
          <a:ext cx="396252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65240"/>
                    <a:ext cx="396252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at is transpiratio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iration is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nstant flow of water up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aused by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vaporation of wa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the plant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through the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reates a slight shortage of water in the leaf, which causes more water to be drawn up into the leaf from the rest of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n turn results in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ore water being drawn in through the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transpiration useful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transports minera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the pl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transpiration"/>
          <p:cNvPicPr/>
          <p:nvPr/>
        </p:nvPicPr>
        <p:blipFill>
          <a:blip r:embed="rId1"/>
          <a:stretch/>
        </p:blipFill>
        <p:spPr>
          <a:xfrm>
            <a:off x="228600" y="219060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contain a jelly-li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ll have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usually have a sap-filled 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ell is surrounded by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ound the cell membrane there is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ulose 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in green parts of a plant like leaves also contain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lant cells"/>
          <p:cNvPicPr/>
          <p:nvPr/>
        </p:nvPicPr>
        <p:blipFill>
          <a:blip r:embed="rId1"/>
          <a:stretch/>
        </p:blipFill>
        <p:spPr>
          <a:xfrm>
            <a:off x="4191120" y="1295280"/>
            <a:ext cx="3504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54828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What factors can affect the rate of water loss through stomata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d05670_"/>
          <p:cNvPicPr/>
          <p:nvPr/>
        </p:nvPicPr>
        <p:blipFill>
          <a:blip r:embed="rId1"/>
          <a:stretch/>
        </p:blipFill>
        <p:spPr>
          <a:xfrm>
            <a:off x="4876920" y="2133720"/>
            <a:ext cx="2819160" cy="164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bd05214_"/>
          <p:cNvPicPr/>
          <p:nvPr/>
        </p:nvPicPr>
        <p:blipFill>
          <a:blip r:embed="rId2"/>
          <a:stretch/>
        </p:blipFill>
        <p:spPr>
          <a:xfrm>
            <a:off x="228600" y="2438280"/>
            <a:ext cx="2209680" cy="217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na01682_"/>
          <p:cNvPicPr/>
          <p:nvPr/>
        </p:nvPicPr>
        <p:blipFill>
          <a:blip r:embed="rId3"/>
          <a:stretch/>
        </p:blipFill>
        <p:spPr>
          <a:xfrm>
            <a:off x="5029200" y="4267080"/>
            <a:ext cx="27590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do plants need mineral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s need minerals for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healthy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ge amounts of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nitrat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for making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maller amounts of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ir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agnesiu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to ma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nitrogen deficiency &amp; chlorosis"/>
          <p:cNvPicPr/>
          <p:nvPr/>
        </p:nvPicPr>
        <p:blipFill>
          <a:blip r:embed="rId1"/>
          <a:stretch/>
        </p:blipFill>
        <p:spPr>
          <a:xfrm>
            <a:off x="3429000" y="1752480"/>
            <a:ext cx="4267080" cy="2764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724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aves showing varying amounts of magnesium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-4788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 plants get their mineral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ts take up some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ssolved mineral salt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ever, diffusion will not happen if the concentration of minerals in the soil is greater inside the root (which is usually the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concentration of minerals outside the root is lower than inside, then the root will take up mineral ions by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se minerals ar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ssential for a plants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2516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is active transport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transport allows the plant to absorb minerals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gainst a concentration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Energ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needed for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lant gets this energy from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respiration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295280" y="2149560"/>
          <a:ext cx="525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9560"/>
                    <a:ext cx="525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are plant hormone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chemicals known a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ux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t growth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ontrol the growing parts of the plant, I.e. th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ips of shoots and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made in the tips, they diffuse backwards are lilttle way, and cause cells to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longa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hind the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4807080" y="1295280"/>
          <a:ext cx="223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7080" y="1295280"/>
                    <a:ext cx="223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can we use plant hormones commercially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put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rooting growth horm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to the end of a cutting to make new roo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enables farmers to mak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lon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desirable plants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er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8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9"/>
          <p:cNvGraphicFramePr/>
          <p:nvPr/>
        </p:nvGraphicFramePr>
        <p:xfrm>
          <a:off x="4076640" y="2190600"/>
          <a:ext cx="3695760" cy="369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2190600"/>
                    <a:ext cx="369576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1"/>
          <p:cNvGraphicFramePr/>
          <p:nvPr/>
        </p:nvGraphicFramePr>
        <p:xfrm>
          <a:off x="4267080" y="2743200"/>
          <a:ext cx="2971800" cy="234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743200"/>
                    <a:ext cx="29718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21888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Other uses for plant hormone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34290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Killing w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ive weedkillers have been developed using plant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weedkillers will broad-leaved plants (which are usually wee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38480" y="837720"/>
            <a:ext cx="3733920" cy="533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Producing seedless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hormones can be applied to unpollinated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ormones will cause the fruit to develop and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as the flower was not pollinated, no seeds will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tissue cult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9520" y="14475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rmones are added to the agar jelly that is used for culturing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hormones will cause unspecialised cells to grow into specialised shoo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hormone is used to cause roots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n important method for agriculture and fo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plant tissue culture"/>
          <p:cNvPicPr/>
          <p:nvPr/>
        </p:nvPicPr>
        <p:blipFill>
          <a:blip r:embed="rId1"/>
          <a:stretch/>
        </p:blipFill>
        <p:spPr>
          <a:xfrm>
            <a:off x="228600" y="2300400"/>
            <a:ext cx="35812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Animal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76640" y="1523880"/>
            <a:ext cx="3695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 cells con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,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 unlike plant cells they do not have cellulose cell walls or 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1031"/>
          <p:cNvGraphicFramePr/>
          <p:nvPr/>
        </p:nvGraphicFramePr>
        <p:xfrm>
          <a:off x="228600" y="2602080"/>
          <a:ext cx="369576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02080"/>
                    <a:ext cx="369576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hotosynthe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678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his is the process by which plants produce their ow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Photosynthesis occurs in the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lasts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found in cells in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acted with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water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o produce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glucos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hyll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sunlight energy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quired for this reaction to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Chloroplas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lls found in leaves have lots of chloroplasts for photosynthesis to take place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otosynthesis2"/>
          <p:cNvPicPr/>
          <p:nvPr/>
        </p:nvPicPr>
        <p:blipFill>
          <a:blip r:embed="rId1"/>
          <a:stretch/>
        </p:blipFill>
        <p:spPr>
          <a:xfrm>
            <a:off x="228600" y="2762280"/>
            <a:ext cx="36957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2057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590920" y="12193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57200"/>
            <a:ext cx="9144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Sunlight</a:t>
            </a:r>
            <a:r>
              <a:rPr b="0" lang="en-GB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&amp; </a:t>
            </a:r>
            <a:r>
              <a:rPr b="0" lang="en-GB" sz="14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chlorophy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                 C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7"/>
          <p:cNvGraphicFramePr/>
          <p:nvPr/>
        </p:nvGraphicFramePr>
        <p:xfrm>
          <a:off x="876240" y="1828800"/>
          <a:ext cx="651528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828800"/>
                    <a:ext cx="651528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96920"/>
            <a:ext cx="746748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Arial Black"/>
              </a:rPr>
              <a:t>What factors can affect the rate of photosynthesis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concentration of carbon dioxi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sunlight is needed for photosynthesis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light intensit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temperatur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this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e equation for photosynthesis we can see that the amount of water available would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81280" y="1447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429000" y="18288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3520" y="1219320"/>
            <a:ext cx="6400800" cy="10954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   +    carbon dioxide           glucose   +  oxy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   +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C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The interdependance between plants and anim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need to have a supply of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in the air so they can use it fi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will give out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produced from photosynthesis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need thi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or respiration to mak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produce wast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rom respiration which is put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does carbon dioxide enter and oxygen go out of the leaves 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the under-side of leaves there are tiny holes called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al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guard cel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responsible for opening and clos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stomata6"/>
          <p:cNvPicPr/>
          <p:nvPr/>
        </p:nvPicPr>
        <p:blipFill>
          <a:blip r:embed="rId1"/>
          <a:stretch/>
        </p:blipFill>
        <p:spPr>
          <a:xfrm>
            <a:off x="228600" y="2749680"/>
            <a:ext cx="3695760" cy="2577960"/>
          </a:xfrm>
          <a:prstGeom prst="rect">
            <a:avLst/>
          </a:prstGeom>
          <a:ln w="0">
            <a:noFill/>
          </a:ln>
        </p:spPr>
      </p:pic>
      <p:sp>
        <p:nvSpPr>
          <p:cNvPr id="113" name="Line 13"/>
          <p:cNvSpPr/>
          <p:nvPr/>
        </p:nvSpPr>
        <p:spPr>
          <a:xfrm flipV="1">
            <a:off x="1447920" y="4114440"/>
            <a:ext cx="838080" cy="1600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6212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s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2819520" y="4723920"/>
            <a:ext cx="68580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209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Guar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1:02:50Z</dcterms:created>
  <dc:creator> </dc:creator>
  <dc:description/>
  <dc:language>en-US</dc:language>
  <cp:lastModifiedBy>RK</cp:lastModifiedBy>
  <dcterms:modified xsi:type="dcterms:W3CDTF">2015-12-11T14:29:07Z</dcterms:modified>
  <cp:revision>10</cp:revision>
  <dc:subject/>
  <dc:title>Food Production &amp; the environment</dc:title>
</cp:coreProperties>
</file>