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8615-4A59-473A-8414-B592A10A9C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42F2-BC58-4E37-8FDF-092D33326F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1E6C-651B-4612-BEC1-20ACD7604B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6C14-ED8B-48C0-A1B4-5631914761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D4A9-CC64-44BB-ACDA-48FBA621BD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D8AB-440F-4A31-B769-8B4F1B84BF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0A21-4881-4BBE-8B01-4E446F935E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AE4-7C18-4599-8094-167E78E8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615-49BE-4FC1-8D45-CDD4E0FA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D91-830D-4527-8533-DE9E8906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EBD-D2D1-4E14-9496-5F507237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48A-2600-4ADE-80A5-2DB080F0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201-5ADB-4853-B55C-A316ED14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B7F-3A67-4425-9681-3D1E114B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300-5468-4CB3-AA7B-F741DD81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2186-41B1-49F7-955E-87DD19C7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4CD-D201-4EBD-944E-A5654260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FBF-B9A3-462E-9AA0-9FE65B6C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767-4449-4273-BD66-63997B6A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3895-BD29-42FC-8936-B6A703DA4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Fish, Amphibians, Reptiles, </a:t>
            </a:r>
            <a:br>
              <a:rPr sz="3500"/>
            </a:b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irds, &amp; Mamma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8680" y="2743200"/>
            <a:ext cx="2438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B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Mrs. Meredith Sa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an02542_"/>
          <p:cNvPicPr/>
          <p:nvPr/>
        </p:nvPicPr>
        <p:blipFill>
          <a:blip r:embed="rId1"/>
          <a:stretch/>
        </p:blipFill>
        <p:spPr>
          <a:xfrm>
            <a:off x="2057400" y="5029200"/>
            <a:ext cx="1676520" cy="16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an02097_"/>
          <p:cNvPicPr/>
          <p:nvPr/>
        </p:nvPicPr>
        <p:blipFill>
          <a:blip r:embed="rId2"/>
          <a:stretch/>
        </p:blipFill>
        <p:spPr>
          <a:xfrm>
            <a:off x="152280" y="2666880"/>
            <a:ext cx="1938600" cy="22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n01124_"/>
          <p:cNvPicPr/>
          <p:nvPr/>
        </p:nvPicPr>
        <p:blipFill>
          <a:blip r:embed="rId3"/>
          <a:stretch/>
        </p:blipFill>
        <p:spPr>
          <a:xfrm>
            <a:off x="4419720" y="514188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62889"/>
          <p:cNvPicPr/>
          <p:nvPr/>
        </p:nvPicPr>
        <p:blipFill>
          <a:blip r:embed="rId4"/>
          <a:stretch/>
        </p:blipFill>
        <p:spPr>
          <a:xfrm>
            <a:off x="7696080" y="495288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pe02661_"/>
          <p:cNvPicPr/>
          <p:nvPr/>
        </p:nvPicPr>
        <p:blipFill>
          <a:blip r:embed="rId5"/>
          <a:stretch/>
        </p:blipFill>
        <p:spPr>
          <a:xfrm>
            <a:off x="0" y="5059440"/>
            <a:ext cx="159372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an00682_"/>
          <p:cNvPicPr/>
          <p:nvPr/>
        </p:nvPicPr>
        <p:blipFill>
          <a:blip r:embed="rId6"/>
          <a:stretch/>
        </p:blipFill>
        <p:spPr>
          <a:xfrm>
            <a:off x="2514600" y="2971800"/>
            <a:ext cx="2444760" cy="17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762120" y="152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imes New Roman"/>
              </a:rPr>
              <a:t>Verteb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mbers in their heart: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 for movement: F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oduction: Lay eggs in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 that keeps them afloat: Swim b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temperature:  Cold-bloo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the: Through g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j0405036"/>
          <p:cNvPicPr/>
          <p:nvPr/>
        </p:nvPicPr>
        <p:blipFill>
          <a:blip r:embed="rId1"/>
          <a:stretch/>
        </p:blipFill>
        <p:spPr>
          <a:xfrm>
            <a:off x="5715000" y="457200"/>
            <a:ext cx="2579760" cy="172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j0403911"/>
          <p:cNvPicPr/>
          <p:nvPr/>
        </p:nvPicPr>
        <p:blipFill>
          <a:blip r:embed="rId2"/>
          <a:stretch/>
        </p:blipFill>
        <p:spPr>
          <a:xfrm>
            <a:off x="6781680" y="4800600"/>
            <a:ext cx="161928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j0406858"/>
          <p:cNvPicPr/>
          <p:nvPr/>
        </p:nvPicPr>
        <p:blipFill>
          <a:blip r:embed="rId3"/>
          <a:stretch/>
        </p:blipFill>
        <p:spPr>
          <a:xfrm>
            <a:off x="914400" y="380880"/>
            <a:ext cx="22860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Amphib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part of their lives in water and part on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have scales or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have tails throughout life and some lose their tail (Salamanders have tail throughout life; frogs lose their tails when they get to be ad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ecilians have no lim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gs have smooth, moist skin; Toads have rough, dry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ts have tails throughout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use color as camouflage and also to warn others of their d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burrow in the mud during winter and absorb oxygen through their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bd08718_"/>
          <p:cNvPicPr/>
          <p:nvPr/>
        </p:nvPicPr>
        <p:blipFill>
          <a:blip r:embed="rId1"/>
          <a:stretch/>
        </p:blipFill>
        <p:spPr>
          <a:xfrm>
            <a:off x="5943600" y="0"/>
            <a:ext cx="76032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0150339"/>
          <p:cNvPicPr/>
          <p:nvPr/>
        </p:nvPicPr>
        <p:blipFill>
          <a:blip r:embed="rId2"/>
          <a:stretch/>
        </p:blipFill>
        <p:spPr>
          <a:xfrm>
            <a:off x="7475400" y="5719680"/>
            <a:ext cx="1668600" cy="113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j0406963"/>
          <p:cNvPicPr/>
          <p:nvPr/>
        </p:nvPicPr>
        <p:blipFill>
          <a:blip r:embed="rId3"/>
          <a:stretch/>
        </p:blipFill>
        <p:spPr>
          <a:xfrm>
            <a:off x="7010280" y="22860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j0409215"/>
          <p:cNvPicPr/>
          <p:nvPr/>
        </p:nvPicPr>
        <p:blipFill>
          <a:blip r:embed="rId4"/>
          <a:stretch/>
        </p:blipFill>
        <p:spPr>
          <a:xfrm>
            <a:off x="380880" y="30492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ing:Dry protective scales or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limbs with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tles that live in water have flippers instead of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reptiles:crocodiles and allig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gs are leath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j0313902"/>
          <p:cNvPicPr/>
          <p:nvPr/>
        </p:nvPicPr>
        <p:blipFill>
          <a:blip r:embed="rId1"/>
          <a:stretch/>
        </p:blipFill>
        <p:spPr>
          <a:xfrm>
            <a:off x="5715000" y="380880"/>
            <a:ext cx="1752480" cy="139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j0314286"/>
          <p:cNvPicPr/>
          <p:nvPr/>
        </p:nvPicPr>
        <p:blipFill>
          <a:blip r:embed="rId2"/>
          <a:stretch/>
        </p:blipFill>
        <p:spPr>
          <a:xfrm>
            <a:off x="4343400" y="5105520"/>
            <a:ext cx="1752480" cy="76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0262753"/>
          <p:cNvPicPr/>
          <p:nvPr/>
        </p:nvPicPr>
        <p:blipFill>
          <a:blip r:embed="rId3"/>
          <a:stretch/>
        </p:blipFill>
        <p:spPr>
          <a:xfrm>
            <a:off x="6477120" y="5181480"/>
            <a:ext cx="2209680" cy="147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406730"/>
          <p:cNvPicPr/>
          <p:nvPr/>
        </p:nvPicPr>
        <p:blipFill>
          <a:blip r:embed="rId4"/>
          <a:stretch/>
        </p:blipFill>
        <p:spPr>
          <a:xfrm>
            <a:off x="7848720" y="0"/>
            <a:ext cx="1295280" cy="1941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H02096J"/>
          <p:cNvPicPr/>
          <p:nvPr/>
        </p:nvPicPr>
        <p:blipFill>
          <a:blip r:embed="rId5"/>
          <a:stretch/>
        </p:blipFill>
        <p:spPr>
          <a:xfrm>
            <a:off x="457200" y="304920"/>
            <a:ext cx="190512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ody Temperature: warm-blood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own feathers to keep wa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our feathers to f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etting oxygen: though lungs and air sac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scles used to fly: Chest musc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ree ways that flying is useful: escape predators, find food, and migra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daptations for flight: tiny holes in bones to make them lighter, streamlined shape, lightweight beak, &amp; no tee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j0406520"/>
          <p:cNvPicPr/>
          <p:nvPr/>
        </p:nvPicPr>
        <p:blipFill>
          <a:blip r:embed="rId1"/>
          <a:stretch/>
        </p:blipFill>
        <p:spPr>
          <a:xfrm>
            <a:off x="5943600" y="2286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j0406517"/>
          <p:cNvPicPr/>
          <p:nvPr/>
        </p:nvPicPr>
        <p:blipFill>
          <a:blip r:embed="rId2"/>
          <a:stretch/>
        </p:blipFill>
        <p:spPr>
          <a:xfrm>
            <a:off x="1600200" y="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j0406859"/>
          <p:cNvPicPr/>
          <p:nvPr/>
        </p:nvPicPr>
        <p:blipFill>
          <a:blip r:embed="rId3"/>
          <a:stretch/>
        </p:blipFill>
        <p:spPr>
          <a:xfrm>
            <a:off x="6781680" y="2362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Mam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mbers in heart: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mmary glands to give milk to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live bi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otremes: lay eg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supials:pouched mammals that give live birth and babies crawl into pouches until ma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ntals: give live birth; baby attached with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8:04:23Z</dcterms:created>
  <dc:creator>Pam Tucker</dc:creator>
  <dc:description/>
  <dc:language>en-US</dc:language>
  <cp:lastModifiedBy>RK</cp:lastModifiedBy>
  <dcterms:modified xsi:type="dcterms:W3CDTF">2015-12-11T14:28:59Z</dcterms:modified>
  <cp:revision>11</cp:revision>
  <dc:subject/>
  <dc:title>Fish, Amphibians, Reptiles,  Birds, &amp; Mammals</dc:title>
</cp:coreProperties>
</file>