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83ED-ECA4-4DA8-B543-61D3DE375E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43B-684D-48C6-BED2-E1AA0008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3BE-0721-48CE-A897-6E7ED5B7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1DD-616F-42FE-A497-9D5FC073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298-D42C-4388-9B1F-84EFA5B2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AB6C-93A7-436D-8606-2D8007CF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3894-5F37-4423-BDE3-7FE18B9D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906C-EBE2-4110-82E3-F5B83CB7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6AA6-D60E-43DB-8D6C-D96F41A7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0C6A-CB0D-47F2-A746-A9993635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CB80-F589-4A2A-8E05-4A6057A2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2C3E-AB03-48BD-9A49-5C1FC11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B86-E14B-4D75-8B3F-6610E76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1CCA-BBA0-4CF1-84B5-99D67B0B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E27F-6233-46E0-816B-EC61D662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0E18-341C-4DB1-BE1B-E4F05B77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D6D5-45C2-49CA-94CD-91EE7727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DC5B-ED57-45BA-9DCB-86735E98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474-050F-4571-A421-F7905036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676-0987-4E61-B46A-E392B702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051-5725-4198-831B-E3AC780E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E97-C607-41FD-AEED-973D0A88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22B-5864-425C-ABEB-6D37274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FEB-5347-48D6-89FF-44536BF6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73C-91E3-47AD-B3DD-22916739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163F-050A-45A2-86EB-0874AFBFC82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22A0-911C-4B68-A072-899D098F669E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owl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badger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Year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Environment and Feeding Relationshi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j0332364"/>
          <p:cNvPicPr/>
          <p:nvPr/>
        </p:nvPicPr>
        <p:blipFill>
          <a:blip r:embed="rId1"/>
          <a:stretch/>
        </p:blipFill>
        <p:spPr>
          <a:xfrm>
            <a:off x="4140360" y="2924280"/>
            <a:ext cx="3456000" cy="278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bfly2"/>
          <p:cNvPicPr/>
          <p:nvPr/>
        </p:nvPicPr>
        <p:blipFill>
          <a:blip r:embed="rId2"/>
          <a:stretch/>
        </p:blipFill>
        <p:spPr>
          <a:xfrm>
            <a:off x="7093080" y="549360"/>
            <a:ext cx="157464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A frog is an amphibian because it lives in water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frog.jpg (19194 bytes)"/>
          <p:cNvPicPr/>
          <p:nvPr/>
        </p:nvPicPr>
        <p:blipFill>
          <a:blip r:embed="rId1"/>
          <a:stretch/>
        </p:blipFill>
        <p:spPr>
          <a:xfrm>
            <a:off x="1332000" y="2060640"/>
            <a:ext cx="6408720" cy="36748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Fish live and breathe in water. This is a stickleback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fish.jpg (15175 bytes)"/>
          <p:cNvPicPr/>
          <p:nvPr/>
        </p:nvPicPr>
        <p:blipFill>
          <a:blip r:embed="rId1"/>
          <a:stretch/>
        </p:blipFill>
        <p:spPr>
          <a:xfrm>
            <a:off x="539640" y="2133720"/>
            <a:ext cx="7777440" cy="280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43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Pond skaters live on the water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5" descr="pondskater.jpg (11137 bytes)"/>
          <p:cNvPicPr/>
          <p:nvPr/>
        </p:nvPicPr>
        <p:blipFill>
          <a:blip r:embed="rId1"/>
          <a:stretch/>
        </p:blipFill>
        <p:spPr>
          <a:xfrm>
            <a:off x="2124000" y="1881360"/>
            <a:ext cx="662472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ucks are birds that have waterproof feathers. They live on a pond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duck.jpg (22211 bytes)"/>
          <p:cNvPicPr/>
          <p:nvPr/>
        </p:nvPicPr>
        <p:blipFill>
          <a:blip r:embed="rId1"/>
          <a:stretch/>
        </p:blipFill>
        <p:spPr>
          <a:xfrm>
            <a:off x="900000" y="1579680"/>
            <a:ext cx="6912000" cy="50972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Bi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Birds, such as this robin, make their nests in trees and hed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5" descr="robin.gif (12828 bytes)"/>
          <p:cNvPicPr/>
          <p:nvPr/>
        </p:nvPicPr>
        <p:blipFill>
          <a:blip r:embed="rId1"/>
          <a:stretch/>
        </p:blipFill>
        <p:spPr>
          <a:xfrm>
            <a:off x="4643280" y="1628640"/>
            <a:ext cx="42246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 badger makes it’s home under the ground. It sleeps during the day and is awake at </a:t>
            </a:r>
            <a:r>
              <a:rPr b="0" lang="en-GB" sz="2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nigh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5" descr="badger.jpg (17236 bytes)"/>
          <p:cNvPicPr/>
          <p:nvPr/>
        </p:nvPicPr>
        <p:blipFill>
          <a:blip r:embed="rId2"/>
          <a:stretch/>
        </p:blipFill>
        <p:spPr>
          <a:xfrm>
            <a:off x="1042920" y="1628640"/>
            <a:ext cx="691380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n Owl is a bird that sleeps during the day and is awake at </a:t>
            </a:r>
            <a:r>
              <a:rPr b="0" lang="en-GB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ght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owl.jpg (14689 bytes)"/>
          <p:cNvPicPr/>
          <p:nvPr/>
        </p:nvPicPr>
        <p:blipFill>
          <a:blip r:embed="rId2"/>
          <a:stretch/>
        </p:blipFill>
        <p:spPr>
          <a:xfrm>
            <a:off x="468360" y="1484280"/>
            <a:ext cx="396072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hedgehog is a prickly mammal that sleeps through the winter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5" descr="hadgehog.jpg (22258 bytes)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today’s lesson you will lea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different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habitat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rganisms live 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ow to describe th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environment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ifferent habit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special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adaptation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that organisms have to help them live in their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mic Sans MS"/>
              </a:rPr>
              <a:t>Mice are small furry mammal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5" descr="mouse.jpg (15329 bytes)"/>
          <p:cNvPicPr/>
          <p:nvPr/>
        </p:nvPicPr>
        <p:blipFill>
          <a:blip r:embed="rId1"/>
          <a:stretch/>
        </p:blipFill>
        <p:spPr>
          <a:xfrm>
            <a:off x="539640" y="1557360"/>
            <a:ext cx="532764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rabbit burrows under the ground to make a warren to live i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5" descr="rabbit1.jpg (13833 bytes)"/>
          <p:cNvPicPr/>
          <p:nvPr/>
        </p:nvPicPr>
        <p:blipFill>
          <a:blip r:embed="rId1"/>
          <a:stretch/>
        </p:blipFill>
        <p:spPr>
          <a:xfrm>
            <a:off x="1116000" y="1833480"/>
            <a:ext cx="6264360" cy="43401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For example, a desert is dry and hot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ere are some examples ………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5" descr="Dromedary camel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1420200" y="54936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Verdana"/>
              </a:rPr>
              <a:t>Dromedary camel, Arabian camel, one-humped cam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Habitat: They live South West Asia and North Africa desert regions. They are also live in Australia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They live for 40-50 years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Length: 2.2-3.4m, Tail length: 50cm, Height at hump: 1.9-2.3m, Weight: 450-550k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5" descr="Dromedary camels"/>
          <p:cNvPicPr/>
          <p:nvPr/>
        </p:nvPicPr>
        <p:blipFill>
          <a:blip r:embed="rId1"/>
          <a:stretch/>
        </p:blipFill>
        <p:spPr>
          <a:xfrm>
            <a:off x="1332000" y="1844640"/>
            <a:ext cx="7235640" cy="47196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Red moon desert.jpg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5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Polar bears fighting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Micro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ed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Communit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 polar bear is the largest land carnivore and has a reputation as the only animal that actively hunts huma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Live up to 25 years.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Habitat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spend most of their time on Arctic ice floes, and when they are on the shore they remain near the water. Polar bears are found throughout the Arctic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Adaptations: They are strong swimmers and have many adaptations for an aquatic environmen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are well insulated with fa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nostrils close and their ears are held close to their head when underwat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feet are partially webbed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a remarkable sense of smell and can detect a carcass from 3km aw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large, furry feet that act as snowshoes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creamy-white fur is dense and water-repellent, enabling them to shake dry after swimming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Polar bear and cub"/>
          <p:cNvPicPr/>
          <p:nvPr/>
        </p:nvPicPr>
        <p:blipFill>
          <a:blip r:embed="rId1"/>
          <a:stretch/>
        </p:blipFill>
        <p:spPr>
          <a:xfrm>
            <a:off x="900000" y="6206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Here are some examples of habita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Different organisms live in different habitats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Can you name two organisms for each of the habita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1:23Z</dcterms:created>
  <dc:creator>Bella Griffiths</dc:creator>
  <dc:description/>
  <dc:language>en-US</dc:language>
  <cp:lastModifiedBy>LEGION2</cp:lastModifiedBy>
  <dcterms:modified xsi:type="dcterms:W3CDTF">2015-12-14T11:42:08Z</dcterms:modified>
  <cp:revision>33</cp:revision>
  <dc:subject/>
  <dc:title>Slide 1</dc:title>
</cp:coreProperties>
</file>