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3008-C28E-4341-AE8B-FF870A6A37F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will fail if they do not remain in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mmunity can carry more organisms than its food, water and shelter can accommod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they stay balanc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) Chamele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ar B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think of more examples of adapt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Ecolog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ecosyste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Biome is a collection of related eco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 Ecosyste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info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ig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nd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pa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ss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mperate Forr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……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cosystem can be as large as the Sahara Desert, or as small as a puddl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nonliving physical factors of an environ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TR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 three more examples of Abiotic Fac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ic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 the living, physical factors of an 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Biotic Factors are parasitis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ase and pred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3C8-B449-467F-A44D-ECCB2961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AF1E-5369-443C-A4B1-C7F542704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835BD-22FA-414D-98CA-76E06E8C1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EA3D3D-08F0-40F5-9937-3D4AF3AC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03416F-242B-4AC5-8CB6-5AC3FE99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3F16F-A3EE-4866-8BD8-AE8AB929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C2CF3-F335-4E65-B367-A0FB5B84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FFD93-6A16-4E25-A1D8-5B24B6A3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885C0-B611-4565-9C6F-25A067EB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617BF-7F85-4C3C-80E2-D3FC4A442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7FC85-3D1C-4408-8D15-AF31F7B0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9415E-9781-4270-8124-28DE4EB7D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D588-67EB-4C87-ACDC-21C780E03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6B60E-E9CE-4534-9408-6E3FDF4D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536A8-ACAD-4D9B-A3AD-39F2CACE4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013C7-2DD9-45FD-AA84-67C52163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F0B5CA-6AA1-4EA2-BF5A-BC9283484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2BA7DE-90CB-4DC6-A445-6C8D150C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D46D27-D41B-469A-A701-4EC7AE44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51A005-7DD0-4A36-BABF-3C1D8009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52E743-A1F1-4ED7-91F0-8E3407EC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38A26B-36CB-4614-8ABD-D65D539C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79594-47F2-4E59-B8B9-526F16C94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E09D-0027-4E77-8620-F36DCF42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C70C7-603C-4856-BE0E-366BE272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233714-982F-4008-81F0-609FA346A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9AE45-19FF-426B-B239-577B1AE3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ABA47-311A-43CC-8DCF-DFB72228C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C9190-3B6E-4D34-B16F-917F3B35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4110A-951A-4762-88BF-4DEAD4EC2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BF5238-A455-451C-A36D-59E00BBD3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4BF922-7096-4965-8253-3DD1005F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93311-987D-4F6F-9912-9F926EF6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0D6B96-2B1F-4AD2-A17E-C7BE0C04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47F5-A2BB-4ACB-836F-60FB6C73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A9740-70AE-4505-941B-08F3621E1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58E37F-10E2-47FF-A9AC-406CD1189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2595A-A8B5-4B80-AB18-E02A8A5D0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66ED-F4C1-46DE-861D-4B161B97E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6163-563D-428C-8AA3-BF308FC1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9920B-87AE-447B-AC26-E0DB3AE4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7D012-7E88-48EC-99BF-5E3B9E2BF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3FA1-DF46-40E2-877D-A86F7325C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F943-5461-4282-8EAD-97C8F309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F091-45CA-4A78-BAA2-2C22E126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13407-35DD-427C-A9A9-D46432A0C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9A7C-D2D0-4D6E-A14D-CB186FEC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44BC-AB47-4B3D-AE06-165D0D1B9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8C93-A624-480D-870F-68592DC71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12B7-CE48-4341-99DB-EA3CE9D86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3D8B9-08ED-4044-8A13-413EFB7A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B20BF-149E-4405-AC22-A7A10AAC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24302-CAE7-4E12-8417-EDC498B3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97191-DF5E-4639-880E-7BD88DBB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08502-F070-40AE-8970-B1CF2C0A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529B-B534-4344-BA78-967C9CBE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84126-DDF1-45ED-9449-C0A1A48CB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3AC7D-8426-43E3-B52C-FF7C153F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07049-7C73-4342-9B8A-DD8E4908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7D5EA-0778-47D0-9350-EB8E12CA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686BA-0E7B-4881-9962-E22A5942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E4E22-0C1C-484C-87CE-90C9D2107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DF34E-4D69-479F-9576-8972F77B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3E594-8FFD-4ADD-ADD8-168E29445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65D9F-4F85-46DD-8DAE-1B60C43B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46CD4-5A9D-4FE2-81D2-259C53BC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1008-4C55-470E-8DB1-F2F3D5C5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A4009-AF0E-485A-9744-DB552FBB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E96EB-2625-4953-B272-7922E1061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B711E-05A2-4626-A3CD-5FEE275D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A2750-BBB7-4F5C-AF97-589716BC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18A080-1EC9-4D66-B9BD-4B2A1D04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B6F87-B16E-48E3-9437-46F7D0F7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6578C-1BA4-4605-8596-7A52A97C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706DD-B4A2-4FE7-8A5B-BB9FAEA6C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6E580-71E6-4CC0-AA0F-731E4D21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943ED-DA35-4A5C-83D7-DE2A12FB2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0EA-229C-4A9B-8A15-F478FF024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456DD-6E6E-408B-A421-4E33020C8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26D725-9EBD-4777-8176-063D83F0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6655A-35C7-45A5-88D5-9538DBC1A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E37C1-7297-40C3-B1EC-272EB33F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AE06F-A10D-42EC-9F4F-FBD94CDB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2948C9-E136-42D7-A596-B3F81C58B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A5018-0F6B-43AE-BDC0-1B76949A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5C5AD-E7C0-4AD6-97F3-53E3D1B3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A5192F-4C3B-4C2F-93FD-20AF5F46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9FEAE-EEC8-40A8-AA90-9BC28FA31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0CB-CF80-4F2C-9BCF-D25655A0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43875-7B30-4B0D-BBAA-2EF9F5DB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05B3E-F126-4222-8B37-2E1A3A75A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C438E-E13B-4DFE-A6E4-F02954A8E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B2F9E-C9D1-49B8-B910-471668280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0E4AF-CCEA-46AC-AAE8-AF9B8272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96209-9A37-4185-B641-1B4AD9CE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BD090-40E5-434D-8483-8B6F80D1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11E80C-9098-4DDA-81C1-EFE643FC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6139A-25DF-41A1-B8F3-905D34171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4AB8DE-BE03-416F-8828-B6CA3B727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5FC-EE62-46B3-9CB9-628656A7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5D761-C3E1-4067-A5F5-35F6A11BA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282A85-A7AD-4030-B507-3271CC0ED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9059A-994A-4947-90D5-788B8DD38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C9A062-5CDB-48ED-BF38-DA15C915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F9EA43-07C2-4072-A8F1-4FC91ACE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5951DD-32AA-4920-8AC4-F87C5E70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953AC6-8D03-44D7-A877-BE9865B1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F1EB1A-7D83-4703-8D95-B0934669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A1576E-0B40-45D1-97EF-7A161E38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C8988-C855-4173-82A8-64AC7F03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0202-5DF0-45A0-B658-D2D27E11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B27AA3-8362-4DE4-B9C3-10595D3B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7B959-C834-4848-9131-3063E6B6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A3AF9D-7B27-4283-859C-39E432BC9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6F43C1-F09C-4611-88EE-79E4DE95F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4164DDE-7A5D-47AE-A726-D26ED914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7F038E-55DE-4D52-943A-E7D14B3F4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0801C-872D-45E6-93D7-057B05B6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8892F-74BD-4BF8-84DA-55A8AD040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6FB85-80B8-4DD1-B7D1-CA153124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5296B-A1BB-4E1F-8035-58AC23E5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FCA-7A86-421A-8231-7B18FEA2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1C51D-F5F2-4330-AD21-7EB3D72A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4E5F2-7EBE-420C-90D0-4DE02CB4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04691-0C49-49A2-B2EB-D6CF6DEF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D3204-FF9B-493A-9A70-9329D2D6C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B59D5-41D3-4D5F-A6CB-CC6DA94B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C130B-4B02-4A09-ADC3-7392E197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04524-E7E8-43BF-8786-A45A4FE10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FC4EA-ECC8-4206-9A56-E0D266BE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CDD350-EA21-48E0-A503-B5766B69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374A1A-AF44-49F1-BD47-6735E6DF7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0E91-8498-400D-9D69-783BB7413D1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4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BEBE-67A3-421B-9093-1D7B1355B6C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93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5FF71-201C-4C06-AB2F-33420D6E277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62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" name="PlaceHolder 1"/>
          <p:cNvSpPr>
            <a:spLocks noGrp="1"/>
          </p:cNvSpPr>
          <p:nvPr>
            <p:ph type="dt" idx="4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ftr" idx="5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80483-9EF4-443A-A561-4A6E06C51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2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B4E23-6594-480B-B5F3-5DE50ED80A7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6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25AE-A8C0-4553-AED4-1D7110F83414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162B-2883-4C83-B9B1-8C62C283B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46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9773-102B-47AB-B753-E4B8C363CD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1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5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6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7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B686-9C8F-42FA-8839-3DFDACF651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352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775CB-74EB-4DE8-B8E6-5ECD07B11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0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945C-B839-4439-B0BA-15F4DF20A74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windows.ucar.edu/tour/link=/earth/images/biomes_map_big_jpg_image.html&amp;edu=ele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3e3ff"/>
                </a:solidFill>
                <a:latin typeface="Arial"/>
              </a:rPr>
              <a:t>Ecosystems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66"/>
                </a:solidFill>
                <a:latin typeface="Tahoma"/>
              </a:rPr>
              <a:t>Balanc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Ecosystems will fail if they do not remain in balanc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ff00"/>
                </a:solidFill>
                <a:latin typeface="Tahoma"/>
              </a:rPr>
              <a:t>No community can carry more organisms than its food, water and shelter can accommodat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79" name="Picture 4" descr="MCj03798970000[1]"/>
          <p:cNvPicPr/>
          <p:nvPr/>
        </p:nvPicPr>
        <p:blipFill>
          <a:blip r:embed="rId1"/>
          <a:stretch/>
        </p:blipFill>
        <p:spPr>
          <a:xfrm>
            <a:off x="5334120" y="4648320"/>
            <a:ext cx="2590560" cy="1752480"/>
          </a:xfrm>
          <a:prstGeom prst="rect">
            <a:avLst/>
          </a:prstGeom>
          <a:ln w="0">
            <a:noFill/>
          </a:ln>
        </p:spPr>
      </p:pic>
      <p:sp>
        <p:nvSpPr>
          <p:cNvPr id="5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How do they stay balanced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o succeed in an ecosystem, plants and animals have special structures and behaviors called adaptation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Ex) Chamele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         </a:t>
            </a:r>
            <a:r>
              <a:rPr b="0" lang="en-US" sz="3100" spc="-1" strike="noStrike">
                <a:solidFill>
                  <a:srgbClr val="00ff00"/>
                </a:solidFill>
                <a:latin typeface="Arial"/>
              </a:rPr>
              <a:t>Polar Bea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you think of more examples of adaptation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Місце для нижнього колонтитула 1"/>
          <p:cNvSpPr/>
          <p:nvPr/>
        </p:nvSpPr>
        <p:spPr>
          <a:xfrm>
            <a:off x="3238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Ecology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cology is the study of relationships between living things and between living things and their environment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an ecosystem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Ecosystem is a system of living things that interact with each other and with the physical worl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Biome is a collection of related ecosystem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4" descr="j0332364"/>
          <p:cNvPicPr/>
          <p:nvPr/>
        </p:nvPicPr>
        <p:blipFill>
          <a:blip r:embed="rId1"/>
          <a:stretch/>
        </p:blipFill>
        <p:spPr>
          <a:xfrm>
            <a:off x="4267080" y="4952880"/>
            <a:ext cx="2971800" cy="1474920"/>
          </a:xfrm>
          <a:prstGeom prst="rect">
            <a:avLst/>
          </a:prstGeom>
          <a:ln w="0">
            <a:noFill/>
          </a:ln>
        </p:spPr>
      </p:pic>
      <p:sp>
        <p:nvSpPr>
          <p:cNvPr id="5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Main Ecosystem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Dese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info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Oce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aig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und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Chaparr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Grassl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mperate Forre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een:Grassland  Purple: Taiga  Orange:Tundra  Black:Temperate Forrest  Yellow:Desert  Brown:Chapparal White:Oc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2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5" descr="Click for full siz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38080" y="1911240"/>
            <a:ext cx="7162920" cy="4946760"/>
          </a:xfrm>
          <a:prstGeom prst="rect">
            <a:avLst/>
          </a:prstGeom>
          <a:ln w="0">
            <a:noFill/>
          </a:ln>
        </p:spPr>
      </p:pic>
      <p:sp>
        <p:nvSpPr>
          <p:cNvPr id="5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00"/>
                </a:solidFill>
                <a:latin typeface="Arial"/>
              </a:rPr>
              <a:t>However…….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Arial"/>
              </a:rPr>
              <a:t>An ecosystem can be as large as the Sahara Desert, or as small as a puddle!!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00"/>
                </a:solidFill>
                <a:latin typeface="Arial"/>
              </a:rPr>
              <a:t>Ecosystems are more than just the organisms they contain. Geography,weather,climate and geologic factors also influence the interactions within an ecosyste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4" name="Picture 4" descr="j0293828"/>
          <p:cNvPicPr/>
          <p:nvPr/>
        </p:nvPicPr>
        <p:blipFill>
          <a:blip r:embed="rId1"/>
          <a:stretch/>
        </p:blipFill>
        <p:spPr>
          <a:xfrm>
            <a:off x="6781680" y="0"/>
            <a:ext cx="1744920" cy="1836720"/>
          </a:xfrm>
          <a:prstGeom prst="rect">
            <a:avLst/>
          </a:prstGeom>
          <a:ln w="0">
            <a:noFill/>
          </a:ln>
        </p:spPr>
      </p:pic>
      <p:sp>
        <p:nvSpPr>
          <p:cNvPr id="5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biotic Factor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990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nonliving physical factors of an environment.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iotoic Factors include amount of water and oxygen, temperature, amount of sunlight and water pressur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8" name="Picture 4" descr="j0335112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YOU TRY!!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7c80"/>
                </a:solidFill>
                <a:latin typeface="Arial"/>
              </a:rPr>
              <a:t>List three more examples of Abiotic Factors: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2" name="Picture 4" descr="MPj04331600000[1]"/>
          <p:cNvPicPr/>
          <p:nvPr/>
        </p:nvPicPr>
        <p:blipFill>
          <a:blip r:embed="rId1"/>
          <a:stretch/>
        </p:blipFill>
        <p:spPr>
          <a:xfrm>
            <a:off x="5410080" y="396252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57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Biotic Factors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re the living, physical factors of an environment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 of Biotic Factors are parasitism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ease and predatio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9T23:21:58Z</dcterms:created>
  <dc:creator>lbc</dc:creator>
  <dc:description/>
  <dc:language>en-US</dc:language>
  <cp:lastModifiedBy>LEGION2</cp:lastModifiedBy>
  <dcterms:modified xsi:type="dcterms:W3CDTF">2015-12-14T11:34:06Z</dcterms:modified>
  <cp:revision>8</cp:revision>
  <dc:subject/>
  <dc:title>Ecosystems</dc:title>
</cp:coreProperties>
</file>