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94FD-D796-4C96-8EF2-9F7321AB73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s will fail if they do not remain in bala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community can carry more organisms than its food, water and shelter can accommod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s will fail if they do not rem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mmunity can carry more organisms than its food, water and shelter can accommo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they stay balanc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) Chamele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ar B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think of more examples of adapt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stay balan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) Chame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think of more examples of adap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Ecolo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colo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eco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iome is a collection of related ecosyst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co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ome is a collection of related eco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in Ecosystem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ainfor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parr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mperate Forr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Ecosyst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a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e For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……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cosystem can be as large as the Sahara Desert, or as small as a puddl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cosystem can be as large as the Sahara Desert, or as small as a puddl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otic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nonliving physical factors of an environme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ot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nonliving physical factors of an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TRY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three more examples of Abiotic Factor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R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ree more examples of Abiotic Fa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tic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living, physical factors of an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Biotic Factors are parasitism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ease and pred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living, physical factors of an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Biotic Factors are parasitis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and pred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DE7A-DFD1-41F0-B757-1887FEC0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4D5A-3507-4CFD-BA03-097FB7B3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AF48D-FBAF-4071-90A9-D98C6FED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90B2E-EA17-4BDD-916B-2CEDC5B4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CFE6C-068A-4859-8499-CD65E295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CD67B-0AE2-42D6-A623-81BD9749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4AC7D-50CF-4ACB-BD67-78399A92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2DDDD-CF0B-4445-806A-ED87AD06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90A15-C9AD-4426-8653-1E658EB5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63CC1-3692-4A76-8A98-6E83038A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F6296-7449-4AA8-A8B2-484B496E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D905A-B1B4-4A00-9A2A-FCBC4D39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4966-16A0-4334-B832-4BB9FDC5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9E9F4-8B53-433B-A561-21CB59A0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3847B-FCB9-455D-A2F3-79DD6816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33904-7750-4E92-8712-7642DB35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3D84E-2E23-4C0F-A750-A9A75539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890E5-8BAA-4DD6-8B42-CE479D22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EC274-79A7-4D67-B602-49D212FD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3B6FC-C0EF-4C8B-9CFF-7D9658D5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0EAF2-43A8-4C14-9E1E-50AD1446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79FAD-5F39-4DB4-A011-A975B757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2CD61-87D3-44F5-949F-370500A6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BE38-DE45-4F38-88B3-362685CB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86D0B-CAFE-4289-848D-6E4BD0BD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66B50-5032-4DE7-AF32-049DF242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2E687-BD20-49B6-9679-A4D3C263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24656-F954-49B0-A261-06370EA5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AF3BF-DCBC-44A0-93BB-2719B285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FD4A7-D9C1-45F9-81E5-144CBA8D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38311-76ED-436F-9EE4-C3ED90D2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D313D-8744-4B2C-A890-7D870EC0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FB201-7D4F-409A-B242-3ABDD3F0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47B45-B5DF-4946-8848-EE506DFC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B44C-F85E-49E0-AB4C-30D0AB56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51136-4428-4F71-8E13-A694CF2E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9FE79-71FE-4EB3-BCE9-3FA2A7E4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5AA1A-F482-4182-98D0-8F6EAD6C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724B-2BD9-43C6-9320-03835BCF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CA6A-D21D-4527-AA63-0FA355C6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1AFB-3E24-4E9B-A645-EC75370D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8098-5452-4E45-9BCE-712314E1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DEDF-7902-43A4-BF30-B3B448C8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05D4-C7FE-4A1B-9B6C-1C9FA3FB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1FC2-02A3-4DBC-ADCE-0E761003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E38A-615A-4BD9-A774-55A6F18D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E372-51BD-4A61-B5AA-7688224F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63FF-F90B-460C-A68E-ABB79EB3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A9BF-CB82-4F41-88EC-B4F9E605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3EA1-F910-44CB-834B-69EEE4D2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7B13E-A84E-44FC-9C4B-4CB6CA3B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5CF33-6A29-4F0E-9920-2B9149D9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0C939-5C8A-4DD4-8A37-37020344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5A885-7D26-4B4F-940B-E5A5B1CE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F36B7-244B-4E1D-8CD4-9647BC4D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527-B9E2-4D7F-8DA3-C5FFDB09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AD82A-B8BE-4127-B6CA-C9518B12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6D035-6E09-4764-A486-0FB2A91D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4CFAF-FE84-40E9-8A54-43116665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0B04E-75A7-4E42-AF85-CAE3A73D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63F01-9C37-4ED0-9318-26C141B9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DD10A-D87F-4727-A61C-00675F81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CCFDF-F5F8-46D3-B3E5-EC9A5BDA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140FF-9EA8-4039-A7AB-0CF2B278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1B5D6-C675-4803-B145-3E4C5AED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F6A04-BD7B-4476-B071-DE97E8F7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0B5C-20EE-4997-9F8D-7D2A16EB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089E3-1E54-480F-BCCA-FCD89ADC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EAB11-9A61-4051-B564-1167DD51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0EEA4-BE9D-4C86-B5BC-3D736117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83335-D51F-4228-8980-4C55EF84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68109-6C7F-4BC1-BB38-A1E078BC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C68CE-0B0B-45AC-8ACA-5B718448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81EAF-0F3C-4D30-852D-81B93FA0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4F61C-1BED-4DB4-8939-22954D6F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6094D-C603-4A49-BE4D-9C9C87FF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A2253-78E9-43E8-A1FD-176B70C6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F1C0-1B64-4B08-8A16-6B8BB535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4A52F-28EF-4D72-ACD4-20505B76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4A615-92C4-4501-9B74-3A24CE26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E9C58-D926-4235-89EB-074AB5C3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062EC-4904-405E-A593-6E189C02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4CBDD-9651-4D45-910D-63804AFE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DF7FE-4F35-477F-965B-48F9D87F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90AF0-5D6F-47DA-B1B6-482DFFA4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32A04-82BC-40F2-AD63-7BEAB1D2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902F3-0139-4504-8EB1-1709203E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6E194-3499-439F-B2EE-863DDB5B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2B6F-B59D-4DFD-B609-E489D507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BC68A-0514-4430-9AF5-00367356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8E6CD-D4F9-45AA-856C-61BAA156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9833C-F31E-48D7-8FCF-08E90578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1BDF8-8226-4B2E-8C7F-857B2AC3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9AFA8-C7C1-4E4B-B4F5-53A75502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6794A-FDB8-417C-BC36-EBBFD3B9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DF5E0-D7B0-48E1-A3CC-115083F7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40B14-4AB5-45A0-9542-63A7712D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29B0C-B204-4795-BD1F-583B905A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84EDF-B990-4DA7-8872-9070EFE5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833-F177-43DF-8B04-B6106D3D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24689-A1B7-4360-8D44-19746965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F152C-075F-4DC8-BC8E-BD031E30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55F9E-267E-4102-85AE-276BF50F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3FC1D6-5D3B-4FC7-96AB-AC058987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7C594D-2CCE-463D-ACD2-150F36B2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2A08A9-7A5B-4F9D-96A2-D0E7FEFF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247915-0EE8-4D7F-BEE9-5F172F6C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739CD7-9A64-4893-BF32-0C5A1FFD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C4415F-1007-4EBC-AC5A-FDF24AE5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FD05EB-E99E-4ABC-8AFA-B7D40C18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82DC-4B06-4CCD-A96E-8C23822E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9FC33A-4183-46EF-A648-52326A97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E20EDE-90B2-4EFC-8E89-58F8F3F8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90CA8B-EEB5-46C1-8225-E9BA1F02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08A979-9DE7-4BFB-ABD7-864AA8FC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2617EF-54FB-4E77-8143-0CEAFCD7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22118-3DD2-46FE-9B0C-142303B0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50B40-24FF-45DB-8FC5-156A0D27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3AFBD-34A4-4AD0-924A-28028454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63E08-3101-4AAB-A446-D3A82B93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257CB-261A-49F9-885C-895F3A29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F66B-A838-475B-8366-D33F43F0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FE547-83B9-4BD8-8394-F0296DBB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94A09-0996-4D12-895B-78C74D06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A88F9-69BF-4EAE-9239-D9713864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60132-8610-434C-A236-9C6FE3BD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AFA3F-F7E3-4E1D-B244-3CA03B23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86532-BD93-4A34-AD8A-6F553DF8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BD1F3-D633-4ED5-996F-E68EE7F4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34F69-BC05-4994-8A00-3C1B59A0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9BEDE-F61B-42DB-A290-1B782A64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BD94C-92CB-4502-B2B3-A09FB2F5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8FB6-FA39-492A-9EF2-6AD58BED9D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4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1288-F280-4E8D-A660-5AA6014139D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93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1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2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3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9AF0-A1B0-4619-8771-51414F68D6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09A4-DDC8-4400-AE10-CD74596A6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1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E6A5-2019-4A78-B523-AD7CF894A4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6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D2A1-3CD8-479D-A36B-86D0BBDCC09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892E-4198-4779-A3B4-815699F59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4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00C5-2EE8-4316-A84A-6F668F2E38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9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9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9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0F17-DA54-40B5-9FD1-FA41A169A7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5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4361-33C6-453C-AB19-AD417FACC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0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3AE3-F28D-4E51-A56C-40EF4FE296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indows.ucar.edu/tour/link=/earth/images/biomes_map_big_jpg_image.html&amp;edu=ele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Ecosystem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66"/>
                </a:solidFill>
                <a:latin typeface="Tahoma"/>
              </a:rPr>
              <a:t>Balanc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Ecosystems will fail if they do not remain in balan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No community can carry more organisms than its food, water and shelter can accommodat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9" name="Picture 4" descr="MCj03798970000[1]"/>
          <p:cNvPicPr/>
          <p:nvPr/>
        </p:nvPicPr>
        <p:blipFill>
          <a:blip r:embed="rId1"/>
          <a:stretch/>
        </p:blipFill>
        <p:spPr>
          <a:xfrm>
            <a:off x="5334120" y="4648320"/>
            <a:ext cx="2590560" cy="175248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imes New Roman"/>
              </a:rPr>
              <a:t>How do they stay balanc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Ex) Chamele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Polar Bea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you think of more examples of adaptation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Ecology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an ecosystem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iome is a collection of related ecosystem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4" descr="j0332364"/>
          <p:cNvPicPr/>
          <p:nvPr/>
        </p:nvPicPr>
        <p:blipFill>
          <a:blip r:embed="rId1"/>
          <a:stretch/>
        </p:blipFill>
        <p:spPr>
          <a:xfrm>
            <a:off x="4267080" y="4952880"/>
            <a:ext cx="2971800" cy="1474920"/>
          </a:xfrm>
          <a:prstGeom prst="rect">
            <a:avLst/>
          </a:prstGeom>
          <a:ln w="0">
            <a:noFill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Ecosystem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se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ainfo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ce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ai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par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assl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mperate For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5" descr="Click for full siz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911240"/>
            <a:ext cx="7162920" cy="4946760"/>
          </a:xfrm>
          <a:prstGeom prst="rect">
            <a:avLst/>
          </a:prstGeom>
          <a:ln w="0">
            <a:noFill/>
          </a:ln>
        </p:spPr>
      </p:pic>
      <p:sp>
        <p:nvSpPr>
          <p:cNvPr id="5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However……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An ecosystem can be as large as the Sahara Desert, or as small as a puddle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Picture 4" descr="j0293828"/>
          <p:cNvPicPr/>
          <p:nvPr/>
        </p:nvPicPr>
        <p:blipFill>
          <a:blip r:embed="rId1"/>
          <a:stretch/>
        </p:blipFill>
        <p:spPr>
          <a:xfrm>
            <a:off x="6781680" y="0"/>
            <a:ext cx="1744920" cy="1836720"/>
          </a:xfrm>
          <a:prstGeom prst="rect">
            <a:avLst/>
          </a:prstGeom>
          <a:ln w="0">
            <a:noFill/>
          </a:ln>
        </p:spPr>
      </p:pic>
      <p:sp>
        <p:nvSpPr>
          <p:cNvPr id="5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biotic Facto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re nonliving physical factors of an environment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j0335112"/>
          <p:cNvPicPr/>
          <p:nvPr/>
        </p:nvPicPr>
        <p:blipFill>
          <a:blip r:embed="rId1"/>
          <a:stretch/>
        </p:blipFill>
        <p:spPr>
          <a:xfrm>
            <a:off x="701028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OU TRY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7c80"/>
                </a:solidFill>
                <a:latin typeface="Arial"/>
              </a:rPr>
              <a:t>List three more examples of Abiotic Factors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4" descr="MPj04331600000[1]"/>
          <p:cNvPicPr/>
          <p:nvPr/>
        </p:nvPicPr>
        <p:blipFill>
          <a:blip r:embed="rId1"/>
          <a:stretch/>
        </p:blipFill>
        <p:spPr>
          <a:xfrm>
            <a:off x="5410080" y="39625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5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Biotic Factor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re the living, physical factors of an environmen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Biotic Factors are parasitism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and pred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23:21:58Z</dcterms:created>
  <dc:creator>lbc</dc:creator>
  <dc:description/>
  <dc:language>en-US</dc:language>
  <cp:lastModifiedBy>LEGION2</cp:lastModifiedBy>
  <dcterms:modified xsi:type="dcterms:W3CDTF">2015-12-14T11:34:06Z</dcterms:modified>
  <cp:revision>8</cp:revision>
  <dc:subject/>
  <dc:title>Ecosystems</dc:title>
</cp:coreProperties>
</file>