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423A-3CAD-418E-B416-AEEFAF2007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l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s will fail if they do not remain in bala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community can carry more organisms than its food, water and shelter can accommod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s will fail if they do not rem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ommunity can carry more organisms than its food, water and shelter can accommo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they stay balanc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) Chamele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ar B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think of more examples of adapt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stay balan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) Chame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think of more examples of adap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Ecolo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colo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eco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iome is a collection of related ecosyst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co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ome is a collection of related eco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in Ecosystem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ainfor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parr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mperate Forr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 Ecosyst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a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e For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……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cosystem can be as large as the Sahara Desert, or as small as a puddle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cosystem can be as large as the Sahara Desert, or as small as a puddl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otic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nonliving physical factors of an environme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ot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nonliving physical factors of an enviro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TRY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three more examples of Abiotic Factor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R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ree more examples of Abiotic Fa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tic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living, physical factors of an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Biotic Factors are parasitism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ease and pred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living, physical factors of an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Biotic Factors are parasitis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 and pred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B3A4-C182-478F-BDDD-192E3EDE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C086-69D2-42A9-A58D-9DE692DA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79562-7731-49C4-A730-47EF67F4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1A562-1C6B-4BCA-A1FD-72348A90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8D610-33FA-478A-8525-844DBF9D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527AA-1973-4161-A30D-B96D3850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EF6FD-B249-49B9-A981-9ADFD974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C7A19-A070-4FCD-9FF4-233F6CAD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31843-EFFA-434F-9195-DD42A8E6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55784-DE36-4AFF-A871-3E20E712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9ED38-FFF6-4FAF-B163-85162518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F8FD2-079C-4B11-8E5D-19DC6B10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AE87-6233-4EC4-9F93-FC4C963D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97F86-5C7D-4039-8BEE-6CECBEC6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3848A-36A9-41E9-BEFB-6771B4D8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8FBD6-EEF3-42C5-A1D8-BC4EC9A1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1244F-DE94-4148-9591-0C1B0508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A224C-4A5C-4E57-8D7B-15CC4F6E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2A719-9D7A-43A3-9539-CB024799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79CBB-2BFD-4AAD-BA5E-0BDD6914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D9E0C-C77C-4EBF-9070-4AA4D7E5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D963D-AD3C-4F1B-9A94-276E9986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8F36F-1515-4066-92EA-08A2D447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4CC9-9106-4DC6-B7D6-958D20D3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3337D-0FB2-43E8-8939-35832EF5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A9026-9681-4A98-8E17-8DCF67B4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00BAE-BCA3-4D51-9613-DE7EE636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9CA8F-B310-4A03-848E-1860C4D8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9C2E7-E425-4C89-ABEF-256BF083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3FAC0-BD1B-46EE-9C97-626BDC42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10126-85E5-4D0D-B962-DDDA0F33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C360D-CDC7-4FFC-82E6-F110B868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326EA-F63D-4280-B62B-4B223C14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FCFFF-F3CE-4042-8AEB-1F1D5173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BF96-3CE1-4996-8084-78D4179F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3487A-42D0-47EF-8A64-5698C776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A1C8F-4836-4418-9670-667BFBAF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D0C84-D0BC-48B3-9B25-402AAA8D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F41A-887E-4C79-9433-5BCB15C1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82F2-ECF4-4D93-A550-FB655373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A479-96C0-4E0A-929B-661BCC4C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54E8-D5C9-4B3F-B875-263C2CC6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E257-8FA0-4FA9-8778-F5217722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18D2-0F6E-4E7B-88E8-3B0623C7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DD5F-2127-4463-9405-B60943AE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9D48-4C4D-4C77-A6C7-85502F18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FB8F-7A46-4643-9AA7-6D88DA1B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76EE-92B5-450C-AB6B-6A950364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B656-94A3-4D88-9F08-83EA5E33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9DBB-0B30-437D-A625-E8A98849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BD776-FDC9-4EA8-93CB-B55C590E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CDA17-1043-413E-81BA-D370375A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938BE-B6FE-4C6F-AA37-14EC3429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71476-E265-47A9-91EA-94CA6C69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012EF-1D1C-419D-A0C5-8CDEDED2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BB42-2881-4554-A9DC-994C66AE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C203F-630E-45DC-A1D4-B6FFE846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CE835-71E3-4638-8B6F-400AA9AB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001C8-AECE-4E7A-91CA-905F0C91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301EF-5010-4259-B584-B39221F1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20F23-64F5-47F9-A02B-55511D50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5637A-DF40-4395-B8F3-89D4B184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83899-FB8C-4BF7-BCD5-FD46144A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93C4C-E44A-4969-8AD4-AAA02120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E588F-B7BB-4967-8A4D-785F37E5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BCAF4-215D-4D08-856A-B4066730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F1D7-37E6-4354-90CA-D4695CB4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E6D83-3FA1-409C-B7AC-CD722749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FA25A-9956-43DC-AA89-E1AFD80C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AA521-F090-4FF5-99CB-1E95661B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E2C48-E616-4862-92E3-01A4C0B1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17EF7-9146-475C-851C-6B971C97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CDD6D-93F2-4BA1-AE87-CFB4B436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802C1-4F40-4BCB-8E47-52CDDD1A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D98CC-0B0C-41BE-A226-6ECC6194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A1901-E059-42A6-A444-834A2B29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F5B63-57EF-4185-A03C-3C740B55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AE19-1AFB-4C96-AC4F-DCB3B91F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EA3E2-FE16-4936-A0F0-59F6B5BA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6CB39-BD64-47CD-84A5-88BC3E2F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0C823-C2FA-4F6F-8C25-2D2E4293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DB908-D8BC-4DC0-A1BD-E9CA663F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CD199-5069-437B-A748-A90C9A99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B11C1-25DF-4698-B2A7-EF708DCB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0B47B-4CE6-441E-A610-98B67A40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8910C-89D7-4709-BE58-965F3A07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54841-CD1C-4C82-9DBD-DE74FB37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0ED35-3C8E-4590-A3D1-E2875852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CAA2-547F-4A35-8B16-B8A367F4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8F7CD-ED83-4E6B-818D-B0CF963A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7137F-0765-41FD-BF9E-3DF5E9EE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563B7-C00E-4E34-B8BC-235851F6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9DDAC-DAA2-4E60-9F6A-EA9AC894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F6006-B6C5-4880-900C-40A54C1E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90430-3FB9-4F55-882C-EF30E596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D53EF-BF49-46ED-8652-9EBFC250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FDFEC-5738-4006-8811-97574020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DAA80-16C0-4847-9361-6BEECA30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29001-98DC-443A-9841-5EE6C8E5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87FE-AA0E-4071-B7FF-C3B7ABEC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FD7A4-DD36-4066-87A8-95A95446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91192-7B2E-4834-A9EB-13229D54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DE325-AE9F-4E06-B2EA-87F4D01A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976E9E-DFF3-428D-B671-950E47E5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8B803B-29AF-4CB8-9E7C-D4D49A59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EDF6BE-5D5F-4B92-BAD0-F9E81154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C11AEF-2948-4E08-A69E-7498842F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1EA7B0-C649-4E52-803C-DB67C41C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F663AF-26FA-42EE-A411-90F82FF7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385F76-3FD2-47C4-8361-C5555D31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C31B-B6F1-456C-8AC2-7CA2482F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D3A5C6-067C-4975-BC98-EFA3E3F1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94FB9F-7417-465A-86CB-FD27744F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BAFB34-127A-4A1A-B996-8BFFE861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678EA0-9A4F-4D5E-A054-25581558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980D74-8CFD-4458-A5CA-5B945E4D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62954-3BE8-491B-8008-D9AC3B31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3F6C5-999C-49E3-9B0E-1275BF5E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44859-0876-4DEE-B74C-934395D4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C1A72-2223-4248-A639-81391505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D8602-ABF7-4205-8593-BB324C4E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DED3-DBA4-4D4C-B940-455CDA10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61638-7662-4621-A27C-AE5CA033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687F8-F5AE-49F2-9B91-69560226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3BE78-A3DE-4551-B557-6AB8FF9B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8A2AB-95E6-4489-874F-0CD5445C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2FB89-81E7-468F-B5FE-D77FAA06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87117-F1A0-43B3-89D0-66F2F8B2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B7714-5BE8-4C5F-870D-562A3AEB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09335-8DC5-438B-B2E9-FF2A9A59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A2BDF-49D4-4F55-A2B6-01AF787E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899F5-2ECC-44E6-B8E4-DD393D46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5A1A-8D2F-40ED-9E07-7BCA8F1F6D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49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3392-91A2-4E07-BE8A-DF84E92EFA3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93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1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2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3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94DA-FC1E-4E85-B85A-DA595C761D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9A4B-CC3A-4E55-8D96-7928EB35B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1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E81D-3703-4CD1-AA08-DB96666A0D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6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9438-5D3F-4ACC-83E9-7D7768610CE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7037-5DCE-41BE-A9E7-179A1CF3D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4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64DA-A776-4B97-B25B-B6F73E008D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9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9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9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0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CB20-A84F-4E9E-ABF6-12D7C66DFF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5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5500-AC98-4C2E-B525-3E22158B2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0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E5D7-2707-4F84-9523-8D6C2D9AFC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indows.ucar.edu/tour/link=/earth/images/biomes_map_big_jpg_image.html&amp;edu=ele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3e3ff"/>
                </a:solidFill>
                <a:latin typeface="Arial"/>
              </a:rPr>
              <a:t>Ecosystem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66"/>
                </a:solidFill>
                <a:latin typeface="Tahoma"/>
              </a:rPr>
              <a:t>Balanc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Ecosystems will fail if they do not remain in balanc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No community can carry more organisms than its food, water and shelter can accommodat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9" name="Picture 4" descr="MCj03798970000[1]"/>
          <p:cNvPicPr/>
          <p:nvPr/>
        </p:nvPicPr>
        <p:blipFill>
          <a:blip r:embed="rId1"/>
          <a:stretch/>
        </p:blipFill>
        <p:spPr>
          <a:xfrm>
            <a:off x="5334120" y="4648320"/>
            <a:ext cx="2590560" cy="175248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imes New Roman"/>
              </a:rPr>
              <a:t>How do they stay balanc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Ex) Chamele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         </a:t>
            </a: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Polar Bea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you think of more examples of adaptation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Ecology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an ecosystem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iome is a collection of related ecosystem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4" descr="j0332364"/>
          <p:cNvPicPr/>
          <p:nvPr/>
        </p:nvPicPr>
        <p:blipFill>
          <a:blip r:embed="rId1"/>
          <a:stretch/>
        </p:blipFill>
        <p:spPr>
          <a:xfrm>
            <a:off x="4267080" y="4952880"/>
            <a:ext cx="2971800" cy="1474920"/>
          </a:xfrm>
          <a:prstGeom prst="rect">
            <a:avLst/>
          </a:prstGeom>
          <a:ln w="0">
            <a:noFill/>
          </a:ln>
        </p:spPr>
      </p:pic>
      <p:sp>
        <p:nvSpPr>
          <p:cNvPr id="5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Ecosystem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se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ainfo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ce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ai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apar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rassl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mperate For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5" descr="Click for full siz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911240"/>
            <a:ext cx="7162920" cy="4946760"/>
          </a:xfrm>
          <a:prstGeom prst="rect">
            <a:avLst/>
          </a:prstGeom>
          <a:ln w="0">
            <a:noFill/>
          </a:ln>
        </p:spPr>
      </p:pic>
      <p:sp>
        <p:nvSpPr>
          <p:cNvPr id="5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However……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An ecosystem can be as large as the Sahara Desert, or as small as a puddle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Picture 4" descr="j0293828"/>
          <p:cNvPicPr/>
          <p:nvPr/>
        </p:nvPicPr>
        <p:blipFill>
          <a:blip r:embed="rId1"/>
          <a:stretch/>
        </p:blipFill>
        <p:spPr>
          <a:xfrm>
            <a:off x="6781680" y="0"/>
            <a:ext cx="1744920" cy="1836720"/>
          </a:xfrm>
          <a:prstGeom prst="rect">
            <a:avLst/>
          </a:prstGeom>
          <a:ln w="0">
            <a:noFill/>
          </a:ln>
        </p:spPr>
      </p:pic>
      <p:sp>
        <p:nvSpPr>
          <p:cNvPr id="5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biotic Factor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re nonliving physical factors of an environment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j0335112"/>
          <p:cNvPicPr/>
          <p:nvPr/>
        </p:nvPicPr>
        <p:blipFill>
          <a:blip r:embed="rId1"/>
          <a:stretch/>
        </p:blipFill>
        <p:spPr>
          <a:xfrm>
            <a:off x="701028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YOU TRY!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7c80"/>
                </a:solidFill>
                <a:latin typeface="Arial"/>
              </a:rPr>
              <a:t>List three more examples of Abiotic Factors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Picture 4" descr="MPj04331600000[1]"/>
          <p:cNvPicPr/>
          <p:nvPr/>
        </p:nvPicPr>
        <p:blipFill>
          <a:blip r:embed="rId1"/>
          <a:stretch/>
        </p:blipFill>
        <p:spPr>
          <a:xfrm>
            <a:off x="5410080" y="39625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5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Biotic Factor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re the living, physical factors of an environmen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Biotic Factors are parasitism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 and pred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23:21:58Z</dcterms:created>
  <dc:creator>lbc</dc:creator>
  <dc:description/>
  <dc:language>en-US</dc:language>
  <cp:lastModifiedBy>LEGION2</cp:lastModifiedBy>
  <dcterms:modified xsi:type="dcterms:W3CDTF">2015-12-14T11:34:06Z</dcterms:modified>
  <cp:revision>8</cp:revision>
  <dc:subject/>
  <dc:title>Ecosystems</dc:title>
</cp:coreProperties>
</file>