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D9A8-B6D4-4FFA-9F3D-813DF54BBB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cosyste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l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systems will fail if they do not remain in balan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community can carry more organisms than its food, water and shelter can accommoda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systems will fail if they do not remain in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ommunity can carry more organisms than its food, water and shelter can accommod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o they stay balanc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succeed in an ecosystem, plants and animals have special structures and behaviors called adapta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) Chamele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ar Be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you think of more examples of adapta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they stay balan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ucceed in an ecosystem, plants and animals have special structures and behaviors called adap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) Chamel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ar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think of more examples of adapt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Ecolog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logy is the study of relationships between living things and between living things and their environ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Ecolog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logy is the study of relationships between living things and between living things and their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n ecosyste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system is a system of living things that interact with each other and with the physical worl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iome is a collection of related ecosyste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ecosyst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system is a system of living things that interact with each other and with the physical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iome is a collection of related eco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in Ecosystem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se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ainfor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aig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und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parr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rassl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mperate Forr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 Ecosyst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i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und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par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erate For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n:Grassland  Purple: Taiga  Orange:Tundra  Black:Temperate Forrest  Yellow:Desert  Brown:Chapparal White:Oce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:Grassland  Purple: Taiga  Orange:Tundra  Black:Temperate Forrest  Yellow:Desert  Brown:Chapparal White: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ever……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ecosystem can be as large as the Sahara Desert, or as small as a puddle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systems are more than just the organisms they contain. Geography,weather,climate and geologic factors also influence the interactions within an ecosyst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…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cosystem can be as large as the Sahara Desert, or as small as a puddle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systems are more than just the organisms they contain. Geography,weather,climate and geologic factors also influence the interactions within an eco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iotic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nonliving physical factors of an environmen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iotoic Factors include amount of water and oxygen, temperature, amount of sunlight and water press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otic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nonliving physical factors of an environ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otoic Factors include amount of water and oxygen, temperature, amount of sunlight and water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TRY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st three more examples of Abiotic Factor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TRY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three more examples of Abiotic Fac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otic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living, physical factors of an environ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of Biotic Factors are parasitism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ease and predatio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ic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living, physical factors of an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Biotic Factors are parasitism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ease and pred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3922-4D56-4A7E-A18B-F6EC66223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8AF0-5876-4C31-AE6F-83749EB4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AF62F8-D91E-4F41-BC38-3833489A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89B26-8BA6-4901-8090-4E3190D7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5471B6-7FD7-4C75-A5A1-D2175157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F7E4DC-4D64-4ACC-BB23-04809434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9AE4FE-D5D5-4C69-B188-0BEB66BA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A6D3D-1687-4D48-867A-DFDBB137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411DAF-9113-4754-83BB-429FC878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0BF4D3-995D-4582-BA3D-4DEF9EAD0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6B361-A71E-48AF-ADAE-5E290A9AE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4C8101-C6A8-4D44-BDA3-FD91860B0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7BE0-AFD3-4009-8D45-1D31EBDA4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0E7CB0-023D-4242-9E30-409A2715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7855F1-FB22-4BED-A6CB-82BE9DE0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796F0A-DC76-4D72-965A-B2C975F7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4FEED1-BF11-4199-BA26-57C92753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10ADA-CFD9-47E8-88E2-BB4EA683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D82CD7-100D-4DD9-A1D5-7E75E50A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C17659-932A-41FE-8E89-29AC52C4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981A0A-68DE-4831-B996-4B8F05CA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012E4A-4DB3-418E-9B12-9FBB05B0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8DD6D8-3E48-42B1-8505-B97357DE9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1B48-4127-4CD4-A594-39668E824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642698-914E-4A39-A808-D794787D9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EC2E2-3DE1-43A0-9480-6B960F7C3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705609-CE1F-4312-AD57-A1DB27A5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6C846-2D0E-4DA6-A64E-476A93A5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17AF7-7287-45BD-A1D7-C78C58F4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22F79-2271-4C22-9BB9-162F8E5A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90B1F5-A79A-41B8-9609-A7CC8084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6F6B34-22EF-4719-A651-DE3C4326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171D3-EA56-45CC-A48C-E476440F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AACF6-90D9-4036-93FA-0FA71761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20153-935B-47B9-8597-B108517E2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D86476-0EEF-438D-B434-A6B8C4A3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AFBE8C-0F40-4753-B5F5-212039DF3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392330-597B-498E-BB32-09D31C102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FCCF9-8E19-42B1-AA26-009447DB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BE78-E42B-4F92-9CC0-420B19C1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115A-63DA-4562-A74B-081468C0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F943-E288-4877-A278-F4951A8D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5C6A0-8B56-4F0D-906E-23EC4DDD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D434-7D9B-4759-97CC-915F7892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2267-C96C-4B34-879F-FCCD69B9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205B-B7F5-4273-ADB5-D475706E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4DA0-20F6-4FDB-88E9-FBFAD58F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4AA1C-C972-4A07-B9E2-874B4867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CC1F7-E7D3-4FFA-AAEA-C0B9EB3E9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81E7-132A-4CD5-B143-6388710AA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1CCE6-1911-4659-9580-4072254A0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B6011-EE00-4B1E-B9DB-B3AB17D1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40FE6-DEC9-4C12-9DAB-71D9B54C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7F43F-D773-428B-9ED0-614227FB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463CD-FBFC-445E-9848-F3F757C4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43BF-7554-4BA6-B37B-74C805AC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19AF1-D3A5-4B60-957B-F70990AB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16D3A-41D0-47C3-8011-A9E5534E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F23C8-F4AA-4429-8661-A504BC3E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62640-D3C9-467B-83C0-5102D8F1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061DD-EF21-4BEF-ABC5-8676257A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398A9-02C6-41EE-ABBA-C831BBDA3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97E29-B7B3-4685-AECD-D6FAF5F77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58324-1ADD-4E7A-8B31-F85F0DAA1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CB94F-D7D5-4DDB-A970-A071C9AB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E4E2A-026A-4E07-9194-F56811BC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5083-E233-4709-BCBE-17E27A03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3FD01-5C3D-4F6C-8A41-E25ECAE2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9CE06-B579-4F3D-ABC7-31FF7855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ECD1F-41B3-484F-A9FB-8E31CCF6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60506-F81B-4846-B21A-7525F652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1DFF4-35EC-42FA-9837-33A5356F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90980-57A2-43C4-B853-E0FAA869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17506-D1BF-4E96-A6B9-747AB2F7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5A89F-8BF2-4FAB-930B-19AF06C4E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59E1B-3A50-4EEB-9208-1052352BC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BDB77-D7BE-4F79-B432-6C31A671D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F8DB-C3EF-41E5-A313-ED4094C1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CB78C-BEF9-4430-8882-9A4F4F6C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9034A-28E4-4B5E-9515-40A24930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EEBFB-CE27-476D-9AED-C0AFC7BC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0ACE6-73F0-4851-B8FE-A6C40415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F0F98-DC7D-470A-8040-C549BB00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35EC5-1F92-451D-952F-A565A1B7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5E365-6CAC-4971-8A7C-D9116045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11E8B-32BF-4807-AD45-1AE5C9F7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CF98D-B745-4F51-9BFD-9ABB63D2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9B2BF-EEE6-4602-9E7C-1F6A78727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8617-9345-4CE6-B409-8FE92581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DC7E7-CBC6-415A-AD5D-3463B8B1B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17318-E6F4-4B18-A02B-4B355F44C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E62C3-D2B8-4EE1-9268-128ECE3E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25545-C41B-4395-856D-B1641E97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AEFB8-7D78-49DE-AD86-8F0CB1E4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AEEEE-49D0-4B5C-8D0B-018A3241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13860-55E8-4401-823C-8FC1EAD3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507BD-C08F-46F0-ACC9-2A156402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BF43D-B5F4-439E-A1CF-39A8D989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19EF8-1762-48EB-9A6D-7B9F9EE4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DA5C-4B52-4AA1-B34E-1EA57650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CA4E3-791A-445D-8C97-1E78F146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F3B36-8AB5-43DC-9F26-25D3A9143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62955-10B4-4609-A548-05A325E23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7FFEB2-8F0D-4C22-BCA9-E9BBC754A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87C1A6-D391-48DC-89C1-8E08FDB4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2FCDA3-4B5C-458F-88DD-0699D96F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16589C-6443-472D-849D-0E909F92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29AC3B-D338-43ED-9DE9-DC2A8B70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8B3C50-B932-4C78-8E0A-D3A4E8DC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A9CA67-8793-4FBF-8FEC-C2882C78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AC9C-DAE9-4620-AAD5-00711323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372F2B-2C16-4FF1-ADBB-00298BAD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06E37A-96E3-472E-88FB-CB95D19C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0249E5-FF2C-4BEF-A9A3-527B03FB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763BEF-6195-4D22-84B6-C6004DAE1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7B2193-9E61-4559-B0F9-75331B026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485CD-F0AF-45E5-8676-B99C1C7B5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1C8BA-4F6A-4C26-B832-B2C35299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41902-AC34-41F4-BCB6-D99F0031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A4ECF-5DE0-4B35-8A8E-6EAE797C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307AD-4BA8-44E5-8A3A-4A699899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C75D-5E35-4556-9C70-C2678350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ACFE9-F3AB-4277-B4EA-C48273BB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844AD-6CE1-4537-ADB3-BD2D972A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BBB66-2D0E-4365-B324-B78F7450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02F43-4986-4A1D-98BE-ACE3C29C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9792E-AF51-4A15-89F3-E6C3E62D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1052D-40BA-45E7-8E70-885C5068F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C0349-5318-4D35-86ED-B2552FEB3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E0153C-E6E8-4F35-9746-82EEE586B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DD9FF-5CF8-4834-8C9F-3A6FF118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CCC3A3-B578-4B74-9D4D-9F6A2980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8B24-DF01-450C-8046-F056DBB0E2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49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B632-6F92-403E-8C89-5CDBED3AEC9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93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1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2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3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DD8D-BE8E-4E1C-A0BD-8D5E955B06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62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4F0B-52F8-4E95-8F50-A6F02FFE3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1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D717-E6B5-4FC0-A1E1-AEED92C252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6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7365-F8CC-4F97-83FE-F6D1455379A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782E-F55C-4789-9C9D-00B7A0E791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24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7C1C-6074-4172-B02A-EA842A432E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91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95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6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97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2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0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4CDB-32AB-47B6-AFB1-6939422E1B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5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672A-91F0-47A4-9E0E-890C31228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0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3F93B-F760-4973-8C00-EECB226404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indows.ucar.edu/tour/link=/earth/images/biomes_map_big_jpg_image.html&amp;edu=ele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3e3ff"/>
                </a:solidFill>
                <a:latin typeface="Arial"/>
              </a:rPr>
              <a:t>Ecosystems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66"/>
                </a:solidFill>
                <a:latin typeface="Tahoma"/>
              </a:rPr>
              <a:t>Balance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ahoma"/>
              </a:rPr>
              <a:t>Ecosystems will fail if they do not remain in balanc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ff00"/>
                </a:solidFill>
                <a:latin typeface="Tahoma"/>
              </a:rPr>
              <a:t>No community can carry more organisms than its food, water and shelter can accommodat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9" name="Picture 4" descr="MCj03798970000[1]"/>
          <p:cNvPicPr/>
          <p:nvPr/>
        </p:nvPicPr>
        <p:blipFill>
          <a:blip r:embed="rId1"/>
          <a:stretch/>
        </p:blipFill>
        <p:spPr>
          <a:xfrm>
            <a:off x="5334120" y="4648320"/>
            <a:ext cx="2590560" cy="1752480"/>
          </a:xfrm>
          <a:prstGeom prst="rect">
            <a:avLst/>
          </a:prstGeom>
          <a:ln w="0">
            <a:noFill/>
          </a:ln>
        </p:spPr>
      </p:pic>
      <p:sp>
        <p:nvSpPr>
          <p:cNvPr id="5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Times New Roman"/>
              </a:rPr>
              <a:t>How do they stay balanced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o succeed in an ecosystem, plants and animals have special structures and behaviors called adaptation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ff00"/>
                </a:solidFill>
                <a:latin typeface="Arial"/>
              </a:rPr>
              <a:t>Ex) Chamele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ff00"/>
                </a:solidFill>
                <a:latin typeface="Arial"/>
              </a:rPr>
              <a:t>         </a:t>
            </a:r>
            <a:r>
              <a:rPr b="0" lang="en-US" sz="3100" spc="-1" strike="noStrike">
                <a:solidFill>
                  <a:srgbClr val="00ff00"/>
                </a:solidFill>
                <a:latin typeface="Arial"/>
              </a:rPr>
              <a:t>Polar Bea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you think of more examples of adaptation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Ecology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cology is the study of relationships between living things and between living things and their environmen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an ecosystem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cosystem is a system of living things that interact with each other and with the physical worl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Biome is a collection of related ecosystem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Picture 4" descr="j0332364"/>
          <p:cNvPicPr/>
          <p:nvPr/>
        </p:nvPicPr>
        <p:blipFill>
          <a:blip r:embed="rId1"/>
          <a:stretch/>
        </p:blipFill>
        <p:spPr>
          <a:xfrm>
            <a:off x="4267080" y="4952880"/>
            <a:ext cx="2971800" cy="1474920"/>
          </a:xfrm>
          <a:prstGeom prst="rect">
            <a:avLst/>
          </a:prstGeom>
          <a:ln w="0">
            <a:noFill/>
          </a:ln>
        </p:spPr>
      </p:pic>
      <p:sp>
        <p:nvSpPr>
          <p:cNvPr id="5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in Ecosystems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ese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ainfor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ce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aig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u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haparr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rassl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mperate Forr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en:Grassland  Purple: Taiga  Orange:Tundra  Black:Temperate Forrest  Yellow:Desert  Brown:Chapparal White:Oc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5" descr="Click for full siz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1911240"/>
            <a:ext cx="7162920" cy="4946760"/>
          </a:xfrm>
          <a:prstGeom prst="rect">
            <a:avLst/>
          </a:prstGeom>
          <a:ln w="0">
            <a:noFill/>
          </a:ln>
        </p:spPr>
      </p:pic>
      <p:sp>
        <p:nvSpPr>
          <p:cNvPr id="5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However…….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An ecosystem can be as large as the Sahara Desert, or as small as a puddle!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Ecosystems are more than just the organisms they contain. Geography,weather,climate and geologic factors also influence the interactions within an ecosyste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Picture 4" descr="j0293828"/>
          <p:cNvPicPr/>
          <p:nvPr/>
        </p:nvPicPr>
        <p:blipFill>
          <a:blip r:embed="rId1"/>
          <a:stretch/>
        </p:blipFill>
        <p:spPr>
          <a:xfrm>
            <a:off x="6781680" y="0"/>
            <a:ext cx="1744920" cy="1836720"/>
          </a:xfrm>
          <a:prstGeom prst="rect">
            <a:avLst/>
          </a:prstGeom>
          <a:ln w="0">
            <a:noFill/>
          </a:ln>
        </p:spPr>
      </p:pic>
      <p:sp>
        <p:nvSpPr>
          <p:cNvPr id="5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biotic Factor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re nonliving physical factors of an environment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iotoic Factors include amount of water and oxygen, temperature, amount of sunlight and water press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Picture 4" descr="j0335112"/>
          <p:cNvPicPr/>
          <p:nvPr/>
        </p:nvPicPr>
        <p:blipFill>
          <a:blip r:embed="rId1"/>
          <a:stretch/>
        </p:blipFill>
        <p:spPr>
          <a:xfrm>
            <a:off x="7010280" y="46483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5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YOU TRY!!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7c80"/>
                </a:solidFill>
                <a:latin typeface="Arial"/>
              </a:rPr>
              <a:t>List three more examples of Abiotic Factors: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2" name="Picture 4" descr="MPj04331600000[1]"/>
          <p:cNvPicPr/>
          <p:nvPr/>
        </p:nvPicPr>
        <p:blipFill>
          <a:blip r:embed="rId1"/>
          <a:stretch/>
        </p:blipFill>
        <p:spPr>
          <a:xfrm>
            <a:off x="5410080" y="396252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57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Biotic Factor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re the living, physical factors of an environment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of Biotic Factors are parasitism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ase and pred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23:21:58Z</dcterms:created>
  <dc:creator>lbc</dc:creator>
  <dc:description/>
  <dc:language>en-US</dc:language>
  <cp:lastModifiedBy>LEGION2</cp:lastModifiedBy>
  <dcterms:modified xsi:type="dcterms:W3CDTF">2015-12-14T11:34:06Z</dcterms:modified>
  <cp:revision>8</cp:revision>
  <dc:subject/>
  <dc:title>Ecosystems</dc:title>
</cp:coreProperties>
</file>