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6FF0-2C19-465D-85FA-2174534D24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c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in which an organism liv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s the kinds of food and shelter, the temperature, and the amount of moisture the organism needs to survi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mpet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pac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et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etition caused by population growth affects many organisms, including hum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s population siz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ing 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thing that restricts the number of individuals in a popul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 living and nonliving features of the eco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c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, gradual changes in the types of species that live in an area; can be primary or seconda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ary – begins in a place without 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ondary – where soil already exi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udy of the interactions that take place among organisms and their environ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imary Succ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condary Succ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oneer spec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roup of organisms, such as lichens, found in the primary stage of succession and that begin an area's soil-building proc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x comm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munity that has reached a stable stage of ecological success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geographic areas with similar climates and eco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nd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ig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e deciduous 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e rain 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opical rain forest, and grass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sphe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rt of Earth that supports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 portion of Earth's cr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waters that cover Earth'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e that surrounds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o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organisms living in an area and the nonliving features of their enviro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organisms in an ecosystem that belong to the same spec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populations in an eco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3DEE-8218-4A95-832A-41B5596F4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F173-EB32-4A61-A59E-50DB6D2D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4815-D33D-4AFD-A8E2-B5BA31B0F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0830-F164-4173-9BA0-E5023BCA5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D416-82BE-4E14-AF44-F82320205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7A34-8547-4A9A-A183-4F523218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1F91-D117-4BE9-A321-141782D1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BB70-2782-486E-AD21-86A79C37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376A-3429-4697-A42A-A81F905A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56EA-D2D3-40B1-B687-9CDA5D83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191D-5BE2-476A-82E2-03AEB500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1C6E-D217-4660-80CB-6DC937C1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5214-B9DC-4343-BF3F-7A2F4537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4D66-4AC0-4459-A889-BC9D9D16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9A3D-20B7-4E8E-A6FD-6C24DA3B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544A-713F-4E26-A435-13FE81093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E78F-8744-45D6-89F4-F3F58C5DC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6240-D02B-40D2-B005-EA3765FD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FD47-E75F-4917-BAAD-AD4E9221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CD94-848E-4909-A322-55CB82ED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FCE8-EE83-482D-9B5A-71F1F266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FD48-7D33-4969-A01D-B997DB83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CF32-47A3-4CE1-A3E3-4F4596AE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D80D-5A5A-414E-BEF1-E0C3F3FB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6F3E-905C-41A8-802A-14A7612CD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1F70-E4B4-44E2-B997-CCAC233857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Ecolog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abitat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place in which an organism live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vides the kinds of food and shelter, the temperature, and the amount of moisture the organism needs to surviv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Rhizanthes"/>
          <p:cNvPicPr/>
          <p:nvPr/>
        </p:nvPicPr>
        <p:blipFill>
          <a:blip r:embed="rId1"/>
          <a:stretch/>
        </p:blipFill>
        <p:spPr>
          <a:xfrm>
            <a:off x="2057400" y="380880"/>
            <a:ext cx="5046840" cy="61722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eti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c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eti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etition caused by population growth affects many organisms, including human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mits population siz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field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6008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imiting Factor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ything that restricts the number of individuals in a populatio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cludes living and nonliving features of the ecosystem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desert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2592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ucces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tural, gradual changes in the types of species that live in an area; can be primary or secondary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– begins in a place without so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ary – where soil already ex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6" descr="s35"/>
          <p:cNvPicPr/>
          <p:nvPr/>
        </p:nvPicPr>
        <p:blipFill>
          <a:blip r:embed="rId1"/>
          <a:stretch/>
        </p:blipFill>
        <p:spPr>
          <a:xfrm>
            <a:off x="762120" y="1122480"/>
            <a:ext cx="7924680" cy="479736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succession6"/>
          <p:cNvPicPr/>
          <p:nvPr/>
        </p:nvPicPr>
        <p:blipFill>
          <a:blip r:embed="rId1"/>
          <a:stretch/>
        </p:blipFill>
        <p:spPr>
          <a:xfrm>
            <a:off x="457200" y="960480"/>
            <a:ext cx="8077320" cy="484668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The study of the interactions that take place among organisms and their environment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imary Succes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3" name="Picture 4" descr="salieur3"/>
          <p:cNvPicPr/>
          <p:nvPr/>
        </p:nvPicPr>
        <p:blipFill>
          <a:blip r:embed="rId1"/>
          <a:stretch/>
        </p:blipFill>
        <p:spPr>
          <a:xfrm>
            <a:off x="3035160" y="1371600"/>
            <a:ext cx="3770280" cy="54864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condary Succes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6" name="Picture 6" descr="fire-crop"/>
          <p:cNvPicPr/>
          <p:nvPr/>
        </p:nvPicPr>
        <p:blipFill>
          <a:blip r:embed="rId1"/>
          <a:stretch/>
        </p:blipFill>
        <p:spPr>
          <a:xfrm>
            <a:off x="2438280" y="1905120"/>
            <a:ext cx="4684680" cy="45972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ioneer speci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group of organisms, such as lichens, found in the primary stage of succession and that begin an area's soil-building proces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6" descr="primary_succession_in_shade"/>
          <p:cNvPicPr/>
          <p:nvPr/>
        </p:nvPicPr>
        <p:blipFill>
          <a:blip r:embed="rId1"/>
          <a:stretch/>
        </p:blipFill>
        <p:spPr>
          <a:xfrm>
            <a:off x="1066680" y="836640"/>
            <a:ext cx="7315200" cy="54878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max commun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ommunity that has reached a stable stage of ecological successio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6" descr="SuccessionPond02"/>
          <p:cNvPicPr/>
          <p:nvPr/>
        </p:nvPicPr>
        <p:blipFill>
          <a:blip r:embed="rId1"/>
          <a:stretch/>
        </p:blipFill>
        <p:spPr>
          <a:xfrm>
            <a:off x="533520" y="762120"/>
            <a:ext cx="7924680" cy="52164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iom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rge geographic areas with similar climates and eco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biombrkcol"/>
          <p:cNvPicPr/>
          <p:nvPr/>
        </p:nvPicPr>
        <p:blipFill>
          <a:blip r:embed="rId1"/>
          <a:stretch/>
        </p:blipFill>
        <p:spPr>
          <a:xfrm>
            <a:off x="380880" y="560520"/>
            <a:ext cx="8382240" cy="573552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clud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und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ig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mperate deciduous for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mperate rain for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opical rain forest, and grasslan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iosphere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art of Earth that supports lif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p portion of Earth's cru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e waters that cover Earth's surf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mosphere that surrounds Ear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biosphere"/>
          <p:cNvPicPr/>
          <p:nvPr/>
        </p:nvPicPr>
        <p:blipFill>
          <a:blip r:embed="rId1"/>
          <a:stretch/>
        </p:blipFill>
        <p:spPr>
          <a:xfrm>
            <a:off x="1295280" y="457200"/>
            <a:ext cx="6782040" cy="583884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cosyste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 organisms living in an area and the nonliving features of their environ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pul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 organisms in an ecosystem that belong to the same speci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weedyfield"/>
          <p:cNvPicPr/>
          <p:nvPr/>
        </p:nvPicPr>
        <p:blipFill>
          <a:blip r:embed="rId1"/>
          <a:stretch/>
        </p:blipFill>
        <p:spPr>
          <a:xfrm>
            <a:off x="762120" y="880920"/>
            <a:ext cx="7619760" cy="50961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mun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 populations in an ecosyste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00083443"/>
          <p:cNvPicPr/>
          <p:nvPr/>
        </p:nvPicPr>
        <p:blipFill>
          <a:blip r:embed="rId1"/>
          <a:stretch/>
        </p:blipFill>
        <p:spPr>
          <a:xfrm>
            <a:off x="196920" y="0"/>
            <a:ext cx="8982000" cy="60958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18:12:26Z</dcterms:created>
  <dc:creator>TMLDR_POARCH</dc:creator>
  <dc:description/>
  <dc:language>en-US</dc:language>
  <cp:lastModifiedBy>LEGION2</cp:lastModifiedBy>
  <dcterms:modified xsi:type="dcterms:W3CDTF">2015-12-14T11:25:58Z</dcterms:modified>
  <cp:revision>38</cp:revision>
  <dc:subject/>
  <dc:title>Ecology</dc:title>
</cp:coreProperties>
</file>