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7A0F8-2637-4FF3-BAEE-E9313B634D7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c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bita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ce in which an organism liv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vides the kinds of food and shelter, the temperature, and the amount of moisture the organism needs to surviv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mpet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pac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et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etition caused by population growth affects many organisms, including hum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its population siz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iting Fact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ything that restricts the number of individuals in a popul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des living and nonliving features of the eco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cce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ural, gradual changes in the types of species that live in an area; can be primary or secondar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mary – begins in a place without s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ondary – where soil already exis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tudy of the interactions that take place among organisms and their environm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imary Succe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condary Succe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oneer spec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roup of organisms, such as lichens, found in the primary stage of succession and that begin an area's soil-building proces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max commun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mmunity that has reached a stable stage of ecological success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 geographic areas with similar climates and eco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nd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ig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e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e deciduous for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e rain for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opical rain forest, and grassl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osphe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art of Earth that supports lif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 portion of Earth's cru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he waters that cover Earth's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mosphere that surrounds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co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he organisms living in an area and the nonliving features of their environ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he organisms in an ecosystem that belong to the same spec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he populations in an eco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CB87-B751-4863-B6CB-FBF1B9CCC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830B-EDA4-4792-8877-27E935665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39D2-2BC5-4C1B-8B25-5707C35C4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BBA4-3089-42B7-AE22-0EEECC59E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2F379-350C-4C46-8F72-D246F2580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0077F-FF0C-4BB6-8602-EFE94DB74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380C6-4201-4D5F-890F-F02047687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B73C8-3604-4121-835A-DE54F0A79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8BF10-54AB-4761-907E-39D9A687B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955BC-5770-415D-A9EC-C305DD47B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6C6C5-B8F5-4807-B03A-436A1CB16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AC19-4D7F-4930-961D-DAB895EC2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E5488-ADDF-434D-8FDE-D25979DF4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81283-A9FE-44D9-A1FF-770DA7B8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ECC28-1DBF-4EBD-8ADC-9C6D1FE82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6511B-4C1B-4688-99D0-C7036AA0E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CE54E-413D-4F60-BD3F-BA151383D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D31D-F942-42A4-835B-645489DFD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4049-14C6-4937-B869-B848E4501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1D2A-09D8-4E9F-ACDD-FE574AEBA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E7A7-E226-494B-A159-43CE74960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EB90-C6F3-4C81-A552-EDDB1187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24EC-5F7B-4715-8C87-6C6AF5BF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4D80-3F4E-4157-B16B-AB963B337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5A07B-0192-4DF8-BA38-79C63C1571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3F639-3140-46D3-972E-105F8813BE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Ecology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Habitat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e place in which an organism live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vides the kinds of food and shelter, the temperature, and the amount of moisture the organism needs to surviv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Rhizanthes"/>
          <p:cNvPicPr/>
          <p:nvPr/>
        </p:nvPicPr>
        <p:blipFill>
          <a:blip r:embed="rId1"/>
          <a:stretch/>
        </p:blipFill>
        <p:spPr>
          <a:xfrm>
            <a:off x="2057400" y="380880"/>
            <a:ext cx="5046840" cy="617220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mpeti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ace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mpeti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petition caused by population growth affects many organisms, including human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mits population siz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5" descr="field"/>
          <p:cNvPicPr/>
          <p:nvPr/>
        </p:nvPicPr>
        <p:blipFill>
          <a:blip r:embed="rId1"/>
          <a:stretch/>
        </p:blipFill>
        <p:spPr>
          <a:xfrm>
            <a:off x="914400" y="685800"/>
            <a:ext cx="7467480" cy="560088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imiting Factor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ything that restricts the number of individuals in a population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cludes living and nonliving features of the ecosystem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desert"/>
          <p:cNvPicPr/>
          <p:nvPr/>
        </p:nvPicPr>
        <p:blipFill>
          <a:blip r:embed="rId1"/>
          <a:stretch/>
        </p:blipFill>
        <p:spPr>
          <a:xfrm>
            <a:off x="914400" y="762120"/>
            <a:ext cx="7391520" cy="525924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uccess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atural, gradual changes in the types of species that live in an area; can be primary or secondary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mary – begins in a place without so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ary – where soil already ex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6" descr="s35"/>
          <p:cNvPicPr/>
          <p:nvPr/>
        </p:nvPicPr>
        <p:blipFill>
          <a:blip r:embed="rId1"/>
          <a:stretch/>
        </p:blipFill>
        <p:spPr>
          <a:xfrm>
            <a:off x="762120" y="1122480"/>
            <a:ext cx="7924680" cy="479736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5" descr="succession6"/>
          <p:cNvPicPr/>
          <p:nvPr/>
        </p:nvPicPr>
        <p:blipFill>
          <a:blip r:embed="rId1"/>
          <a:stretch/>
        </p:blipFill>
        <p:spPr>
          <a:xfrm>
            <a:off x="457200" y="960480"/>
            <a:ext cx="8077320" cy="484668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The study of the interactions that take place among organisms and their environment 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imary Success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3" name="Picture 4" descr="salieur3"/>
          <p:cNvPicPr/>
          <p:nvPr/>
        </p:nvPicPr>
        <p:blipFill>
          <a:blip r:embed="rId1"/>
          <a:stretch/>
        </p:blipFill>
        <p:spPr>
          <a:xfrm>
            <a:off x="3035160" y="1371600"/>
            <a:ext cx="3770280" cy="548640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econdary Success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6" name="Picture 6" descr="fire-crop"/>
          <p:cNvPicPr/>
          <p:nvPr/>
        </p:nvPicPr>
        <p:blipFill>
          <a:blip r:embed="rId1"/>
          <a:stretch/>
        </p:blipFill>
        <p:spPr>
          <a:xfrm>
            <a:off x="2438280" y="1905120"/>
            <a:ext cx="4684680" cy="459720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ioneer speci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group of organisms, such as lichens, found in the primary stage of succession and that begin an area's soil-building proces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6" descr="primary_succession_in_shade"/>
          <p:cNvPicPr/>
          <p:nvPr/>
        </p:nvPicPr>
        <p:blipFill>
          <a:blip r:embed="rId1"/>
          <a:stretch/>
        </p:blipFill>
        <p:spPr>
          <a:xfrm>
            <a:off x="1066680" y="836640"/>
            <a:ext cx="7315200" cy="548784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max communit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community that has reached a stable stage of ecological succession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6" descr="SuccessionPond02"/>
          <p:cNvPicPr/>
          <p:nvPr/>
        </p:nvPicPr>
        <p:blipFill>
          <a:blip r:embed="rId1"/>
          <a:stretch/>
        </p:blipFill>
        <p:spPr>
          <a:xfrm>
            <a:off x="533520" y="762120"/>
            <a:ext cx="7924680" cy="521640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iom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rge geographic areas with similar climates and ecosyste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5" descr="biombrkcol"/>
          <p:cNvPicPr/>
          <p:nvPr/>
        </p:nvPicPr>
        <p:blipFill>
          <a:blip r:embed="rId1"/>
          <a:stretch/>
        </p:blipFill>
        <p:spPr>
          <a:xfrm>
            <a:off x="380880" y="560520"/>
            <a:ext cx="8382240" cy="5735520"/>
          </a:xfrm>
          <a:prstGeom prst="rect">
            <a:avLst/>
          </a:prstGeom>
          <a:ln w="0">
            <a:noFill/>
          </a:ln>
        </p:spPr>
      </p:pic>
      <p:sp>
        <p:nvSpPr>
          <p:cNvPr id="17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nclud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46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undr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aig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ser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mperate deciduous fore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mperate rain fore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opical rain forest, and grassland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iosphere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art of Earth that supports lif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p portion of Earth's cru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the waters that cover Earth's surf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tmosphere that surrounds Earth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biosphere"/>
          <p:cNvPicPr/>
          <p:nvPr/>
        </p:nvPicPr>
        <p:blipFill>
          <a:blip r:embed="rId1"/>
          <a:stretch/>
        </p:blipFill>
        <p:spPr>
          <a:xfrm>
            <a:off x="1295280" y="457200"/>
            <a:ext cx="6782040" cy="583884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cosystem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l the organisms living in an area and the nonliving features of their environ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pula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l the organisms in an ecosystem that belong to the same specie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weedyfield"/>
          <p:cNvPicPr/>
          <p:nvPr/>
        </p:nvPicPr>
        <p:blipFill>
          <a:blip r:embed="rId1"/>
          <a:stretch/>
        </p:blipFill>
        <p:spPr>
          <a:xfrm>
            <a:off x="762120" y="880920"/>
            <a:ext cx="7619760" cy="509616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mmunit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l the populations in an ecosyste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7" descr="00083443"/>
          <p:cNvPicPr/>
          <p:nvPr/>
        </p:nvPicPr>
        <p:blipFill>
          <a:blip r:embed="rId1"/>
          <a:stretch/>
        </p:blipFill>
        <p:spPr>
          <a:xfrm>
            <a:off x="196920" y="0"/>
            <a:ext cx="8982000" cy="609588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5T18:12:26Z</dcterms:created>
  <dc:creator>TMLDR_POARCH</dc:creator>
  <dc:description/>
  <dc:language>en-US</dc:language>
  <cp:lastModifiedBy>LEGION2</cp:lastModifiedBy>
  <dcterms:modified xsi:type="dcterms:W3CDTF">2015-12-14T11:25:58Z</dcterms:modified>
  <cp:revision>38</cp:revision>
  <dc:subject/>
  <dc:title>Ecology</dc:title>
</cp:coreProperties>
</file>