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A32C-552A-482A-A8A6-26DF73CBA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ic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  who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lives her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lace was a bit too…………………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 from the camels this place is grea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if I don’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leaves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right temperature and no-one but no-one messes with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ats who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o eats gr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last 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thing like a Sunday joint of huma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have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I will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am an exp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a good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hink I have got som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– can you go through it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different habitats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scribe the environment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special adaptations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nimal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give me a car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eeds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t hav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564-FF54-4274-B0D4-6408939F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977-DF5B-422B-8C97-2BE3078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CDC2-028A-4244-A13E-52E7651C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5CEA-C3F3-4C70-9B17-E6C3145E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E72-1957-4656-96B9-36B2DD6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31D-6D48-4BA6-939B-CC643FFA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1F3-334D-4B59-B532-87500340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7D5-C657-4BBF-AFB2-DA25D9D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8D69-271C-4D7F-B6B1-F0A237C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373-1721-48C0-8099-D4435466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F9A-4028-43DA-A03B-B23D226C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7F6-F52B-4F8D-9B72-24B88325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3170-890A-42F7-AD80-B34513182F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684360" y="3645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3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7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2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8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LEGION2</cp:lastModifiedBy>
  <dcterms:modified xsi:type="dcterms:W3CDTF">2015-12-14T11:21:54Z</dcterms:modified>
  <cp:revision>10</cp:revision>
  <dc:subject/>
  <dc:title>Slide 1</dc:title>
</cp:coreProperties>
</file>