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A8EE-DF87-47B3-AB6B-C780E3C0DB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AD4-A4C3-4148-A1F7-7C867FD1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588-B50B-4B78-A0C3-0D35126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E4A-465B-472A-B53F-14C57302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A85-57E5-407F-9A89-117C56A0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21D-405E-4E91-AEE8-5464C8F3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45B-04A3-479E-87A8-908F8926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6AC-B759-42CB-8027-7E33D1C5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51E-C362-40E8-AA16-EF6499D4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7A1-AB03-4F65-8324-8B5FF75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535-C466-4597-934A-59C5DC1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638-EA15-43B2-A263-3C0066ED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D11-6BE3-4131-BAFE-B1752B8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9783-911A-4BBC-84CA-FFD41B5485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684360" y="3645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2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8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LEGION2</cp:lastModifiedBy>
  <dcterms:modified xsi:type="dcterms:W3CDTF">2015-12-14T11:21:54Z</dcterms:modified>
  <cp:revision>10</cp:revision>
  <dc:subject/>
  <dc:title>Slide 1</dc:title>
</cp:coreProperties>
</file>