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0E3F-6833-48FF-BC88-F452CE386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33E-4F63-431B-B30D-7D6C4E47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9C8-C018-4027-92F3-62EFE859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BF8-651B-4A8B-B9AD-F7B887C9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052-3424-421B-B596-E83D9437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070-90B8-4F7B-A4EB-1844C09C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E5A-EA37-4BB0-8B78-DF3A4CB1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420-647B-4D68-8F8D-FA38B026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FF7-3168-4732-A44F-DDC75313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027-5A83-49D9-BB87-F13A9D94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65F-C16C-4C77-AD63-866535BA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80D-CC4C-4620-9C92-C33AE4C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0FC-A317-4E40-A063-42C0E413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A115-D6DA-457B-A837-DAB31674FA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684360" y="3645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2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8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LEGION2</cp:lastModifiedBy>
  <dcterms:modified xsi:type="dcterms:W3CDTF">2015-12-14T11:21:54Z</dcterms:modified>
  <cp:revision>10</cp:revision>
  <dc:subject/>
  <dc:title>Slide 1</dc:title>
</cp:coreProperties>
</file>