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54D87-9EE4-4380-8048-963F01EC6F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-Ray Bright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occur anywhere on the Sun at opposition of the active reg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d by magnetic fields that are sucked down into the 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-Ray Bright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occur anywhere on the Sun at opposition of the active reg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d by magnetic fields that are sucked down into the 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 H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polar magnetic fiel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-speed solar wind streams originate in coronal h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 H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polar magnetic fiel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-speed solar wind streams originate in coronal h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connecting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-scale magnetic loops connect two active reg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emerging flux": magnetic loops push their way through the photosphere and appear in the 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connecting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-scale magnetic loops connect two active reg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emerging flux": magnetic loops push their way through the photosphere and appear in the 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a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two opposed arcades resulting in explosions of x-rays from the s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a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two opposed arcades resulting in explosions of x-rays from the s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X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X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fero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ve: Hawaii’s twin Keck observa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ow: New Mexico’s Very Large Arr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fero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ve: Hawaii’s twin Keck observa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ow: New Mexico’s Very Large Arr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X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X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-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ve left, our galaxy in X-rays, above, a superno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-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ve left, our galaxy in X-rays, above, a superno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bserv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bserv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hkoh SXT &amp; Tea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54m focal length provides images from the .25 to 4.5 keV on a 1024x1024 cdc det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hkoh SXT &amp; Tea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54m focal length provides images from the .25 to 4.5 keV on a 1024x1024 cdc det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hkoh Assemb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hkoh Assemb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sciamarchive.org/qpdf.cfm?ArticleID_CHAR=275CD5E3-0A46-47CE-85FE-83E874D98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hkoh X-Ray Picture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sciamarchive.org/qpdf.cfm?ArticleID_CHAR=275CD5E3-0A46-47CE-85FE-83E874D98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hkoh X-Ray Picture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ve Reg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d by strong magnetic fields that may span up to 500,000 square kilomet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ve Reg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d by strong magnetic fields that may span up to 500,000 square kilomet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ade of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"arcade" is a system of magnetic loops organized into an elongated cylindrical formation. Often such an arcade will result from a slowly-developing solar flare or a coronal mass ejection (or both). The bright arcade may persist for days or longer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ade of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"arcade" is a system of magnetic loops organized into an elongated cylindrical formation. Often such an arcade will result from a slowly-developing solar flare or a coronal mass ejection (or both). The bright arcade may persist for days or longer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1D28-7D6A-41FC-B8F7-ABE9EBC6F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D212-8D58-4EC3-90BA-0438802A1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19FE-D831-4E53-B20F-9310CE41F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64FD-8BDF-4373-B178-F8A24F7B3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1D8F-61FE-45C2-95AC-9DDE88020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047A-C9B0-4FB1-B195-BE2FBBE0A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585B-CD9C-4F79-A565-99CB9F61C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D261-DEC2-4D0B-B3B3-744838910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A8E8-64F6-4B0F-97F1-213BB85A4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5FC1-CF51-4301-9D3E-664C0707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6966-6751-442A-9454-A862BF2C6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6560-0F42-474A-977F-5F7504DFF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434D2-7388-4410-BC12-0613D81439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75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87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X-Ray Bright Po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6" descr="bright2"/>
          <p:cNvPicPr/>
          <p:nvPr/>
        </p:nvPicPr>
        <p:blipFill>
          <a:blip r:embed="rId1"/>
          <a:stretch/>
        </p:blipFill>
        <p:spPr>
          <a:xfrm>
            <a:off x="685800" y="2705040"/>
            <a:ext cx="3809880" cy="26672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800240" y="2438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These occur anywhere on the Sun at opposition of the active reg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Caused by magnetic fields that are sucked down into the photosp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Corona H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6" descr="hole2"/>
          <p:cNvPicPr/>
          <p:nvPr/>
        </p:nvPicPr>
        <p:blipFill>
          <a:blip r:embed="rId1"/>
          <a:stretch/>
        </p:blipFill>
        <p:spPr>
          <a:xfrm>
            <a:off x="685800" y="2705040"/>
            <a:ext cx="3809880" cy="266724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80024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unipolar magnetic fiel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high-speed solar wind streams originate in coronal ho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Interconnecting loo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large-scale magnetic loops connect two active reg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"emerging flux": magnetic loops push their way through the photosphere and appear in the cor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7" descr="interconnecting2"/>
          <p:cNvPicPr/>
          <p:nvPr/>
        </p:nvPicPr>
        <p:blipFill>
          <a:blip r:embed="rId1"/>
          <a:stretch/>
        </p:blipFill>
        <p:spPr>
          <a:xfrm>
            <a:off x="685800" y="2705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Stream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724280" y="27432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The result of two opposed arcades resulting in explosions of x-rays from the s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7" descr="streamer2"/>
          <p:cNvPicPr/>
          <p:nvPr/>
        </p:nvPicPr>
        <p:blipFill>
          <a:blip r:embed="rId1"/>
          <a:stretch/>
        </p:blipFill>
        <p:spPr>
          <a:xfrm>
            <a:off x="685800" y="2705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MAXI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3" descr="Black hole"/>
          <p:cNvPicPr/>
          <p:nvPr/>
        </p:nvPicPr>
        <p:blipFill>
          <a:blip r:embed="rId1"/>
          <a:stretch/>
        </p:blipFill>
        <p:spPr>
          <a:xfrm>
            <a:off x="228600" y="2133720"/>
            <a:ext cx="3809880" cy="3754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maximsm"/>
          <p:cNvPicPr/>
          <p:nvPr/>
        </p:nvPicPr>
        <p:blipFill>
          <a:blip r:embed="rId2"/>
          <a:stretch/>
        </p:blipFill>
        <p:spPr>
          <a:xfrm>
            <a:off x="4114800" y="205740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VLA"/>
          <p:cNvPicPr/>
          <p:nvPr/>
        </p:nvPicPr>
        <p:blipFill>
          <a:blip r:embed="rId1"/>
          <a:stretch/>
        </p:blipFill>
        <p:spPr>
          <a:xfrm>
            <a:off x="609480" y="3200400"/>
            <a:ext cx="4648320" cy="28368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terferome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5638680" y="3886200"/>
            <a:ext cx="289584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Above: Hawaii’s twin Keck observato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7" descr="Keck"/>
          <p:cNvPicPr/>
          <p:nvPr/>
        </p:nvPicPr>
        <p:blipFill>
          <a:blip r:embed="rId2"/>
          <a:stretch/>
        </p:blipFill>
        <p:spPr>
          <a:xfrm>
            <a:off x="4952880" y="1752480"/>
            <a:ext cx="3276720" cy="21067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9"/>
          <p:cNvSpPr/>
          <p:nvPr/>
        </p:nvSpPr>
        <p:spPr>
          <a:xfrm>
            <a:off x="1143000" y="2362320"/>
            <a:ext cx="320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Below: New Mexico’s Very Large Arr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MAXI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22" descr="Black hole"/>
          <p:cNvPicPr/>
          <p:nvPr/>
        </p:nvPicPr>
        <p:blipFill>
          <a:blip r:embed="rId1"/>
          <a:stretch/>
        </p:blipFill>
        <p:spPr>
          <a:xfrm>
            <a:off x="228600" y="2133720"/>
            <a:ext cx="3809880" cy="3754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8" descr="maximsm"/>
          <p:cNvPicPr/>
          <p:nvPr/>
        </p:nvPicPr>
        <p:blipFill>
          <a:blip r:embed="rId2"/>
          <a:stretch/>
        </p:blipFill>
        <p:spPr>
          <a:xfrm>
            <a:off x="4114800" y="205740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XI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4" descr="img18"/>
          <p:cNvPicPr/>
          <p:nvPr/>
        </p:nvPicPr>
        <p:blipFill>
          <a:blip r:embed="rId1"/>
          <a:stretch/>
        </p:blipFill>
        <p:spPr>
          <a:xfrm>
            <a:off x="609480" y="476280"/>
            <a:ext cx="7696440" cy="57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X-R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blackspec"/>
          <p:cNvPicPr/>
          <p:nvPr/>
        </p:nvPicPr>
        <p:blipFill>
          <a:blip r:embed="rId1"/>
          <a:stretch/>
        </p:blipFill>
        <p:spPr>
          <a:xfrm>
            <a:off x="685800" y="4110120"/>
            <a:ext cx="4952880" cy="2122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FG05_35E"/>
          <p:cNvPicPr/>
          <p:nvPr/>
        </p:nvPicPr>
        <p:blipFill>
          <a:blip r:embed="rId2"/>
          <a:stretch/>
        </p:blipFill>
        <p:spPr>
          <a:xfrm>
            <a:off x="914400" y="1828800"/>
            <a:ext cx="3352680" cy="22352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2"/>
          <p:cNvSpPr/>
          <p:nvPr/>
        </p:nvSpPr>
        <p:spPr>
          <a:xfrm>
            <a:off x="5791320" y="502920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Above left, our galaxy in X-rays, above, a superno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6" descr="tychoSNR_rosat"/>
          <p:cNvPicPr/>
          <p:nvPr/>
        </p:nvPicPr>
        <p:blipFill>
          <a:blip r:embed="rId3"/>
          <a:stretch/>
        </p:blipFill>
        <p:spPr>
          <a:xfrm>
            <a:off x="5105520" y="1905120"/>
            <a:ext cx="320040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Times New Roman"/>
              </a:rPr>
              <a:t>The Observa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6" descr="satlist2"/>
          <p:cNvPicPr/>
          <p:nvPr/>
        </p:nvPicPr>
        <p:blipFill>
          <a:blip r:embed="rId1"/>
          <a:srcRect l="0" t="0" r="0" b="6943"/>
          <a:stretch/>
        </p:blipFill>
        <p:spPr>
          <a:xfrm>
            <a:off x="1447920" y="2438280"/>
            <a:ext cx="60958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Yohkoh SXT &amp; Tea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6" descr="teemsxt"/>
          <p:cNvPicPr/>
          <p:nvPr/>
        </p:nvPicPr>
        <p:blipFill>
          <a:blip r:embed="rId1"/>
          <a:stretch/>
        </p:blipFill>
        <p:spPr>
          <a:xfrm>
            <a:off x="380880" y="2438280"/>
            <a:ext cx="5410440" cy="3159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19920" y="2362320"/>
            <a:ext cx="3124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imes New Roman"/>
              </a:rPr>
              <a:t>Spe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imes New Roman"/>
              </a:rPr>
              <a:t>1.54m focal length provides images from the .25 to 4.5 keV on a 1024x1024 cdc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Yohkoh Assembl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7" descr="yohkoh"/>
          <p:cNvPicPr/>
          <p:nvPr/>
        </p:nvPicPr>
        <p:blipFill>
          <a:blip r:embed="rId1"/>
          <a:stretch/>
        </p:blipFill>
        <p:spPr>
          <a:xfrm>
            <a:off x="457200" y="1828800"/>
            <a:ext cx="822960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"/>
          <p:cNvPicPr/>
          <p:nvPr/>
        </p:nvPicPr>
        <p:blipFill>
          <a:blip r:embed="rId1"/>
          <a:srcRect l="980" t="1190" r="980" b="0"/>
          <a:stretch/>
        </p:blipFill>
        <p:spPr>
          <a:xfrm>
            <a:off x="1371600" y="1066680"/>
            <a:ext cx="6324480" cy="52549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4"/>
          <p:cNvSpPr/>
          <p:nvPr/>
        </p:nvSpPr>
        <p:spPr>
          <a:xfrm>
            <a:off x="1677600" y="6613560"/>
            <a:ext cx="556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e2d00"/>
                </a:solidFill>
                <a:latin typeface="Times New Roman"/>
              </a:rPr>
              <a:t>http://www.sciamarchive.org/qpdf.cfm?ArticleID_CHAR=275CD5E3-0A46-47CE-85FE-83E874D98B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Times New Roman"/>
              </a:rPr>
              <a:t>Yohkoh X-Ray Pictures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The Coro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Active Reg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5" descr="active2"/>
          <p:cNvPicPr/>
          <p:nvPr/>
        </p:nvPicPr>
        <p:blipFill>
          <a:blip r:embed="rId1"/>
          <a:stretch/>
        </p:blipFill>
        <p:spPr>
          <a:xfrm>
            <a:off x="685800" y="2705040"/>
            <a:ext cx="3809880" cy="2667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724280" y="23623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Caused by strong magnetic fields that may span up to 500,000 square kilometer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Arcade of loo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6" descr="arcade2"/>
          <p:cNvPicPr/>
          <p:nvPr/>
        </p:nvPicPr>
        <p:blipFill>
          <a:blip r:embed="rId1"/>
          <a:stretch/>
        </p:blipFill>
        <p:spPr>
          <a:xfrm>
            <a:off x="685800" y="2705040"/>
            <a:ext cx="3809880" cy="26672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An "arcade" is a system of magnetic loops organized into an elongated cylindrical formation. Often such an arcade will result from a slowly-developing solar flare or a coronal mass ejection (or both). The bright arcade may persist for days or longer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maK</cp:lastModifiedBy>
  <dcterms:modified xsi:type="dcterms:W3CDTF">2015-09-03T12:39:32Z</dcterms:modified>
  <cp:revision>14</cp:revision>
  <dc:subject/>
  <dc:title>PowerPoint Presentation</dc:title>
</cp:coreProperties>
</file>