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B07D-2CF6-4F61-AED5-FE46E13F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FC3-CD1E-4DA4-A4AA-6FAAFC20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519-8953-4DE6-959F-EE67E39D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12F-DDE2-4EF9-8E13-297E2308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85E-F780-49F9-8E9C-01678D16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79A-DB1A-4008-ABEC-93A7B8A0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5B2-0143-42B8-A797-254D7D4A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42D-0111-46C5-AD4C-CAA0BA3B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338-D287-4B84-ABA7-9F6FDFEA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927-5B69-434F-B10C-B600B16C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981-E7BE-425F-8DC0-0194699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6FD-9F6B-4394-8CE5-FB3B4A5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534-204A-4A46-925E-442BE98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D39F-9F13-4F90-98F8-362861EC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5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8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X-Ray Bright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bright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002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se occur anywhere on the Sun at opposition of the active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aused by magnetic fields that are sucked down into the pho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oron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ol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unipolar magne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high-speed solar wind streams originate in coronal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Interconnecting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large-scale magnetic loops connect two active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interconnecting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rea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streamer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VLA"/>
          <p:cNvPicPr/>
          <p:nvPr/>
        </p:nvPicPr>
        <p:blipFill>
          <a:blip r:embed="rId1"/>
          <a:stretch/>
        </p:blipFill>
        <p:spPr>
          <a:xfrm>
            <a:off x="609480" y="3200400"/>
            <a:ext cx="4648320" cy="283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fe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638680" y="3886200"/>
            <a:ext cx="2895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: Hawaii’s twin Keck observ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Keck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210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143000" y="23623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elow: New Mexico’s Very Larg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2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mg18"/>
          <p:cNvPicPr/>
          <p:nvPr/>
        </p:nvPicPr>
        <p:blipFill>
          <a:blip r:embed="rId1"/>
          <a:stretch/>
        </p:blipFill>
        <p:spPr>
          <a:xfrm>
            <a:off x="609480" y="4762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lackspec"/>
          <p:cNvPicPr/>
          <p:nvPr/>
        </p:nvPicPr>
        <p:blipFill>
          <a:blip r:embed="rId1"/>
          <a:stretch/>
        </p:blipFill>
        <p:spPr>
          <a:xfrm>
            <a:off x="685800" y="4110120"/>
            <a:ext cx="4952880" cy="212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FG05_35E"/>
          <p:cNvPicPr/>
          <p:nvPr/>
        </p:nvPicPr>
        <p:blipFill>
          <a:blip r:embed="rId2"/>
          <a:stretch/>
        </p:blipFill>
        <p:spPr>
          <a:xfrm>
            <a:off x="914400" y="18288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5791320" y="50292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 left, our galaxy in X-rays, above, a super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tychoSNR_rosat"/>
          <p:cNvPicPr/>
          <p:nvPr/>
        </p:nvPicPr>
        <p:blipFill>
          <a:blip r:embed="rId3"/>
          <a:stretch/>
        </p:blipFill>
        <p:spPr>
          <a:xfrm>
            <a:off x="5105520" y="1905120"/>
            <a:ext cx="3200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imes New Roman"/>
              </a:rPr>
              <a:t>The Observ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satlist2"/>
          <p:cNvPicPr/>
          <p:nvPr/>
        </p:nvPicPr>
        <p:blipFill>
          <a:blip r:embed="rId1"/>
          <a:srcRect l="0" t="0" r="0" b="6943"/>
          <a:stretch/>
        </p:blipFill>
        <p:spPr>
          <a:xfrm>
            <a:off x="1447920" y="243828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Yohkoh SXT &amp; Te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teemsxt"/>
          <p:cNvPicPr/>
          <p:nvPr/>
        </p:nvPicPr>
        <p:blipFill>
          <a:blip r:embed="rId1"/>
          <a:stretch/>
        </p:blipFill>
        <p:spPr>
          <a:xfrm>
            <a:off x="380880" y="2438280"/>
            <a:ext cx="5410440" cy="3159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19920" y="236232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Yohkoh Assemb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yohkoh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980" t="1190" r="980" b="0"/>
          <a:stretch/>
        </p:blipFill>
        <p:spPr>
          <a:xfrm>
            <a:off x="1371600" y="1066680"/>
            <a:ext cx="6324480" cy="525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677600" y="6613560"/>
            <a:ext cx="556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2d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Yohkoh X-Ray Pictur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he 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ctive Reg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activ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Caused by strong magnetic fields that may span up to 500,000 square kilome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rcade of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arcad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9:32Z</dcterms:modified>
  <cp:revision>14</cp:revision>
  <dc:subject/>
  <dc:title>PowerPoint Presentation</dc:title>
</cp:coreProperties>
</file>