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57.jpeg" ContentType="image/jpeg"/>
  <Override PartName="/ppt/media/image55.jpeg" ContentType="image/jpeg"/>
  <Override PartName="/ppt/media/image52.wmf" ContentType="image/x-wmf"/>
  <Override PartName="/ppt/media/image83.jpeg" ContentType="image/jpeg"/>
  <Override PartName="/ppt/media/image51.wmf" ContentType="image/x-wmf"/>
  <Override PartName="/ppt/media/image63.jpeg" ContentType="image/jpeg"/>
  <Override PartName="/ppt/media/image50.wmf" ContentType="image/x-wmf"/>
  <Override PartName="/ppt/media/image48.wmf" ContentType="image/x-wmf"/>
  <Override PartName="/ppt/media/image46.wmf" ContentType="image/x-wmf"/>
  <Override PartName="/ppt/media/image69.jpeg" ContentType="image/jpeg"/>
  <Override PartName="/ppt/media/carbrake.wav" ContentType="audio/x-wav"/>
  <Override PartName="/ppt/media/image45.wmf" ContentType="image/x-wmf"/>
  <Override PartName="/ppt/media/image43.wmf" ContentType="image/x-wmf"/>
  <Override PartName="/ppt/media/image9.png" ContentType="image/png"/>
  <Override PartName="/ppt/media/image41.jpeg" ContentType="image/jpeg"/>
  <Override PartName="/ppt/media/image23.wmf" ContentType="image/x-wmf"/>
  <Override PartName="/ppt/media/image40.wmf" ContentType="image/x-wmf"/>
  <Override PartName="/ppt/media/image59.jpeg" ContentType="image/jpeg"/>
  <Override PartName="/ppt/media/image39.wmf" ContentType="image/x-wmf"/>
  <Override PartName="/ppt/media/image38.wmf" ContentType="image/x-wmf"/>
  <Override PartName="/ppt/media/image34.wmf" ContentType="image/x-wmf"/>
  <Override PartName="/ppt/media/image32.wmf" ContentType="image/x-wmf"/>
  <Override PartName="/ppt/media/image22.jpeg" ContentType="image/jpeg"/>
  <Override PartName="/ppt/media/image81.jpeg" ContentType="image/jpeg"/>
  <Override PartName="/ppt/media/image30.wmf" ContentType="image/x-wmf"/>
  <Override PartName="/ppt/media/image58.jpeg" ContentType="image/jpeg"/>
  <Override PartName="/ppt/media/image44.wmf" ContentType="image/x-wmf"/>
  <Override PartName="/ppt/media/image11.gif" ContentType="image/gif"/>
  <Override PartName="/ppt/media/image14.png" ContentType="image/png"/>
  <Override PartName="/ppt/media/image2.png" ContentType="image/png"/>
  <Override PartName="/ppt/media/image72.jpeg" ContentType="image/jpeg"/>
  <Override PartName="/ppt/media/image24.png" ContentType="image/png"/>
  <Override PartName="/ppt/media/image73.jpeg" ContentType="image/jpeg"/>
  <Override PartName="/ppt/media/image20.png" ContentType="image/png"/>
  <Override PartName="/ppt/media/image28.jpeg" ContentType="image/jpeg"/>
  <Override PartName="/ppt/media/image26.png" ContentType="image/png"/>
  <Override PartName="/ppt/media/image87.wmf" ContentType="image/x-wmf"/>
  <Override PartName="/ppt/media/image76.jpeg" ContentType="image/jpeg"/>
  <Override PartName="/ppt/media/image77.jpeg" ContentType="image/jpeg"/>
  <Override PartName="/ppt/media/image60.jpeg" ContentType="image/jpeg"/>
  <Override PartName="/ppt/media/image85.jpeg" ContentType="image/jpeg"/>
  <Override PartName="/ppt/media/image61.jpeg" ContentType="image/jpeg"/>
  <Override PartName="/ppt/media/image78.jpeg" ContentType="image/jpeg"/>
  <Override PartName="/ppt/media/image84.jpeg" ContentType="image/jpeg"/>
  <Override PartName="/ppt/media/image74.jpeg" ContentType="image/jpeg"/>
  <Override PartName="/ppt/media/image18.wmf" ContentType="image/x-wmf"/>
  <Override PartName="/ppt/media/image6.wmf" ContentType="image/x-wmf"/>
  <Override PartName="/ppt/media/image80.jpeg" ContentType="image/jpeg"/>
  <Override PartName="/ppt/media/image53.wmf" ContentType="image/x-wmf"/>
  <Override PartName="/ppt/media/image54.jpeg" ContentType="image/jpeg"/>
  <Override PartName="/ppt/media/type.wav" ContentType="audio/x-wav"/>
  <Override PartName="/ppt/media/image62.jpeg" ContentType="image/jpeg"/>
  <Override PartName="/ppt/media/image79.jpeg" ContentType="image/jpeg"/>
  <Override PartName="/ppt/media/image19.png" ContentType="image/png"/>
  <Override PartName="/ppt/media/image21.png" ContentType="image/png"/>
  <Override PartName="/ppt/media/image67.jpeg" ContentType="image/jpeg"/>
  <Override PartName="/ppt/media/image64.jpeg" ContentType="image/jpeg"/>
  <Override PartName="/ppt/media/image33.wmf" ContentType="image/x-wmf"/>
  <Override PartName="/ppt/media/image75.jpeg" ContentType="image/jpeg"/>
  <Override PartName="/ppt/media/image71.jpeg" ContentType="image/jpeg"/>
  <Override PartName="/ppt/media/image70.jpeg" ContentType="image/jpeg"/>
  <Override PartName="/ppt/media/image31.png" ContentType="image/png"/>
  <Override PartName="/ppt/media/image36.wmf" ContentType="image/x-wmf"/>
  <Override PartName="/ppt/media/image68.jpeg" ContentType="image/jpeg"/>
  <Override PartName="/ppt/media/image13.png" ContentType="image/png"/>
  <Override PartName="/ppt/media/image1.png" ContentType="image/png"/>
  <Override PartName="/ppt/media/image65.jpeg" ContentType="image/jpeg"/>
  <Override PartName="/ppt/media/image15.png" ContentType="image/png"/>
  <Override PartName="/ppt/media/image3.png" ContentType="image/png"/>
  <Override PartName="/ppt/media/laser.wav" ContentType="audio/x-wav"/>
  <Override PartName="/ppt/media/image35.wmf" ContentType="image/x-wmf"/>
  <Override PartName="/ppt/media/image25.png" ContentType="image/png"/>
  <Override PartName="/ppt/media/image56.jpeg" ContentType="image/jpeg"/>
  <Override PartName="/ppt/media/image10.wmf" ContentType="image/x-wmf"/>
  <Override PartName="/ppt/media/image47.wmf" ContentType="image/x-wmf"/>
  <Override PartName="/ppt/media/image7.wmf" ContentType="image/x-wmf"/>
  <Override PartName="/ppt/media/image29.jpeg" ContentType="image/jpeg"/>
  <Override PartName="/ppt/media/image37.wmf" ContentType="image/x-wmf"/>
  <Override PartName="/ppt/media/image66.jpeg" ContentType="image/jpeg"/>
  <Override PartName="/ppt/media/image16.wmf" ContentType="image/x-wmf"/>
  <Override PartName="/ppt/media/image8.png" ContentType="image/png"/>
  <Override PartName="/ppt/media/image82.jpeg" ContentType="image/jpeg"/>
  <Override PartName="/ppt/media/image42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5.wmf" ContentType="image/x-wmf"/>
  <Override PartName="/ppt/media/image86.jpeg" ContentType="image/jpeg"/>
  <Override PartName="/ppt/media/image27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23DC-9590-4A0E-990D-695BF72BCBE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: SOUND &amp;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carry energy from one place to an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S: SOUND &amp;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s carry energy from one place to anoth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. – Longest wavelength &amp; lowest frequ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– Radio &amp; T.V. broadcas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dio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. – Longest wavelength &amp; lowest frequenc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 – Radio &amp; T.V. broadcast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ating Radio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ulation - variation of amplitude or frequency when waves are broadc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 – amplitude modul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ries audio for T.V. Broadc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er wavelength so can bend around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M – frequency modul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ries video for T.V. Broadca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dulating Radio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dulation - variation of amplitude or frequency when waves are broadcas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M – amplitude modula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ries audio for T.V. Broadcas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er wavelength so can bend around hil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M – frequency modulation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ries video for T.V. Broadcas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rt Wavelength Microw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 – Light rays with longer wavelength than red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Cooking, Medicine, T.V. remote contr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ort Wavelength Microwav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frared Ray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 – Light rays with longer wavelength than red ligh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: Cooking, Medicine, T.V. remote contro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 (cont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ltraviolet 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. – EM waves with frequencies slightly higher than visibl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food processing &amp; hospitals to kill germs’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your body use vitamin  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 (cont.)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ltraviolet ray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. – EM waves with frequencies slightly higher than visible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: food processing &amp; hospitals to kill germs’ cel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lps your body use vitamin  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. - EM waves that are shorter than UV 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 Medicine – Bones absorb x-rays; soft tissue does no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 absorbs X-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-Ray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. - EM waves that are shorter than UV ray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:  Medicine – Bones absorb x-rays; soft tissue does not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d absorbs X-ray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isible spectrum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.  Highest frequency EM waves; Shortest wavelength.  They come from outer sp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:  cancer treat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isible spectrum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amma ray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.  Highest frequency EM waves; Shortest wavelength.  They come from outer space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:  cancer treatmen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: Particles or Wav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Model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s most propertie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 Theory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electric Effect – Photons of light produce free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: Particles or Waves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 Model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plains most properties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rticle Theory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otoelectric Effect – Photons of light produce free electr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: Refraction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Bending of light due to a change in spe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x of Refraction – Amount by which a material refracts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sms – Glass that bends light.  Different frequencies are bent different amounts &amp; light is broken out into different col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: Refraction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 – Bending of light due to a change in speed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dex of Refraction – Amount by which a material refracts ligh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isms – Glass that bends light.  Different frequencies are bent different amounts &amp; light is broken out into different colo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-Spectroscope L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y girls!  The filters go on the Spectroscope, not on the lash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-Spectroscope Lab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y girls!  The filters go on the Spectroscope, not on the lashes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E OF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(Def.) – A wave is a disturbance that transfers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um – Substance or region through which a wave is transmit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of Waves – Depends on the properties of the med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TURE OF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s (Def.) – A wave is a disturbance that transfers energ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dium – Substance or region through which a wave is transmitt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eed of Waves – Depends on the properties of the mediu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arent Object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ransmitted because of no scatt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transmitted is color you see.  All other colors are absorb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ucen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scattered and transmitted s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aqu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either reflected or absorb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opaque objects is color it refl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nsparent Objects: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transmitted because of no scatter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transmitted is color you see.  All other colors are absorb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nslucent: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is scattered and transmitted som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aque: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is either reflected or absorbed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opaque objects is color it reflec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Light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Obje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light is the presence of ALL the colors of the visible spectr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objects absorb ALL the colors and no light is reflected ba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Light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Objec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te light is the presence of ALL the colors of the visible spectru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ack objects absorb ALL the colors and no light is reflected bac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of Light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Color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colors that can be mixed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 any other colored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+ blue + green = whit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imentary Color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complimentary colors comb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make white light-Magenta,Cyan,Yel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or of Light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imary Colors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ree colors that can be mixed to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duce any other colored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+ blue + green = white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imentary Colors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wo complimentary colors combin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make white light-Magenta,Cyan,Yellow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You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na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refracts light to converge on the retina.  Nerves transmit the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d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rve cells in the retina.  Very sensitive to light &amp; d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rve cells help to see light/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You Se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tina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ns refracts light to converge on the retina.  Nerves transmit the i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ods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rve cells in the retina.  Very sensitive to light &amp; dar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es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rve cells help to see light/col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nt Pi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gments absorb the frequency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that you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pig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llow + cyan + magenta = bla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pigments are compli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primary colors of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aint Pig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igments absorb the frequency of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that you se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imary pig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ellow + cyan + magenta = black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imary pigments are compli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f the primary colors of ligh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mentary Pigme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n, blue, 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imentary pigments are primary colors for ligh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ementary Pig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reen, blue, r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imentary pigments are primary colors for light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of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andescent light – light produced by heating an object until it glow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urces of Ligh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candescent light – light produced by heating an object until it glow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escent Light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produced by electron bombardment of gas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sphors absorb photons that are created when mercury gas gets zapped with electrons.  The phosphors glow &amp; produce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luorescent Light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produced by electron bombardment of gas molecul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osphors absorb photons that are created when mercury gas gets zapped with electrons.  The phosphors glow &amp; produce ligh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 - Ne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on light – neon inside glass tubes makes red light.  Other gases make other col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 - Ne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on light – neon inside glass tubes makes red light.  Other gases make other colo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 - Refle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– Bouncing back of light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ular reflection – mirrors smooth surfaces scatter light very little.  Images are clear &amp; ex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use reflection – reflected light is scattered due to an irregular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 - Reflec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– Bouncing back of light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gular reflection – mirrors smooth surfaces scatter light very little.  Images are clear &amp; exac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use reflection – reflected light is scattered due to an irregular surfa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LESSON: Light &amp; the 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sed 1/20/0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LESSON: Light &amp; the 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vised 1/20/0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larg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larger than actual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smaller than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larged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larger than actual objec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uced –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smaller than objec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ect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right side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ted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upside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rect –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right side u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erted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upside dow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Image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is made from “real” light rays that converge at a real focal point so the image is 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projected onto a screen because light actually passes through the point where the image app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inver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al Image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is made from “real” light rays that converge at a real focal point so the image is REA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be projected onto a screen because light actually passes through the point where the image appea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ways inver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tual Image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Real” because it cannot be projecte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age only seems to be the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rtual Image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Real” because it cannot be projecte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age only seems to be there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Vocabu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Axis – Base line through the center of a mirror or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Point – Point where reflected or refracted rays meet &amp; image is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Length – Distance between center of mirror/lens and 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Mirro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Vocabul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ptical Axis – Base line through the center of a mirror or le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cal Point – Point where reflected or refracted rays meet &amp; image is form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cal Length – Distance between center of mirror/lens and focal poi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 Mirrors – Perfectly fl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rtual – Image is “Not Real” because it cannot be proje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ect – Image is right side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Mirro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ne Mirrors – Perfectly fla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rtual – Image is “Not Real” because it cannot be projec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rect – Image is right side u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 Mirr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&amp; Mirrors (Cont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ves outw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larges im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:  Rear view mirrors, store security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TION!  Objects are closer than they appe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 Mirro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lection &amp; Mirrors (Cont.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vex Mirro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urves outwar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larges imag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:  Rear view mirrors, store security…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UTION!  Objects are closer than they appear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Len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cker in the center than edge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that converges (brings together) light ray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s real images and virtual images depending on position of the o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vex Lens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cker in the center than edges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ns that converges (brings together) light rays.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ms real images and virtual images depending on position of the objec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Len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Trac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rays usually define an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#1:  Light ray comes from top of object; travels parallel to optic axis; bends thru focal po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vex Lens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Trac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wo rays usually define an i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#1:  Light ray comes from top of object; travels parallel to optic axis; bends thru focal poin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cal Poi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bjec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x Len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Trac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rays define an im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2:  Light ray comes from top of object &amp; travels through center of l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vex Lens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Tracing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wo rays define an ima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2:  Light ray comes from top of object &amp; travels through center of le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#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y #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bert Eins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bert Einstei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ITS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Lens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that is thicker at the edges and thinner in the cen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erges light ray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images are erect and redu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ITS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cave Lenses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ns that is thicker at the edges and thinner in the center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verges light ray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l images are erect and reduc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You Se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Sighted – Eyeball is too long and image focuses in front of the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 Sighted – Eyeball is too short so image is focused behind the reti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You Se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ar Sighted – Eyeball is too long and image focuses in front of the retin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r Sighted – Eyeball is too short so image is focused behind the retin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ave Lenses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on – Eye is a convex l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sightedness – Concave lenses expand focal leng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sightedness – Convex lenses shortens the focal leng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Len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cave Lenses –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sion – Eye is a convex le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arsightedness – Concave lenses expand focal length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rsightedness – Convex lenses shortens the focal leng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Optical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ro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Optical Instru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mer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lescop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croscop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Optical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ronym: Light Amplification by Stimulated Emission of Rad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herent Light – Waves are in phase so it is VERY powerful &amp; VERY intens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Optical Instru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S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ronym: Light Amplification by Stimulated Emission of Radi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herent Light – Waves are in phase so it is VERY powerful &amp; VERY intense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Optical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lography – Use of Lasers to create 3-D im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ber Optics – Light energy transferred through long, flexible fibers of glass/plas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– Communications, medicine, t.v. transmission, data process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Optical Instrume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S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lography – Use of Lasers to create 3-D imag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ber Optics – Light energy transferred through long, flexible fibers of glass/plasti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es – Communications, medicine, t.v. transmission, data process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– Bending of waves around the edge of a barrier.  New waves are formed from the original. breaks images into bands of light &amp; dark and colo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 – Bending of waves due to a change in speed through an objec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Dif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raction – Bending of waves around the edge of a barrier.  New waves are formed from the original. breaks images into bands of light &amp; dark and color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 – Bending of waves due to a change in speed through an object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&amp; USES:  Diffra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ffraction grating.  Each space between the ruled grooves acts as a slit.  The light bends around the edges and gets refra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Encar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&amp; USES:  Diffrac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diffraction grating.  Each space between the ruled grooves acts as a slit.  The light bends around the edges and gets refract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Encart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1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: What Is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toms absorb energy, electrons jump out to a higher energy le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release light when falling down to the lower energy le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ns - bundles/packets of energy released when the electrons f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: Stream of Ph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: What Is I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Ener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to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s atoms absorb energy, electrons jump out to a higher energy leve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ns release light when falling down to the lower energy leve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otons - bundles/packets of energy released when the electrons fal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: Stream of Phot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you hard at work or hardly wor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y girl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3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e you hard at work or hardly working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y girls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There’s more posing than work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5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e: There’s more posing than working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5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5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6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PLE STUDENT PROJECT:  Diffraction Grating Glasses (Pd. 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D. L.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PLE STUDENT PROJECT:  Diffraction Grating Glasses (Pd. 6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ON: State Stand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s carry energy from one place to an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ransverse and longitudinal waves in mechanical media such as spring, ropes, and the earth (seismic wav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problems involving wavelength, frequency, &amp; spe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ION: State Standar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ves carry energy from one place to anoth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dentify transverse and longitudinal waves in mechanical media such as spring, ropes, and the earth (seismic waves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lve problems involving wavelength, frequency, &amp; speed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ON: State Stand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waves, light, and x-rays are different wavelength bands in the spectrum of electromagnetic waves whose speed in vacuum is approximately 3x10 m/sec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 is a longitudinal wave whose speed depends on the properties of the medium in which it propag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ION: State Standar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dio waves, light, and x-rays are different wavelength bands in the spectrum of electromagnetic waves whose speed in vacuum is approximately 3x10 m/sec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und is a longitudinal wave whose speed depends on the properties of the medium in which it propagat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ION: State Standa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characteristic properties of wav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en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ppler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iz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ION: State Standar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dentify the characteristic properties of waves: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terferenc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oppler Effec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lariz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imedia.com/chem-ed/light/em-spec.htm, updated 2/1/9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encarta.msn.com/find/Concise.asp?ti=06AFC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bl.gov/MicroWorlds/ALSTool/EMSpec/EMSpec2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bl.gov/MicroWorlds/ALSTool/EMSpec/EMSpec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eren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scimedia.com/chem-ed/light/em-spec.htm, updated 2/1/97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encarta.msn.com/find/Concise.asp?ti=06AFC00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lbl.gov/MicroWorlds/ALSTool/EMSpec/EMSpec2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lbl.gov/MicroWorlds/ALSTool/EMSpec/EMSpec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in Vacu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0,000 km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6,000 mi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in Other Mater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er in Air, Water, 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eed in Vacu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00,000 km/se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6,000 mi/se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eed in Other Materia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ower in Air, Water, Gla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imedia.com/chem-ed/light/em-rad.htm, updated 11/22/9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feren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scimedia.com/chem-ed/light/em-rad.htm, updated 11/22/97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S C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imedia.com/chem-ed/light/em-rad.htm, updated 11/22/97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cimedia.com/chem-ed/light/em-spec.htm, updated 2/1/97 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encarta.msn.com/find/Concise.asp?ti=06AFC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bl.gov/MicroWorlds/ALSTool/EMSpec/EMSpec2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lbl.gov/MicroWorlds/ALSTool/EMSpec/EMSpec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sc.tamu.edu/~astro/colo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KS CI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scimedia.com/chem-ed/light/em-rad.htm, updated 11/22/97 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scimedia.com/chem-ed/light/em-spec.htm, updated 2/1/97 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encarta.msn.com/find/Concise.asp?ti=06AFC00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lbl.gov/MicroWorlds/ALSTool/EMSpec/EMSpec2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lbl.gov/MicroWorlds/ALSTool/EMSpec/EMSpec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End…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verse Wa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erpendicular to direction of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 photon creates electric &amp; magnetic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has BOTH Electric &amp; Magnetic fields at right angl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ransverse W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ergy is perpendicular to direction of mo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ving photon creates electric &amp; magnetic fiel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ght has BOTH Electric &amp; Magnetic fields at right angles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© 2000 Microsoft Clip Gall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magnetic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ble Spectrum – Light we can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y G. Biv – Acronym for Red, Orange, Yellow, Green, Blue, Indigo, &amp; Viol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st to Smallest Waveleng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magnetic Spectr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sible Spectrum – Light we can se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oy G. Biv – Acronym for Red, Orange, Yellow, Green, Blue, Indigo, &amp; Viol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rgest to Smallest Waveleng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8B80-D123-4C59-B36A-33748D169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752D-8F04-44A7-94FC-ED9166BA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41D0-3C0B-4D11-868C-FC6FF8BB2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4047-D1FB-4152-AA75-D65830AC5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9F60-3129-43B3-A863-281B845D5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9AB45-C60B-4E00-9579-ED9E891E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0CF5-1A83-4679-8F71-E66B9774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A52B-8389-470B-859B-A74850F4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44EE-9A2E-476F-AA50-F16A8C8F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18960" y="454680"/>
            <a:ext cx="79246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AE3C1-5B5D-4F8B-B511-723618CF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F81C-A2D6-4220-B263-63E892F7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4FAE-AB8F-40A4-95AC-61D385E6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D005-B278-406E-AF1E-E5D9B113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EF228-9E34-4553-95BB-B9C1DE3E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360E-09A5-49D3-BF94-7990D924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9FD1-5702-4A76-A7D9-24C4FF151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9EE4-8FD0-4D02-BDB0-76CEAD1DC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680B-0C84-42AE-A3AE-C3AAABF2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B066-020E-402B-A622-9E108E88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4A7C-CB84-48A2-9C3E-4F0A66311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18960" y="454680"/>
            <a:ext cx="79246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5D53-4BA4-4735-8252-CD85998E3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9179-C812-47F4-ABED-D1A63B83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7815-C825-4A83-888A-DDF29699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6D02-3E13-4DB6-8992-2DF2F492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6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60AD-9346-49E2-BD72-51D80616FF90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8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6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7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454680"/>
            <a:ext cx="792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ff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ffff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DF97-3C44-4413-B2A3-150918BF31A0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wmf"/><Relationship Id="rId7" Type="http://schemas.openxmlformats.org/officeDocument/2006/relationships/image" Target="../media/image11.gif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image" Target="../media/image7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image" Target="../media/image8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image" Target="../media/image8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hyperlink" Target="http://www.lbl.gov/MicroWorlds/ALSTool/EMSpec/EMSpec2.html" TargetMode="External"/><Relationship Id="rId2" Type="http://schemas.openxmlformats.org/officeDocument/2006/relationships/hyperlink" Target="http://www.lbl.gov/MicroWorlds/ALSTool/EMSpec/EMSpec.html" TargetMode="External"/><Relationship Id="rId3" Type="http://schemas.openxmlformats.org/officeDocument/2006/relationships/hyperlink" Target="http://www.physics.sfasu.edu/astro/color.html#linkshttp://www.physics.sfasu.edu/astro/color.html#links" TargetMode="External"/><Relationship Id="rId4" Type="http://schemas.openxmlformats.org/officeDocument/2006/relationships/hyperlink" Target="http://www.isc.tamu.edu/~astro/color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18288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</a:rPr>
              <a:t>WAVES: SOUND &amp; LIGH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33520" y="4419360"/>
            <a:ext cx="76960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ff"/>
                </a:solidFill>
                <a:latin typeface="Times New Roman"/>
              </a:rPr>
              <a:t>Waves carry energy from one place to another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97" name="Picture 5" descr="bs01316_"/>
          <p:cNvPicPr/>
          <p:nvPr/>
        </p:nvPicPr>
        <p:blipFill>
          <a:blip r:embed="rId1"/>
          <a:stretch/>
        </p:blipFill>
        <p:spPr>
          <a:xfrm>
            <a:off x="223920" y="76320"/>
            <a:ext cx="1071360" cy="1447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atom"/>
          <p:cNvPicPr/>
          <p:nvPr/>
        </p:nvPicPr>
        <p:blipFill>
          <a:blip r:embed="rId2"/>
          <a:stretch/>
        </p:blipFill>
        <p:spPr>
          <a:xfrm>
            <a:off x="4114800" y="228600"/>
            <a:ext cx="1295280" cy="1193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molstruc"/>
          <p:cNvPicPr/>
          <p:nvPr/>
        </p:nvPicPr>
        <p:blipFill>
          <a:blip r:embed="rId3"/>
          <a:stretch/>
        </p:blipFill>
        <p:spPr>
          <a:xfrm>
            <a:off x="7620120" y="228600"/>
            <a:ext cx="1523880" cy="1120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prism-small[1]"/>
          <p:cNvPicPr/>
          <p:nvPr/>
        </p:nvPicPr>
        <p:blipFill>
          <a:blip r:embed="rId4"/>
          <a:stretch/>
        </p:blipFill>
        <p:spPr>
          <a:xfrm>
            <a:off x="5867280" y="174600"/>
            <a:ext cx="1600200" cy="1273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earth"/>
          <p:cNvPicPr/>
          <p:nvPr/>
        </p:nvPicPr>
        <p:blipFill>
          <a:blip r:embed="rId5"/>
          <a:srcRect l="7143" t="7124" r="10714" b="10717"/>
          <a:stretch/>
        </p:blipFill>
        <p:spPr>
          <a:xfrm>
            <a:off x="2438280" y="200160"/>
            <a:ext cx="1371600" cy="1247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hm00363_"/>
          <p:cNvPicPr/>
          <p:nvPr/>
        </p:nvPicPr>
        <p:blipFill>
          <a:blip r:embed="rId6"/>
          <a:stretch/>
        </p:blipFill>
        <p:spPr>
          <a:xfrm>
            <a:off x="1071720" y="152280"/>
            <a:ext cx="1214280" cy="12193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1"/>
          <p:cNvSpPr/>
          <p:nvPr/>
        </p:nvSpPr>
        <p:spPr>
          <a:xfrm>
            <a:off x="7467480" y="13716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Picture 12" descr="bd20659_"/>
          <p:cNvPicPr/>
          <p:nvPr/>
        </p:nvPicPr>
        <p:blipFill>
          <a:blip r:embed="rId7"/>
          <a:stretch/>
        </p:blipFill>
        <p:spPr>
          <a:xfrm>
            <a:off x="6912000" y="4000680"/>
            <a:ext cx="2232000" cy="28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06720" y="533160"/>
            <a:ext cx="6656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32880" y="1828800"/>
            <a:ext cx="812988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Radio Wave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– Longest wavelength &amp; lowest frequency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 – Radio &amp; T.V. broadcasting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0" name="Picture 5" descr="prism-small[1]"/>
          <p:cNvPicPr/>
          <p:nvPr/>
        </p:nvPicPr>
        <p:blipFill>
          <a:blip r:embed="rId1"/>
          <a:stretch/>
        </p:blipFill>
        <p:spPr>
          <a:xfrm>
            <a:off x="727200" y="358920"/>
            <a:ext cx="1177920" cy="936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en00500_"/>
          <p:cNvPicPr/>
          <p:nvPr/>
        </p:nvPicPr>
        <p:blipFill>
          <a:blip r:embed="rId2"/>
          <a:stretch/>
        </p:blipFill>
        <p:spPr>
          <a:xfrm>
            <a:off x="6324480" y="4843440"/>
            <a:ext cx="2133720" cy="20145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7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earth"/>
          <p:cNvPicPr/>
          <p:nvPr/>
        </p:nvPicPr>
        <p:blipFill>
          <a:blip r:embed="rId1"/>
          <a:srcRect l="7143" t="7124" r="10714" b="10717"/>
          <a:stretch/>
        </p:blipFill>
        <p:spPr>
          <a:xfrm>
            <a:off x="533520" y="158760"/>
            <a:ext cx="1752480" cy="15937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9092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Modulating Radio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8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Modulation - variation of amplitude or frequency when waves are broadcas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AM – amplitude modulation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arries audio for T.V. Broadcas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onger wavelength so can bend around hill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FM – frequency modulation 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arries video for T.V. Broadcas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534600" y="16606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4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6854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Short Wavelength Microwav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nfrared Ray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 – Light rays with longer wavelength than red ligh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Cooking, Medicine, T.V. remote contro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7920" y="609120"/>
            <a:ext cx="65804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85520" y="2057040"/>
            <a:ext cx="8739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.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Ultraviolet rays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– EM waves with frequencies slightly higher than visible ligh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food processing &amp; hospitals to kill germs’ cell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Helps your body use vitamin  D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 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X-Ray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- EM waves that are shorter than UV ray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 Medicine – Bones absorb x-rays; soft tissue does not. 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ad absorbs X-ray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21333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isible spectrum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Gamma ray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Def.  Highest frequency EM waves; Shortest wavelength.  They come from outer space.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ses:  cancer treatmen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wavelength"/>
          <p:cNvPicPr/>
          <p:nvPr/>
        </p:nvPicPr>
        <p:blipFill>
          <a:blip r:embed="rId1"/>
          <a:stretch/>
        </p:blipFill>
        <p:spPr>
          <a:xfrm>
            <a:off x="533520" y="5486400"/>
            <a:ext cx="8229600" cy="129528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: Particles or Waves?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Wave Model of Light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Explains most properties of light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Particle Theory of Light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Photoelectric Effect – Photons of light produce free electron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7011720" y="65530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92468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LIGHT: Refraction of Light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efraction – Bending of light due to a change in speed. 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Index of Refraction – Amount by which a material refracts light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risms – Glass that bends light.  Different frequencies are bent different amounts &amp; light is broken out into different colors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61" name="Picture 5" descr="prism"/>
          <p:cNvPicPr/>
          <p:nvPr/>
        </p:nvPicPr>
        <p:blipFill>
          <a:blip r:embed="rId1"/>
          <a:stretch/>
        </p:blipFill>
        <p:spPr>
          <a:xfrm>
            <a:off x="5638680" y="1189080"/>
            <a:ext cx="3048120" cy="1630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prism-small[1]"/>
          <p:cNvPicPr/>
          <p:nvPr/>
        </p:nvPicPr>
        <p:blipFill>
          <a:blip r:embed="rId2"/>
          <a:stretch/>
        </p:blipFill>
        <p:spPr>
          <a:xfrm>
            <a:off x="0" y="380880"/>
            <a:ext cx="1295280" cy="103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666520" y="304560"/>
            <a:ext cx="541044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Refraction (Cont.)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457200" y="1254240"/>
            <a:ext cx="822960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Refraction-Spectroscope Lab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66" name="Picture 5" descr="MVC-001F"/>
          <p:cNvPicPr/>
          <p:nvPr/>
        </p:nvPicPr>
        <p:blipFill>
          <a:blip r:embed="rId1"/>
          <a:stretch/>
        </p:blipFill>
        <p:spPr>
          <a:xfrm>
            <a:off x="0" y="1752480"/>
            <a:ext cx="4495680" cy="3429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MVC-002F"/>
          <p:cNvPicPr/>
          <p:nvPr/>
        </p:nvPicPr>
        <p:blipFill>
          <a:blip r:embed="rId2"/>
          <a:stretch/>
        </p:blipFill>
        <p:spPr>
          <a:xfrm>
            <a:off x="4495680" y="1752480"/>
            <a:ext cx="4648320" cy="3429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MVC-003F"/>
          <p:cNvPicPr/>
          <p:nvPr/>
        </p:nvPicPr>
        <p:blipFill>
          <a:blip r:embed="rId3"/>
          <a:srcRect l="22920" t="22921" r="0" b="0"/>
          <a:stretch/>
        </p:blipFill>
        <p:spPr>
          <a:xfrm>
            <a:off x="1447920" y="2629080"/>
            <a:ext cx="5638680" cy="42289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685800" y="58672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y girls!  The filters go on the Spectroscope, not on the lashes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7862760" y="6613560"/>
            <a:ext cx="250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3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5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</a:rPr>
              <a:t>NATURE OF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Waves </a:t>
            </a:r>
            <a:r>
              <a:rPr b="1" i="1" lang="en-US" sz="3200" spc="-1" strike="noStrike">
                <a:solidFill>
                  <a:srgbClr val="33ccff"/>
                </a:solidFill>
                <a:latin typeface="Times New Roman"/>
              </a:rPr>
              <a:t>(Def.)</a:t>
            </a: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 – A wave is a disturbance that transfers energy.</a:t>
            </a: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Medium – Substance or region through which a wave is transmitted.</a:t>
            </a: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ff"/>
                </a:solidFill>
                <a:latin typeface="Times New Roman"/>
              </a:rPr>
              <a:t>Speed of Waves – Depends on the properties of the medium.</a:t>
            </a: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107" name="Picture 4" descr="pe02580_"/>
          <p:cNvPicPr/>
          <p:nvPr/>
        </p:nvPicPr>
        <p:blipFill>
          <a:blip r:embed="rId1"/>
          <a:stretch/>
        </p:blipFill>
        <p:spPr>
          <a:xfrm>
            <a:off x="380880" y="228600"/>
            <a:ext cx="1791000" cy="14922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458280" y="15843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971800" y="60912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olor of Light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0600" y="1371240"/>
            <a:ext cx="88153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ransparent Objects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transmitted because of no scattering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Color transmitted is color you see.  All other colors are absorbed</a:t>
            </a:r>
            <a:r>
              <a:rPr b="0" i="1" lang="en-US" sz="3600" spc="-1" strike="noStrike">
                <a:solidFill>
                  <a:srgbClr val="99ff33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Translucent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is scattered and transmitted some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Opaque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is either reflected or absorbed. 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Color of opaque objects is color it reflects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73" name="Picture 5" descr="so01038_"/>
          <p:cNvPicPr/>
          <p:nvPr/>
        </p:nvPicPr>
        <p:blipFill>
          <a:blip r:embed="rId1"/>
          <a:stretch/>
        </p:blipFill>
        <p:spPr>
          <a:xfrm>
            <a:off x="1074600" y="76320"/>
            <a:ext cx="1440000" cy="14475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6"/>
          <p:cNvSpPr/>
          <p:nvPr/>
        </p:nvSpPr>
        <p:spPr>
          <a:xfrm>
            <a:off x="1068120" y="13557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666520" y="609120"/>
            <a:ext cx="57913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Color of Light (Cont.)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2209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olor of Objects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White light is the presence of ALL the colors of the visible spectrum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Black objects absorb ALL the colors and no light is reflected back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77" name="Picture 5" descr="colmixs[1]"/>
          <p:cNvPicPr/>
          <p:nvPr/>
        </p:nvPicPr>
        <p:blipFill>
          <a:blip r:embed="rId1"/>
          <a:stretch/>
        </p:blipFill>
        <p:spPr>
          <a:xfrm>
            <a:off x="685800" y="144360"/>
            <a:ext cx="1752480" cy="13795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tulips"/>
          <p:cNvPicPr/>
          <p:nvPr/>
        </p:nvPicPr>
        <p:blipFill>
          <a:blip r:embed="rId2"/>
          <a:stretch/>
        </p:blipFill>
        <p:spPr>
          <a:xfrm>
            <a:off x="6143760" y="5410080"/>
            <a:ext cx="1552320" cy="1333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daffodil"/>
          <p:cNvPicPr/>
          <p:nvPr/>
        </p:nvPicPr>
        <p:blipFill>
          <a:blip r:embed="rId3"/>
          <a:stretch/>
        </p:blipFill>
        <p:spPr>
          <a:xfrm>
            <a:off x="7791480" y="4800600"/>
            <a:ext cx="1352520" cy="120960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8"/>
          <p:cNvSpPr/>
          <p:nvPr/>
        </p:nvSpPr>
        <p:spPr>
          <a:xfrm>
            <a:off x="7164000" y="6461280"/>
            <a:ext cx="1761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0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21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33720" y="547200"/>
            <a:ext cx="59436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Color of Light (Cont.)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81532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Primary Colors of Ligh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hree colors that can be mixed to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roduce any other colored light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3399ff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green</a:t>
            </a:r>
            <a:r>
              <a:rPr b="0" lang="en-US" sz="3600" spc="-1" strike="noStrike">
                <a:solidFill>
                  <a:srgbClr val="33cc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= white light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omplimentary Colors of Ligh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wo complimentary colors combine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to make white light-</a:t>
            </a:r>
            <a:r>
              <a:rPr b="0" lang="en-US" sz="3600" spc="-1" strike="noStrike">
                <a:solidFill>
                  <a:srgbClr val="ff00ff"/>
                </a:solidFill>
                <a:latin typeface="Times New Roman"/>
              </a:rPr>
              <a:t>Magenta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,</a:t>
            </a: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Cyan,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83" name="Picture 6" descr="na01064_"/>
          <p:cNvPicPr/>
          <p:nvPr/>
        </p:nvPicPr>
        <p:blipFill>
          <a:blip r:embed="rId1"/>
          <a:stretch/>
        </p:blipFill>
        <p:spPr>
          <a:xfrm>
            <a:off x="762120" y="228600"/>
            <a:ext cx="1276200" cy="1371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7"/>
          <p:cNvSpPr/>
          <p:nvPr/>
        </p:nvSpPr>
        <p:spPr>
          <a:xfrm>
            <a:off x="763200" y="15238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4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04960" y="6091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How You See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1295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etina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ens refracts light to converge on the retina.  Nerves transmit the image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ods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Nerve cells in the retina.  Very sensitive to light &amp; dark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Cones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Nerve cells help to see light/color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87" name="Picture 6" descr="sy01063_"/>
          <p:cNvPicPr/>
          <p:nvPr/>
        </p:nvPicPr>
        <p:blipFill>
          <a:blip r:embed="rId1"/>
          <a:stretch/>
        </p:blipFill>
        <p:spPr>
          <a:xfrm>
            <a:off x="1295280" y="152280"/>
            <a:ext cx="1751040" cy="17528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8"/>
          <p:cNvSpPr/>
          <p:nvPr/>
        </p:nvSpPr>
        <p:spPr>
          <a:xfrm>
            <a:off x="1296720" y="17524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90560" y="456840"/>
            <a:ext cx="4343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Paint Pig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igments absorb the frequency of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that you see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rimary pigment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Yellow + </a:t>
            </a:r>
            <a:r>
              <a:rPr b="0" lang="en-US" sz="3600" spc="-1" strike="noStrike">
                <a:solidFill>
                  <a:srgbClr val="0066ff"/>
                </a:solidFill>
                <a:latin typeface="Times New Roman"/>
              </a:rPr>
              <a:t>cya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+ </a:t>
            </a: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magenta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= black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rimary pigments are compliments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f the primary colors of light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1" name="Picture 7" descr="en00684_"/>
          <p:cNvPicPr/>
          <p:nvPr/>
        </p:nvPicPr>
        <p:blipFill>
          <a:blip r:embed="rId1"/>
          <a:stretch/>
        </p:blipFill>
        <p:spPr>
          <a:xfrm>
            <a:off x="506520" y="115920"/>
            <a:ext cx="1550880" cy="17128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8"/>
          <p:cNvSpPr/>
          <p:nvPr/>
        </p:nvSpPr>
        <p:spPr>
          <a:xfrm>
            <a:off x="534600" y="16606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52480" y="304560"/>
            <a:ext cx="746784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Complementary Pigments 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51460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Green</a:t>
            </a: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blue</a:t>
            </a: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mplimentary pigments are primary colors for light!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195" name="Picture 5" descr="bd05178_"/>
          <p:cNvPicPr/>
          <p:nvPr/>
        </p:nvPicPr>
        <p:blipFill>
          <a:blip r:embed="rId1"/>
          <a:stretch/>
        </p:blipFill>
        <p:spPr>
          <a:xfrm>
            <a:off x="5715000" y="2971800"/>
            <a:ext cx="2727360" cy="3444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hh00895_"/>
          <p:cNvPicPr/>
          <p:nvPr/>
        </p:nvPicPr>
        <p:blipFill>
          <a:blip r:embed="rId2"/>
          <a:stretch/>
        </p:blipFill>
        <p:spPr>
          <a:xfrm>
            <a:off x="309600" y="152280"/>
            <a:ext cx="1519200" cy="15242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7"/>
          <p:cNvSpPr/>
          <p:nvPr/>
        </p:nvSpPr>
        <p:spPr>
          <a:xfrm>
            <a:off x="534600" y="1676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7381440" y="61722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24080" y="45684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169720"/>
            <a:ext cx="464832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Sources of Light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ncandescent light – light produced by heating an object until it glows.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01" name="Picture 6" descr="hh01478_"/>
          <p:cNvPicPr/>
          <p:nvPr/>
        </p:nvPicPr>
        <p:blipFill>
          <a:blip r:embed="rId1"/>
          <a:stretch/>
        </p:blipFill>
        <p:spPr>
          <a:xfrm>
            <a:off x="5486400" y="3362400"/>
            <a:ext cx="3276720" cy="3267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bs00637_"/>
          <p:cNvPicPr/>
          <p:nvPr/>
        </p:nvPicPr>
        <p:blipFill>
          <a:blip r:embed="rId2"/>
          <a:stretch/>
        </p:blipFill>
        <p:spPr>
          <a:xfrm>
            <a:off x="914400" y="380880"/>
            <a:ext cx="1676520" cy="16020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8"/>
          <p:cNvSpPr/>
          <p:nvPr/>
        </p:nvSpPr>
        <p:spPr>
          <a:xfrm>
            <a:off x="6783120" y="63849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991800" y="19051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0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14240" y="4568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33240" y="2170080"/>
            <a:ext cx="774864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luorescent Light –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Light produced by electron bombardment of gas molecule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hosphors absorb photons that are created when mercury gas gets zapped with electrons.  The phosphors glow &amp; produce light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07" name="Picture 5" descr="bs00637_"/>
          <p:cNvPicPr/>
          <p:nvPr/>
        </p:nvPicPr>
        <p:blipFill>
          <a:blip r:embed="rId1"/>
          <a:stretch/>
        </p:blipFill>
        <p:spPr>
          <a:xfrm>
            <a:off x="533520" y="380880"/>
            <a:ext cx="1676160" cy="1602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6"/>
          <p:cNvSpPr/>
          <p:nvPr/>
        </p:nvSpPr>
        <p:spPr>
          <a:xfrm>
            <a:off x="686880" y="196524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nodeType="clickEffect" fill="hold">
                      <p:stCondLst>
                        <p:cond delay="0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 - Neon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80960" y="2170080"/>
            <a:ext cx="416736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Neon light – neon inside glass tubes makes red light.  Other gases make other colors.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211" name="Picture 5" descr="ph02538j"/>
          <p:cNvPicPr/>
          <p:nvPr/>
        </p:nvPicPr>
        <p:blipFill>
          <a:blip r:embed="rId1"/>
          <a:stretch/>
        </p:blipFill>
        <p:spPr>
          <a:xfrm>
            <a:off x="4648320" y="3794040"/>
            <a:ext cx="4267080" cy="28148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212" name="Rectangle 6"/>
          <p:cNvSpPr/>
          <p:nvPr/>
        </p:nvSpPr>
        <p:spPr>
          <a:xfrm>
            <a:off x="7011720" y="6248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 - Reflection 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35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flection – Bouncing back of light wave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Regular reflection – mirrors smooth surfaces scatter light very little.  Images are clear &amp; exac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Diffuse reflection – reflected light is scattered due to an irregular surface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SAMPLE LESSON: Light &amp; the 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0" name="Text Box 1028"/>
          <p:cNvSpPr/>
          <p:nvPr/>
        </p:nvSpPr>
        <p:spPr>
          <a:xfrm>
            <a:off x="6095880" y="36576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By D. L. Pow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Revised 1/20/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1" name="Picture 1030" descr="ph01265u"/>
          <p:cNvPicPr/>
          <p:nvPr/>
        </p:nvPicPr>
        <p:blipFill>
          <a:blip r:embed="rId1"/>
          <a:srcRect l="1391" t="0" r="0" b="0"/>
          <a:stretch/>
        </p:blipFill>
        <p:spPr>
          <a:xfrm>
            <a:off x="304920" y="3022560"/>
            <a:ext cx="5410080" cy="3606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12" name="Rectangle 1031"/>
          <p:cNvSpPr/>
          <p:nvPr/>
        </p:nvSpPr>
        <p:spPr>
          <a:xfrm>
            <a:off x="382320" y="63244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391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Enlarged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larger than actual objec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duced –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smaller than objec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17" name="Picture 5" descr="pe07677_"/>
          <p:cNvPicPr/>
          <p:nvPr/>
        </p:nvPicPr>
        <p:blipFill>
          <a:blip r:embed="rId1"/>
          <a:stretch/>
        </p:blipFill>
        <p:spPr>
          <a:xfrm>
            <a:off x="7238880" y="4952880"/>
            <a:ext cx="1824120" cy="1828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hm00363_"/>
          <p:cNvPicPr/>
          <p:nvPr/>
        </p:nvPicPr>
        <p:blipFill>
          <a:blip r:embed="rId2"/>
          <a:stretch/>
        </p:blipFill>
        <p:spPr>
          <a:xfrm>
            <a:off x="6477120" y="762120"/>
            <a:ext cx="2125440" cy="213336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7"/>
          <p:cNvSpPr/>
          <p:nvPr/>
        </p:nvSpPr>
        <p:spPr>
          <a:xfrm>
            <a:off x="7011720" y="2819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556380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0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666520" y="228240"/>
            <a:ext cx="61722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391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Erect –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right side up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Inverted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upside down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23" name="Picture 4" descr="pe07677_"/>
          <p:cNvPicPr/>
          <p:nvPr/>
        </p:nvPicPr>
        <p:blipFill>
          <a:blip r:embed="rId1"/>
          <a:stretch/>
        </p:blipFill>
        <p:spPr>
          <a:xfrm>
            <a:off x="914400" y="228600"/>
            <a:ext cx="1442880" cy="1447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hm00363_"/>
          <p:cNvPicPr/>
          <p:nvPr/>
        </p:nvPicPr>
        <p:blipFill>
          <a:blip r:embed="rId2"/>
          <a:stretch/>
        </p:blipFill>
        <p:spPr>
          <a:xfrm>
            <a:off x="5943600" y="3962520"/>
            <a:ext cx="2581200" cy="259056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6"/>
          <p:cNvSpPr/>
          <p:nvPr/>
        </p:nvSpPr>
        <p:spPr>
          <a:xfrm>
            <a:off x="915480" y="1676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7392600" y="64771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2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al Image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is made from “real” light rays that converge at a real focal point so the image is REAL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Can be projected onto a screen because light actually passes through the point where the image appear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lways inverted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nodeType="clickEffect" fill="hold">
                      <p:stCondLst>
                        <p:cond delay="0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2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8960" y="228240"/>
            <a:ext cx="79246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</a:t>
            </a:r>
            <a:br>
              <a:rPr sz="4400"/>
            </a:b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lection Vocabulary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120" y="2514600"/>
            <a:ext cx="81536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Virtual Image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Not Real” because it cannot be projected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mage only seems to be there!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nodeType="clickEffect" fill="hold">
                      <p:stCondLst>
                        <p:cond delay="0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Mirror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8153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flection Vocabulary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Optical Axis – Base line through the center of a mirror or len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Focal Point – Point where reflected or refracted rays meet &amp; image is formed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Focal Length – Distance between center of mirror/lens and focal point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33" name="Picture 5" descr="pe02719_"/>
          <p:cNvPicPr/>
          <p:nvPr/>
        </p:nvPicPr>
        <p:blipFill>
          <a:blip r:embed="rId1"/>
          <a:stretch/>
        </p:blipFill>
        <p:spPr>
          <a:xfrm>
            <a:off x="7010280" y="449280"/>
            <a:ext cx="2133720" cy="206532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7"/>
          <p:cNvSpPr/>
          <p:nvPr/>
        </p:nvSpPr>
        <p:spPr>
          <a:xfrm>
            <a:off x="7087680" y="25146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nodeType="clickEffect" fill="hold">
                      <p:stCondLst>
                        <p:cond delay="0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Mirror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160" y="2361960"/>
            <a:ext cx="7977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Plane Mirrors – Perfectly flat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Virtual – Image is “Not Real” because it cannot be projected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Erect – Image is right side up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37" name="Picture 4" descr="pe07677_"/>
          <p:cNvPicPr/>
          <p:nvPr/>
        </p:nvPicPr>
        <p:blipFill>
          <a:blip r:embed="rId1"/>
          <a:stretch/>
        </p:blipFill>
        <p:spPr>
          <a:xfrm>
            <a:off x="6858000" y="4572000"/>
            <a:ext cx="2050920" cy="20574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708768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0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2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 Mirror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7748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eflection &amp; Mirrors (Cont.)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Convex Mirror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urves outward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Enlarges image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Use:  Rear view mirrors, store security…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0" y="609588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AUTION!  Objects are closer than they appear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42" name="Picture 6" descr="sprtscar"/>
          <p:cNvPicPr/>
          <p:nvPr/>
        </p:nvPicPr>
        <p:blipFill>
          <a:blip r:embed="rId1"/>
          <a:stretch/>
        </p:blipFill>
        <p:spPr>
          <a:xfrm>
            <a:off x="6496200" y="5943600"/>
            <a:ext cx="2647800" cy="67644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7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nodeType="clickEffect" fill="hold">
                      <p:stCondLst>
                        <p:cond delay="0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8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4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85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861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88153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vex Lenses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hicker in the center than edges. 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Lens that converges (brings together) light rays. 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Forms real images and virtual images depending on position of the object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80600" y="2017800"/>
            <a:ext cx="843444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vex Lenses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ay Tracing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wo rays usually define an image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ay #1:  Light ray comes from top of object; travels parallel to optic axis; bends thru focal poin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4114800" y="2666880"/>
            <a:ext cx="44197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Line 8"/>
          <p:cNvSpPr/>
          <p:nvPr/>
        </p:nvSpPr>
        <p:spPr>
          <a:xfrm flipH="1">
            <a:off x="4419360" y="1676520"/>
            <a:ext cx="1447560" cy="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Oval 9"/>
          <p:cNvSpPr/>
          <p:nvPr/>
        </p:nvSpPr>
        <p:spPr>
          <a:xfrm>
            <a:off x="5715000" y="1676520"/>
            <a:ext cx="533520" cy="1828800"/>
          </a:xfrm>
          <a:prstGeom prst="ellipse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Line 13"/>
          <p:cNvSpPr/>
          <p:nvPr/>
        </p:nvSpPr>
        <p:spPr>
          <a:xfrm>
            <a:off x="5943600" y="1676520"/>
            <a:ext cx="3200400" cy="312408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AutoShape 16"/>
          <p:cNvSpPr/>
          <p:nvPr/>
        </p:nvSpPr>
        <p:spPr>
          <a:xfrm>
            <a:off x="4267080" y="1676520"/>
            <a:ext cx="381240" cy="990360"/>
          </a:xfrm>
          <a:prstGeom prst="upArrow">
            <a:avLst>
              <a:gd name="adj1" fmla="val 50000"/>
              <a:gd name="adj2" fmla="val 64943"/>
            </a:avLst>
          </a:prstGeom>
          <a:solidFill>
            <a:srgbClr val="ff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685800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Focal Poi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Line 19"/>
          <p:cNvSpPr/>
          <p:nvPr/>
        </p:nvSpPr>
        <p:spPr>
          <a:xfrm flipH="1">
            <a:off x="7086240" y="2286000"/>
            <a:ext cx="152280" cy="228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Text Box 20"/>
          <p:cNvSpPr/>
          <p:nvPr/>
        </p:nvSpPr>
        <p:spPr>
          <a:xfrm>
            <a:off x="6172200" y="2895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Le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Text Box 21"/>
          <p:cNvSpPr/>
          <p:nvPr/>
        </p:nvSpPr>
        <p:spPr>
          <a:xfrm>
            <a:off x="4572000" y="1905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Text Box 22"/>
          <p:cNvSpPr/>
          <p:nvPr/>
        </p:nvSpPr>
        <p:spPr>
          <a:xfrm>
            <a:off x="4115880" y="274320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0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5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9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90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9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9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9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47920" y="38052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2093400"/>
            <a:ext cx="843444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vex Lenses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Ray Tracing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wo rays define an image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Ray 2:  Light ray comes from top of object &amp; travels through center of lens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Line 4"/>
          <p:cNvSpPr/>
          <p:nvPr/>
        </p:nvSpPr>
        <p:spPr>
          <a:xfrm>
            <a:off x="3886200" y="2666880"/>
            <a:ext cx="5029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Line 5"/>
          <p:cNvSpPr/>
          <p:nvPr/>
        </p:nvSpPr>
        <p:spPr>
          <a:xfrm flipH="1">
            <a:off x="4419360" y="1676520"/>
            <a:ext cx="144756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Oval 6"/>
          <p:cNvSpPr/>
          <p:nvPr/>
        </p:nvSpPr>
        <p:spPr>
          <a:xfrm>
            <a:off x="5715000" y="1676520"/>
            <a:ext cx="533520" cy="1828800"/>
          </a:xfrm>
          <a:prstGeom prst="ellipse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Line 7"/>
          <p:cNvSpPr/>
          <p:nvPr/>
        </p:nvSpPr>
        <p:spPr>
          <a:xfrm flipH="1" flipV="1">
            <a:off x="4419360" y="1752480"/>
            <a:ext cx="4724280" cy="2743200"/>
          </a:xfrm>
          <a:prstGeom prst="line">
            <a:avLst/>
          </a:prstGeom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Line 8"/>
          <p:cNvSpPr/>
          <p:nvPr/>
        </p:nvSpPr>
        <p:spPr>
          <a:xfrm>
            <a:off x="5943600" y="1676520"/>
            <a:ext cx="3200400" cy="31240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AutoShape 9"/>
          <p:cNvSpPr/>
          <p:nvPr/>
        </p:nvSpPr>
        <p:spPr>
          <a:xfrm>
            <a:off x="4114800" y="1676520"/>
            <a:ext cx="380880" cy="990360"/>
          </a:xfrm>
          <a:prstGeom prst="upArrow">
            <a:avLst>
              <a:gd name="adj1" fmla="val 50000"/>
              <a:gd name="adj2" fmla="val 65005"/>
            </a:avLst>
          </a:prstGeom>
          <a:solidFill>
            <a:srgbClr val="ff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AutoShape 10"/>
          <p:cNvSpPr/>
          <p:nvPr/>
        </p:nvSpPr>
        <p:spPr>
          <a:xfrm>
            <a:off x="8153280" y="2666880"/>
            <a:ext cx="457200" cy="13716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ff33cc">
              <a:alpha val="50000"/>
            </a:srgbClr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Text Box 11"/>
          <p:cNvSpPr/>
          <p:nvPr/>
        </p:nvSpPr>
        <p:spPr>
          <a:xfrm>
            <a:off x="662940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Ray #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6172200" y="3276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cc"/>
                </a:solidFill>
                <a:latin typeface="Times New Roman"/>
              </a:rPr>
              <a:t>Ray #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Text Box 13"/>
          <p:cNvSpPr/>
          <p:nvPr/>
        </p:nvSpPr>
        <p:spPr>
          <a:xfrm>
            <a:off x="4039560" y="274320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52680" y="685440"/>
            <a:ext cx="38102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Albert Einstein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1371600" y="3048120"/>
            <a:ext cx="3733920" cy="3336840"/>
          </a:xfrm>
          <a:prstGeom prst="rect">
            <a:avLst/>
          </a:prstGeom>
          <a:ln w="57240">
            <a:solidFill>
              <a:srgbClr val="3399ff"/>
            </a:solidFill>
            <a:miter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4876920" y="1828800"/>
            <a:ext cx="2403360" cy="27432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16" name="Picture 7" descr="bs01316_"/>
          <p:cNvPicPr/>
          <p:nvPr/>
        </p:nvPicPr>
        <p:blipFill>
          <a:blip r:embed="rId3"/>
          <a:stretch/>
        </p:blipFill>
        <p:spPr>
          <a:xfrm>
            <a:off x="1824120" y="228600"/>
            <a:ext cx="134604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ITS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8320" y="2590560"/>
            <a:ext cx="881532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cave Lenses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Lens that is thicker at the edges and thinner in the center.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Diverges light rays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ll images are erect and reduced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6934320" y="1523880"/>
            <a:ext cx="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6553080" y="1371600"/>
            <a:ext cx="6098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6629400" y="2590920"/>
            <a:ext cx="5335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Arc 8"/>
          <p:cNvSpPr/>
          <p:nvPr/>
        </p:nvSpPr>
        <p:spPr>
          <a:xfrm>
            <a:off x="6553080" y="1371600"/>
            <a:ext cx="22860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Arc 9"/>
          <p:cNvSpPr/>
          <p:nvPr/>
        </p:nvSpPr>
        <p:spPr>
          <a:xfrm flipV="1">
            <a:off x="6629400" y="2057400"/>
            <a:ext cx="15228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Arc 10"/>
          <p:cNvSpPr/>
          <p:nvPr/>
        </p:nvSpPr>
        <p:spPr>
          <a:xfrm flipH="1">
            <a:off x="7010280" y="1371600"/>
            <a:ext cx="152640" cy="6858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Arc 11"/>
          <p:cNvSpPr/>
          <p:nvPr/>
        </p:nvSpPr>
        <p:spPr>
          <a:xfrm flipH="1" flipV="1">
            <a:off x="7010280" y="2057400"/>
            <a:ext cx="152640" cy="533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4648320" y="1981080"/>
            <a:ext cx="38862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Line 13"/>
          <p:cNvSpPr/>
          <p:nvPr/>
        </p:nvSpPr>
        <p:spPr>
          <a:xfrm>
            <a:off x="4724280" y="1828800"/>
            <a:ext cx="2133720" cy="0"/>
          </a:xfrm>
          <a:prstGeom prst="line">
            <a:avLst/>
          </a:prstGeom>
          <a:ln w="93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Line 14"/>
          <p:cNvSpPr/>
          <p:nvPr/>
        </p:nvSpPr>
        <p:spPr>
          <a:xfrm flipV="1">
            <a:off x="6934320" y="1295280"/>
            <a:ext cx="1676160" cy="533520"/>
          </a:xfrm>
          <a:prstGeom prst="line">
            <a:avLst/>
          </a:prstGeom>
          <a:ln w="936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Line 15"/>
          <p:cNvSpPr/>
          <p:nvPr/>
        </p:nvSpPr>
        <p:spPr>
          <a:xfrm>
            <a:off x="4724280" y="2286000"/>
            <a:ext cx="2133720" cy="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Line 16"/>
          <p:cNvSpPr/>
          <p:nvPr/>
        </p:nvSpPr>
        <p:spPr>
          <a:xfrm>
            <a:off x="6934320" y="2362320"/>
            <a:ext cx="1066680" cy="380880"/>
          </a:xfrm>
          <a:prstGeom prst="line">
            <a:avLst/>
          </a:prstGeom>
          <a:ln w="93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Rectangle 17"/>
          <p:cNvSpPr/>
          <p:nvPr/>
        </p:nvSpPr>
        <p:spPr>
          <a:xfrm>
            <a:off x="5030280" y="236232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0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9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7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2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2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03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3429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How You See 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09200" y="1941120"/>
            <a:ext cx="43959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Near Sighted – Eyeball is too long and image focuses in front of the retina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Far Sighted – Eyeball is too short so image is focused behind the retina.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287" name="Picture 4" descr="bd06651_"/>
          <p:cNvPicPr/>
          <p:nvPr/>
        </p:nvPicPr>
        <p:blipFill>
          <a:blip r:embed="rId1"/>
          <a:stretch/>
        </p:blipFill>
        <p:spPr>
          <a:xfrm>
            <a:off x="838080" y="0"/>
            <a:ext cx="1770120" cy="17589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bd20091_"/>
          <p:cNvPicPr/>
          <p:nvPr/>
        </p:nvPicPr>
        <p:blipFill>
          <a:blip r:embed="rId2"/>
          <a:stretch/>
        </p:blipFill>
        <p:spPr>
          <a:xfrm>
            <a:off x="5486400" y="3886200"/>
            <a:ext cx="1981080" cy="26290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bd20091_"/>
          <p:cNvPicPr/>
          <p:nvPr/>
        </p:nvPicPr>
        <p:blipFill>
          <a:blip r:embed="rId3"/>
          <a:stretch/>
        </p:blipFill>
        <p:spPr>
          <a:xfrm>
            <a:off x="5181480" y="1219320"/>
            <a:ext cx="3810240" cy="262872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7"/>
          <p:cNvSpPr/>
          <p:nvPr/>
        </p:nvSpPr>
        <p:spPr>
          <a:xfrm>
            <a:off x="7164000" y="38862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6859080" y="6248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nodeType="clickEffect" fill="hold">
                      <p:stCondLst>
                        <p:cond delay="0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6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3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6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Lens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43444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oncave Lenses – 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Vision – Eye is a convex lens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Nearsightedness – Concave lenses expand focal length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Farsightedness – Convex lenses shortens the focal length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nodeType="clickEffect" fill="hold">
                      <p:stCondLst>
                        <p:cond delay="0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9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9524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Optical Instru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160" y="2590920"/>
            <a:ext cx="6072120" cy="28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Camera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Telescope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Microscope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296" name="Picture 5" descr="hm00363_"/>
          <p:cNvPicPr/>
          <p:nvPr/>
        </p:nvPicPr>
        <p:blipFill>
          <a:blip r:embed="rId1"/>
          <a:stretch/>
        </p:blipFill>
        <p:spPr>
          <a:xfrm>
            <a:off x="6095880" y="4114800"/>
            <a:ext cx="2733840" cy="27432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en00500_"/>
          <p:cNvPicPr/>
          <p:nvPr/>
        </p:nvPicPr>
        <p:blipFill>
          <a:blip r:embed="rId2"/>
          <a:stretch/>
        </p:blipFill>
        <p:spPr>
          <a:xfrm>
            <a:off x="3429000" y="1295280"/>
            <a:ext cx="3673440" cy="34689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pe07677_"/>
          <p:cNvPicPr/>
          <p:nvPr/>
        </p:nvPicPr>
        <p:blipFill>
          <a:blip r:embed="rId3"/>
          <a:stretch/>
        </p:blipFill>
        <p:spPr>
          <a:xfrm>
            <a:off x="1676520" y="4572000"/>
            <a:ext cx="2127240" cy="213372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8"/>
          <p:cNvSpPr/>
          <p:nvPr/>
        </p:nvSpPr>
        <p:spPr>
          <a:xfrm>
            <a:off x="4725720" y="449568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312552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0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1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29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95248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Optical Instru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28320" y="2322360"/>
            <a:ext cx="8434440" cy="39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LASER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cronym: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 L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ight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mplification by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imulated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mission of </a:t>
            </a:r>
            <a:r>
              <a:rPr b="1" i="1" lang="en-US" sz="4000" spc="-1" strike="noStrike">
                <a:solidFill>
                  <a:srgbClr val="99ff33"/>
                </a:solidFill>
                <a:latin typeface="Times New Roman"/>
              </a:rPr>
              <a:t>R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adiation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Coherent Light – Waves are in phase so it is VERY powerful &amp; VERY intense. 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nodeType="clickEffect" fill="hold">
                      <p:stCondLst>
                        <p:cond delay="0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5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3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Optical Instrument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04280" y="1676160"/>
            <a:ext cx="80535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LASERS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Holography – Use of Lasers to create 3-D image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Fiber Optics – Light energy transferred through long, flexible fibers of glass/plastic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Uses – Communications, medicine, t.v. transmission, data processing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0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7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6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3152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</a:t>
            </a: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Diffraction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120" y="2285640"/>
            <a:ext cx="8053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Diffraction – Bending of waves around the edge of a barrier.  New waves are formed from the original. breaks images into bands of light &amp; dark and colors.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efraction – Bending of waves due to a change in speed through an object.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  <p:timing>
    <p:tnLst>
      <p:par>
        <p:cTn id="1177" dur="indefinite" restart="never" nodeType="tmRoot">
          <p:childTnLst>
            <p:seq>
              <p:cTn id="1178" dur="indefinite" nodeType="mainSeq">
                <p:childTnLst>
                  <p:par>
                    <p:cTn id="1179" nodeType="clickEffect" fill="hold">
                      <p:stCondLst>
                        <p:cond delay="0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1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90360" y="166320"/>
            <a:ext cx="79246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 &amp; USES:  </a:t>
            </a: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Diffraction 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8320" y="5867280"/>
            <a:ext cx="88153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Times New Roman"/>
              </a:rPr>
              <a:t>A diffraction grating.  Each space between the ruled grooves acts as a slit.  The light bends around the edges and gets refracted.</a:t>
            </a:r>
            <a:endParaRPr b="0" lang="en-US" sz="24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310" name="Picture 5" descr="Diffraction"/>
          <p:cNvPicPr/>
          <p:nvPr/>
        </p:nvPicPr>
        <p:blipFill>
          <a:blip r:embed="rId1"/>
          <a:stretch/>
        </p:blipFill>
        <p:spPr>
          <a:xfrm>
            <a:off x="914400" y="990720"/>
            <a:ext cx="7772400" cy="488952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sp>
        <p:nvSpPr>
          <p:cNvPr id="311" name="Rectangle 6"/>
          <p:cNvSpPr/>
          <p:nvPr/>
        </p:nvSpPr>
        <p:spPr>
          <a:xfrm>
            <a:off x="7166160" y="5622840"/>
            <a:ext cx="151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 2000 Microsoft Encarta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nodeType="clickEffect" fill="hold">
                      <p:stCondLst>
                        <p:cond delay="0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6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1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13" name="Picture 3" descr="MVC-004S"/>
          <p:cNvPicPr/>
          <p:nvPr/>
        </p:nvPicPr>
        <p:blipFill>
          <a:blip r:embed="rId1"/>
          <a:srcRect l="33337" t="9724" r="19796" b="16669"/>
          <a:stretch/>
        </p:blipFill>
        <p:spPr>
          <a:xfrm>
            <a:off x="5257800" y="2514600"/>
            <a:ext cx="3429000" cy="403848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314" name="Picture 4" descr="MVC-028S"/>
          <p:cNvPicPr/>
          <p:nvPr/>
        </p:nvPicPr>
        <p:blipFill>
          <a:blip r:embed="rId2"/>
          <a:stretch/>
        </p:blipFill>
        <p:spPr>
          <a:xfrm>
            <a:off x="457200" y="3276720"/>
            <a:ext cx="4343400" cy="325728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sp>
        <p:nvSpPr>
          <p:cNvPr id="315" name="Text Box 5"/>
          <p:cNvSpPr/>
          <p:nvPr/>
        </p:nvSpPr>
        <p:spPr>
          <a:xfrm>
            <a:off x="3582360" y="624852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467120" y="630864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0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3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5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8" descr="MVC-004S"/>
          <p:cNvPicPr/>
          <p:nvPr/>
        </p:nvPicPr>
        <p:blipFill>
          <a:blip r:embed="rId1"/>
          <a:srcRect l="0" t="0" r="32251" b="0"/>
          <a:stretch/>
        </p:blipFill>
        <p:spPr>
          <a:xfrm>
            <a:off x="3886200" y="0"/>
            <a:ext cx="4956120" cy="548640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3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19" name="Picture 5" descr="MVC-009S"/>
          <p:cNvPicPr/>
          <p:nvPr/>
        </p:nvPicPr>
        <p:blipFill>
          <a:blip r:embed="rId2"/>
          <a:stretch/>
        </p:blipFill>
        <p:spPr>
          <a:xfrm>
            <a:off x="6019920" y="2819520"/>
            <a:ext cx="3124080" cy="23428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320" name="Picture 7" descr="MVC-003S"/>
          <p:cNvPicPr/>
          <p:nvPr/>
        </p:nvPicPr>
        <p:blipFill>
          <a:blip r:embed="rId3"/>
          <a:srcRect l="34377" t="1000" r="31253" b="27000"/>
          <a:stretch/>
        </p:blipFill>
        <p:spPr>
          <a:xfrm>
            <a:off x="914400" y="1371600"/>
            <a:ext cx="2514600" cy="394956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321" name="Picture 9" descr="MVC-008S"/>
          <p:cNvPicPr/>
          <p:nvPr/>
        </p:nvPicPr>
        <p:blipFill>
          <a:blip r:embed="rId4"/>
          <a:srcRect l="28129" t="4165" r="25004" b="15339"/>
          <a:stretch/>
        </p:blipFill>
        <p:spPr>
          <a:xfrm>
            <a:off x="3276720" y="3657600"/>
            <a:ext cx="2485800" cy="32004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322" name="Picture 6" descr="MVC-001S"/>
          <p:cNvPicPr/>
          <p:nvPr/>
        </p:nvPicPr>
        <p:blipFill>
          <a:blip r:embed="rId5"/>
          <a:stretch/>
        </p:blipFill>
        <p:spPr>
          <a:xfrm>
            <a:off x="228600" y="5086440"/>
            <a:ext cx="2362320" cy="177156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23" name="Picture 10" descr="MVC-020S"/>
          <p:cNvPicPr/>
          <p:nvPr/>
        </p:nvPicPr>
        <p:blipFill>
          <a:blip r:embed="rId6"/>
          <a:srcRect l="39585" t="37504" r="22920" b="19102"/>
          <a:stretch/>
        </p:blipFill>
        <p:spPr>
          <a:xfrm>
            <a:off x="6188040" y="4800600"/>
            <a:ext cx="2193840" cy="190512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sp>
        <p:nvSpPr>
          <p:cNvPr id="324" name="Rectangle 11"/>
          <p:cNvSpPr/>
          <p:nvPr/>
        </p:nvSpPr>
        <p:spPr>
          <a:xfrm>
            <a:off x="7924320" y="66898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4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5" nodeType="afterEffect" fill="hold" presetClass="entr" presetID="2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orbit"/>
          <p:cNvPicPr/>
          <p:nvPr/>
        </p:nvPicPr>
        <p:blipFill>
          <a:blip r:embed="rId1"/>
          <a:stretch/>
        </p:blipFill>
        <p:spPr>
          <a:xfrm>
            <a:off x="6172200" y="5334120"/>
            <a:ext cx="2743200" cy="14335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01800" y="456840"/>
            <a:ext cx="5665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LIGHT: What Is It?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80600" y="1676160"/>
            <a:ext cx="8815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Light Energy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Atoms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s atoms absorb energy, electrons jump out to a higher energy level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33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lectrons release light when falling down to the lower energy level.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hotons - bundles/packets of energy released when the electrons fall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Light: Stream of Photons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  <p:pic>
        <p:nvPicPr>
          <p:cNvPr id="120" name="Picture 9" descr="atom"/>
          <p:cNvPicPr/>
          <p:nvPr/>
        </p:nvPicPr>
        <p:blipFill>
          <a:blip r:embed="rId2"/>
          <a:stretch/>
        </p:blipFill>
        <p:spPr>
          <a:xfrm>
            <a:off x="990720" y="304920"/>
            <a:ext cx="1295280" cy="11937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2"/>
          <p:cNvSpPr/>
          <p:nvPr/>
        </p:nvSpPr>
        <p:spPr>
          <a:xfrm>
            <a:off x="839520" y="1447920"/>
            <a:ext cx="1761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7381440" y="661356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619760" cy="131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3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26" name="Picture 5" descr="MVC-016S"/>
          <p:cNvPicPr/>
          <p:nvPr/>
        </p:nvPicPr>
        <p:blipFill>
          <a:blip r:embed="rId1"/>
          <a:srcRect l="18750" t="19795" r="19796" b="15276"/>
          <a:stretch/>
        </p:blipFill>
        <p:spPr>
          <a:xfrm>
            <a:off x="1828800" y="3295800"/>
            <a:ext cx="4191120" cy="33210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27" name="Picture 6" descr="MVC-021S"/>
          <p:cNvPicPr/>
          <p:nvPr/>
        </p:nvPicPr>
        <p:blipFill>
          <a:blip r:embed="rId2"/>
          <a:srcRect l="9378" t="13890" r="23959" b="0"/>
          <a:stretch/>
        </p:blipFill>
        <p:spPr>
          <a:xfrm>
            <a:off x="5715000" y="1371600"/>
            <a:ext cx="3429000" cy="33228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328" name="Picture 4" descr="MVC-005S"/>
          <p:cNvPicPr/>
          <p:nvPr/>
        </p:nvPicPr>
        <p:blipFill>
          <a:blip r:embed="rId3"/>
          <a:srcRect l="25004" t="0" r="16666" b="0"/>
          <a:stretch/>
        </p:blipFill>
        <p:spPr>
          <a:xfrm>
            <a:off x="304920" y="1295280"/>
            <a:ext cx="2192040" cy="2819520"/>
          </a:xfrm>
          <a:prstGeom prst="rect">
            <a:avLst/>
          </a:prstGeom>
          <a:ln w="38160">
            <a:solidFill>
              <a:srgbClr val="99ff33"/>
            </a:solidFill>
            <a:miter/>
          </a:ln>
        </p:spPr>
      </p:pic>
      <p:pic>
        <p:nvPicPr>
          <p:cNvPr id="329" name="Picture 7" descr="MVC-012S"/>
          <p:cNvPicPr/>
          <p:nvPr/>
        </p:nvPicPr>
        <p:blipFill>
          <a:blip r:embed="rId4"/>
          <a:srcRect l="1039" t="13890" r="1039" b="1394"/>
          <a:stretch/>
        </p:blipFill>
        <p:spPr>
          <a:xfrm>
            <a:off x="304920" y="1293840"/>
            <a:ext cx="8839080" cy="5487840"/>
          </a:xfrm>
          <a:prstGeom prst="rect">
            <a:avLst/>
          </a:prstGeom>
          <a:ln w="38160">
            <a:solidFill>
              <a:srgbClr val="ff3399"/>
            </a:solidFill>
            <a:miter/>
          </a:ln>
        </p:spPr>
      </p:pic>
      <p:sp>
        <p:nvSpPr>
          <p:cNvPr id="330" name="Text Box 8"/>
          <p:cNvSpPr/>
          <p:nvPr/>
        </p:nvSpPr>
        <p:spPr>
          <a:xfrm>
            <a:off x="3430800" y="6248520"/>
            <a:ext cx="55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cc"/>
                </a:solidFill>
                <a:latin typeface="Times New Roman"/>
              </a:rPr>
              <a:t>are you hard at work or hardly working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Text Box 9"/>
          <p:cNvSpPr/>
          <p:nvPr/>
        </p:nvSpPr>
        <p:spPr>
          <a:xfrm>
            <a:off x="1585080" y="27846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Hey girls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" name="Rectangle 10"/>
          <p:cNvSpPr/>
          <p:nvPr/>
        </p:nvSpPr>
        <p:spPr>
          <a:xfrm>
            <a:off x="304200" y="65530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nodeType="clickEffect" fill="hold">
                      <p:stCondLst>
                        <p:cond delay="0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5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5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298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09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1" dur="77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2" dur="770" fill="hold"/>
                                        <p:tgtEl>
                                          <p:spTgt spid="3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4" dur="77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6" dur="77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nodeType="clickEffect" fill="hold">
                      <p:stCondLst>
                        <p:cond delay="indefinite"/>
                      </p:stCondLst>
                      <p:childTnLst>
                        <p:par>
                          <p:cTn id="1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5" nodeType="afterEffect" fill="hold" presetClass="entr" presetID="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5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34" name="Picture 4" descr="MVC-006S"/>
          <p:cNvPicPr/>
          <p:nvPr/>
        </p:nvPicPr>
        <p:blipFill>
          <a:blip r:embed="rId1"/>
          <a:srcRect l="19796" t="0" r="21874" b="20835"/>
          <a:stretch/>
        </p:blipFill>
        <p:spPr>
          <a:xfrm>
            <a:off x="304920" y="1752480"/>
            <a:ext cx="2695320" cy="2743200"/>
          </a:xfrm>
          <a:prstGeom prst="rect">
            <a:avLst/>
          </a:prstGeom>
          <a:ln w="38160">
            <a:solidFill>
              <a:srgbClr val="33cc33"/>
            </a:solidFill>
            <a:miter/>
          </a:ln>
        </p:spPr>
      </p:pic>
      <p:pic>
        <p:nvPicPr>
          <p:cNvPr id="335" name="Picture 6" descr="MVC-003S"/>
          <p:cNvPicPr/>
          <p:nvPr/>
        </p:nvPicPr>
        <p:blipFill>
          <a:blip r:embed="rId2"/>
          <a:srcRect l="19796" t="20835" r="17711" b="0"/>
          <a:stretch/>
        </p:blipFill>
        <p:spPr>
          <a:xfrm>
            <a:off x="3962520" y="1523880"/>
            <a:ext cx="3276360" cy="311328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  <p:pic>
        <p:nvPicPr>
          <p:cNvPr id="336" name="Picture 8" descr="MVC-007S"/>
          <p:cNvPicPr/>
          <p:nvPr/>
        </p:nvPicPr>
        <p:blipFill>
          <a:blip r:embed="rId3"/>
          <a:srcRect l="18750" t="19449" r="26044" b="38890"/>
          <a:stretch/>
        </p:blipFill>
        <p:spPr>
          <a:xfrm>
            <a:off x="762120" y="4343400"/>
            <a:ext cx="4038480" cy="22860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37" name="Picture 3" descr="MVC-001S"/>
          <p:cNvPicPr/>
          <p:nvPr/>
        </p:nvPicPr>
        <p:blipFill>
          <a:blip r:embed="rId4"/>
          <a:srcRect l="13542" t="8331" r="13542" b="9724"/>
          <a:stretch/>
        </p:blipFill>
        <p:spPr>
          <a:xfrm>
            <a:off x="5638680" y="3733920"/>
            <a:ext cx="3276720" cy="27622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338" name="Text Box 9"/>
          <p:cNvSpPr/>
          <p:nvPr/>
        </p:nvSpPr>
        <p:spPr>
          <a:xfrm>
            <a:off x="3120840" y="6095880"/>
            <a:ext cx="525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ote: There’s more posing than working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Rectangle 10"/>
          <p:cNvSpPr/>
          <p:nvPr/>
        </p:nvSpPr>
        <p:spPr>
          <a:xfrm>
            <a:off x="7773480" y="65530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nodeType="clickEffect" fill="hold">
                      <p:stCondLst>
                        <p:cond delay="0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7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50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2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62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7" descr="MVC-025S"/>
          <p:cNvPicPr/>
          <p:nvPr/>
        </p:nvPicPr>
        <p:blipFill>
          <a:blip r:embed="rId1"/>
          <a:srcRect l="0" t="13890" r="22920" b="8331"/>
          <a:stretch/>
        </p:blipFill>
        <p:spPr>
          <a:xfrm>
            <a:off x="4952880" y="1498680"/>
            <a:ext cx="3657600" cy="276840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5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42" name="Picture 5" descr="MVC-004S"/>
          <p:cNvPicPr/>
          <p:nvPr/>
        </p:nvPicPr>
        <p:blipFill>
          <a:blip r:embed="rId2"/>
          <a:srcRect l="18750" t="11110" r="19796" b="0"/>
          <a:stretch/>
        </p:blipFill>
        <p:spPr>
          <a:xfrm>
            <a:off x="228600" y="1447920"/>
            <a:ext cx="3232080" cy="3504960"/>
          </a:xfrm>
          <a:prstGeom prst="rect">
            <a:avLst/>
          </a:prstGeom>
          <a:ln w="38160">
            <a:solidFill>
              <a:srgbClr val="ff7c80"/>
            </a:solidFill>
            <a:miter/>
          </a:ln>
        </p:spPr>
      </p:pic>
      <p:pic>
        <p:nvPicPr>
          <p:cNvPr id="343" name="Picture 6" descr="MVC-011S"/>
          <p:cNvPicPr/>
          <p:nvPr/>
        </p:nvPicPr>
        <p:blipFill>
          <a:blip r:embed="rId3"/>
          <a:srcRect l="3124" t="29173" r="7293" b="19449"/>
          <a:stretch/>
        </p:blipFill>
        <p:spPr>
          <a:xfrm>
            <a:off x="3886200" y="4421160"/>
            <a:ext cx="4952880" cy="213192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  <p:pic>
        <p:nvPicPr>
          <p:cNvPr id="344" name="Picture 8" descr="MVC-030S"/>
          <p:cNvPicPr/>
          <p:nvPr/>
        </p:nvPicPr>
        <p:blipFill>
          <a:blip r:embed="rId4"/>
          <a:srcRect l="22920" t="8331" r="20835" b="62504"/>
          <a:stretch/>
        </p:blipFill>
        <p:spPr>
          <a:xfrm>
            <a:off x="152280" y="5105520"/>
            <a:ext cx="4114800" cy="1600200"/>
          </a:xfrm>
          <a:prstGeom prst="rect">
            <a:avLst/>
          </a:prstGeom>
          <a:ln w="38160">
            <a:solidFill>
              <a:srgbClr val="00ccff"/>
            </a:solidFill>
            <a:miter/>
          </a:ln>
        </p:spPr>
      </p:pic>
      <p:sp>
        <p:nvSpPr>
          <p:cNvPr id="345" name="Rectangle 9"/>
          <p:cNvSpPr/>
          <p:nvPr/>
        </p:nvSpPr>
        <p:spPr>
          <a:xfrm>
            <a:off x="7697160" y="661356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nodeType="clickEffect" fill="hold">
                      <p:stCondLst>
                        <p:cond delay="0"/>
                      </p:stCondLst>
                      <p:childTnLst>
                        <p:par>
                          <p:cTn id="1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4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6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7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80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87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2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5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47" name="Picture 3" descr="MVC-010S"/>
          <p:cNvPicPr/>
          <p:nvPr/>
        </p:nvPicPr>
        <p:blipFill>
          <a:blip r:embed="rId1"/>
          <a:srcRect l="0" t="2780" r="9378" b="0"/>
          <a:stretch/>
        </p:blipFill>
        <p:spPr>
          <a:xfrm>
            <a:off x="304920" y="1447920"/>
            <a:ext cx="4267080" cy="3433680"/>
          </a:xfrm>
          <a:prstGeom prst="rect">
            <a:avLst/>
          </a:prstGeom>
          <a:ln w="38160">
            <a:solidFill>
              <a:srgbClr val="cc0066"/>
            </a:solidFill>
            <a:miter/>
          </a:ln>
        </p:spPr>
      </p:pic>
      <p:pic>
        <p:nvPicPr>
          <p:cNvPr id="348" name="Picture 4" descr="MVC-002S"/>
          <p:cNvPicPr/>
          <p:nvPr/>
        </p:nvPicPr>
        <p:blipFill>
          <a:blip r:embed="rId2"/>
          <a:srcRect l="0" t="13890" r="11457" b="9866"/>
          <a:stretch/>
        </p:blipFill>
        <p:spPr>
          <a:xfrm>
            <a:off x="3276720" y="2971800"/>
            <a:ext cx="5562360" cy="3592440"/>
          </a:xfrm>
          <a:prstGeom prst="rect">
            <a:avLst/>
          </a:prstGeom>
          <a:ln w="38160">
            <a:solidFill>
              <a:srgbClr val="ff99cc"/>
            </a:solidFill>
            <a:miter/>
          </a:ln>
        </p:spPr>
      </p:pic>
      <p:pic>
        <p:nvPicPr>
          <p:cNvPr id="349" name="Picture 6" descr="MVC-012S"/>
          <p:cNvPicPr/>
          <p:nvPr/>
        </p:nvPicPr>
        <p:blipFill>
          <a:blip r:embed="rId3"/>
          <a:srcRect l="11457" t="0" r="18750" b="14094"/>
          <a:stretch/>
        </p:blipFill>
        <p:spPr>
          <a:xfrm>
            <a:off x="152280" y="4238640"/>
            <a:ext cx="2590920" cy="2390760"/>
          </a:xfrm>
          <a:prstGeom prst="rect">
            <a:avLst/>
          </a:prstGeom>
          <a:ln w="38160">
            <a:solidFill>
              <a:srgbClr val="00ffcc"/>
            </a:solidFill>
            <a:miter/>
          </a:ln>
        </p:spPr>
      </p:pic>
      <p:pic>
        <p:nvPicPr>
          <p:cNvPr id="350" name="Picture 7" descr="MVC-003S"/>
          <p:cNvPicPr/>
          <p:nvPr/>
        </p:nvPicPr>
        <p:blipFill>
          <a:blip r:embed="rId4"/>
          <a:srcRect l="17711" t="20835" r="15626" b="19449"/>
          <a:stretch/>
        </p:blipFill>
        <p:spPr>
          <a:xfrm>
            <a:off x="6172200" y="1433520"/>
            <a:ext cx="2514600" cy="16905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351" name="Rectangle 8"/>
          <p:cNvSpPr/>
          <p:nvPr/>
        </p:nvSpPr>
        <p:spPr>
          <a:xfrm>
            <a:off x="7697160" y="661356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nodeType="clickEffect" fill="hold">
                      <p:stCondLst>
                        <p:cond delay="0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1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9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11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5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6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53" name="Picture 3" descr="MVC-001S"/>
          <p:cNvPicPr/>
          <p:nvPr/>
        </p:nvPicPr>
        <p:blipFill>
          <a:blip r:embed="rId1"/>
          <a:srcRect l="0" t="0" r="38546" b="6252"/>
          <a:stretch/>
        </p:blipFill>
        <p:spPr>
          <a:xfrm>
            <a:off x="380880" y="1447920"/>
            <a:ext cx="3994200" cy="45720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pic>
        <p:nvPicPr>
          <p:cNvPr id="354" name="Picture 4" descr="MVC-004S"/>
          <p:cNvPicPr/>
          <p:nvPr/>
        </p:nvPicPr>
        <p:blipFill>
          <a:blip r:embed="rId2"/>
          <a:stretch/>
        </p:blipFill>
        <p:spPr>
          <a:xfrm>
            <a:off x="5791320" y="4343400"/>
            <a:ext cx="3352680" cy="2514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355" name="Picture 5" descr="MVC-007S"/>
          <p:cNvPicPr/>
          <p:nvPr/>
        </p:nvPicPr>
        <p:blipFill>
          <a:blip r:embed="rId3"/>
          <a:srcRect l="13542" t="22228" r="15626" b="31890"/>
          <a:stretch/>
        </p:blipFill>
        <p:spPr>
          <a:xfrm>
            <a:off x="3962520" y="1596960"/>
            <a:ext cx="5181480" cy="251784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  <p:pic>
        <p:nvPicPr>
          <p:cNvPr id="356" name="Picture 6" descr="MVC-010S"/>
          <p:cNvPicPr/>
          <p:nvPr/>
        </p:nvPicPr>
        <p:blipFill>
          <a:blip r:embed="rId4"/>
          <a:srcRect l="18750" t="19449" r="16666" b="33339"/>
          <a:stretch/>
        </p:blipFill>
        <p:spPr>
          <a:xfrm>
            <a:off x="2057400" y="4495680"/>
            <a:ext cx="3962520" cy="2173320"/>
          </a:xfrm>
          <a:prstGeom prst="rect">
            <a:avLst/>
          </a:prstGeom>
          <a:ln w="38160">
            <a:solidFill>
              <a:srgbClr val="00ffcc"/>
            </a:solidFill>
            <a:miter/>
          </a:ln>
        </p:spPr>
      </p:pic>
      <p:sp>
        <p:nvSpPr>
          <p:cNvPr id="357" name="Rectangle 7"/>
          <p:cNvSpPr/>
          <p:nvPr/>
        </p:nvSpPr>
        <p:spPr>
          <a:xfrm>
            <a:off x="686880" y="617220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nodeType="clickEffect" fill="hold">
                      <p:stCondLst>
                        <p:cond delay="0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8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0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3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35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61976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SAMPLE STUDENT PROJECT:  Diffraction Grating Glasses (Pd. 6)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59" name="Picture 3" descr="MVC-011S"/>
          <p:cNvPicPr/>
          <p:nvPr/>
        </p:nvPicPr>
        <p:blipFill>
          <a:blip r:embed="rId1"/>
          <a:srcRect l="36461" t="16669" r="17711" b="0"/>
          <a:stretch/>
        </p:blipFill>
        <p:spPr>
          <a:xfrm>
            <a:off x="5638680" y="1447920"/>
            <a:ext cx="3353040" cy="48006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360" name="Picture 5" descr="MVC-016S"/>
          <p:cNvPicPr/>
          <p:nvPr/>
        </p:nvPicPr>
        <p:blipFill>
          <a:blip r:embed="rId2"/>
          <a:srcRect l="10418" t="31945" r="27083" b="0"/>
          <a:stretch/>
        </p:blipFill>
        <p:spPr>
          <a:xfrm>
            <a:off x="1447920" y="1447920"/>
            <a:ext cx="3504960" cy="28620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361" name="Picture 4" descr="MVC-014S"/>
          <p:cNvPicPr/>
          <p:nvPr/>
        </p:nvPicPr>
        <p:blipFill>
          <a:blip r:embed="rId3"/>
          <a:srcRect l="10418" t="0" r="7293" b="0"/>
          <a:stretch/>
        </p:blipFill>
        <p:spPr>
          <a:xfrm>
            <a:off x="3048120" y="4065480"/>
            <a:ext cx="2895480" cy="264024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pic>
        <p:nvPicPr>
          <p:cNvPr id="362" name="Picture 6" descr="MVC-013S"/>
          <p:cNvPicPr/>
          <p:nvPr/>
        </p:nvPicPr>
        <p:blipFill>
          <a:blip r:embed="rId4"/>
          <a:srcRect l="31253" t="33339" r="36461" b="0"/>
          <a:stretch/>
        </p:blipFill>
        <p:spPr>
          <a:xfrm>
            <a:off x="228600" y="2895480"/>
            <a:ext cx="2362320" cy="365760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sp>
        <p:nvSpPr>
          <p:cNvPr id="363" name="Rectangle 7"/>
          <p:cNvSpPr/>
          <p:nvPr/>
        </p:nvSpPr>
        <p:spPr>
          <a:xfrm>
            <a:off x="7697160" y="6324480"/>
            <a:ext cx="121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D. L. Power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40" dur="indefinite" restart="never" nodeType="tmRoot">
          <p:childTnLst>
            <p:seq>
              <p:cTn id="1441" dur="indefinite" nodeType="mainSeq">
                <p:childTnLst>
                  <p:par>
                    <p:cTn id="1442" nodeType="clickEffect" fill="hold">
                      <p:stCondLst>
                        <p:cond delay="0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6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6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18960" y="517320"/>
            <a:ext cx="79246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EVALUATION: State Standards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28320" y="1904760"/>
            <a:ext cx="8815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Waves carry energy from one place to another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Identify transverse and longitudinal waves in mechanical media such as spring, ropes, and the earth (seismic waves)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olve problems involving wavelength, frequency, &amp; speed.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  <p:timing>
    <p:tnLst>
      <p:par>
        <p:cTn id="1467" dur="indefinite" restart="never" nodeType="tmRoot">
          <p:childTnLst>
            <p:seq>
              <p:cTn id="1468" dur="indefinite" nodeType="mainSeq">
                <p:childTnLst>
                  <p:par>
                    <p:cTn id="1469" nodeType="clickEffect" fill="hold">
                      <p:stCondLst>
                        <p:cond delay="0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7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8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5" dur="500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9" dur="500"/>
                                        <p:tgtEl>
                                          <p:spTgt spid="3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18960" y="517320"/>
            <a:ext cx="79246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EVALUATION: State Standards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28320" y="1904760"/>
            <a:ext cx="8815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Radio waves, light, and x-rays are different wavelength bands in the spectrum of electromagnetic waves whose speed in vacuum is approximately 3x10 m/sec 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Sound is a longitudinal wave whose speed depends on the properties of the medium in which it propagates.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  <p:timing>
    <p:tnLst>
      <p:par>
        <p:cTn id="1490" dur="indefinite" restart="never" nodeType="tmRoot">
          <p:childTnLst>
            <p:seq>
              <p:cTn id="1491" dur="indefinite" nodeType="mainSeq">
                <p:childTnLst>
                  <p:par>
                    <p:cTn id="1492" nodeType="clickEffect" fill="hold">
                      <p:stCondLst>
                        <p:cond delay="0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4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218960" y="517320"/>
            <a:ext cx="792468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Times New Roman"/>
              </a:rPr>
              <a:t>EVALUATION: State Standards</a:t>
            </a:r>
            <a:endParaRPr b="0" lang="en-US" sz="40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48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ccff"/>
                </a:solidFill>
                <a:latin typeface="Times New Roman"/>
              </a:rPr>
              <a:t>Identify the characteristic properties of waves: </a:t>
            </a:r>
            <a:endParaRPr b="0" lang="en-US" sz="3600" spc="-1" strike="noStrike">
              <a:solidFill>
                <a:srgbClr val="33ccff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Interference 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Diffraction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Refraction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Doppler Effect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  <a:p>
            <a:pPr lvl="1" marL="735480" indent="-282960">
              <a:spcBef>
                <a:spcPts val="9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33"/>
                </a:solidFill>
                <a:latin typeface="Times New Roman"/>
              </a:rPr>
              <a:t>Polarization.</a:t>
            </a:r>
            <a:endParaRPr b="0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iming>
    <p:tnLst>
      <p:par>
        <p:cTn id="1505" dur="indefinite" restart="never" nodeType="tmRoot">
          <p:childTnLst>
            <p:seq>
              <p:cTn id="1506" dur="indefinite" nodeType="mainSeq">
                <p:childTnLst>
                  <p:par>
                    <p:cTn id="1507" nodeType="clickEffect" fill="hold">
                      <p:stCondLst>
                        <p:cond delay="0"/>
                      </p:stCondLst>
                      <p:childTnLst>
                        <p:par>
                          <p:cTn id="1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1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5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9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3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7" dur="500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1" dur="5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3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5"/>
          <p:cNvSpPr/>
          <p:nvPr/>
        </p:nvSpPr>
        <p:spPr>
          <a:xfrm>
            <a:off x="0" y="614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72" name="Rectangle 10"/>
          <p:cNvSpPr/>
          <p:nvPr/>
        </p:nvSpPr>
        <p:spPr>
          <a:xfrm>
            <a:off x="228600" y="1355760"/>
            <a:ext cx="891540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http://www.scimedia.com/chem-ed/light/em-spec.htm, updated 2/1/97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ttp://encarta.msn.com/find/Concise.asp?ti=06AFC000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1"/>
              </a:rPr>
              <a:t>http://www.lbl.gov/MicroWorlds/ALSTool/EMSpec/EMSpec2.htm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2"/>
              </a:rPr>
              <a:t>http://www.lbl.gov/MicroWorlds/ALSTool/EMSpec/EMSpec.htm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3"/>
              </a:rPr>
              <a:t>http://www.physics.sfasu.edu/astro/color.html#linkshttp://www.physics.sfasu.edu/astro/color.html#link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6600"/>
                </a:solidFill>
                <a:uFillTx/>
                <a:latin typeface="Times New Roman"/>
                <a:ea typeface="Times New Roman"/>
                <a:hlinkClick r:id="rId4"/>
              </a:rPr>
              <a:t>http://www.isc.tamu.edu/~astro/color.htm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536" dur="indefinite" restart="never" nodeType="tmRoot">
          <p:childTnLst>
            <p:seq>
              <p:cTn id="1537" dur="indefinite" nodeType="mainSeq">
                <p:childTnLst>
                  <p:par>
                    <p:cTn id="1538" nodeType="clickEffect" fill="hold">
                      <p:stCondLst>
                        <p:cond delay="0"/>
                      </p:stCondLst>
                      <p:childTnLst>
                        <p:par>
                          <p:cTn id="1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7920" y="533160"/>
            <a:ext cx="59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2120" y="2931840"/>
            <a:ext cx="853416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Speed in Vacuum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300,000 km/sec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186,000 mi/sec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Speed in Other Materials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Slower in Air, Water, Glass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25" name="Picture 7" descr="molstruc"/>
          <p:cNvPicPr/>
          <p:nvPr/>
        </p:nvPicPr>
        <p:blipFill>
          <a:blip r:embed="rId1"/>
          <a:stretch/>
        </p:blipFill>
        <p:spPr>
          <a:xfrm>
            <a:off x="609480" y="233280"/>
            <a:ext cx="1524240" cy="1120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3581640" cy="2590560"/>
          </a:xfrm>
          <a:prstGeom prst="rect">
            <a:avLst/>
          </a:prstGeom>
          <a:ln w="38160">
            <a:solidFill>
              <a:srgbClr val="cc66ff"/>
            </a:solidFill>
            <a:miter/>
          </a:ln>
        </p:spPr>
      </p:pic>
      <p:sp>
        <p:nvSpPr>
          <p:cNvPr id="127" name="Rectangle 10"/>
          <p:cNvSpPr/>
          <p:nvPr/>
        </p:nvSpPr>
        <p:spPr>
          <a:xfrm>
            <a:off x="7011720" y="46483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18960" y="394920"/>
            <a:ext cx="79246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References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380880" y="5562720"/>
            <a:ext cx="86868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 Unicode MS"/>
                <a:ea typeface="Arial Unicode MS"/>
              </a:rPr>
              <a:t>http://www.scimedia.com/chem-ed/light/em-rad.htm, updated 11/22/97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380880" y="2019240"/>
            <a:ext cx="853452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http://www.holo.com/holo/cmpany/laserart.htmlhttp://www.holo.com/holo/cmpany/laserart.htm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http://www.holo.com/holo/book/book1.html#defhttp://www.holo.com/holo/book/book1.html#de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551" dur="indefinite" restart="never" nodeType="tmRoot">
          <p:childTnLst>
            <p:seq>
              <p:cTn id="1552" dur="indefinite" nodeType="mainSeq">
                <p:childTnLst>
                  <p:par>
                    <p:cTn id="1553" nodeType="clickEffect" fill="hold">
                      <p:stCondLst>
                        <p:cond delay="0"/>
                      </p:stCondLst>
                      <p:childTnLst>
                        <p:par>
                          <p:cTn id="1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18960" y="394920"/>
            <a:ext cx="79246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99"/>
                </a:solidFill>
                <a:latin typeface="Times New Roman"/>
              </a:rPr>
              <a:t>WORKS CITED</a:t>
            </a:r>
            <a:endParaRPr b="0" lang="en-US" sz="48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28320" y="1371240"/>
            <a:ext cx="8281800" cy="46846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ttp://www.scimedia.com/chem-ed/light/em-rad.htm, updat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11/22/97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http://www.scimedia.com/chem-ed/light/em-spec.htm, updated 2/1/97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encarta.msn.com/find/Concise.asp?ti=06AFC000 </a:t>
            </a:r>
            <a:endParaRPr b="0" lang="en-US" sz="14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lbl.gov/MicroWorlds/ALSTool/EMSpec/EMSpec2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lbl.gov/MicroWorlds/ALSTool/EMSpec/EMSpec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physics.sfasu.edu/astro/color.html#linkshttp://www.physics.sfasu.edu/astro/color.html#links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isc.tamu.edu/~astro/color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holo.com/holo/cmpany/laserart.htmlhttp://www.holo.com/holo/cmpany/laserart.html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holo.com/holo/book/book1.html#defhttp://www.holo.com/holo/book/book1.html#def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cc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86200" y="2742840"/>
            <a:ext cx="3733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The End…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379" name="Picture 5" descr="bd07311_"/>
          <p:cNvPicPr/>
          <p:nvPr/>
        </p:nvPicPr>
        <p:blipFill>
          <a:blip r:embed="rId1"/>
          <a:srcRect l="0" t="0" r="9429" b="0"/>
          <a:stretch/>
        </p:blipFill>
        <p:spPr>
          <a:xfrm>
            <a:off x="380880" y="3733920"/>
            <a:ext cx="1981440" cy="2635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80" name="Text Box 6"/>
          <p:cNvSpPr/>
          <p:nvPr/>
        </p:nvSpPr>
        <p:spPr>
          <a:xfrm>
            <a:off x="382320" y="617220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6720" y="609120"/>
            <a:ext cx="4876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Transverse Waves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8320" y="2590920"/>
            <a:ext cx="8815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Energy is perpendicular to direction of motion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Moving photon creates electric &amp; magnetic field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Light has BOTH Electric &amp; Magnetic fields at right angles!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30" name="Picture 8" descr="em-rad"/>
          <p:cNvPicPr/>
          <p:nvPr/>
        </p:nvPicPr>
        <p:blipFill>
          <a:blip r:embed="rId1"/>
          <a:stretch/>
        </p:blipFill>
        <p:spPr>
          <a:xfrm>
            <a:off x="914400" y="306360"/>
            <a:ext cx="3276720" cy="205596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sp>
        <p:nvSpPr>
          <p:cNvPr id="131" name="Rectangle 9"/>
          <p:cNvSpPr/>
          <p:nvPr/>
        </p:nvSpPr>
        <p:spPr>
          <a:xfrm>
            <a:off x="828360" y="242244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924680" cy="91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5400" spc="-1" strike="noStrike">
              <a:solidFill>
                <a:srgbClr val="ff3399"/>
              </a:solidFill>
              <a:latin typeface="Times New Roman"/>
            </a:endParaRPr>
          </a:p>
        </p:txBody>
      </p:sp>
      <p:pic>
        <p:nvPicPr>
          <p:cNvPr id="133" name="Picture 5" descr="EMSpec"/>
          <p:cNvPicPr/>
          <p:nvPr/>
        </p:nvPicPr>
        <p:blipFill>
          <a:blip r:embed="rId1"/>
          <a:stretch/>
        </p:blipFill>
        <p:spPr>
          <a:xfrm>
            <a:off x="0" y="1677960"/>
            <a:ext cx="9220320" cy="45133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6"/>
          <p:cNvSpPr/>
          <p:nvPr/>
        </p:nvSpPr>
        <p:spPr>
          <a:xfrm>
            <a:off x="7381440" y="6248520"/>
            <a:ext cx="176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© 2000 Microsoft Clip Gallery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0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67057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Times New Roman"/>
              </a:rPr>
              <a:t>Electromagnetic Spectrum</a:t>
            </a:r>
            <a:endParaRPr b="0" lang="en-US" sz="4400" spc="-1" strike="noStrike">
              <a:solidFill>
                <a:srgbClr val="ff33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Visible Spectrum – Light we can see</a:t>
            </a:r>
            <a:endParaRPr b="0" lang="en-US" sz="4000" spc="-1" strike="noStrike">
              <a:solidFill>
                <a:srgbClr val="33ccff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Roy G. Biv – Acronym for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Red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ff9900"/>
                </a:solidFill>
                <a:latin typeface="Times New Roman"/>
              </a:rPr>
              <a:t>Orange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66ff33"/>
                </a:solidFill>
                <a:latin typeface="Times New Roman"/>
              </a:rPr>
              <a:t>Green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33ccff"/>
                </a:solidFill>
                <a:latin typeface="Times New Roman"/>
              </a:rPr>
              <a:t>Blue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Indigo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, &amp; 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Violet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Largest 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to</a:t>
            </a:r>
            <a:r>
              <a:rPr b="0" lang="en-US" sz="4000" spc="-1" strike="noStrike">
                <a:solidFill>
                  <a:srgbClr val="cc00cc"/>
                </a:solidFill>
                <a:latin typeface="Times New Roman"/>
              </a:rPr>
              <a:t> Smallest </a:t>
            </a:r>
            <a:r>
              <a:rPr b="0" lang="en-US" sz="4000" spc="-1" strike="noStrike">
                <a:solidFill>
                  <a:srgbClr val="99ff33"/>
                </a:solidFill>
                <a:latin typeface="Times New Roman"/>
              </a:rPr>
              <a:t>Wavelength.</a:t>
            </a:r>
            <a:endParaRPr b="0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37" name="Picture 6" descr="em-visib"/>
          <p:cNvPicPr/>
          <p:nvPr/>
        </p:nvPicPr>
        <p:blipFill>
          <a:blip r:embed="rId1"/>
          <a:srcRect l="0" t="8542" r="4629" b="0"/>
          <a:stretch/>
        </p:blipFill>
        <p:spPr>
          <a:xfrm>
            <a:off x="228600" y="5257800"/>
            <a:ext cx="8534520" cy="1600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6T01:11:23Z</dcterms:created>
  <dc:creator>Debra Power</dc:creator>
  <dc:description/>
  <dc:language>en-US</dc:language>
  <cp:lastModifiedBy>RomaK</cp:lastModifiedBy>
  <dcterms:modified xsi:type="dcterms:W3CDTF">2015-09-03T12:39:24Z</dcterms:modified>
  <cp:revision>93</cp:revision>
  <dc:subject/>
  <dc:title>LIGHT: What is it?</dc:title>
</cp:coreProperties>
</file>