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1089-97E9-4C87-9FBE-957CDB99DC1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BDF1-70C5-4F9F-A3A3-E9B91CF73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A78-4408-4D48-B0AC-B1C8C6F5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388D-10D5-4BF2-B6B3-7C62F8A9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866-1421-4750-AC0C-AD5AA47D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5D41-821C-409C-A6E2-E6B90B7D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3BAE-462C-4E9A-89CA-CA7B9D98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6381-4A73-415D-ACDB-1DA5AFDF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743-8AD3-4C64-9ED4-3702B320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7A19-E0B5-445F-B0A5-130AB540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EDA2-AF50-41CC-9D6F-22CA9B82D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0AC6-4A83-49A7-8102-515D4BDE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3991-C471-4077-B18D-72A0CE40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9613-FB12-4111-8958-68959FC6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62D4-5E80-4255-9DCF-DA7C38B6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B6CB0-24E6-4274-9970-D32238DA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31B-644C-490E-BA71-45D0228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AF19-3ECB-4D84-8010-A514D150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56C-C750-4647-95DA-D475F30B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8F1-7118-4390-B8D9-9980D934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690-57F9-4F19-AC34-6E264D99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A36-1312-4B46-A665-7D31F2CD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6E3-F1D3-48C1-8164-73CBAEE6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7E39-C82E-47A1-9713-18D92932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AAF-5898-42A3-B361-60B4DF2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1311-AF96-4BEE-B680-09F26AD2FF1A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7DF0-2954-4CA6-A545-BF057D71F11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0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9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2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4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5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nodeType="clickEffect" fill="hold">
                      <p:stCondLst>
                        <p:cond delay="0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1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5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2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4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nodeType="clickEffect" fill="hold">
                      <p:stCondLst>
                        <p:cond delay="0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0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9" dur="1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4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0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5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7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4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0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447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nodeType="clickEffect" fill="hold">
                      <p:stCondLst>
                        <p:cond delay="0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2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6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0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nodeType="clickEffect" fill="hold">
                      <p:stCondLst>
                        <p:cond delay="0"/>
                      </p:stCondLst>
                      <p:childTnLst>
                        <p:par>
                          <p:cTn id="1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0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2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6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0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nodeType="clickEffect" fill="hold">
                      <p:stCondLst>
                        <p:cond delay="0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0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