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96DA-1E63-433E-B0F2-5B7B7EEC44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BD7-BBFB-433E-A185-9D88CB88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9E9-191D-4E87-A0D0-E1668C0B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AC0-7E01-42AC-AD9A-3E76094C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72A-8FBB-4A9A-A241-94B726C7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67EF-4A5F-40D4-9560-444D7B2A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C199-3F9A-455A-9ADC-DD99359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0A90-A399-4270-8020-FC1DF193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2E27-8D72-4425-AC96-0C642CCA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08BD-CADF-4A16-BB18-3EEC29D2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185B-6666-4F41-BBE7-27CC64E0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80AC-5F64-462B-BC04-BDA74C95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C64-4166-4812-BE54-58A656C4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1603-BE0C-4728-A149-6E910FE6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7919-A6A1-475E-9717-A12BA512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13C6-4887-48AF-867B-1AC80E86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A77E-2952-44AB-AF0A-98C07245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DE3B-C2E8-46B6-A1F3-31DAFCD3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018-2E44-402A-BDE5-F1328252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134-32DD-48BD-82AF-7CD54A72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F78-ACBF-4AEA-95D7-5111794C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0B1-8B9D-4240-8687-F37F9BA6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C9A-F249-4615-8F5F-1EEB6751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EAF-8F60-4E46-B8E6-0D4534BA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7D1-1ACB-435D-A0A9-80D4858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AD55-77AE-42DC-8347-B7BFC10FDE21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F5BB-B96B-446E-A910-E1278386A6D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0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4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0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nodeType="clickEffect" fill="hold">
                      <p:stCondLst>
                        <p:cond delay="0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9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nodeType="clickEffect" fill="hold">
                      <p:stCondLst>
                        <p:cond delay="0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nodeType="clickEffect" fill="hold">
                      <p:stCondLst>
                        <p:cond delay="0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nodeType="clickEffect" fill="hold">
                      <p:stCondLst>
                        <p:cond delay="0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0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nodeType="clickEffect" fill="hold">
                      <p:stCondLst>
                        <p:cond delay="0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nodeType="clickEffect" fill="hold">
                      <p:stCondLst>
                        <p:cond delay="0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nodeType="clickEffect" fill="hold">
                      <p:stCondLst>
                        <p:cond delay="0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