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TSUNAMI.WAV" ContentType="audio/x-wav"/>
  <Override PartName="/ppt/media/image6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13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24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686160"/>
            <a:ext cx="4514040" cy="338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- the number of complete vibrations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f and measured in units of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- the shortest time interval d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e motion of the wave repeats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T and measured in unit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/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1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ty - the speed of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v and measured in units of dist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d/t = l/T = f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d of a wave depends on th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through which it is trav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ning back of a wave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hes the boundary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through which it is trav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of incidence is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angle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ed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more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right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less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se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a wave as it passes obliquely from one medium into another of different propagation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fraction to occur,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change speed and must 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medium at an obliqu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eading of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a barri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n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or mor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position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medium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waves pas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t the same time is the algebr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f the displacements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individua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larg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small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ore about interference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 resulting from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transverse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and here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of the interfer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 material medium or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transfer energy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transport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a mechanical wave to exist, energy is needed to create a disturbance in an elastic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view refle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, diffra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terference us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 and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p of an actual ripple tank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pple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an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ing wave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wave trains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, frequency, and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same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more about stand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here, an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 of two travel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an result in a standing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nding waves on a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waves may be produced easil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string, and air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 in frequency due to the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the wave source and the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high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clo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low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farther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simulations of the Doppler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evid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ypes of wav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l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, water, etc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/m waves travel through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at a speed of approxim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0 x 108 m/s or 186,000 miles/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ed is known as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, radio, x-rays, and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ome examples of e/m wa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edium is need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erpendicul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arallel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view simulat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particle of the medium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r equilibriu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A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the position an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particles of th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rtest 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that are “in pha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l 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77A-8E5C-4A6C-804C-92B3BD3B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BD3-7F6F-4D5A-9E5B-5B1D7AE4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B91-C7C1-4E51-9107-18211167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FD6-48B4-40C2-8F1A-D0B573C6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9DA-F339-437C-BA76-483C9FE1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DC7-E3E1-42B2-8D04-5B0E58E0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C3B-10B5-4C5D-854A-092164B6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A68-52B2-4E7F-9C9D-C1343318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8FF-411E-433A-918C-D68A0520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B98-216C-4F34-B32A-C623DCDF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2B0-36B1-498B-B805-6BA1A81C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3FB-5BC1-4734-A8FE-1B082C77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E0DF-88A0-486D-B97B-96BED498D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TSUNAMI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.nwu.edu/ugrad/vpl/waves/wavereflec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waves/u10l3c.html" TargetMode="External"/><Relationship Id="rId2" Type="http://schemas.openxmlformats.org/officeDocument/2006/relationships/hyperlink" Target="http://www.physics.nwu.edu/ugrad/vpl/waves/superposition1.html" TargetMode="External"/><Relationship Id="rId3" Type="http://schemas.openxmlformats.org/officeDocument/2006/relationships/hyperlink" Target="http://www.netzmedien.de/software/download/java/interferenz/index.html" TargetMode="External"/><Relationship Id="rId4" Type="http://schemas.openxmlformats.org/officeDocument/2006/relationships/hyperlink" Target="http://www.walter-fendt.de/ph11e/interference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html/demos/230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falstad.com/ripple/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rd.edu/dept/physics/p128/lecture99_35.html" TargetMode="External"/><Relationship Id="rId2" Type="http://schemas.openxmlformats.org/officeDocument/2006/relationships/hyperlink" Target="http://www.glenbrook.k12.il.us/gbssci/phys/Class/waves/u10l4b.html" TargetMode="External"/><Relationship Id="rId3" Type="http://schemas.openxmlformats.org/officeDocument/2006/relationships/hyperlink" Target="http://hyperphysics.phy-astr.gsu.edu/hbase/waves/standw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y.ntnu.edu.tw/~hwang/waveType/waveType.html" TargetMode="External"/><Relationship Id="rId2" Type="http://schemas.openxmlformats.org/officeDocument/2006/relationships/hyperlink" Target="http://www.phy.ntnu.edu.tw/~hwang/waveType/waveType.html" TargetMode="External"/><Relationship Id="rId3" Type="http://schemas.openxmlformats.org/officeDocument/2006/relationships/hyperlink" Target="http://www.cbu.edu/~jvarrian/applets/waves1/lontra_g.htm" TargetMode="External"/><Relationship Id="rId4" Type="http://schemas.openxmlformats.org/officeDocument/2006/relationships/hyperlink" Target="http://www.physics.nwu.edu/ugrad/vpl/waves/wavetypes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152280" y="20520"/>
          <a:ext cx="876312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20"/>
                    <a:ext cx="87631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4419720" y="3505320"/>
            <a:ext cx="166824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SUNAM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1"/>
          <p:cNvSpPr/>
          <p:nvPr/>
        </p:nvSpPr>
        <p:spPr>
          <a:xfrm>
            <a:off x="673200" y="3327480"/>
            <a:ext cx="7912080" cy="139680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73200" y="1650960"/>
            <a:ext cx="7912080" cy="132084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9480" y="1584360"/>
            <a:ext cx="805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requency</a:t>
            </a:r>
            <a:r>
              <a:rPr b="1" lang="en-US" sz="2400" spc="-1" strike="noStrike">
                <a:solidFill>
                  <a:srgbClr val="3333cc"/>
                </a:solidFill>
                <a:latin typeface="Minnie"/>
                <a:ea typeface="Minnie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umber of complete vibrations per un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599120" y="2452680"/>
            <a:ext cx="62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f and measured in units of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60600" y="3260880"/>
            <a:ext cx="7908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Peri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hortes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erval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the motion of the wave repeat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446840" y="4205160"/>
            <a:ext cx="652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T and measured in unit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71600" y="5410080"/>
            <a:ext cx="2209680" cy="1554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4226040" y="5410080"/>
            <a:ext cx="691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486400" y="5424480"/>
            <a:ext cx="2209680" cy="82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1523880"/>
            <a:ext cx="7772400" cy="1524240"/>
          </a:xfrm>
          <a:prstGeom prst="rect">
            <a:avLst/>
          </a:prstGeom>
          <a:solidFill>
            <a:srgbClr val="ff505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15440" y="1676520"/>
            <a:ext cx="68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987560" y="4952880"/>
            <a:ext cx="6470640" cy="144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305360" y="2452680"/>
            <a:ext cx="707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v and measured in units of dist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2438280" y="5181480"/>
            <a:ext cx="5410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d/t =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7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600200" cy="19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8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19"/>
          <p:cNvSpPr/>
          <p:nvPr/>
        </p:nvSpPr>
        <p:spPr>
          <a:xfrm>
            <a:off x="278640" y="3460680"/>
            <a:ext cx="85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peed of a wave depends on th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medium through which it is trav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cc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509920" y="-76320"/>
          <a:ext cx="60865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-76320"/>
                    <a:ext cx="60865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3"/>
          <p:cNvSpPr/>
          <p:nvPr/>
        </p:nvSpPr>
        <p:spPr>
          <a:xfrm>
            <a:off x="2438280" y="2819520"/>
            <a:ext cx="4318200" cy="8380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66880" y="281952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93720" y="4008600"/>
            <a:ext cx="775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turning bac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wav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reaches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bound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dium through which it is trav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590400" y="152280"/>
            <a:ext cx="139068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lawofreflection1"/>
          <p:cNvPicPr/>
          <p:nvPr/>
        </p:nvPicPr>
        <p:blipFill>
          <a:blip r:embed="rId1"/>
          <a:stretch/>
        </p:blipFill>
        <p:spPr>
          <a:xfrm>
            <a:off x="4800600" y="4038480"/>
            <a:ext cx="4191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143000" y="457200"/>
            <a:ext cx="6934320" cy="10666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91800" y="533520"/>
            <a:ext cx="543816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Law of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88200" y="1600200"/>
            <a:ext cx="7105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incide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ref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lawofreflection"/>
          <p:cNvPicPr/>
          <p:nvPr/>
        </p:nvPicPr>
        <p:blipFill>
          <a:blip r:embed="rId2"/>
          <a:stretch/>
        </p:blipFill>
        <p:spPr>
          <a:xfrm>
            <a:off x="152280" y="3316320"/>
            <a:ext cx="449604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76320"/>
            <a:ext cx="8458200" cy="6553080"/>
          </a:xfrm>
          <a:prstGeom prst="rect">
            <a:avLst/>
          </a:prstGeom>
          <a:solidFill>
            <a:srgbClr val="3333cc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17840" y="304920"/>
            <a:ext cx="777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two types of r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365120" y="1143000"/>
            <a:ext cx="65188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ixed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invert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more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60240" y="3505320"/>
            <a:ext cx="61729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ree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uprigh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less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02720" y="5899320"/>
            <a:ext cx="777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these types of ref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505320" y="304920"/>
            <a:ext cx="4876560" cy="68580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895480" y="990720"/>
            <a:ext cx="601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en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f a wave as it pas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obliquely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rom one medium into another of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different propagation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038480" y="2286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Arial Black"/>
              </a:rPr>
              <a:t>Refra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603880" y="5105520"/>
            <a:ext cx="63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refraction to occur, th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t change speed and must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w medium at an oblique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refractionanswer"/>
          <p:cNvPicPr/>
          <p:nvPr/>
        </p:nvPicPr>
        <p:blipFill>
          <a:blip r:embed="rId2"/>
          <a:stretch/>
        </p:blipFill>
        <p:spPr>
          <a:xfrm>
            <a:off x="4114800" y="2743200"/>
            <a:ext cx="396252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1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352680" y="533520"/>
            <a:ext cx="4648320" cy="990360"/>
          </a:xfrm>
          <a:prstGeom prst="rect">
            <a:avLst/>
          </a:prstGeom>
          <a:solidFill>
            <a:srgbClr val="0000ff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Diff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1600200"/>
            <a:ext cx="5659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spreading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f a 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ound a barri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rough an op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4" descr="diffractionnarrowanswer"/>
          <p:cNvPicPr/>
          <p:nvPr/>
        </p:nvPicPr>
        <p:blipFill>
          <a:blip r:embed="rId2"/>
          <a:stretch/>
        </p:blipFill>
        <p:spPr>
          <a:xfrm>
            <a:off x="3505320" y="2362320"/>
            <a:ext cx="4190760" cy="228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362320" y="101520"/>
            <a:ext cx="4394160" cy="73656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2438280"/>
            <a:ext cx="7899120" cy="9144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795760" y="60480"/>
            <a:ext cx="34524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82440" y="942840"/>
            <a:ext cx="715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result of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wo or more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38080" y="2514600"/>
            <a:ext cx="73152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uperpositi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1560" y="3562200"/>
            <a:ext cx="90212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medium 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wo or more waves pass thr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 at the same time is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algebra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the displacements ca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y the individu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1353600" y="1219320"/>
            <a:ext cx="6689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Con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rg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1440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Types of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085760" y="2590920"/>
            <a:ext cx="7009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De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mall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9" descr="interference"/>
          <p:cNvPicPr/>
          <p:nvPr/>
        </p:nvPicPr>
        <p:blipFill>
          <a:blip r:embed="rId1"/>
          <a:stretch/>
        </p:blipFill>
        <p:spPr>
          <a:xfrm>
            <a:off x="228600" y="3962520"/>
            <a:ext cx="868680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367560" y="762120"/>
            <a:ext cx="84744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more about interferenc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th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ttern resulting from the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two transverse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mulations of the interfer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circular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98040" y="457200"/>
            <a:ext cx="77594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 Black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propa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ough a material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a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83840" y="4724280"/>
            <a:ext cx="650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fer 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lk transport of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09480" y="2560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order for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exist,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needed to creat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astic 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83960" y="3200400"/>
            <a:ext cx="6290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You can view refle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efraction,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nd interference using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plane and circular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o view a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p of an actual ripple tank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rippletank"/>
          <p:cNvPicPr/>
          <p:nvPr/>
        </p:nvPicPr>
        <p:blipFill>
          <a:blip r:embed="rId2"/>
          <a:stretch/>
        </p:blipFill>
        <p:spPr>
          <a:xfrm>
            <a:off x="380880" y="304920"/>
            <a:ext cx="36086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767480" y="457200"/>
            <a:ext cx="3225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 ripple t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simulation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o invest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av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73356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615960" y="235080"/>
            <a:ext cx="3035160" cy="181584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80880" y="203040"/>
          <a:ext cx="342900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040"/>
                    <a:ext cx="34290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4"/>
          <p:cNvSpPr/>
          <p:nvPr/>
        </p:nvSpPr>
        <p:spPr>
          <a:xfrm>
            <a:off x="3664080" y="158760"/>
            <a:ext cx="3035160" cy="181620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3352680" y="228600"/>
          <a:ext cx="350532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28600"/>
                    <a:ext cx="350532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Oval 6"/>
          <p:cNvSpPr/>
          <p:nvPr/>
        </p:nvSpPr>
        <p:spPr>
          <a:xfrm>
            <a:off x="177840" y="2666880"/>
            <a:ext cx="8864640" cy="2971800"/>
          </a:xfrm>
          <a:prstGeom prst="ellipse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22760" y="2971800"/>
            <a:ext cx="705276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anding w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 of two wave trains of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veling in opposite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ough the sam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6781680" y="249120"/>
            <a:ext cx="2284560" cy="193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1189080" y="457200"/>
            <a:ext cx="67629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rn more about stand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terference of two travel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at can result in a standing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f standing waves on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863640" y="4826160"/>
            <a:ext cx="7493040" cy="1549080"/>
          </a:xfrm>
          <a:prstGeom prst="plus">
            <a:avLst>
              <a:gd name="adj" fmla="val 24995"/>
            </a:avLst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77240" y="5195880"/>
            <a:ext cx="7680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nding waves may be produced easil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, string, and air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7320" y="28440"/>
            <a:ext cx="80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change in frequency due to the 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tion of the wave source and the 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80880" y="4884840"/>
            <a:ext cx="8458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os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farthe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doppler"/>
          <p:cNvPicPr/>
          <p:nvPr/>
        </p:nvPicPr>
        <p:blipFill>
          <a:blip r:embed="rId1"/>
          <a:stretch/>
        </p:blipFill>
        <p:spPr>
          <a:xfrm>
            <a:off x="2133720" y="160020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11840" y="1143000"/>
            <a:ext cx="83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here, here, here, and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run simulations of the Doppler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See Explanation.  Clicking on the picture will download &#10; the highest resolution version available."/>
          <p:cNvPicPr/>
          <p:nvPr/>
        </p:nvPicPr>
        <p:blipFill>
          <a:blip r:embed="rId1"/>
          <a:stretch/>
        </p:blipFill>
        <p:spPr>
          <a:xfrm>
            <a:off x="4724280" y="3276720"/>
            <a:ext cx="4195800" cy="302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62360" y="3490920"/>
            <a:ext cx="408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be eviden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types of waves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luding 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,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35160" y="3657600"/>
            <a:ext cx="85719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e/m waves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vel through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ace at a speed of approxim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186,000 miles/se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speed is known as the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 of light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59160" y="1981080"/>
            <a:ext cx="758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, radio, x-rays, and 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e some examples of e/m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48600" y="380880"/>
            <a:ext cx="562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 medium is nee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ELECTROMAGNETI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519200" y="173160"/>
          <a:ext cx="60865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3160"/>
                    <a:ext cx="60865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transversewave"/>
          <p:cNvPicPr/>
          <p:nvPr/>
        </p:nvPicPr>
        <p:blipFill>
          <a:blip r:embed="rId3"/>
          <a:stretch/>
        </p:blipFill>
        <p:spPr>
          <a:xfrm>
            <a:off x="457200" y="2368440"/>
            <a:ext cx="8305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04920" y="5486400"/>
            <a:ext cx="861048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92480" y="1447920"/>
            <a:ext cx="8114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pendicula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14600" y="380880"/>
            <a:ext cx="4114800" cy="914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4280" y="457200"/>
            <a:ext cx="369324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TRANS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57400" y="3403440"/>
            <a:ext cx="4952880" cy="101628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233080" y="3581280"/>
            <a:ext cx="455580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LONGITUD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65280" y="4737240"/>
            <a:ext cx="77914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9"/>
          <p:cNvSpPr/>
          <p:nvPr/>
        </p:nvSpPr>
        <p:spPr>
          <a:xfrm>
            <a:off x="152280" y="3581280"/>
            <a:ext cx="8839440" cy="2362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>
            <a:hlinkClick r:id="rId1"/>
          </p:cNvPr>
          <p:cNvSpPr/>
          <p:nvPr/>
        </p:nvSpPr>
        <p:spPr>
          <a:xfrm>
            <a:off x="371880" y="3822840"/>
            <a:ext cx="8200080" cy="18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 view simulation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nsverse and longitudinal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3048120" y="380880"/>
            <a:ext cx="3124080" cy="990720"/>
          </a:xfrm>
          <a:prstGeom prst="rect">
            <a:avLst/>
          </a:prstGeom>
          <a:solidFill>
            <a:srgbClr val="00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3268440" y="457200"/>
            <a:ext cx="264636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403640" y="1704960"/>
            <a:ext cx="635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bin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ransver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longitudin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3"/>
          <p:cNvSpPr/>
          <p:nvPr/>
        </p:nvSpPr>
        <p:spPr>
          <a:xfrm>
            <a:off x="177840" y="1600200"/>
            <a:ext cx="8788320" cy="27176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240" y="1523880"/>
            <a:ext cx="908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maximum dis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 particle of the medium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rest or equilibrium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99760" y="3733920"/>
            <a:ext cx="781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A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wave5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027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wave6"/>
          <p:cNvPicPr/>
          <p:nvPr/>
        </p:nvPicPr>
        <p:blipFill>
          <a:blip r:embed="rId4"/>
          <a:stretch/>
        </p:blipFill>
        <p:spPr>
          <a:xfrm>
            <a:off x="4724280" y="4572000"/>
            <a:ext cx="41148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635040" y="1600200"/>
            <a:ext cx="7950240" cy="190512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1480" y="1676520"/>
            <a:ext cx="8062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ated to 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the particles of the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4"/>
          <p:cNvPicPr/>
          <p:nvPr/>
        </p:nvPicPr>
        <p:blipFill>
          <a:blip r:embed="rId1"/>
          <a:stretch/>
        </p:blipFill>
        <p:spPr>
          <a:xfrm>
            <a:off x="22860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wave7"/>
          <p:cNvPicPr/>
          <p:nvPr/>
        </p:nvPicPr>
        <p:blipFill>
          <a:blip r:embed="rId2"/>
          <a:stretch/>
        </p:blipFill>
        <p:spPr>
          <a:xfrm>
            <a:off x="4724280" y="4027320"/>
            <a:ext cx="4267440" cy="237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80880" y="1397160"/>
            <a:ext cx="8458200" cy="24890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4360" y="1460520"/>
            <a:ext cx="7773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hortest dist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points that are “in pha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0080" y="3154320"/>
            <a:ext cx="796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</a:t>
            </a: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7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RomaK</cp:lastModifiedBy>
  <cp:lastPrinted>1998-08-05T01:23:10Z</cp:lastPrinted>
  <dcterms:modified xsi:type="dcterms:W3CDTF">2015-09-03T12:39:12Z</dcterms:modified>
  <cp:revision>71</cp:revision>
  <dc:subject/>
  <dc:title>No Slide Title</dc:title>
</cp:coreProperties>
</file>