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58C0-B209-4F6A-9A07-7F30CA0C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sible Light &amp;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BJECTIV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&amp;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wh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white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colors ROY G BIV being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2. Whit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the colors ROY G BIV being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BLACK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BLACK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bl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black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 of rainbow being 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3.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 of rainbow being ABSORB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/Wint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/Summ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 Fash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4. How do we se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4. HOW DO WE SE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ABSORB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mallest band of the Electromagnetic spectr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Quick Review Point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: How We Se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s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(s) go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(s) go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W: How We Se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 Balloon Tos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Balloon T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&amp; Col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vi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 – No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reflected to eye. (white light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 – All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– No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reflected to eye. (white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– All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lors are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ctivity Instruct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nfused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’s okay…let’s give it a sh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okay…let’s give it a s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absorbed excep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t’s get started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close atten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MAIN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AST O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d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MOR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DD MORE Slid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1. What is visible light?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-smallest part of the EM spectrum that the human eyes can se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to Violet (ROYGBIV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visible ligh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mallest part of the EM spectrum that the human eyes can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to Violet (ROYGB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What are the different colors of visible ligh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– lowest energy, long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rang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Yello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Gre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Blu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Indig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olet – highest energy, short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OY G BIV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fferent colors of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lowest energy, long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– highest energy, short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 G B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most energy and short/small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most energy and short/small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     the HIGHEST energy… and SHOR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Violet      the HIGHEST energy… and SHOR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lowest energy and long/big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lowest energy and long/big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     the LOWEST energy… and LONG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d      the LOWEST energy… and LONG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WHITE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WHITE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3CA-2F07-4E08-9115-B3084DAE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2EA-9CAB-449E-98AB-5B1A6DC8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335-19A1-4CD0-A48E-529FCAE9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2A8-6D74-499D-AE3F-254E0451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B668-2A41-402A-8F29-4B7512FC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02F8-2678-40AC-8BF6-DA949D7B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647D-98AD-49F5-B620-C80EF04D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FCA5-5824-42A3-B804-F12EFADC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8711-CEE2-4CD3-8C6C-6E8D4426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26D0-0997-4A0B-B5DA-60A65626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C67F-ED60-4A1B-9BD1-46833499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FE2-73DA-4DAF-84B0-AE4A2A12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B407-D401-4FCB-99F8-3E59F258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C012-5601-457F-8CC7-6D17A714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85F8-A7C5-41C9-8921-AAE0A7D2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20FA-8E36-4B4A-8053-C4BB1C99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5449-0162-484D-8129-BC1451AE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A59-74E7-4397-AF20-FCC2714A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913-4933-408F-BAC4-A4FC594C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9B7-49A2-494F-BB49-3A963293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282-746A-4418-97E1-10106484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47A-E7AE-4913-92FE-8FCEDD11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735-9A12-4AA8-8EA8-2EC0527E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ED2-100B-4480-BB1F-8C9C2AB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2D10-6435-471A-89C3-C415D9637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22CA-DB08-4C1A-9168-CD7AC26B0E2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V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1" lang="en-US" sz="6600" spc="-1" strike="noStrike">
                <a:solidFill>
                  <a:srgbClr val="486bb2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660066"/>
                </a:solidFill>
                <a:latin typeface="Arial Black"/>
              </a:rPr>
              <a:t>e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Light &amp; Color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OBJECTIVE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SWBAT identify the different colors of the visible light and compare each of its frequency and waveleng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whit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. Whit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ALL</a:t>
            </a:r>
            <a:r>
              <a:rPr b="0" lang="en-US" sz="4700" spc="-1" strike="noStrike">
                <a:solidFill>
                  <a:srgbClr val="ffcc00"/>
                </a:solidFill>
                <a:latin typeface="Arial Black"/>
              </a:rPr>
              <a:t> the colors ROY G BIV being </a:t>
            </a:r>
            <a:r>
              <a:rPr b="0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REFLECTED</a:t>
            </a:r>
            <a:endParaRPr b="0" lang="en-US" sz="4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BLACK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blac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. Bl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colors  of rainbow be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BSORB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 Fash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9807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3962520" y="55627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07120" y="2362320"/>
            <a:ext cx="382248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05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How do we see colo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4. HOW DO WE SEE COLOR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First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light goes from the source (sun, lamp, etc.) to the object.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57200" y="3276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Second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the color we see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reflect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and the rest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absorb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by the object.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REFLECT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WHIT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ABSORB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BLACK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Quick Review Poi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W: How We Se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 Balloon To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color of that objec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bsorbed except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which is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No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 colors are reflected to eye.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Blac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 Instru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absorb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cover the balloon with your body.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 POP IT!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reflect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reflect the balloon into the air above you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fus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okay…le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give it a sho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Let</a:t>
            </a:r>
            <a:r>
              <a:rPr b="0" i="1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 get start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T ON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D MORE Sl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1. What is visible ligh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200" y="1905120"/>
            <a:ext cx="8762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extile"/>
              </a:rPr>
              <a:t>-smallest part of the EM spectrum that the human eyes can s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85800" y="31240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extile"/>
              </a:rPr>
              <a:t>Red to Violet (ROYGBIV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What are the different colors of visible ligh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648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 – lowest energy, long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ang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i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olet – highest energy, short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276720" y="32767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7000" spc="-1" strike="noStrike">
                <a:solidFill>
                  <a:srgbClr val="ff6600"/>
                </a:solidFill>
                <a:latin typeface="Arial Black"/>
              </a:rPr>
              <a:t>O</a:t>
            </a:r>
            <a:r>
              <a:rPr b="0" lang="en-US" sz="7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8000"/>
                </a:solidFill>
                <a:latin typeface="Arial Black"/>
              </a:rPr>
              <a:t>G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0090"/>
                </a:solidFill>
                <a:latin typeface="Arial Black"/>
              </a:rPr>
              <a:t>B</a:t>
            </a:r>
            <a:r>
              <a:rPr b="0" lang="en-US" sz="7000" spc="-1" strike="noStrike">
                <a:solidFill>
                  <a:srgbClr val="660066"/>
                </a:solidFill>
                <a:latin typeface="Arial Black"/>
              </a:rPr>
              <a:t>I</a:t>
            </a:r>
            <a:r>
              <a:rPr b="0" lang="en-US" sz="7000" spc="-1" strike="noStrike">
                <a:solidFill>
                  <a:srgbClr val="ff3fdc"/>
                </a:solidFill>
                <a:latin typeface="Arial Black"/>
              </a:rPr>
              <a:t>V</a:t>
            </a: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most energy and short/small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609480" y="1828800"/>
            <a:ext cx="7543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fdc"/>
                </a:solidFill>
                <a:latin typeface="Arial Black"/>
              </a:rPr>
              <a:t>Violet      the HIGHEST energy… and SHORT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ight Arrow 3"/>
          <p:cNvSpPr/>
          <p:nvPr/>
        </p:nvSpPr>
        <p:spPr>
          <a:xfrm>
            <a:off x="2971800" y="21337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lowest energy and long/big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Red      the LOWEST energy… and LONG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ight Arrow 1"/>
          <p:cNvSpPr/>
          <p:nvPr/>
        </p:nvSpPr>
        <p:spPr>
          <a:xfrm>
            <a:off x="3048120" y="26668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WHITE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11:57Z</dcterms:created>
  <dc:creator>Charles</dc:creator>
  <dc:description/>
  <dc:language>en-US</dc:language>
  <cp:lastModifiedBy>RomaK</cp:lastModifiedBy>
  <cp:lastPrinted>2010-09-22T18:15:49Z</cp:lastPrinted>
  <dcterms:modified xsi:type="dcterms:W3CDTF">2015-09-03T12:39:03Z</dcterms:modified>
  <cp:revision>38</cp:revision>
  <dc:subject/>
  <dc:title>Color Balloon Toss</dc:title>
</cp:coreProperties>
</file>