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D8BC-44BB-4D26-828E-4064B717C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sible Light &amp;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BJECTIVE: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&amp;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whi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white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colors ROY G BIV being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2. Whit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the colors ROY G BIV being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BLACK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BLACK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bl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black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 of rainbow being 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3.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 of rainbow being ABSORB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/Wint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/Summ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 Fash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4. How do we se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4. HOW DO WE SE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ABSOR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ABSORB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Po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mallest band of the Electromagnetic spectr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Quick Review Point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: How We Se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s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(s) go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(s) go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W: How We Se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 Balloon Tos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Balloon T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&amp; Col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vie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 – No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reflected to eye. (white light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 – All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– No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reflected to eye. (white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– All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lors are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ctivity Instruct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nfused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t’s okay…let’s give it a sh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u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okay…let’s give it a s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absorbed excep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et’s get started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close atten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MAIN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AST O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Read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MORE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DD MORE Slid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1. What is visible light?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-smallest part of the EM spectrum that the human eyes can se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to Violet (ROYGBIV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visible ligh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mallest part of the EM spectrum that the human eyes can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to Violet (ROYGB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What are the different colors of visible ligh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– lowest energy, long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rang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Yello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Gree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Blu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Indig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olet – highest energy, short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OY G BIV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ifferent colors of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– lowest energy, long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– highest energy, short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 G B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most energy and short/small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most energy and short/small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     the HIGHEST energy… and SHOR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Violet      the HIGHEST energy… and SHOR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lowest energy and long/big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lowest energy and long/big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     the LOWEST energy… and LONG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d      the LOWEST energy… and LONG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WHITE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WHITE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824-BA5E-4C55-8DF7-AFB0CA5F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6AD-5E4B-4614-9B1D-55F88EA3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A62-E1B2-417E-85F6-6A8086A2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23A-4525-48EA-B107-5DE329BA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EA3A-02C7-4118-9F2B-A1C42182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2789-8F75-46E9-AEAB-96B277BF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468B-6A54-4DE4-840B-BC943555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F36E-7FEB-429B-BEB4-7F1AAE24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2BC9-95AE-4754-AAA0-469E9948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4F8A-A487-4BDE-86B0-B79FB62B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2504-ADF3-4F9E-A38C-199724C1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94D-FC86-4A14-840C-A7A9466B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C04F-6475-4176-8EAA-C3C7715A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06A1-707C-4A60-8755-89D3CCC9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F7A3-0B4C-4D06-A7A6-F72722B4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38F2-0461-43CA-A4C4-655B268E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C208-6A94-4AD6-B5E8-31B39D1B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2C1-6408-4568-B000-539BC017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ACC-FFB4-42A4-9F57-9FD6AEC0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97E-B65E-4431-B02B-7E993F6A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859-457D-4BDD-A28D-FA4F3DE8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2CE-82E0-45B1-972C-DB8DEE61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1C4-ACD7-42DA-899E-CE29FD75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3D0-A981-4575-83DD-3B775FC3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B63F-0466-4C84-B077-654560A5E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3939-2339-4569-BD5C-0701D3C689B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Black"/>
              </a:rPr>
              <a:t>V</a:t>
            </a:r>
            <a:r>
              <a:rPr b="1" lang="en-US" sz="6600" spc="-1" strike="noStrike">
                <a:solidFill>
                  <a:srgbClr val="ff66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1" lang="en-US" sz="66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1" lang="en-US" sz="6600" spc="-1" strike="noStrike">
                <a:solidFill>
                  <a:srgbClr val="486bb2"/>
                </a:solidFill>
                <a:latin typeface="Arial Black"/>
              </a:rPr>
              <a:t>l</a:t>
            </a:r>
            <a:r>
              <a:rPr b="1" lang="en-US" sz="6600" spc="-1" strike="noStrike">
                <a:solidFill>
                  <a:srgbClr val="660066"/>
                </a:solidFill>
                <a:latin typeface="Arial Black"/>
              </a:rPr>
              <a:t>e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 Light &amp; Color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14040" y="30481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OBJECTIVE: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SWBAT identify the different colors of the visible light and compare each of its frequency and wavelengt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whit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. Whit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479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ALL</a:t>
            </a:r>
            <a:r>
              <a:rPr b="0" lang="en-US" sz="4700" spc="-1" strike="noStrike">
                <a:solidFill>
                  <a:srgbClr val="ffcc00"/>
                </a:solidFill>
                <a:latin typeface="Arial Black"/>
              </a:rPr>
              <a:t> the colors ROY G BIV being </a:t>
            </a:r>
            <a:r>
              <a:rPr b="0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REFLECTED</a:t>
            </a:r>
            <a:endParaRPr b="0" lang="en-US" sz="47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BLACK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black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. Bla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colors  of rainbow being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BSORB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 Fash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52280" y="19807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Content Placeholder 2"/>
          <p:cNvSpPr/>
          <p:nvPr/>
        </p:nvSpPr>
        <p:spPr>
          <a:xfrm>
            <a:off x="3962520" y="5562720"/>
            <a:ext cx="563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307120" y="2362320"/>
            <a:ext cx="3822480" cy="3276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30574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. How do we see color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4. HOW DO WE SEE COLOR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First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light goes from the source (sun, lamp, etc.) to the object.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457200" y="32767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Second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the color we see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reflect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and the rest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absorb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by the object. 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REFLECT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WHIT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ABSORB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BLACK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sential Question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Quick Review Poi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W: How We Se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 Balloon To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color of that objec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bsorbed except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, which is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No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 colors are reflected to eye. (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ligh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 Black"/>
              </a:rPr>
              <a:t>Black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vity Instru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absorb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cover the balloon with your body.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N</a:t>
            </a:r>
            <a:r>
              <a:rPr b="0" lang="ja-JP" sz="2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 POP IT!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reflect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reflect the balloon into the air above you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fuse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okay…le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give it a sho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Let</a:t>
            </a:r>
            <a:r>
              <a:rPr b="0" i="1" lang="ja-JP" sz="4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s get start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T ONE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D MORE Slid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1. What is visible light?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200" y="1905120"/>
            <a:ext cx="8762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extile"/>
              </a:rPr>
              <a:t>-smallest part of the EM spectrum that the human eyes can se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685800" y="312408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extile"/>
              </a:rPr>
              <a:t>Red to Violet (ROYGBIV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What are the different colors of visible ligh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66480" y="18288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d – lowest energy, long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ang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ell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e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l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dig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iolet – highest energy, short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276720" y="32767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en-US" sz="7000" spc="-1" strike="noStrike">
                <a:solidFill>
                  <a:srgbClr val="ff6600"/>
                </a:solidFill>
                <a:latin typeface="Arial Black"/>
              </a:rPr>
              <a:t>O</a:t>
            </a:r>
            <a:r>
              <a:rPr b="0" lang="en-US" sz="7000" spc="-1" strike="noStrike">
                <a:solidFill>
                  <a:srgbClr val="ffff00"/>
                </a:solidFill>
                <a:latin typeface="Arial Black"/>
              </a:rPr>
              <a:t>Y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8000"/>
                </a:solidFill>
                <a:latin typeface="Arial Black"/>
              </a:rPr>
              <a:t>G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0090"/>
                </a:solidFill>
                <a:latin typeface="Arial Black"/>
              </a:rPr>
              <a:t>B</a:t>
            </a:r>
            <a:r>
              <a:rPr b="0" lang="en-US" sz="7000" spc="-1" strike="noStrike">
                <a:solidFill>
                  <a:srgbClr val="660066"/>
                </a:solidFill>
                <a:latin typeface="Arial Black"/>
              </a:rPr>
              <a:t>I</a:t>
            </a:r>
            <a:r>
              <a:rPr b="0" lang="en-US" sz="7000" spc="-1" strike="noStrike">
                <a:solidFill>
                  <a:srgbClr val="ff3fdc"/>
                </a:solidFill>
                <a:latin typeface="Arial Black"/>
              </a:rPr>
              <a:t>V</a:t>
            </a: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most energy and short/small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TextBox 11"/>
          <p:cNvSpPr/>
          <p:nvPr/>
        </p:nvSpPr>
        <p:spPr>
          <a:xfrm>
            <a:off x="609480" y="1828800"/>
            <a:ext cx="7543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fdc"/>
                </a:solidFill>
                <a:latin typeface="Arial Black"/>
              </a:rPr>
              <a:t>Violet      the HIGHEST energy… and SHORT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Right Arrow 3"/>
          <p:cNvSpPr/>
          <p:nvPr/>
        </p:nvSpPr>
        <p:spPr>
          <a:xfrm>
            <a:off x="2971800" y="21337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lowest energy and long/big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680" y="2361960"/>
            <a:ext cx="73152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 Black"/>
              </a:rPr>
              <a:t>Red      the LOWEST energy… and LONG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Right Arrow 1"/>
          <p:cNvSpPr/>
          <p:nvPr/>
        </p:nvSpPr>
        <p:spPr>
          <a:xfrm>
            <a:off x="3048120" y="26668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WHITE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0:11:57Z</dcterms:created>
  <dc:creator>Charles</dc:creator>
  <dc:description/>
  <dc:language>en-US</dc:language>
  <cp:lastModifiedBy>RomaK</cp:lastModifiedBy>
  <cp:lastPrinted>2010-09-22T18:15:49Z</cp:lastPrinted>
  <dcterms:modified xsi:type="dcterms:W3CDTF">2015-09-03T12:39:03Z</dcterms:modified>
  <cp:revision>38</cp:revision>
  <dc:subject/>
  <dc:title>Color Balloon Toss</dc:title>
</cp:coreProperties>
</file>